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828-3CC4-4708-AA0E-BF4D1C2D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B2C-4AA8-4899-90EA-BDAE3EFA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93D-9094-48C1-9A63-92DEB31A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879-C14C-49A6-95C3-C0AF989C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3D95-EF30-4380-8439-40BF4CB6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2E0E-3327-4DA3-BDF4-CC2B1A98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CA9-EBF0-4E51-8B2C-1A76625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BE2-B1EC-4465-A362-695A032C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93EC-BB06-418F-9893-4322B9B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FC2F-144E-401E-BAA9-9B806EA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EF9E-DA2A-49E4-A2E2-AA2D660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827-C930-492F-8EDD-D70B9DF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695-D369-4AF0-8D5F-FCF8A52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5B1-3C36-4008-ACD3-BBECB09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B6E-7F0E-4B0E-981A-4D1D9E9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DB74-1FD8-4CEB-8124-5CB53965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CF9-19A7-4A6F-9BE4-C3417D80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33F83-E174-4183-8258-3D1C9D2F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A14B1-1FD9-44BC-9E8A-9570613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8030F-7CF8-42BC-90D3-CD2EF3A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65488-792F-41CE-AEBB-E9BA7A15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610E4-436B-4B1E-B6E4-DA94260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906-1359-43DF-91B1-F142B09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8DDB-40C0-43F2-B5B0-DB175F13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D2417-A876-4B6D-9C1E-63F47E1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2CA69-648C-4849-94A1-67CFC71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B1FFD-D92A-476F-BDDB-3D12F74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0808B-2079-4E98-BBC6-1379563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A0693-B7CC-4F8F-9B9A-269827AD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4C6D0-935C-4FA9-B7BE-E2B3D599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CAEA-A7B7-417D-9CE6-9EF50014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CDAA-060A-41E4-8E49-E243D84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D4A3-8665-4B66-8662-26733C75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172-DF89-4F25-8625-1ECC293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FBF6-50C0-4D36-8D91-CEB4180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53E9-7ACE-4992-A4B0-065C83F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E390-BFC5-499D-B394-DC116104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BB7E-F6CD-4AD8-A1FC-FB1C59E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930E-312B-456E-AAB9-1801FF7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32A8-932B-4449-B7F0-B1D1621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A683-F2B8-409B-B1F9-5B81BCB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1D2F-B319-43CB-BAF4-5ECD3407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FE1F-AEC8-447C-AA42-3DC81556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6D265-1F1A-4242-909A-76BFC4CD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F78-A78C-4F0E-8072-9E4A43E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84E59-57F6-4089-B4C6-A7B8C61D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2B373-5A0F-44B9-A3AE-FFF3A4F5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D67FB-7F3E-4A5E-8A61-8E34D480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85B70-E9FF-4F12-A68D-A0F30BA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04D27-DB26-4EF5-BC46-9C125AFD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CB1C7-94C9-4102-8572-DBB2538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60EF4-7DBD-4416-9D15-BFCA28B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F7095-875D-4325-948F-8FB81A6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06B8A-33A4-49A8-A370-2322938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F99C4-CCAF-4C2F-82B1-B9A1A3C1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771-1ADC-4CC0-A9EE-4DF62160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B6E3E-1DEF-4736-B2E1-5EAAA611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30FF1-0AA8-4621-93C0-5939D33E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B4746-A50D-4232-86D5-00EE1C48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8CAC0-661F-4F36-AA9A-EF7081B4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D1938-38D8-4D6A-832F-6FF88C2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B26E6-5000-4F9A-BE0A-DA83AFF7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D1961-5616-486B-9746-9A34EA1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87449-222C-4E20-8568-CEA31DD9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250D9-15A3-40CF-A967-3E90712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24D80-A446-415F-A0B9-2633861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238-5F27-4662-86AE-9BDA9F4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26837-ADE8-47EB-9D10-151C77D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64D65-C238-4982-8B24-E6A5CE55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0C396-9494-4446-B7CA-C5D0600A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56F11-3758-476C-A0DB-A17244B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B452D-AF62-41C8-9DFB-FC84883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39A62-58AB-45EB-B9F6-85FECE93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06919-EDB0-4AA2-A527-F6ED1538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1E228-BCF6-43FC-8FA2-ECCAF13B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99F78-1B03-49F5-A36C-F82EBDB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828A3-3CDF-405D-B0E9-789B36C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80D-9AAD-42BC-B8B6-303655A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F81C9-E2E0-41D1-9D09-685880F5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0209C-5451-426B-A0D4-D228CE5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D8751-33D7-4A87-8C9C-029325B1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AEEFE-73AD-472F-95F7-D28C6688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38D12-B6A5-4956-99F5-D45F3E1B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880-331F-4C13-8211-ED22D683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1C6-2356-493A-9057-5C9D6600A8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6DD-0073-4674-B806-1AF5A2A0D3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112-AF5B-4535-AB1B-15D99FE030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5C7F-F251-4C5D-9BDD-87485CF578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0DE-EF94-466C-8E39-999096F837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721-EB13-4580-917B-D807AD0E57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7E9-AD2D-4127-A3E4-323C3E54D8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0" y="5047920"/>
            <a:ext cx="90345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АПРОВАДЖЕННЯ СУЧАСНИХ СИСТЕМ МОТИВАЦІЇ ПРАЦІ НА ПІДПРИЄМСТВІ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АТ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ІННИЦЬКИЙ ОЛІЙНОЖИРОВИЙ КОМБІНАТ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798720" y="404280"/>
            <a:ext cx="53452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т. гр. Моп-14сп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Дерик Н.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entury Schoolbook"/>
              </a:rPr>
              <a:t>Науковий керівник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Century Schoolbook"/>
              </a:rPr>
              <a:t>к.е.н., професор Козловський В.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AutoShape 6"/>
          <p:cNvSpPr/>
          <p:nvPr/>
        </p:nvSpPr>
        <p:spPr>
          <a:xfrm rot="2825400">
            <a:off x="7278480" y="6310440"/>
            <a:ext cx="633240" cy="392040"/>
          </a:xfrm>
          <a:prstGeom prst="leftArrow">
            <a:avLst>
              <a:gd name="adj1" fmla="val 24509"/>
              <a:gd name="adj2" fmla="val 10630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H:\натусик\objekt-200x184.jpg"/>
          <p:cNvPicPr/>
          <p:nvPr/>
        </p:nvPicPr>
        <p:blipFill>
          <a:blip r:embed="rId1"/>
          <a:stretch/>
        </p:blipFill>
        <p:spPr>
          <a:xfrm>
            <a:off x="5440320" y="4394160"/>
            <a:ext cx="3683160" cy="24814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545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МЕТОДИ МОТИВАЦІЇ ПРАЦІ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698400" y="779400"/>
            <a:ext cx="1689120" cy="39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4"/>
          <p:cNvSpPr/>
          <p:nvPr/>
        </p:nvSpPr>
        <p:spPr>
          <a:xfrm>
            <a:off x="1104840" y="164304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еріальн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5"/>
          <p:cNvSpPr/>
          <p:nvPr/>
        </p:nvSpPr>
        <p:spPr>
          <a:xfrm>
            <a:off x="1104840" y="253224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ий пак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1104840" y="343368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альн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1104840" y="4297320"/>
            <a:ext cx="153684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рганізацій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юва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3352680" y="1389240"/>
            <a:ext cx="3645000" cy="73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заробітної плати, доплати, надбавки, премії, компенсації, матеріальна допомога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ивіденди і корпоративні опціо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3352680" y="4170240"/>
            <a:ext cx="364500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гнучкий робочий день або графік; часткове виконання роботи вдома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, уч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сть у нарадах, засідання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3352680" y="3319560"/>
            <a:ext cx="3645000" cy="63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хвала, подяки, привітання зі святами та ін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352680" y="2278080"/>
            <a:ext cx="364500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лата підприємством в тому чи іншому процентному співвідношенні різних послуг і виконання певних соціальних зобов'язань перед своїми працівника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1104840" y="518652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прац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3"/>
          <p:cNvSpPr/>
          <p:nvPr/>
        </p:nvSpPr>
        <p:spPr>
          <a:xfrm>
            <a:off x="3352680" y="5046840"/>
            <a:ext cx="3645000" cy="92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ітарно-гігієнічні, матеріально-технічні, інформаційні, соціально-побутові, соціально-психологічні, умови соціального захисту, допомоги, просторові, естетичн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4"/>
          <p:cNvSpPr/>
          <p:nvPr/>
        </p:nvSpPr>
        <p:spPr>
          <a:xfrm>
            <a:off x="1104840" y="6100920"/>
            <a:ext cx="1536840" cy="63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ль керівниц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5"/>
          <p:cNvSpPr/>
          <p:nvPr/>
        </p:nvSpPr>
        <p:spPr>
          <a:xfrm>
            <a:off x="3352680" y="6176880"/>
            <a:ext cx="3645000" cy="55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посередньо проявляється у індивідуальних особливостях керівни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6"/>
          <p:cNvSpPr/>
          <p:nvPr/>
        </p:nvSpPr>
        <p:spPr>
          <a:xfrm>
            <a:off x="838080" y="1173240"/>
            <a:ext cx="0" cy="523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Прямая со стрелкой 17"/>
          <p:cNvCxnSpPr/>
          <p:nvPr/>
        </p:nvCxnSpPr>
        <p:spPr>
          <a:xfrm>
            <a:off x="850680" y="640512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0" name="Прямая со стрелкой 18"/>
          <p:cNvCxnSpPr/>
          <p:nvPr/>
        </p:nvCxnSpPr>
        <p:spPr>
          <a:xfrm>
            <a:off x="850680" y="551628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1" name="Прямая со стрелкой 19"/>
          <p:cNvCxnSpPr/>
          <p:nvPr/>
        </p:nvCxnSpPr>
        <p:spPr>
          <a:xfrm>
            <a:off x="850680" y="461448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2" name="Прямая со стрелкой 20"/>
          <p:cNvCxnSpPr/>
          <p:nvPr/>
        </p:nvCxnSpPr>
        <p:spPr>
          <a:xfrm>
            <a:off x="850680" y="376344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3" name="Прямая со стрелкой 21"/>
          <p:cNvCxnSpPr/>
          <p:nvPr/>
        </p:nvCxnSpPr>
        <p:spPr>
          <a:xfrm>
            <a:off x="850680" y="283644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4" name="Прямая со стрелкой 22"/>
          <p:cNvCxnSpPr/>
          <p:nvPr/>
        </p:nvCxnSpPr>
        <p:spPr>
          <a:xfrm>
            <a:off x="850680" y="1972800"/>
            <a:ext cx="2545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Прямая со стрелкой 23"/>
          <p:cNvCxnSpPr/>
          <p:nvPr/>
        </p:nvCxnSpPr>
        <p:spPr>
          <a:xfrm>
            <a:off x="2641320" y="18712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24"/>
          <p:cNvCxnSpPr/>
          <p:nvPr/>
        </p:nvCxnSpPr>
        <p:spPr>
          <a:xfrm>
            <a:off x="2641320" y="283644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7" name="Прямая со стрелкой 25"/>
          <p:cNvCxnSpPr/>
          <p:nvPr/>
        </p:nvCxnSpPr>
        <p:spPr>
          <a:xfrm>
            <a:off x="2641320" y="36748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8" name="Прямая со стрелкой 26"/>
          <p:cNvCxnSpPr/>
          <p:nvPr/>
        </p:nvCxnSpPr>
        <p:spPr>
          <a:xfrm>
            <a:off x="2641320" y="55162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9" name="Прямая со стрелкой 27"/>
          <p:cNvCxnSpPr/>
          <p:nvPr/>
        </p:nvCxnSpPr>
        <p:spPr>
          <a:xfrm>
            <a:off x="2641320" y="641808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0" name="Прямая со стрелкой 28"/>
          <p:cNvCxnSpPr/>
          <p:nvPr/>
        </p:nvCxnSpPr>
        <p:spPr>
          <a:xfrm>
            <a:off x="2641320" y="4551120"/>
            <a:ext cx="711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1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:\1.jpg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90544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6360" y="90792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Schoolbook"/>
              </a:rPr>
              <a:t>ОСНОВНІ ЕКОНОМІЧНІ ТА ФІНАНСОВІ ПОКАЗНИКИ ДІЯЛЬНОСТІ ПАТ “ВІННИЦЬКИЙ ОЛІЙНОЖИРОВИЙ КОМБІНАТ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62080" y="1724040"/>
          <a:ext cx="8702640" cy="4948200"/>
        </p:xfrm>
        <a:graphic>
          <a:graphicData uri="http://schemas.openxmlformats.org/drawingml/2006/table">
            <a:tbl>
              <a:tblPr/>
              <a:tblGrid>
                <a:gridCol w="1403280"/>
                <a:gridCol w="944640"/>
                <a:gridCol w="822240"/>
                <a:gridCol w="820800"/>
                <a:gridCol w="822240"/>
                <a:gridCol w="1057320"/>
                <a:gridCol w="942840"/>
                <a:gridCol w="944640"/>
                <a:gridCol w="944640"/>
              </a:tblGrid>
              <a:tr h="210240"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Код 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0240"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9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. Чистий дохід від реалізаці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 р. 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97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648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78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2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6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3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8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. Фінансовий результат від операційної діяль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, р.100 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7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. Чистий приб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, р. 220 (2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80,4</a:t>
                      </a: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,5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9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.Собівартість реалізованої проду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2 р. 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82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5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43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6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9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2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,4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77960">
                <a:tc>
                  <a:txBody>
                    <a:bodyPr lIns="63720" rIns="63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.Чисельність працівників на підприємств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-1,2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H:\10245571m.jpg"/>
          <p:cNvPicPr/>
          <p:nvPr/>
        </p:nvPicPr>
        <p:blipFill>
          <a:blip r:embed="rId1"/>
          <a:stretch/>
        </p:blipFill>
        <p:spPr>
          <a:xfrm>
            <a:off x="250920" y="836640"/>
            <a:ext cx="8704080" cy="57704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704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entury Schoolbook"/>
              </a:rPr>
              <a:t>ДИНАМІКА ЗМІНИ ОСНОВНИХ ПОКАЗНИКІВ БАЛАНСУ ПІДПРИЄМСТВА ТА ФІНАНСОВИХ КОЕФІЦІЄНТІ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08000" y="704880"/>
          <a:ext cx="4608360" cy="6230880"/>
        </p:xfrm>
        <a:graphic>
          <a:graphicData uri="http://schemas.openxmlformats.org/drawingml/2006/table">
            <a:tbl>
              <a:tblPr/>
              <a:tblGrid>
                <a:gridCol w="743040"/>
                <a:gridCol w="500040"/>
                <a:gridCol w="434880"/>
                <a:gridCol w="434880"/>
                <a:gridCol w="434880"/>
                <a:gridCol w="560520"/>
                <a:gridCol w="500040"/>
                <a:gridCol w="500040"/>
                <a:gridCol w="500040"/>
              </a:tblGrid>
              <a:tr h="18900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Показ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Код ря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013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. Активи (Пасив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, р.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375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3500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955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97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605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1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. Влас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837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9428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22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1050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8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78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. Залучений капі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 430+480+620+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537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40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73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692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6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27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96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. Не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392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678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8178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752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499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,0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5. Оборотні акти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Ф1 р.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4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7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70160"/>
                        </a:tabLst>
                      </a:pP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777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2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9,4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06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15,8</a:t>
                      </a:r>
                      <a:r>
                        <a:rPr b="1" lang="uk-UA" sz="12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765680" y="690480"/>
          <a:ext cx="4165560" cy="6267600"/>
        </p:xfrm>
        <a:graphic>
          <a:graphicData uri="http://schemas.openxmlformats.org/drawingml/2006/table">
            <a:tbl>
              <a:tblPr/>
              <a:tblGrid>
                <a:gridCol w="861840"/>
                <a:gridCol w="430560"/>
                <a:gridCol w="430200"/>
                <a:gridCol w="519120"/>
                <a:gridCol w="518760"/>
                <a:gridCol w="519120"/>
                <a:gridCol w="519120"/>
                <a:gridCol w="366840"/>
              </a:tblGrid>
              <a:tr h="36540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Показ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Відхил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2 від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3  від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1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2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013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абс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з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у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. Коефіцієнт покри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3149640"/>
                          <a:tab algn="l" pos="3905280"/>
                          <a:tab algn="l" pos="5943600"/>
                          <a:tab algn="r" pos="62992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. Коефіцієнт оновлення основних засоб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7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8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3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2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3. Коефіцієнт автоном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0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0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95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4. Коефіцієнт фінансового риз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-21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12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:\images (9).jpg"/>
          <p:cNvPicPr/>
          <p:nvPr/>
        </p:nvPicPr>
        <p:blipFill>
          <a:blip r:embed="rId1"/>
          <a:stretch/>
        </p:blipFill>
        <p:spPr>
          <a:xfrm>
            <a:off x="144360" y="981000"/>
            <a:ext cx="8712360" cy="57438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b050"/>
                </a:solidFill>
                <a:latin typeface="Century Schoolbook"/>
              </a:rPr>
              <a:t>АНАЛІЗ СИСТЕМИ МОТИВАЦІЇ ПРАЦІ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4360" y="1351080"/>
          <a:ext cx="8999640" cy="5508360"/>
        </p:xfrm>
        <a:graphic>
          <a:graphicData uri="http://schemas.openxmlformats.org/drawingml/2006/table">
            <a:tbl>
              <a:tblPr/>
              <a:tblGrid>
                <a:gridCol w="2183040"/>
                <a:gridCol w="974520"/>
                <a:gridCol w="976320"/>
                <a:gridCol w="1090800"/>
                <a:gridCol w="849240"/>
                <a:gridCol w="974520"/>
                <a:gridCol w="976320"/>
                <a:gridCol w="974880"/>
              </a:tblGrid>
              <a:tr h="21348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3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хил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2 від 2011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13 від 2012 ро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бсол. зн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42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85284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Чисельність промислово-виробничого персоналу, осі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,2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3972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Обсяг продукції, що була виготовлена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40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480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21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7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4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738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4,8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92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Чистий прибуток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80,4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,5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116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Середньорічна заробітна плата одного працівника,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92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Продуктивність праці одного праців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64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78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90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14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4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2660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Коефіцієнт випередж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16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892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 Коефіцієнт плинності кад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47480">
                <a:tc>
                  <a:txBody>
                    <a:bodyPr lIns="49680" rIns="49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6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.Коефіцієнт обороту звільн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3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,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49680" rIns="49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9680" marR="49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:\images (8).jpg"/>
          <p:cNvPicPr/>
          <p:nvPr/>
        </p:nvPicPr>
        <p:blipFill>
          <a:blip r:embed="rId1"/>
          <a:stretch/>
        </p:blipFill>
        <p:spPr>
          <a:xfrm>
            <a:off x="250920" y="779400"/>
            <a:ext cx="8642160" cy="57452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ХАРАКТЕРИСТИКА СИСТЕМИ ВИНАГОРОД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50920" y="449280"/>
          <a:ext cx="8642160" cy="6405480"/>
        </p:xfrm>
        <a:graphic>
          <a:graphicData uri="http://schemas.openxmlformats.org/drawingml/2006/table">
            <a:tbl>
              <a:tblPr/>
              <a:tblGrid>
                <a:gridCol w="1409760"/>
                <a:gridCol w="1495440"/>
                <a:gridCol w="1495080"/>
                <a:gridCol w="2121120"/>
                <a:gridCol w="2120760"/>
              </a:tblGrid>
              <a:tr h="54792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д винагор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иклад застосування в 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ії працівників, для яких застосовує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Ефект від застосування винагор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 gridSpan="5">
                  <a:txBody>
                    <a:bodyPr lIns="37440" rIns="374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овніш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rowSpan="3"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ям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азова заробітна 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іксований платіж робітнику за виконану ро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певненість персоналу в стабільності доходу від виконання свої функц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ем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видке і якісне виконання дорученого завд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ітники і управлін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имулює до сумлінної праці і відповідальності за результати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а за наднормову роботу і роботу в святкові д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ота в вихідний день внаслідок аварії на виробництв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бітники цехів і дільни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аохочення виходу на роботу в позаурочний час, впевненість у компенсації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0440"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прям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грами соціального захис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робнича трав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певненість в тому, що працівник необхідний організації, оскільки остання оплачує його травмат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0440">
                <a:tc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фінансов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зробка за рахунок підприємства візитних кар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озробка дизайну і оплата друкування візитівок у відділ маркетин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правлінц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ордість працівника за займану ним посаду і сучасні погляди керівників підприєм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 gridSpan="5">
                  <a:txBody>
                    <a:bodyPr lIns="37440" rIns="37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нутріш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rowSpan="3"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остійність у робо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елегування повноваження щодо прийняття рі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неджер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ідчуття працівником своєї значущості для організації і як наслідок підвищення продуктивності пра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ливість професійного зрос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ідвищення з майстра цеху до начальника діль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ерівники всіх рів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имулювання до більш ефективного і творчого виконання трудових функ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асть у прийнятті рі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исування власної ідеї щодо вирішення пробле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пеціалісти різних рів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7440" rIns="37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ідчуття працівником за собою певних обов’язків, тобто врахування його думки при прийнятті рішень, підвищення само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440" marR="37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ОРГАНІЗАЦІЙНА СТРУКТУРА УПРАВЛІННЯ ПЕРСОНАЛОМ НА ПАТ 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ВІННИЦЬКИЙ ОЛІЙНОЖИРОВИЙ КОМБІНАТ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Прямоугольник 3"/>
          <p:cNvSpPr/>
          <p:nvPr/>
        </p:nvSpPr>
        <p:spPr>
          <a:xfrm>
            <a:off x="3362400" y="2320920"/>
            <a:ext cx="26431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льний дир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4"/>
          <p:cNvSpPr/>
          <p:nvPr/>
        </p:nvSpPr>
        <p:spPr>
          <a:xfrm>
            <a:off x="2930400" y="3057480"/>
            <a:ext cx="37544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тупник генерального директора по кад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5"/>
          <p:cNvSpPr/>
          <p:nvPr/>
        </p:nvSpPr>
        <p:spPr>
          <a:xfrm>
            <a:off x="134316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кадрів (персонал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6"/>
          <p:cNvSpPr/>
          <p:nvPr/>
        </p:nvSpPr>
        <p:spPr>
          <a:xfrm>
            <a:off x="347652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оплати праці і тариф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5597640" y="3781440"/>
            <a:ext cx="201456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іл соціального розвит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8"/>
          <p:cNvSpPr/>
          <p:nvPr/>
        </p:nvSpPr>
        <p:spPr>
          <a:xfrm>
            <a:off x="1000080" y="4619520"/>
            <a:ext cx="22082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тор керівних кад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9"/>
          <p:cNvSpPr/>
          <p:nvPr/>
        </p:nvSpPr>
        <p:spPr>
          <a:xfrm>
            <a:off x="3362400" y="4619520"/>
            <a:ext cx="25462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ктор підготовки і перепідготовки кад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Прямая со стрелкой 10"/>
          <p:cNvCxnSpPr/>
          <p:nvPr/>
        </p:nvCxnSpPr>
        <p:spPr>
          <a:xfrm>
            <a:off x="4416120" y="2778120"/>
            <a:ext cx="108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Прямая со стрелкой 11"/>
          <p:cNvCxnSpPr/>
          <p:nvPr/>
        </p:nvCxnSpPr>
        <p:spPr>
          <a:xfrm>
            <a:off x="4416120" y="3502080"/>
            <a:ext cx="108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6" name="Прямая со стрелкой 12"/>
          <p:cNvCxnSpPr/>
          <p:nvPr/>
        </p:nvCxnSpPr>
        <p:spPr>
          <a:xfrm flipH="1">
            <a:off x="2739240" y="3514680"/>
            <a:ext cx="124524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7" name="Прямая со стрелкой 13"/>
          <p:cNvCxnSpPr/>
          <p:nvPr/>
        </p:nvCxnSpPr>
        <p:spPr>
          <a:xfrm>
            <a:off x="4937040" y="3502080"/>
            <a:ext cx="1067760" cy="28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8" name="Прямая со стрелкой 14"/>
          <p:cNvCxnSpPr/>
          <p:nvPr/>
        </p:nvCxnSpPr>
        <p:spPr>
          <a:xfrm flipH="1">
            <a:off x="1786680" y="4238280"/>
            <a:ext cx="10260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9" name="Прямая со стрелкой 15"/>
          <p:cNvCxnSpPr/>
          <p:nvPr/>
        </p:nvCxnSpPr>
        <p:spPr>
          <a:xfrm>
            <a:off x="2359080" y="4238640"/>
            <a:ext cx="137232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СОЦІАЛЬНИЙ АУДИ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3" name="Picture 3" descr="C:\Documents and Settings\User\Рабочий стол\натусик\dr_ab209e4a0658b5f26886ade528bde28c.jpg"/>
          <p:cNvPicPr/>
          <p:nvPr/>
        </p:nvPicPr>
        <p:blipFill>
          <a:blip r:embed="rId1"/>
          <a:stretch/>
        </p:blipFill>
        <p:spPr>
          <a:xfrm>
            <a:off x="3419640" y="148428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524" name="Заголовок 1"/>
          <p:cNvSpPr/>
          <p:nvPr/>
        </p:nvSpPr>
        <p:spPr>
          <a:xfrm>
            <a:off x="468360" y="3429000"/>
            <a:ext cx="7467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СПОСТЕРЕЖЕННЯ, КОНТРОЛЬ ТА АНАЛІЗ ЗА СТАНОМ ПЕРСОНАЛУ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43160" y="274320"/>
            <a:ext cx="3881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ЄКТИ СОЦІАЛЬНОГО АУДИТУ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6" name="Picture 4" descr="C:\Documents and Settings\User\Рабочий стол\натусик\yak-rozmovlyati-dovgo.jpg"/>
          <p:cNvPicPr/>
          <p:nvPr/>
        </p:nvPicPr>
        <p:blipFill>
          <a:blip r:embed="rId1"/>
          <a:stretch/>
        </p:blipFill>
        <p:spPr>
          <a:xfrm>
            <a:off x="6157800" y="4005360"/>
            <a:ext cx="2649600" cy="264960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5"/>
          <p:cNvSpPr/>
          <p:nvPr/>
        </p:nvSpPr>
        <p:spPr>
          <a:xfrm>
            <a:off x="3255840" y="3308400"/>
            <a:ext cx="1130400" cy="78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’єкти соціального ауди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6"/>
          <p:cNvSpPr/>
          <p:nvPr/>
        </p:nvSpPr>
        <p:spPr>
          <a:xfrm>
            <a:off x="1224000" y="21398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о-психологічний клімат у колектив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7"/>
          <p:cNvSpPr/>
          <p:nvPr/>
        </p:nvSpPr>
        <p:spPr>
          <a:xfrm>
            <a:off x="4132440" y="2139840"/>
            <a:ext cx="229860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навчання, підвищення кваліфікації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8"/>
          <p:cNvSpPr/>
          <p:nvPr/>
        </p:nvSpPr>
        <p:spPr>
          <a:xfrm>
            <a:off x="652320" y="3067200"/>
            <a:ext cx="2108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ковий, професійний, кваліфікаційний склад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792680" y="3054240"/>
            <a:ext cx="203184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добору, просування, атестації кад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0"/>
          <p:cNvSpPr/>
          <p:nvPr/>
        </p:nvSpPr>
        <p:spPr>
          <a:xfrm>
            <a:off x="830160" y="41846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структу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1"/>
          <p:cNvSpPr/>
          <p:nvPr/>
        </p:nvSpPr>
        <p:spPr>
          <a:xfrm>
            <a:off x="4614840" y="418464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аміка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2"/>
          <p:cNvSpPr/>
          <p:nvPr/>
        </p:nvSpPr>
        <p:spPr>
          <a:xfrm>
            <a:off x="1681200" y="498492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роботи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13"/>
          <p:cNvSpPr/>
          <p:nvPr/>
        </p:nvSpPr>
        <p:spPr>
          <a:xfrm>
            <a:off x="4030560" y="4984920"/>
            <a:ext cx="2108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тивації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Прямая со стрелкой 14"/>
          <p:cNvCxnSpPr/>
          <p:nvPr/>
        </p:nvCxnSpPr>
        <p:spPr>
          <a:xfrm flipV="1">
            <a:off x="4132080" y="2647080"/>
            <a:ext cx="178200" cy="66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7" name="Прямая со стрелкой 15"/>
          <p:cNvCxnSpPr/>
          <p:nvPr/>
        </p:nvCxnSpPr>
        <p:spPr>
          <a:xfrm flipH="1" flipV="1">
            <a:off x="3191760" y="2647080"/>
            <a:ext cx="292680" cy="66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8" name="Прямая со стрелкой 16"/>
          <p:cNvCxnSpPr/>
          <p:nvPr/>
        </p:nvCxnSpPr>
        <p:spPr>
          <a:xfrm flipV="1">
            <a:off x="4385880" y="3409200"/>
            <a:ext cx="407160" cy="19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9" name="Прямая со стрелкой 17"/>
          <p:cNvCxnSpPr/>
          <p:nvPr/>
        </p:nvCxnSpPr>
        <p:spPr>
          <a:xfrm flipH="1" flipV="1">
            <a:off x="2773080" y="3409200"/>
            <a:ext cx="496080" cy="19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Прямая со стрелкой 18"/>
          <p:cNvCxnSpPr/>
          <p:nvPr/>
        </p:nvCxnSpPr>
        <p:spPr>
          <a:xfrm flipH="1">
            <a:off x="2937960" y="4095360"/>
            <a:ext cx="47088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Прямая со стрелкой 19"/>
          <p:cNvCxnSpPr/>
          <p:nvPr/>
        </p:nvCxnSpPr>
        <p:spPr>
          <a:xfrm>
            <a:off x="4208400" y="4083120"/>
            <a:ext cx="394560" cy="496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Прямая со стрелкой 20"/>
          <p:cNvCxnSpPr/>
          <p:nvPr/>
        </p:nvCxnSpPr>
        <p:spPr>
          <a:xfrm flipH="1">
            <a:off x="3420720" y="4095360"/>
            <a:ext cx="216720" cy="90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21"/>
          <p:cNvCxnSpPr/>
          <p:nvPr/>
        </p:nvCxnSpPr>
        <p:spPr>
          <a:xfrm>
            <a:off x="4043520" y="4095720"/>
            <a:ext cx="28008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User\Рабочий стол\натусик\images (10).jpg"/>
          <p:cNvPicPr/>
          <p:nvPr/>
        </p:nvPicPr>
        <p:blipFill>
          <a:blip r:embed="rId2"/>
          <a:stretch/>
        </p:blipFill>
        <p:spPr>
          <a:xfrm>
            <a:off x="128520" y="173160"/>
            <a:ext cx="215892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Documents and Settings\User\Рабочий стол\натусик\images (6).jpg"/>
          <p:cNvPicPr/>
          <p:nvPr/>
        </p:nvPicPr>
        <p:blipFill>
          <a:blip r:embed="rId1"/>
          <a:stretch/>
        </p:blipFill>
        <p:spPr>
          <a:xfrm>
            <a:off x="6516720" y="1159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БЮДЖЕТ ВИТРАТ НА ЗДІЙСНЕННЯ ПРОЕКТУ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08000" y="2637000"/>
          <a:ext cx="8694720" cy="3960720"/>
        </p:xfrm>
        <a:graphic>
          <a:graphicData uri="http://schemas.openxmlformats.org/drawingml/2006/table">
            <a:tbl>
              <a:tblPr/>
              <a:tblGrid>
                <a:gridCol w="485640"/>
                <a:gridCol w="5435640"/>
                <a:gridCol w="2773440"/>
              </a:tblGrid>
              <a:tr h="36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аття вит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2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дослідження (збір інформації про необхідність проведення проект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2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реалізацію проекту (анкетування, співбесід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розробку спеціальних про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проведення тренінгі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72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 на заробітну плату учасникам проекту протягом 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2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сь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КОМЕНДАЦ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ІЇ ЩОДО ПОКРАЩЕННЯ СТАНУ МОТИВАЦІЇ ПРАЦІ НА ПІДПРИЄМСТВІ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08000" y="2060640"/>
          <a:ext cx="8856720" cy="4797360"/>
        </p:xfrm>
        <a:graphic>
          <a:graphicData uri="http://schemas.openxmlformats.org/drawingml/2006/table">
            <a:tbl>
              <a:tblPr/>
              <a:tblGrid>
                <a:gridCol w="493560"/>
                <a:gridCol w="5442120"/>
                <a:gridCol w="2921040"/>
              </a:tblGrid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Рекомендації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ит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оціальний ау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0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ворення фондів стимулювання для мотивації працівників до високопродуктивної праці та створення інноваційних і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10% від чистого прибутку (10%×2352000=235200 грн. у 2013 роц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49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Формування для молоді системи кадрового зрос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5% від чистого прибутку (5%×2352000=117600 грн. у 2013 році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творення соціально-психологічного клімату у колектив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40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55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Всь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17800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:\натусик\20131015104414.jpg"/>
          <p:cNvPicPr/>
          <p:nvPr/>
        </p:nvPicPr>
        <p:blipFill>
          <a:blip r:embed="rId1"/>
          <a:stretch/>
        </p:blipFill>
        <p:spPr>
          <a:xfrm>
            <a:off x="-12600" y="-387360"/>
            <a:ext cx="9252000" cy="723096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103320" y="-291960"/>
            <a:ext cx="9259920" cy="66070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Documents and Settings\User\Рабочий стол\натусик\images (12).jpg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7387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entury Schoolbook"/>
              </a:rPr>
              <a:t>МОДЕЛЮВАННЯ ОЧІКУВАНИХ РЕЗУЛЬТАТІВ ВІД ВПРОВАДЖЕННЯ ПРОЕКТУ </a:t>
            </a:r>
            <a:r>
              <a:rPr b="0" lang="en-US" sz="2400" spc="-1" strike="noStrike">
                <a:solidFill>
                  <a:srgbClr val="00b050"/>
                </a:solidFill>
                <a:latin typeface="Century Schoolbook"/>
              </a:rPr>
              <a:t>“</a:t>
            </a:r>
            <a:r>
              <a:rPr b="0" lang="uk-UA" sz="2400" spc="-1" strike="noStrike">
                <a:solidFill>
                  <a:srgbClr val="00b050"/>
                </a:solidFill>
                <a:latin typeface="Century Schoolbook"/>
              </a:rPr>
              <a:t>СОЦІАЛЬНИЙ АУДИТ</a:t>
            </a:r>
            <a:r>
              <a:rPr b="0" lang="en-US" sz="2400" spc="-1" strike="noStrike">
                <a:solidFill>
                  <a:srgbClr val="00b05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4953240" cy="2736720"/>
          </a:xfrm>
          <a:prstGeom prst="rect">
            <a:avLst/>
          </a:prstGeom>
          <a:ln w="0">
            <a:noFill/>
          </a:ln>
        </p:spPr>
      </p:pic>
      <p:pic>
        <p:nvPicPr>
          <p:cNvPr id="555" name="Диаграмма 1" descr=""/>
          <p:cNvPicPr/>
          <p:nvPr/>
        </p:nvPicPr>
        <p:blipFill>
          <a:blip r:embed="rId3"/>
          <a:stretch/>
        </p:blipFill>
        <p:spPr>
          <a:xfrm>
            <a:off x="3863880" y="4043520"/>
            <a:ext cx="50292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769608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666666"/>
                </a:solidFill>
                <a:latin typeface="Century Schoolbook"/>
              </a:rPr>
              <a:t>ДЯКУЮ ЗА УВАГУ!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7" name="Picture 2" descr="C:\Documents and Settings\User\Рабочий стол\натусик\images.jpg"/>
          <p:cNvPicPr/>
          <p:nvPr/>
        </p:nvPicPr>
        <p:blipFill>
          <a:blip r:embed="rId1"/>
          <a:stretch/>
        </p:blipFill>
        <p:spPr>
          <a:xfrm>
            <a:off x="3203640" y="3213000"/>
            <a:ext cx="2411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H:\натусик\metodyky-doslidzhennya.png"/>
          <p:cNvPicPr/>
          <p:nvPr/>
        </p:nvPicPr>
        <p:blipFill>
          <a:blip r:embed="rId1"/>
          <a:stretch/>
        </p:blipFill>
        <p:spPr>
          <a:xfrm>
            <a:off x="468360" y="415800"/>
            <a:ext cx="7775640" cy="637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40" y="152280"/>
            <a:ext cx="8807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ЄКТ ТА ПРЕДМЕТ РОБО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8000" y="10663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Є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- процес управління мотивацією праці на підприємстві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ddddd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особливості управління сучасними системами мотивації праці на підприємстві та можливі шляхи її підвище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H:\натусик\Підходи-до-визначення-конкурентної-стратегії-підприємства.jpg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857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62626"/>
                </a:solidFill>
                <a:latin typeface="Century Schoolbook"/>
              </a:rPr>
              <a:t>ПІДХОДИ ДО ТЛУМАЧЕННЯ ПОНЯТТЯ </a:t>
            </a:r>
            <a:r>
              <a:rPr b="0" lang="en-US" sz="2500" spc="-1" strike="noStrike">
                <a:solidFill>
                  <a:srgbClr val="262626"/>
                </a:solidFill>
                <a:latin typeface="Century Schoolbook"/>
              </a:rPr>
              <a:t>“</a:t>
            </a:r>
            <a:r>
              <a:rPr b="0" lang="uk-UA" sz="2500" spc="-1" strike="noStrike">
                <a:solidFill>
                  <a:srgbClr val="262626"/>
                </a:solidFill>
                <a:latin typeface="Century Schoolbook"/>
              </a:rPr>
              <a:t>ПРОДУКТИВНІСТЬ ПРАЦІ</a:t>
            </a:r>
            <a:r>
              <a:rPr b="0" lang="en-US" sz="2500" spc="-1" strike="noStrike">
                <a:solidFill>
                  <a:srgbClr val="262626"/>
                </a:solidFill>
                <a:latin typeface="Century Schoolbook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76120" y="779400"/>
          <a:ext cx="8656920" cy="5877000"/>
        </p:xfrm>
        <a:graphic>
          <a:graphicData uri="http://schemas.openxmlformats.org/drawingml/2006/table">
            <a:tbl>
              <a:tblPr/>
              <a:tblGrid>
                <a:gridCol w="582840"/>
                <a:gridCol w="1955520"/>
                <a:gridCol w="6118560"/>
              </a:tblGrid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и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фонин А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управлінська діяльність, спрямована на стимулювання працівників для досягнення цілей підприєм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Бєляєва І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це сукупність мотивів, які впливають на поведінку людини, спонукаючи її до діяль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лот А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це сукупність внутрішніх і зовнішніх рушійних сил, які спонукають людину до діяльності, визначають поведінку, форми діяльності, надають цій діяльності спрямованості, орієнтованої на досягнення особистих цілей і ціле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Богиня Д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-….суб’єктивна сторона діяльності людини, яка представлена широким спектром потреб, бажань, почуттів, інтерес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ібанов А.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процес свідомого вибору людиною того чи іншого типу поведінки, яка визначається комплексним впливом зовнішніх (стимули) і внутрішніх (мотиви) фактор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уліков Г.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тивація – процес спонукання людини, соціальної групи…здійснювати успадковано закріплені або набуті досвідом дії, спрямовані на задоволення певного роду потреб і досягнення особистих, групових і суспільних ці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:\натусик\Сучасні-підходи-до-реалізації-стратегічного-управління-підприємством.jpg"/>
          <p:cNvPicPr/>
          <p:nvPr/>
        </p:nvPicPr>
        <p:blipFill>
          <a:blip r:embed="rId1"/>
          <a:stretch/>
        </p:blipFill>
        <p:spPr>
          <a:xfrm>
            <a:off x="250920" y="752400"/>
            <a:ext cx="8569080" cy="5857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088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62626"/>
                </a:solidFill>
                <a:latin typeface="Century Schoolbook"/>
              </a:rPr>
              <a:t>ОТЖЕ: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066320"/>
            <a:ext cx="82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мотивація праці являє собо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сукупність внутрішніх і зовнішні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рушійних сил, що спонукають людин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524be"/>
                </a:solidFill>
                <a:latin typeface="Century Schoolbook"/>
              </a:rPr>
              <a:t>до діяльності, визначають тип її поведінки, орієнтують на досягнення поставлених ці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:\натусик\Vo_8FPpTreU.jpg"/>
          <p:cNvPicPr/>
          <p:nvPr/>
        </p:nvPicPr>
        <p:blipFill>
          <a:blip r:embed="rId1"/>
          <a:stretch/>
        </p:blipFill>
        <p:spPr>
          <a:xfrm>
            <a:off x="3867120" y="0"/>
            <a:ext cx="5056200" cy="48276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7"/>
          <p:cNvSpPr/>
          <p:nvPr/>
        </p:nvSpPr>
        <p:spPr>
          <a:xfrm>
            <a:off x="5943600" y="29718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адії впливу на поведінку людей певних факт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324000" y="162576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24000" y="3817800"/>
            <a:ext cx="147312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"/>
          <p:cNvSpPr/>
          <p:nvPr/>
        </p:nvSpPr>
        <p:spPr>
          <a:xfrm>
            <a:off x="312840" y="30592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я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"/>
          <p:cNvSpPr/>
          <p:nvPr/>
        </p:nvSpPr>
        <p:spPr>
          <a:xfrm>
            <a:off x="312840" y="23320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1"/>
          <p:cNvSpPr/>
          <p:nvPr/>
        </p:nvSpPr>
        <p:spPr>
          <a:xfrm>
            <a:off x="3422520" y="16095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икн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2"/>
          <p:cNvSpPr/>
          <p:nvPr/>
        </p:nvSpPr>
        <p:spPr>
          <a:xfrm>
            <a:off x="3422520" y="2340000"/>
            <a:ext cx="232416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шук способів задовол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3"/>
          <p:cNvSpPr/>
          <p:nvPr/>
        </p:nvSpPr>
        <p:spPr>
          <a:xfrm>
            <a:off x="3411360" y="30765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ення цілей та напрямків д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4"/>
          <p:cNvSpPr/>
          <p:nvPr/>
        </p:nvSpPr>
        <p:spPr>
          <a:xfrm>
            <a:off x="3411360" y="384480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 конкретних д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5"/>
          <p:cNvSpPr/>
          <p:nvPr/>
        </p:nvSpPr>
        <p:spPr>
          <a:xfrm>
            <a:off x="3409920" y="5303880"/>
            <a:ext cx="232416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оволення потре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6"/>
          <p:cNvSpPr/>
          <p:nvPr/>
        </p:nvSpPr>
        <p:spPr>
          <a:xfrm>
            <a:off x="3409920" y="4554360"/>
            <a:ext cx="232416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римання винагороди за виконані д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7"/>
          <p:cNvSpPr/>
          <p:nvPr/>
        </p:nvSpPr>
        <p:spPr>
          <a:xfrm>
            <a:off x="324000" y="5276880"/>
            <a:ext cx="147312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Шос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8"/>
          <p:cNvSpPr/>
          <p:nvPr/>
        </p:nvSpPr>
        <p:spPr>
          <a:xfrm>
            <a:off x="312840" y="4522680"/>
            <a:ext cx="147312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’ята стад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Прямая со стрелкой 19"/>
          <p:cNvCxnSpPr/>
          <p:nvPr/>
        </p:nvCxnSpPr>
        <p:spPr>
          <a:xfrm>
            <a:off x="4584240" y="219672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20"/>
          <p:cNvCxnSpPr/>
          <p:nvPr/>
        </p:nvCxnSpPr>
        <p:spPr>
          <a:xfrm>
            <a:off x="4579560" y="366660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Прямая со стрелкой 21"/>
          <p:cNvCxnSpPr/>
          <p:nvPr/>
        </p:nvCxnSpPr>
        <p:spPr>
          <a:xfrm>
            <a:off x="4578120" y="513828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Прямая со стрелкой 22"/>
          <p:cNvCxnSpPr/>
          <p:nvPr/>
        </p:nvCxnSpPr>
        <p:spPr>
          <a:xfrm>
            <a:off x="4592160" y="2910960"/>
            <a:ext cx="1080" cy="165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Прямая со стрелкой 23"/>
          <p:cNvCxnSpPr/>
          <p:nvPr/>
        </p:nvCxnSpPr>
        <p:spPr>
          <a:xfrm>
            <a:off x="4578120" y="4389480"/>
            <a:ext cx="1080" cy="165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Прямая со стрелкой 24"/>
          <p:cNvCxnSpPr/>
          <p:nvPr/>
        </p:nvCxnSpPr>
        <p:spPr>
          <a:xfrm>
            <a:off x="1796760" y="193464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Прямая со стрелкой 25"/>
          <p:cNvCxnSpPr/>
          <p:nvPr/>
        </p:nvCxnSpPr>
        <p:spPr>
          <a:xfrm>
            <a:off x="1785600" y="262548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Прямая со стрелкой 26"/>
          <p:cNvCxnSpPr/>
          <p:nvPr/>
        </p:nvCxnSpPr>
        <p:spPr>
          <a:xfrm>
            <a:off x="1785600" y="334944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Прямая со стрелкой 27"/>
          <p:cNvCxnSpPr/>
          <p:nvPr/>
        </p:nvCxnSpPr>
        <p:spPr>
          <a:xfrm>
            <a:off x="1785600" y="411120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8"/>
          <p:cNvCxnSpPr/>
          <p:nvPr/>
        </p:nvCxnSpPr>
        <p:spPr>
          <a:xfrm>
            <a:off x="1796760" y="483516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9"/>
          <p:cNvCxnSpPr/>
          <p:nvPr/>
        </p:nvCxnSpPr>
        <p:spPr>
          <a:xfrm>
            <a:off x="1796760" y="5597280"/>
            <a:ext cx="1626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7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:\натусик\Vo_8FPpTreU.jpg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0"/>
          <p:cNvSpPr/>
          <p:nvPr/>
        </p:nvSpPr>
        <p:spPr>
          <a:xfrm>
            <a:off x="349920" y="65160"/>
            <a:ext cx="8258040" cy="6426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b8b8b"/>
              </a:gs>
            </a:gsLst>
            <a:lin ang="16200000"/>
          </a:gradFill>
          <a:ln w="9360">
            <a:solidFill>
              <a:srgbClr val="454545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 стимулів та групи потреб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9"/>
          <p:cNvSpPr/>
          <p:nvPr/>
        </p:nvSpPr>
        <p:spPr>
          <a:xfrm>
            <a:off x="6031080" y="135396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усові зах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8"/>
          <p:cNvSpPr/>
          <p:nvPr/>
        </p:nvSpPr>
        <p:spPr>
          <a:xfrm>
            <a:off x="2970360" y="2166840"/>
            <a:ext cx="14256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 стиму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40"/>
          <p:cNvSpPr/>
          <p:nvPr/>
        </p:nvSpPr>
        <p:spPr>
          <a:xfrm>
            <a:off x="6031080" y="196380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е заохо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41"/>
          <p:cNvSpPr/>
          <p:nvPr/>
        </p:nvSpPr>
        <p:spPr>
          <a:xfrm>
            <a:off x="6031080" y="256068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альне заохо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2"/>
          <p:cNvSpPr/>
          <p:nvPr/>
        </p:nvSpPr>
        <p:spPr>
          <a:xfrm>
            <a:off x="6031080" y="3157560"/>
            <a:ext cx="246672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вердж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Прямая со стрелкой 43"/>
          <p:cNvCxnSpPr/>
          <p:nvPr/>
        </p:nvCxnSpPr>
        <p:spPr>
          <a:xfrm flipV="1">
            <a:off x="4395960" y="1557000"/>
            <a:ext cx="163584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44"/>
          <p:cNvCxnSpPr/>
          <p:nvPr/>
        </p:nvCxnSpPr>
        <p:spPr>
          <a:xfrm flipV="1">
            <a:off x="4395600" y="2166480"/>
            <a:ext cx="163260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Прямая со стрелкой 45"/>
          <p:cNvCxnSpPr/>
          <p:nvPr/>
        </p:nvCxnSpPr>
        <p:spPr>
          <a:xfrm>
            <a:off x="4392360" y="2496600"/>
            <a:ext cx="1632600" cy="28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46"/>
          <p:cNvCxnSpPr/>
          <p:nvPr/>
        </p:nvCxnSpPr>
        <p:spPr>
          <a:xfrm>
            <a:off x="4392360" y="2560680"/>
            <a:ext cx="1632600" cy="80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Rectangle 26"/>
          <p:cNvSpPr/>
          <p:nvPr/>
        </p:nvSpPr>
        <p:spPr>
          <a:xfrm>
            <a:off x="447984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8"/>
          <p:cNvSpPr/>
          <p:nvPr/>
        </p:nvSpPr>
        <p:spPr>
          <a:xfrm>
            <a:off x="3519360" y="4203720"/>
            <a:ext cx="1752840" cy="62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потреб люд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49"/>
          <p:cNvSpPr/>
          <p:nvPr/>
        </p:nvSpPr>
        <p:spPr>
          <a:xfrm>
            <a:off x="611280" y="4959360"/>
            <a:ext cx="1752480" cy="41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усн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50"/>
          <p:cNvSpPr/>
          <p:nvPr/>
        </p:nvSpPr>
        <p:spPr>
          <a:xfrm>
            <a:off x="611280" y="4197240"/>
            <a:ext cx="1752480" cy="49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51"/>
          <p:cNvSpPr/>
          <p:nvPr/>
        </p:nvSpPr>
        <p:spPr>
          <a:xfrm>
            <a:off x="611280" y="3422520"/>
            <a:ext cx="17524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і потре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52"/>
          <p:cNvCxnSpPr/>
          <p:nvPr/>
        </p:nvCxnSpPr>
        <p:spPr>
          <a:xfrm>
            <a:off x="2363760" y="3557160"/>
            <a:ext cx="1156320" cy="78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Прямая со стрелкой 53"/>
          <p:cNvCxnSpPr/>
          <p:nvPr/>
        </p:nvCxnSpPr>
        <p:spPr>
          <a:xfrm>
            <a:off x="2363760" y="4431960"/>
            <a:ext cx="1156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Прямая со стрелкой 54"/>
          <p:cNvCxnSpPr/>
          <p:nvPr/>
        </p:nvCxnSpPr>
        <p:spPr>
          <a:xfrm flipV="1">
            <a:off x="2363760" y="4558680"/>
            <a:ext cx="11563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Заголовок 1"/>
          <p:cNvGrpSpPr/>
          <p:nvPr/>
        </p:nvGrpSpPr>
        <p:grpSpPr>
          <a:xfrm>
            <a:off x="414360" y="249120"/>
            <a:ext cx="8186760" cy="939960"/>
            <a:chOff x="414360" y="249120"/>
            <a:chExt cx="8186760" cy="939960"/>
          </a:xfrm>
        </p:grpSpPr>
        <p:pic>
          <p:nvPicPr>
            <p:cNvPr id="4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14360" y="249120"/>
              <a:ext cx="818676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79520" y="333360"/>
              <a:ext cx="80532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000000"/>
                  </a:solidFill>
                  <a:latin typeface="Century Schoolbook"/>
                </a:rPr>
                <a:t>ТЕОРІЇ МОТИВАЦІЇ ПРАЦ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Прямоугольник 3"/>
          <p:cNvSpPr/>
          <p:nvPr/>
        </p:nvSpPr>
        <p:spPr>
          <a:xfrm>
            <a:off x="3594240" y="1461960"/>
            <a:ext cx="1993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и теорій мотиваці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"/>
          <p:cNvSpPr/>
          <p:nvPr/>
        </p:nvSpPr>
        <p:spPr>
          <a:xfrm>
            <a:off x="4927680" y="2071800"/>
            <a:ext cx="1498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ійн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2540160" y="2071800"/>
            <a:ext cx="1549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стовн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6"/>
          <p:cNvSpPr/>
          <p:nvPr/>
        </p:nvSpPr>
        <p:spPr>
          <a:xfrm>
            <a:off x="1511280" y="2579760"/>
            <a:ext cx="207000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ія потреб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. Туган-Барановськ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1523880" y="3798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еорія потреб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ERG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. Алдерф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1523880" y="3265560"/>
            <a:ext cx="207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потреб А. Масло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9"/>
          <p:cNvSpPr/>
          <p:nvPr/>
        </p:nvSpPr>
        <p:spPr>
          <a:xfrm>
            <a:off x="1523880" y="5157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я потреб Д. Мак-Клелланд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0"/>
          <p:cNvSpPr/>
          <p:nvPr/>
        </p:nvSpPr>
        <p:spPr>
          <a:xfrm>
            <a:off x="1523880" y="44719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д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вофакторна теорі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отивації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 Ф. Герцбер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1"/>
          <p:cNvSpPr/>
          <p:nvPr/>
        </p:nvSpPr>
        <p:spPr>
          <a:xfrm>
            <a:off x="5321160" y="2579760"/>
            <a:ext cx="207036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еорія очікувань В. Врум</a:t>
            </a: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2"/>
          <p:cNvSpPr/>
          <p:nvPr/>
        </p:nvSpPr>
        <p:spPr>
          <a:xfrm>
            <a:off x="5321160" y="31129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ією справедливості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. Адам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3"/>
          <p:cNvSpPr/>
          <p:nvPr/>
        </p:nvSpPr>
        <p:spPr>
          <a:xfrm>
            <a:off x="5321160" y="44593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еорія атрибуці</a:t>
            </a:r>
            <a:r>
              <a:rPr b="0" i="1" lang="uk-UA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4"/>
          <p:cNvSpPr/>
          <p:nvPr/>
        </p:nvSpPr>
        <p:spPr>
          <a:xfrm>
            <a:off x="5321160" y="37861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плексна теорія Л. Портера і Е. Лоул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5321160" y="5157720"/>
            <a:ext cx="20703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еорії “Х” та “Y”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Д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ак-Грег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16"/>
          <p:cNvCxnSpPr/>
          <p:nvPr/>
        </p:nvCxnSpPr>
        <p:spPr>
          <a:xfrm flipH="1">
            <a:off x="3707640" y="1829880"/>
            <a:ext cx="16596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Прямая со стрелкой 17"/>
          <p:cNvCxnSpPr/>
          <p:nvPr/>
        </p:nvCxnSpPr>
        <p:spPr>
          <a:xfrm>
            <a:off x="5219280" y="1817640"/>
            <a:ext cx="191160" cy="241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18"/>
          <p:cNvCxnSpPr/>
          <p:nvPr/>
        </p:nvCxnSpPr>
        <p:spPr>
          <a:xfrm>
            <a:off x="5079960" y="544968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Прямая со стрелкой 19"/>
          <p:cNvCxnSpPr/>
          <p:nvPr/>
        </p:nvCxnSpPr>
        <p:spPr>
          <a:xfrm flipH="1">
            <a:off x="3580560" y="544968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Прямая соединительная линия 20"/>
          <p:cNvSpPr/>
          <p:nvPr/>
        </p:nvSpPr>
        <p:spPr>
          <a:xfrm flipV="1">
            <a:off x="3835440" y="243972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21"/>
          <p:cNvSpPr/>
          <p:nvPr/>
        </p:nvSpPr>
        <p:spPr>
          <a:xfrm flipV="1">
            <a:off x="5067360" y="2426760"/>
            <a:ext cx="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Прямая со стрелкой 22"/>
          <p:cNvCxnSpPr/>
          <p:nvPr/>
        </p:nvCxnSpPr>
        <p:spPr>
          <a:xfrm flipH="1">
            <a:off x="3580560" y="471276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23"/>
          <p:cNvCxnSpPr/>
          <p:nvPr/>
        </p:nvCxnSpPr>
        <p:spPr>
          <a:xfrm flipH="1">
            <a:off x="3580560" y="3430080"/>
            <a:ext cx="242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24"/>
          <p:cNvCxnSpPr/>
          <p:nvPr/>
        </p:nvCxnSpPr>
        <p:spPr>
          <a:xfrm flipH="1">
            <a:off x="3568320" y="403992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25"/>
          <p:cNvCxnSpPr/>
          <p:nvPr/>
        </p:nvCxnSpPr>
        <p:spPr>
          <a:xfrm flipH="1">
            <a:off x="3568320" y="28713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26"/>
          <p:cNvCxnSpPr/>
          <p:nvPr/>
        </p:nvCxnSpPr>
        <p:spPr>
          <a:xfrm>
            <a:off x="5079960" y="47127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1" name="Прямая со стрелкой 27"/>
          <p:cNvCxnSpPr/>
          <p:nvPr/>
        </p:nvCxnSpPr>
        <p:spPr>
          <a:xfrm>
            <a:off x="5079960" y="40269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2" name="Прямая со стрелкой 28"/>
          <p:cNvCxnSpPr/>
          <p:nvPr/>
        </p:nvCxnSpPr>
        <p:spPr>
          <a:xfrm>
            <a:off x="5079960" y="341748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Прямая со стрелкой 29"/>
          <p:cNvCxnSpPr/>
          <p:nvPr/>
        </p:nvCxnSpPr>
        <p:spPr>
          <a:xfrm>
            <a:off x="5079960" y="2858760"/>
            <a:ext cx="24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2"/>
          <p:cNvSpPr/>
          <p:nvPr/>
        </p:nvSpPr>
        <p:spPr>
          <a:xfrm>
            <a:off x="457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:\натусик\мета.jpg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5850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439560"/>
            <a:ext cx="74678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ОСНОВНІ ВИДИ МОТИВАЦІЇ ПРАЦІ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Прямоугольник 3"/>
          <p:cNvSpPr/>
          <p:nvPr/>
        </p:nvSpPr>
        <p:spPr>
          <a:xfrm>
            <a:off x="3998880" y="3386160"/>
            <a:ext cx="1498680" cy="48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6068880" y="3386160"/>
            <a:ext cx="1346400" cy="48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ус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1865160" y="3398760"/>
            <a:ext cx="1524240" cy="48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іаль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Прямая со стрелкой 6"/>
          <p:cNvCxnSpPr/>
          <p:nvPr/>
        </p:nvCxnSpPr>
        <p:spPr>
          <a:xfrm>
            <a:off x="4722480" y="2868120"/>
            <a:ext cx="108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Прямая со стрелкой 7"/>
          <p:cNvCxnSpPr/>
          <p:nvPr/>
        </p:nvCxnSpPr>
        <p:spPr>
          <a:xfrm flipH="1">
            <a:off x="2766240" y="2868120"/>
            <a:ext cx="94068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3" name="Прямая со стрелкой 8"/>
          <p:cNvCxnSpPr/>
          <p:nvPr/>
        </p:nvCxnSpPr>
        <p:spPr>
          <a:xfrm>
            <a:off x="5675040" y="2868120"/>
            <a:ext cx="851400" cy="52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4" name="Прямоугольник 9"/>
          <p:cNvSpPr/>
          <p:nvPr/>
        </p:nvSpPr>
        <p:spPr>
          <a:xfrm>
            <a:off x="3478320" y="2419200"/>
            <a:ext cx="24638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мотива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1751040" y="4008600"/>
            <a:ext cx="1727280" cy="181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гнення достатку, певного рівня добробуту, певного матеріального стандарту житт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3897360" y="4021200"/>
            <a:ext cx="1689120" cy="180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оджується самою роботою, тобто її змістом, умовами, організацією трудового процесу, режимом пра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2"/>
          <p:cNvSpPr/>
          <p:nvPr/>
        </p:nvSpPr>
        <p:spPr>
          <a:xfrm>
            <a:off x="5942160" y="4021200"/>
            <a:ext cx="1612800" cy="180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внутрішньою рушійною силою поведінки, пов'язаної з прагненням людини зайняти вищу пос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3"/>
          <p:cNvCxnSpPr/>
          <p:nvPr/>
        </p:nvCxnSpPr>
        <p:spPr>
          <a:xfrm>
            <a:off x="2652480" y="388152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Прямая со стрелкой 14"/>
          <p:cNvCxnSpPr/>
          <p:nvPr/>
        </p:nvCxnSpPr>
        <p:spPr>
          <a:xfrm>
            <a:off x="4722480" y="385596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Прямая со стрелкой 15"/>
          <p:cNvCxnSpPr/>
          <p:nvPr/>
        </p:nvCxnSpPr>
        <p:spPr>
          <a:xfrm>
            <a:off x="6741720" y="3881520"/>
            <a:ext cx="1080" cy="140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15:09:30Z</dcterms:created>
  <dc:creator>User</dc:creator>
  <dc:description/>
  <dc:language>en-US</dc:language>
  <cp:lastModifiedBy>Наталка</cp:lastModifiedBy>
  <dcterms:modified xsi:type="dcterms:W3CDTF">2015-06-16T11:04:59Z</dcterms:modified>
  <cp:revision>49</cp:revision>
  <dc:subject/>
  <dc:title>СТАН ТА ШЛЯХИ УДОСКОНАЛЕННЯ УПРАВЛІННЯ ПРОДУКТИВНІСТЮ ПРАЦІ НА ПІДПРИЄМСТВІ “ВІННИЦЬКИЙ ОЛІЙНОЖИРОВИЙ КОМБІНАТ”</dc:title>
</cp:coreProperties>
</file>