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83B-BE1E-4B58-86F8-31AD17E6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B8C-03A2-47E3-8A45-64D06855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1AC-7A8A-45A3-AED4-AFC0E8C9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FA4-39E2-4A7C-ADB9-D370A12B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B01D-BD3C-41BA-B6EA-731E6D32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7FC1-61EB-454A-8D2B-C4D871C3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3764-126A-451A-BF9A-717DECF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C4EE-BEBA-4FC4-9B78-924A0E2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199A-8EDF-4941-A424-6E0D812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9689-7F2F-4217-B243-D6776AD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A0A6-2F70-4EE3-8548-686C48ED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E78-96A6-4AC3-9A1F-3B30D0A4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2D5C-F24A-4528-9B5B-AF42699A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C202-0FB2-4CE5-BB28-3A94E7D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5009-5640-478F-AA46-99413382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6C7F-CB8E-43AF-8180-F0653FFB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E98F-56C1-4475-B198-7BE9B75B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F7325-8D2E-4FEC-B1A7-7098A7F1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BB0F7-9C22-4277-A776-61A8FE2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9314C-4009-4A0F-AB9B-1DD6787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1C99B-7039-4841-A4A3-097E62BD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23801-38EB-494B-BBBE-5654EB9F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099-54B8-4583-ABD1-ABD673AF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E2A8C-3BDE-4060-A974-F9D53B5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0C047-AFA4-42EB-B1C3-E834C42D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26901-2821-4F59-A981-07CC460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9B282-7ADA-4F2B-9643-FDC9D318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EF520-8742-475B-BF58-24F69C9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A59C4-8AB5-483F-8003-E83848DA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69DE3-B5D7-4EEE-BCD2-AFE2242E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2BE60-2F5D-4B98-80ED-16CA9B58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F71D-0F2B-4C68-9028-A90FF5F3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B2B87-9206-4997-A425-59E7A872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EB1-20E3-4891-A053-B22950D5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4932-719D-4BE5-BF70-FC1E6ED3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1E193-BEC2-44F5-8783-85586D6E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0428-8504-409B-813E-8D5AC292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8675-227D-4F43-BBEF-7A6B106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83E21-7E29-4E57-8A20-D86DE77B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F3A8-15B4-4702-8B9E-071A7F1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6F24-86D3-4E37-A6A9-D4C8B73C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7CB5-FAEC-49EB-B324-E0660AFF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E480-EF92-4EE7-8B55-01D95F19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0E29F-879D-4599-A069-082349FE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67B-D6C5-491C-BA6B-E81A15E1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340BF-8A5E-4E81-A380-61095B6E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6C860-2FE2-46E3-8E11-ABA4A99D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B6C0A-B9D5-4C04-8609-D165C1E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6C05C-F88F-4452-B666-AE03B9F7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0FEFF-118D-4104-A896-B19F42B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1B9CA-232D-45CA-A36E-50EA072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33F90-0EE2-4628-875F-3E4B91EE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BE919-24DE-4615-8A81-964B253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1737E-8649-4C85-B90C-D589D3FB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93D9D-0C08-4E38-A944-F5549922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445-0156-4AFE-8943-599AAAB1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EF55D-926D-4AF3-B44F-2B8E1CE1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C1204-E17F-4BE4-AECC-AD62DEA2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381BD-F1A2-4494-AA48-28D8B3A5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75368-5FC0-469B-8F72-CF091D4A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206A0-AF3B-4524-88F9-62A9E3A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89FA9-F47C-4F5D-A19A-DFC1A7C1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98D15-BB31-4E82-8AC5-5EE39D2E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58907-E161-44F0-80CA-E378DA0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28BE5-E441-4720-A5E3-65070C70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14021-DF2F-46EC-AC55-D846CB17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DC4-77FB-4D84-BDFD-32174EF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AF04A-E498-41A8-B100-982A18F9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16FC1-2B23-45CA-AA96-FFF5F5DC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440D7-C408-47E2-8ADF-0E3BC579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395B0-7228-4781-A25E-C388F629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59751-D675-45DD-83A2-12F752FA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16DA3-36F1-44C8-83B1-487B6FC9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576CD-D5A9-4D14-B4EB-A2C5EBDE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7B8F2-F283-464A-964E-65703D42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8D3D7-8131-4D6E-A097-D793D53C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8464B-5918-41BC-AB4D-622ED4D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18E-D03B-4E6A-87B0-65A5F8F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3CE04-F232-44CD-97DA-511F2E53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E7635-DF9B-4E31-AFC6-1F56F03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256F7-39C5-4097-9827-8F819B98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17724-F6DB-42C4-8F1B-E08124FB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8C201-6D9B-4B23-86DA-77547823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3B3-54CC-46D8-BCEF-4CFEB835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4853-B228-45A8-8371-2256143A76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85D3-5F43-44FB-AF9F-9DCA3457E8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D7CA-3A66-4A8B-BF7E-54A00E2064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53BC-343D-47CC-A671-F7FE55324F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DAE0-326E-424F-A817-5FFBE54617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1E9C-A596-4FD3-9924-A0D1991627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7CA9-5704-42F8-91BD-7E781599F1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0" y="5047920"/>
            <a:ext cx="90345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ЗАПРОВАДЖЕННЯ СУЧАСНИХ СИСТЕМ МОТИВАЦІЇ ПРАЦІ НА ПІДПРИЄМСТВІ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ПАТ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ІННИЦЬКИЙ ОЛІЙНОЖИРОВИЙ КОМБІНАТ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798720" y="404280"/>
            <a:ext cx="53452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Ст. гр. Моп-14сп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Дерик Н.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Century Schoolbook"/>
              </a:rPr>
              <a:t>Науковий керівник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Century Schoolbook"/>
              </a:rPr>
              <a:t>к.е.н., професор Козловський В.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AutoShape 6"/>
          <p:cNvSpPr/>
          <p:nvPr/>
        </p:nvSpPr>
        <p:spPr>
          <a:xfrm rot="2825400">
            <a:off x="7278480" y="6310440"/>
            <a:ext cx="633240" cy="392040"/>
          </a:xfrm>
          <a:prstGeom prst="leftArrow">
            <a:avLst>
              <a:gd name="adj1" fmla="val 24509"/>
              <a:gd name="adj2" fmla="val 10630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H:\натусик\objekt-200x184.jpg"/>
          <p:cNvPicPr/>
          <p:nvPr/>
        </p:nvPicPr>
        <p:blipFill>
          <a:blip r:embed="rId1"/>
          <a:stretch/>
        </p:blipFill>
        <p:spPr>
          <a:xfrm>
            <a:off x="5440320" y="4394160"/>
            <a:ext cx="3683160" cy="24814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5545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МЕТОДИ МОТИВАЦІЇ ПРАЦІ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Прямоугольник 3"/>
          <p:cNvSpPr/>
          <p:nvPr/>
        </p:nvSpPr>
        <p:spPr>
          <a:xfrm>
            <a:off x="698400" y="779400"/>
            <a:ext cx="1689120" cy="393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4"/>
          <p:cNvSpPr/>
          <p:nvPr/>
        </p:nvSpPr>
        <p:spPr>
          <a:xfrm>
            <a:off x="1104840" y="1643040"/>
            <a:ext cx="1536840" cy="63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еріальн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юв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5"/>
          <p:cNvSpPr/>
          <p:nvPr/>
        </p:nvSpPr>
        <p:spPr>
          <a:xfrm>
            <a:off x="1104840" y="2532240"/>
            <a:ext cx="1536840" cy="63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іальний пак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6"/>
          <p:cNvSpPr/>
          <p:nvPr/>
        </p:nvSpPr>
        <p:spPr>
          <a:xfrm>
            <a:off x="1104840" y="3433680"/>
            <a:ext cx="1536840" cy="63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альн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имулюв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1104840" y="4297320"/>
            <a:ext cx="1536840" cy="63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рганізацій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имулюв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3352680" y="1389240"/>
            <a:ext cx="3645000" cy="73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и заробітної плати, доплати, надбавки, премії, компенсації, матеріальна допомога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віденди і корпоративні опціо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3352680" y="4170240"/>
            <a:ext cx="364500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гнучкий робочий день або графік; часткове виконання роботи вдома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, уч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асть у нарадах, засідання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3352680" y="3319560"/>
            <a:ext cx="3645000" cy="63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хвала, подяки, привітання зі святами та ін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352680" y="2278080"/>
            <a:ext cx="364500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лата підприємством в тому чи іншому процентному співвідношенні різних послуг і виконання певних соціальних зобов'язань перед своїми працівника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1104840" y="5186520"/>
            <a:ext cx="1536840" cy="63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прац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3"/>
          <p:cNvSpPr/>
          <p:nvPr/>
        </p:nvSpPr>
        <p:spPr>
          <a:xfrm>
            <a:off x="3352680" y="5046840"/>
            <a:ext cx="3645000" cy="92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нітарно-гігієнічні, матеріально-технічні, інформаційні, соціально-побутові, соціально-психологічні, умови соціального захисту, допомоги, просторові, естетич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4"/>
          <p:cNvSpPr/>
          <p:nvPr/>
        </p:nvSpPr>
        <p:spPr>
          <a:xfrm>
            <a:off x="1104840" y="6100920"/>
            <a:ext cx="1536840" cy="63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ль керівниц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5"/>
          <p:cNvSpPr/>
          <p:nvPr/>
        </p:nvSpPr>
        <p:spPr>
          <a:xfrm>
            <a:off x="3352680" y="6176880"/>
            <a:ext cx="3645000" cy="55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посередньо проявляється у індивідуальних особливостях керівни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6"/>
          <p:cNvSpPr/>
          <p:nvPr/>
        </p:nvSpPr>
        <p:spPr>
          <a:xfrm>
            <a:off x="838080" y="1173240"/>
            <a:ext cx="0" cy="523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Прямая со стрелкой 17"/>
          <p:cNvCxnSpPr/>
          <p:nvPr/>
        </p:nvCxnSpPr>
        <p:spPr>
          <a:xfrm>
            <a:off x="850680" y="640512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0" name="Прямая со стрелкой 18"/>
          <p:cNvCxnSpPr/>
          <p:nvPr/>
        </p:nvCxnSpPr>
        <p:spPr>
          <a:xfrm>
            <a:off x="850680" y="551628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1" name="Прямая со стрелкой 19"/>
          <p:cNvCxnSpPr/>
          <p:nvPr/>
        </p:nvCxnSpPr>
        <p:spPr>
          <a:xfrm>
            <a:off x="850680" y="461448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2" name="Прямая со стрелкой 20"/>
          <p:cNvCxnSpPr/>
          <p:nvPr/>
        </p:nvCxnSpPr>
        <p:spPr>
          <a:xfrm>
            <a:off x="850680" y="376344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3" name="Прямая со стрелкой 21"/>
          <p:cNvCxnSpPr/>
          <p:nvPr/>
        </p:nvCxnSpPr>
        <p:spPr>
          <a:xfrm>
            <a:off x="850680" y="283644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4" name="Прямая со стрелкой 22"/>
          <p:cNvCxnSpPr/>
          <p:nvPr/>
        </p:nvCxnSpPr>
        <p:spPr>
          <a:xfrm>
            <a:off x="850680" y="197280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Прямая со стрелкой 23"/>
          <p:cNvCxnSpPr/>
          <p:nvPr/>
        </p:nvCxnSpPr>
        <p:spPr>
          <a:xfrm>
            <a:off x="2641320" y="187128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6" name="Прямая со стрелкой 24"/>
          <p:cNvCxnSpPr/>
          <p:nvPr/>
        </p:nvCxnSpPr>
        <p:spPr>
          <a:xfrm>
            <a:off x="2641320" y="283644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7" name="Прямая со стрелкой 25"/>
          <p:cNvCxnSpPr/>
          <p:nvPr/>
        </p:nvCxnSpPr>
        <p:spPr>
          <a:xfrm>
            <a:off x="2641320" y="367488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8" name="Прямая со стрелкой 26"/>
          <p:cNvCxnSpPr/>
          <p:nvPr/>
        </p:nvCxnSpPr>
        <p:spPr>
          <a:xfrm>
            <a:off x="2641320" y="551628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9" name="Прямая со стрелкой 27"/>
          <p:cNvCxnSpPr/>
          <p:nvPr/>
        </p:nvCxnSpPr>
        <p:spPr>
          <a:xfrm>
            <a:off x="2641320" y="641808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0" name="Прямая со стрелкой 28"/>
          <p:cNvCxnSpPr/>
          <p:nvPr/>
        </p:nvCxnSpPr>
        <p:spPr>
          <a:xfrm>
            <a:off x="2641320" y="455112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1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H:\1.jpg"/>
          <p:cNvPicPr/>
          <p:nvPr/>
        </p:nvPicPr>
        <p:blipFill>
          <a:blip r:embed="rId1"/>
          <a:stretch/>
        </p:blipFill>
        <p:spPr>
          <a:xfrm>
            <a:off x="250920" y="692280"/>
            <a:ext cx="8713800" cy="590544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6360" y="90792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entury Schoolbook"/>
              </a:rPr>
              <a:t>ОСНОВНІ ЕКОНОМІЧНІ ТА ФІНАНСОВІ ПОКАЗНИКИ ДІЯЛЬНОСТІ ПАТ “ВІННИЦЬКИЙ ОЛІЙНОЖИРОВИЙ КОМБІНАТ”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62080" y="1724040"/>
          <a:ext cx="8702640" cy="4948200"/>
        </p:xfrm>
        <a:graphic>
          <a:graphicData uri="http://schemas.openxmlformats.org/drawingml/2006/table">
            <a:tbl>
              <a:tblPr/>
              <a:tblGrid>
                <a:gridCol w="1403280"/>
                <a:gridCol w="944640"/>
                <a:gridCol w="822240"/>
                <a:gridCol w="820800"/>
                <a:gridCol w="822240"/>
                <a:gridCol w="1057320"/>
                <a:gridCol w="942840"/>
                <a:gridCol w="944640"/>
                <a:gridCol w="944640"/>
              </a:tblGrid>
              <a:tr h="210240"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Показ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Код ря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Відхил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2 від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3 від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024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79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. Чистий дохід від реалізації продук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2 р. 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97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648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78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32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6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3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8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. Фінансовий результат від операційної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2, р.100 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7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. Чистий приб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2, р. 220 (2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80,4</a:t>
                      </a: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,5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79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.Собівартість реалізованої продук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2 р. 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82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45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43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36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9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2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,4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77960">
                <a:tc>
                  <a:txBody>
                    <a:bodyPr lIns="63720" rIns="63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.Чисельність працівників на підприємств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3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,2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H:\10245571m.jpg"/>
          <p:cNvPicPr/>
          <p:nvPr/>
        </p:nvPicPr>
        <p:blipFill>
          <a:blip r:embed="rId1"/>
          <a:stretch/>
        </p:blipFill>
        <p:spPr>
          <a:xfrm>
            <a:off x="250920" y="836640"/>
            <a:ext cx="8704080" cy="57704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704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Century Schoolbook"/>
              </a:rPr>
              <a:t>ДИНАМІКА ЗМІНИ ОСНОВНИХ ПОКАЗНИКІВ БАЛАНСУ ПІДПРИЄМСТВА ТА ФІНАНСОВИХ КОЕФІЦІЄНТІ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08000" y="704880"/>
          <a:ext cx="4608360" cy="6230880"/>
        </p:xfrm>
        <a:graphic>
          <a:graphicData uri="http://schemas.openxmlformats.org/drawingml/2006/table">
            <a:tbl>
              <a:tblPr/>
              <a:tblGrid>
                <a:gridCol w="743040"/>
                <a:gridCol w="500040"/>
                <a:gridCol w="434880"/>
                <a:gridCol w="434880"/>
                <a:gridCol w="434880"/>
                <a:gridCol w="560520"/>
                <a:gridCol w="500040"/>
                <a:gridCol w="500040"/>
                <a:gridCol w="500040"/>
              </a:tblGrid>
              <a:tr h="18900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Показ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Код ря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Відхил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2 від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3 від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. Активи (Пасив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, р.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3756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3500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955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97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5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605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1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. Власний капі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 р. 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837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9428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22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1050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8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78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. Залучений капі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 р. 430+480+620+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537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40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73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692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6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32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96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. Не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 р.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92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678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178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7527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4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49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4,0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. 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 р.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49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7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77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2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9,4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6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5,8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765680" y="690480"/>
          <a:ext cx="4165560" cy="6267600"/>
        </p:xfrm>
        <a:graphic>
          <a:graphicData uri="http://schemas.openxmlformats.org/drawingml/2006/table">
            <a:tbl>
              <a:tblPr/>
              <a:tblGrid>
                <a:gridCol w="861840"/>
                <a:gridCol w="430560"/>
                <a:gridCol w="430200"/>
                <a:gridCol w="519120"/>
                <a:gridCol w="518760"/>
                <a:gridCol w="519120"/>
                <a:gridCol w="519120"/>
                <a:gridCol w="366840"/>
              </a:tblGrid>
              <a:tr h="36540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Показ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3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Відхил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2 від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3  від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1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3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абс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. Коефіцієнт покри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3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. Коефіцієнт оновлення основних засоб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7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8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33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. Коефіцієнт автоном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0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-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-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95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4. Коефіцієнт фінансового риз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-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-21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2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H:\images (9).jpg"/>
          <p:cNvPicPr/>
          <p:nvPr/>
        </p:nvPicPr>
        <p:blipFill>
          <a:blip r:embed="rId1"/>
          <a:stretch/>
        </p:blipFill>
        <p:spPr>
          <a:xfrm>
            <a:off x="144360" y="981000"/>
            <a:ext cx="8712360" cy="57438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entury Schoolbook"/>
              </a:rPr>
              <a:t>АНАЛІЗ СИСТЕМИ МОТИВАЦІЇ ПРАЦІ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44360" y="1351080"/>
          <a:ext cx="8999640" cy="5508360"/>
        </p:xfrm>
        <a:graphic>
          <a:graphicData uri="http://schemas.openxmlformats.org/drawingml/2006/table">
            <a:tbl>
              <a:tblPr/>
              <a:tblGrid>
                <a:gridCol w="2183040"/>
                <a:gridCol w="974520"/>
                <a:gridCol w="976320"/>
                <a:gridCol w="1090800"/>
                <a:gridCol w="849240"/>
                <a:gridCol w="974520"/>
                <a:gridCol w="976320"/>
                <a:gridCol w="974880"/>
              </a:tblGrid>
              <a:tr h="21348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3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хил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2 від 2011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3 від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420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5284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Чисельність промислово-виробничого персоналу, осі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3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1,2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3972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Обсяг продукції, що була виготовлена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40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480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219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7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4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738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4,8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4928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Чистий прибуток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80,4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,5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116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Середньорічна заробітна плата одного працівника,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4928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Продуктивність праці одного праців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64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78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90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14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4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2660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Коефіцієнт випередж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16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4892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 Коефіцієнт плинності кад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4748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.Коефіцієнт обороту звільн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H:\images (8).jpg"/>
          <p:cNvPicPr/>
          <p:nvPr/>
        </p:nvPicPr>
        <p:blipFill>
          <a:blip r:embed="rId1"/>
          <a:stretch/>
        </p:blipFill>
        <p:spPr>
          <a:xfrm>
            <a:off x="250920" y="779400"/>
            <a:ext cx="8642160" cy="57452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ХАРАКТЕРИСТИКА СИСТЕМИ ВИНАГОРОД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50920" y="449280"/>
          <a:ext cx="8642160" cy="6405480"/>
        </p:xfrm>
        <a:graphic>
          <a:graphicData uri="http://schemas.openxmlformats.org/drawingml/2006/table">
            <a:tbl>
              <a:tblPr/>
              <a:tblGrid>
                <a:gridCol w="1409760"/>
                <a:gridCol w="1495440"/>
                <a:gridCol w="1495080"/>
                <a:gridCol w="2121120"/>
                <a:gridCol w="2120760"/>
              </a:tblGrid>
              <a:tr h="547920"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ид винагоро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 застосування в орган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тегорії працівників, для яких застосовує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фект від застосування винагоро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 gridSpan="5"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овніш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rowSpan="3"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ям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азова заробітна пл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іксований платіж робітнику за виконану ро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певненість персоналу в стабільності доходу від виконання свої функц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м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видке і якісне виконання дорученого завд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бітники і управлін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имулює до сумлінної праці і відповідальності за результати робо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а за наднормову роботу і роботу в святкові д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бота в вихідний день внаслідок аварії на виробництв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бітники цехів і дільниц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охочення виходу на роботу в позаурочний час, впевненість у компенсації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0440"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прям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грами соціального захис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иробнича трав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певненість в тому, що працівник необхідний організації, оскільки остання оплачує його травмат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044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фінансов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зробка за рахунок підприємства візитних кар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зробка дизайну і оплата друкування візитівок у відділ маркет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правлінц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рдість працівника за займану ним посаду і сучасні погляди керівників підприєм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 gridSpan="5"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нутріш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rowSpan="3"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мостійність у робо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елегування повноваження щодо прийняття рі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неджер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ідчуття працівником своєї значущості для організації і як наслідок підвищення продуктивності пра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ливість професійного зрост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ідвищення з майстра цеху до начальника дільни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ерівники всіх рів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имулювання до більш ефективного і творчого виконання трудових функ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асть у прийнятті рі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исування власної ідеї щодо вирішення пробле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іалісти різних рів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ідчуття працівником за собою певних обов’язків, тобто врахування його думки при прийнятті рішень, підвищення само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ОРГАНІЗАЦІЙНА СТРУКТУРА УПРАВЛІННЯ ПЕРСОНАЛОМ НА ПАТ 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ВІННИЦЬКИЙ ОЛІЙНОЖИРОВИЙ КОМБІНАТ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Прямоугольник 3"/>
          <p:cNvSpPr/>
          <p:nvPr/>
        </p:nvSpPr>
        <p:spPr>
          <a:xfrm>
            <a:off x="3362400" y="2320920"/>
            <a:ext cx="26431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ральний дире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4"/>
          <p:cNvSpPr/>
          <p:nvPr/>
        </p:nvSpPr>
        <p:spPr>
          <a:xfrm>
            <a:off x="2930400" y="3057480"/>
            <a:ext cx="37544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упник генерального директора по кад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5"/>
          <p:cNvSpPr/>
          <p:nvPr/>
        </p:nvSpPr>
        <p:spPr>
          <a:xfrm>
            <a:off x="1343160" y="3781440"/>
            <a:ext cx="20145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діл кадрів (персонал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6"/>
          <p:cNvSpPr/>
          <p:nvPr/>
        </p:nvSpPr>
        <p:spPr>
          <a:xfrm>
            <a:off x="3476520" y="3781440"/>
            <a:ext cx="20145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діл оплати праці і тариф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5597640" y="3781440"/>
            <a:ext cx="20145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діл соціального розвит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8"/>
          <p:cNvSpPr/>
          <p:nvPr/>
        </p:nvSpPr>
        <p:spPr>
          <a:xfrm>
            <a:off x="1000080" y="4619520"/>
            <a:ext cx="2208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тор керівних кад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9"/>
          <p:cNvSpPr/>
          <p:nvPr/>
        </p:nvSpPr>
        <p:spPr>
          <a:xfrm>
            <a:off x="3362400" y="4619520"/>
            <a:ext cx="2546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тор підготовки і перепідготовки кад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Прямая со стрелкой 10"/>
          <p:cNvCxnSpPr/>
          <p:nvPr/>
        </p:nvCxnSpPr>
        <p:spPr>
          <a:xfrm>
            <a:off x="4416120" y="2778120"/>
            <a:ext cx="1080" cy="28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5" name="Прямая со стрелкой 11"/>
          <p:cNvCxnSpPr/>
          <p:nvPr/>
        </p:nvCxnSpPr>
        <p:spPr>
          <a:xfrm>
            <a:off x="4416120" y="3502080"/>
            <a:ext cx="1080" cy="28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6" name="Прямая со стрелкой 12"/>
          <p:cNvCxnSpPr/>
          <p:nvPr/>
        </p:nvCxnSpPr>
        <p:spPr>
          <a:xfrm flipH="1">
            <a:off x="2739240" y="3514680"/>
            <a:ext cx="1245240" cy="28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7" name="Прямая со стрелкой 13"/>
          <p:cNvCxnSpPr/>
          <p:nvPr/>
        </p:nvCxnSpPr>
        <p:spPr>
          <a:xfrm>
            <a:off x="4937040" y="3502080"/>
            <a:ext cx="1067760" cy="28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8" name="Прямая со стрелкой 14"/>
          <p:cNvCxnSpPr/>
          <p:nvPr/>
        </p:nvCxnSpPr>
        <p:spPr>
          <a:xfrm flipH="1">
            <a:off x="1786680" y="4238280"/>
            <a:ext cx="102600" cy="44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9" name="Прямая со стрелкой 15"/>
          <p:cNvCxnSpPr/>
          <p:nvPr/>
        </p:nvCxnSpPr>
        <p:spPr>
          <a:xfrm>
            <a:off x="2359080" y="4238640"/>
            <a:ext cx="137232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467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СОЦІАЛЬНИЙ АУДИ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3" name="Picture 3" descr="C:\Documents and Settings\User\Рабочий стол\натусик\dr_ab209e4a0658b5f26886ade528bde28c.jpg"/>
          <p:cNvPicPr/>
          <p:nvPr/>
        </p:nvPicPr>
        <p:blipFill>
          <a:blip r:embed="rId1"/>
          <a:stretch/>
        </p:blipFill>
        <p:spPr>
          <a:xfrm>
            <a:off x="3419640" y="148428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524" name="Заголовок 1"/>
          <p:cNvSpPr/>
          <p:nvPr/>
        </p:nvSpPr>
        <p:spPr>
          <a:xfrm>
            <a:off x="468360" y="3429000"/>
            <a:ext cx="7467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ПОСТЕРЕЖЕННЯ, КОНТРОЛЬ ТА АНАЛІЗ ЗА СТАНОМ ПЕРСОНАЛУ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43160" y="274320"/>
            <a:ext cx="3881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ОБ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ЄКТИ СОЦІАЛЬНОГО АУДИТУ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6" name="Picture 4" descr="C:\Documents and Settings\User\Рабочий стол\натусик\yak-rozmovlyati-dovgo.jpg"/>
          <p:cNvPicPr/>
          <p:nvPr/>
        </p:nvPicPr>
        <p:blipFill>
          <a:blip r:embed="rId1"/>
          <a:stretch/>
        </p:blipFill>
        <p:spPr>
          <a:xfrm>
            <a:off x="6157800" y="4005360"/>
            <a:ext cx="2649600" cy="264960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5"/>
          <p:cNvSpPr/>
          <p:nvPr/>
        </p:nvSpPr>
        <p:spPr>
          <a:xfrm>
            <a:off x="3255840" y="3308400"/>
            <a:ext cx="1130400" cy="78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’єкти соціального ауд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6"/>
          <p:cNvSpPr/>
          <p:nvPr/>
        </p:nvSpPr>
        <p:spPr>
          <a:xfrm>
            <a:off x="1224000" y="213984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іально-психологічний клімат у колектив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7"/>
          <p:cNvSpPr/>
          <p:nvPr/>
        </p:nvSpPr>
        <p:spPr>
          <a:xfrm>
            <a:off x="4132440" y="2139840"/>
            <a:ext cx="229860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навчання, підвищення кваліфікації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8"/>
          <p:cNvSpPr/>
          <p:nvPr/>
        </p:nvSpPr>
        <p:spPr>
          <a:xfrm>
            <a:off x="652320" y="3067200"/>
            <a:ext cx="2108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ковий, професійний, кваліфікаційний склад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9"/>
          <p:cNvSpPr/>
          <p:nvPr/>
        </p:nvSpPr>
        <p:spPr>
          <a:xfrm>
            <a:off x="4792680" y="3054240"/>
            <a:ext cx="20318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добору, просування, атестації кад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0"/>
          <p:cNvSpPr/>
          <p:nvPr/>
        </p:nvSpPr>
        <p:spPr>
          <a:xfrm>
            <a:off x="830160" y="418464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формальні структу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11"/>
          <p:cNvSpPr/>
          <p:nvPr/>
        </p:nvSpPr>
        <p:spPr>
          <a:xfrm>
            <a:off x="4614840" y="418464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аміка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2"/>
          <p:cNvSpPr/>
          <p:nvPr/>
        </p:nvSpPr>
        <p:spPr>
          <a:xfrm>
            <a:off x="1681200" y="498492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роботи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13"/>
          <p:cNvSpPr/>
          <p:nvPr/>
        </p:nvSpPr>
        <p:spPr>
          <a:xfrm>
            <a:off x="4030560" y="498492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мотивації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Прямая со стрелкой 14"/>
          <p:cNvCxnSpPr/>
          <p:nvPr/>
        </p:nvCxnSpPr>
        <p:spPr>
          <a:xfrm flipV="1">
            <a:off x="4132080" y="2647080"/>
            <a:ext cx="178200" cy="66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7" name="Прямая со стрелкой 15"/>
          <p:cNvCxnSpPr/>
          <p:nvPr/>
        </p:nvCxnSpPr>
        <p:spPr>
          <a:xfrm flipH="1" flipV="1">
            <a:off x="3191760" y="2647080"/>
            <a:ext cx="292680" cy="66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8" name="Прямая со стрелкой 16"/>
          <p:cNvCxnSpPr/>
          <p:nvPr/>
        </p:nvCxnSpPr>
        <p:spPr>
          <a:xfrm flipV="1">
            <a:off x="4385880" y="3409200"/>
            <a:ext cx="407160" cy="19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9" name="Прямая со стрелкой 17"/>
          <p:cNvCxnSpPr/>
          <p:nvPr/>
        </p:nvCxnSpPr>
        <p:spPr>
          <a:xfrm flipH="1" flipV="1">
            <a:off x="2773080" y="3409200"/>
            <a:ext cx="496080" cy="19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Прямая со стрелкой 18"/>
          <p:cNvCxnSpPr/>
          <p:nvPr/>
        </p:nvCxnSpPr>
        <p:spPr>
          <a:xfrm flipH="1">
            <a:off x="2937960" y="4095360"/>
            <a:ext cx="470880" cy="44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1" name="Прямая со стрелкой 19"/>
          <p:cNvCxnSpPr/>
          <p:nvPr/>
        </p:nvCxnSpPr>
        <p:spPr>
          <a:xfrm>
            <a:off x="4208400" y="4083120"/>
            <a:ext cx="394560" cy="496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Прямая со стрелкой 20"/>
          <p:cNvCxnSpPr/>
          <p:nvPr/>
        </p:nvCxnSpPr>
        <p:spPr>
          <a:xfrm flipH="1">
            <a:off x="3420720" y="4095360"/>
            <a:ext cx="216720" cy="90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Прямая со стрелкой 21"/>
          <p:cNvCxnSpPr/>
          <p:nvPr/>
        </p:nvCxnSpPr>
        <p:spPr>
          <a:xfrm>
            <a:off x="4043520" y="4095720"/>
            <a:ext cx="28008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C:\Documents and Settings\User\Рабочий стол\натусик\images (10).jpg"/>
          <p:cNvPicPr/>
          <p:nvPr/>
        </p:nvPicPr>
        <p:blipFill>
          <a:blip r:embed="rId2"/>
          <a:stretch/>
        </p:blipFill>
        <p:spPr>
          <a:xfrm>
            <a:off x="128520" y="173160"/>
            <a:ext cx="215892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C:\Documents and Settings\User\Рабочий стол\натусик\images (6).jpg"/>
          <p:cNvPicPr/>
          <p:nvPr/>
        </p:nvPicPr>
        <p:blipFill>
          <a:blip r:embed="rId1"/>
          <a:stretch/>
        </p:blipFill>
        <p:spPr>
          <a:xfrm>
            <a:off x="6516720" y="115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БЮДЖЕТ ВИТРАТ НА ЗДІЙСНЕННЯ ПРОЕКТУ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08000" y="2637000"/>
          <a:ext cx="8694720" cy="3960720"/>
        </p:xfrm>
        <a:graphic>
          <a:graphicData uri="http://schemas.openxmlformats.org/drawingml/2006/table">
            <a:tbl>
              <a:tblPr/>
              <a:tblGrid>
                <a:gridCol w="485640"/>
                <a:gridCol w="5435640"/>
                <a:gridCol w="2773440"/>
              </a:tblGrid>
              <a:tr h="36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таття вит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2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дослідження (збір інформації про необхідність проведення проект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4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реалізацію проекту (анкетування, співбесід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розробку спеціальних про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проведення тренінгі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24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заробітну плату учасникам проекту протягом 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2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сь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КОМЕНДАЦ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ІЇ ЩОДО ПОКРАЩЕННЯ СТАНУ МОТИВАЦІЇ ПРАЦІ НА ПІДПРИЄМСТВІ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08000" y="2060640"/>
          <a:ext cx="8856720" cy="4797360"/>
        </p:xfrm>
        <a:graphic>
          <a:graphicData uri="http://schemas.openxmlformats.org/drawingml/2006/table">
            <a:tbl>
              <a:tblPr/>
              <a:tblGrid>
                <a:gridCol w="493560"/>
                <a:gridCol w="5442120"/>
                <a:gridCol w="2921040"/>
              </a:tblGrid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Рекомендації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оціальний ау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1000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9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творення фондів стимулювання для мотивації працівників до високопродуктивної праці та створення інноваційних і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0% від чистого прибутку (10%×2352000=235200 грн. у 2013 роц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49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Формування для молоді системи кадрового зрос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5% від чистого прибутку (5%×2352000=117600 грн. у 2013 роц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творення соціально-психологічного клімату у колектив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4000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5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сь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17800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:\натусик\20131015104414.jpg"/>
          <p:cNvPicPr/>
          <p:nvPr/>
        </p:nvPicPr>
        <p:blipFill>
          <a:blip r:embed="rId1"/>
          <a:stretch/>
        </p:blipFill>
        <p:spPr>
          <a:xfrm>
            <a:off x="-12600" y="-387360"/>
            <a:ext cx="9252000" cy="723096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103320" y="-291960"/>
            <a:ext cx="9259920" cy="66070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C:\Documents and Settings\User\Рабочий стол\натусик\images (12).jpg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73876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50"/>
                </a:solidFill>
                <a:latin typeface="Century Schoolbook"/>
              </a:rPr>
              <a:t>МОДЕЛЮВАННЯ ОЧІКУВАНИХ РЕЗУЛЬТАТІВ ВІД ВПРОВАДЖЕННЯ ПРОЕКТУ </a:t>
            </a:r>
            <a:r>
              <a:rPr b="0" lang="en-US" sz="2400" spc="-1" strike="noStrike">
                <a:solidFill>
                  <a:srgbClr val="00b050"/>
                </a:solidFill>
                <a:latin typeface="Century Schoolbook"/>
              </a:rPr>
              <a:t>“</a:t>
            </a:r>
            <a:r>
              <a:rPr b="0" lang="uk-UA" sz="2400" spc="-1" strike="noStrike">
                <a:solidFill>
                  <a:srgbClr val="00b050"/>
                </a:solidFill>
                <a:latin typeface="Century Schoolbook"/>
              </a:rPr>
              <a:t>СОЦІАЛЬНИЙ АУДИТ</a:t>
            </a:r>
            <a:r>
              <a:rPr b="0" lang="en-US" sz="2400" spc="-1" strike="noStrike">
                <a:solidFill>
                  <a:srgbClr val="00b05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953240" cy="2736720"/>
          </a:xfrm>
          <a:prstGeom prst="rect">
            <a:avLst/>
          </a:prstGeom>
          <a:ln w="0">
            <a:noFill/>
          </a:ln>
        </p:spPr>
      </p:pic>
      <p:pic>
        <p:nvPicPr>
          <p:cNvPr id="555" name="Диаграмма 1" descr=""/>
          <p:cNvPicPr/>
          <p:nvPr/>
        </p:nvPicPr>
        <p:blipFill>
          <a:blip r:embed="rId3"/>
          <a:stretch/>
        </p:blipFill>
        <p:spPr>
          <a:xfrm>
            <a:off x="3863880" y="4043520"/>
            <a:ext cx="50292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769608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666666"/>
                </a:solidFill>
                <a:latin typeface="Century Schoolbook"/>
              </a:rPr>
              <a:t>ДЯКУЮ ЗА УВАГУ!!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7" name="Picture 2" descr="C:\Documents and Settings\User\Рабочий стол\натусик\images.jpg"/>
          <p:cNvPicPr/>
          <p:nvPr/>
        </p:nvPicPr>
        <p:blipFill>
          <a:blip r:embed="rId1"/>
          <a:stretch/>
        </p:blipFill>
        <p:spPr>
          <a:xfrm>
            <a:off x="3203640" y="3213000"/>
            <a:ext cx="24112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H:\натусик\metodyky-doslidzhennya.png"/>
          <p:cNvPicPr/>
          <p:nvPr/>
        </p:nvPicPr>
        <p:blipFill>
          <a:blip r:embed="rId1"/>
          <a:stretch/>
        </p:blipFill>
        <p:spPr>
          <a:xfrm>
            <a:off x="468360" y="415800"/>
            <a:ext cx="7775640" cy="637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640" y="152280"/>
            <a:ext cx="8807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ОБ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ЄКТ ТА ПРЕДМЕТ РОБО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8000" y="1066320"/>
            <a:ext cx="892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Б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ЄК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- процес управління мотивацією праці на підприємстві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ЕДМ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ddddd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обливості управління сучасними системами мотивації праці на підприємстві та можливі шляхи її підвище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H:\натусик\Підходи-до-визначення-конкурентної-стратегії-підприємства.jpg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8579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62626"/>
                </a:solidFill>
                <a:latin typeface="Century Schoolbook"/>
              </a:rPr>
              <a:t>ПІДХОДИ ДО ТЛУМАЧЕННЯ ПОНЯТТЯ </a:t>
            </a:r>
            <a:r>
              <a:rPr b="0" lang="en-US" sz="2500" spc="-1" strike="noStrike">
                <a:solidFill>
                  <a:srgbClr val="262626"/>
                </a:solidFill>
                <a:latin typeface="Century Schoolbook"/>
              </a:rPr>
              <a:t>“</a:t>
            </a:r>
            <a:r>
              <a:rPr b="0" lang="uk-UA" sz="2500" spc="-1" strike="noStrike">
                <a:solidFill>
                  <a:srgbClr val="262626"/>
                </a:solidFill>
                <a:latin typeface="Century Schoolbook"/>
              </a:rPr>
              <a:t>ПРОДУКТИВНІСТЬ ПРАЦІ</a:t>
            </a:r>
            <a:r>
              <a:rPr b="0" lang="en-US" sz="2500" spc="-1" strike="noStrike">
                <a:solidFill>
                  <a:srgbClr val="262626"/>
                </a:solidFill>
                <a:latin typeface="Century Schoolbook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76120" y="779400"/>
          <a:ext cx="8656920" cy="5877000"/>
        </p:xfrm>
        <a:graphic>
          <a:graphicData uri="http://schemas.openxmlformats.org/drawingml/2006/table">
            <a:tbl>
              <a:tblPr/>
              <a:tblGrid>
                <a:gridCol w="582840"/>
                <a:gridCol w="1955520"/>
                <a:gridCol w="6118560"/>
              </a:tblGrid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и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Афонин А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управлінська діяльність, спрямована на стимулювання працівників для досягнення цілей підприєм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Бєляєва І.Ф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це сукупність мотивів, які впливають на поведінку людини, спонукаючи її до діяль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лот А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це сукупність внутрішніх і зовнішніх рушійних сил, які спонукають людину до діяльності, визначають поведінку, форми діяльності, надають цій діяльності спрямованості, орієнтованої на досягнення особистих цілей і ціле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Богиня Д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-….суб’єктивна сторона діяльності людини, яка представлена широким спектром потреб, бажань, почуттів, інтерес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ібанов А.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процес свідомого вибору людиною того чи іншого типу поведінки, яка визначається комплексним впливом зовнішніх (стимули) і внутрішніх (мотиви) фактор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уліков Г.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процес спонукання людини, соціальної групи…здійснювати успадковано закріплені або набуті досвідом дії, спрямовані на задоволення певного роду потреб і досягнення особистих, групових і суспільних ці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:\натусик\Сучасні-підходи-до-реалізації-стратегічного-управління-підприємством.jpg"/>
          <p:cNvPicPr/>
          <p:nvPr/>
        </p:nvPicPr>
        <p:blipFill>
          <a:blip r:embed="rId1"/>
          <a:stretch/>
        </p:blipFill>
        <p:spPr>
          <a:xfrm>
            <a:off x="250920" y="752400"/>
            <a:ext cx="8569080" cy="5857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8088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62626"/>
                </a:solidFill>
                <a:latin typeface="Century Schoolbook"/>
              </a:rPr>
              <a:t>ОТЖЕ: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520" y="1066320"/>
            <a:ext cx="82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524be"/>
                </a:solidFill>
                <a:latin typeface="Century Schoolbook"/>
              </a:rPr>
              <a:t>мотивація праці являє собою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524be"/>
                </a:solidFill>
                <a:latin typeface="Century Schoolbook"/>
              </a:rPr>
              <a:t>сукупність внутрішніх і зовнішні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524be"/>
                </a:solidFill>
                <a:latin typeface="Century Schoolbook"/>
              </a:rPr>
              <a:t>рушійних сил, що спонукають людин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524be"/>
                </a:solidFill>
                <a:latin typeface="Century Schoolbook"/>
              </a:rPr>
              <a:t>до діяльності, визначають тип її поведінки, орієнтують на досягнення поставлених ціл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:\натусик\Vo_8FPpTreU.jpg"/>
          <p:cNvPicPr/>
          <p:nvPr/>
        </p:nvPicPr>
        <p:blipFill>
          <a:blip r:embed="rId1"/>
          <a:stretch/>
        </p:blipFill>
        <p:spPr>
          <a:xfrm>
            <a:off x="3867120" y="0"/>
            <a:ext cx="5056200" cy="482760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7"/>
          <p:cNvSpPr/>
          <p:nvPr/>
        </p:nvSpPr>
        <p:spPr>
          <a:xfrm>
            <a:off x="5943600" y="29718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тадії впливу на поведінку людей певних факт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324000" y="1625760"/>
            <a:ext cx="147312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ш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324000" y="3817800"/>
            <a:ext cx="147312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верт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9"/>
          <p:cNvSpPr/>
          <p:nvPr/>
        </p:nvSpPr>
        <p:spPr>
          <a:xfrm>
            <a:off x="312840" y="3059280"/>
            <a:ext cx="147312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я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0"/>
          <p:cNvSpPr/>
          <p:nvPr/>
        </p:nvSpPr>
        <p:spPr>
          <a:xfrm>
            <a:off x="312840" y="2332080"/>
            <a:ext cx="147312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1"/>
          <p:cNvSpPr/>
          <p:nvPr/>
        </p:nvSpPr>
        <p:spPr>
          <a:xfrm>
            <a:off x="3422520" y="1609560"/>
            <a:ext cx="23241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икнення потре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2"/>
          <p:cNvSpPr/>
          <p:nvPr/>
        </p:nvSpPr>
        <p:spPr>
          <a:xfrm>
            <a:off x="3422520" y="2340000"/>
            <a:ext cx="232416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шук способів задоволення потре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3"/>
          <p:cNvSpPr/>
          <p:nvPr/>
        </p:nvSpPr>
        <p:spPr>
          <a:xfrm>
            <a:off x="3411360" y="3076560"/>
            <a:ext cx="23241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ення цілей та напрямків д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4"/>
          <p:cNvSpPr/>
          <p:nvPr/>
        </p:nvSpPr>
        <p:spPr>
          <a:xfrm>
            <a:off x="3411360" y="3844800"/>
            <a:ext cx="23241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ння конкретних д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5"/>
          <p:cNvSpPr/>
          <p:nvPr/>
        </p:nvSpPr>
        <p:spPr>
          <a:xfrm>
            <a:off x="3409920" y="5303880"/>
            <a:ext cx="232416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оволення потре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6"/>
          <p:cNvSpPr/>
          <p:nvPr/>
        </p:nvSpPr>
        <p:spPr>
          <a:xfrm>
            <a:off x="3409920" y="4554360"/>
            <a:ext cx="23241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имання винагороди за виконані д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7"/>
          <p:cNvSpPr/>
          <p:nvPr/>
        </p:nvSpPr>
        <p:spPr>
          <a:xfrm>
            <a:off x="324000" y="5276880"/>
            <a:ext cx="147312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Шост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8"/>
          <p:cNvSpPr/>
          <p:nvPr/>
        </p:nvSpPr>
        <p:spPr>
          <a:xfrm>
            <a:off x="312840" y="4522680"/>
            <a:ext cx="147312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’ят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Прямая со стрелкой 19"/>
          <p:cNvCxnSpPr/>
          <p:nvPr/>
        </p:nvCxnSpPr>
        <p:spPr>
          <a:xfrm>
            <a:off x="4584240" y="2196720"/>
            <a:ext cx="1080" cy="165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20"/>
          <p:cNvCxnSpPr/>
          <p:nvPr/>
        </p:nvCxnSpPr>
        <p:spPr>
          <a:xfrm>
            <a:off x="4579560" y="3666600"/>
            <a:ext cx="1080" cy="165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2" name="Прямая со стрелкой 21"/>
          <p:cNvCxnSpPr/>
          <p:nvPr/>
        </p:nvCxnSpPr>
        <p:spPr>
          <a:xfrm>
            <a:off x="4578120" y="5138280"/>
            <a:ext cx="1080" cy="165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3" name="Прямая со стрелкой 22"/>
          <p:cNvCxnSpPr/>
          <p:nvPr/>
        </p:nvCxnSpPr>
        <p:spPr>
          <a:xfrm>
            <a:off x="4592160" y="2910960"/>
            <a:ext cx="1080" cy="165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4" name="Прямая со стрелкой 23"/>
          <p:cNvCxnSpPr/>
          <p:nvPr/>
        </p:nvCxnSpPr>
        <p:spPr>
          <a:xfrm>
            <a:off x="4578120" y="4389480"/>
            <a:ext cx="1080" cy="165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Прямая со стрелкой 24"/>
          <p:cNvCxnSpPr/>
          <p:nvPr/>
        </p:nvCxnSpPr>
        <p:spPr>
          <a:xfrm>
            <a:off x="1796760" y="193464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Прямая со стрелкой 25"/>
          <p:cNvCxnSpPr/>
          <p:nvPr/>
        </p:nvCxnSpPr>
        <p:spPr>
          <a:xfrm>
            <a:off x="1785600" y="262548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Прямая со стрелкой 26"/>
          <p:cNvCxnSpPr/>
          <p:nvPr/>
        </p:nvCxnSpPr>
        <p:spPr>
          <a:xfrm>
            <a:off x="1785600" y="334944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Прямая со стрелкой 27"/>
          <p:cNvCxnSpPr/>
          <p:nvPr/>
        </p:nvCxnSpPr>
        <p:spPr>
          <a:xfrm>
            <a:off x="1785600" y="411120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28"/>
          <p:cNvCxnSpPr/>
          <p:nvPr/>
        </p:nvCxnSpPr>
        <p:spPr>
          <a:xfrm>
            <a:off x="1796760" y="483516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9"/>
          <p:cNvCxnSpPr/>
          <p:nvPr/>
        </p:nvCxnSpPr>
        <p:spPr>
          <a:xfrm>
            <a:off x="1796760" y="559728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7"/>
          <p:cNvSpPr/>
          <p:nvPr/>
        </p:nvSpPr>
        <p:spPr>
          <a:xfrm>
            <a:off x="4572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H:\натусик\Vo_8FPpTreU.jpg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0"/>
          <p:cNvSpPr/>
          <p:nvPr/>
        </p:nvSpPr>
        <p:spPr>
          <a:xfrm>
            <a:off x="349920" y="65160"/>
            <a:ext cx="8258040" cy="6426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b8b8b"/>
              </a:gs>
            </a:gsLst>
            <a:lin ang="16200000"/>
          </a:gradFill>
          <a:ln w="9360">
            <a:solidFill>
              <a:srgbClr val="4545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 стимулів та групи потреб 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9"/>
          <p:cNvSpPr/>
          <p:nvPr/>
        </p:nvSpPr>
        <p:spPr>
          <a:xfrm>
            <a:off x="6031080" y="1353960"/>
            <a:ext cx="2466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усові захо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8"/>
          <p:cNvSpPr/>
          <p:nvPr/>
        </p:nvSpPr>
        <p:spPr>
          <a:xfrm>
            <a:off x="2970360" y="2166840"/>
            <a:ext cx="14256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 стиму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40"/>
          <p:cNvSpPr/>
          <p:nvPr/>
        </p:nvSpPr>
        <p:spPr>
          <a:xfrm>
            <a:off x="6031080" y="1963800"/>
            <a:ext cx="2466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іальне заохоч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41"/>
          <p:cNvSpPr/>
          <p:nvPr/>
        </p:nvSpPr>
        <p:spPr>
          <a:xfrm>
            <a:off x="6031080" y="2560680"/>
            <a:ext cx="2466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альне заохоч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2"/>
          <p:cNvSpPr/>
          <p:nvPr/>
        </p:nvSpPr>
        <p:spPr>
          <a:xfrm>
            <a:off x="6031080" y="3157560"/>
            <a:ext cx="2466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вердж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Прямая со стрелкой 43"/>
          <p:cNvCxnSpPr/>
          <p:nvPr/>
        </p:nvCxnSpPr>
        <p:spPr>
          <a:xfrm flipV="1">
            <a:off x="4395960" y="1557000"/>
            <a:ext cx="1635840" cy="80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Прямая со стрелкой 44"/>
          <p:cNvCxnSpPr/>
          <p:nvPr/>
        </p:nvCxnSpPr>
        <p:spPr>
          <a:xfrm flipV="1">
            <a:off x="4395600" y="2166480"/>
            <a:ext cx="1632600" cy="25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Прямая со стрелкой 45"/>
          <p:cNvCxnSpPr/>
          <p:nvPr/>
        </p:nvCxnSpPr>
        <p:spPr>
          <a:xfrm>
            <a:off x="4392360" y="2496600"/>
            <a:ext cx="1632600" cy="28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46"/>
          <p:cNvCxnSpPr/>
          <p:nvPr/>
        </p:nvCxnSpPr>
        <p:spPr>
          <a:xfrm>
            <a:off x="4392360" y="2560680"/>
            <a:ext cx="1632600" cy="80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Rectangle 26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8"/>
          <p:cNvSpPr/>
          <p:nvPr/>
        </p:nvSpPr>
        <p:spPr>
          <a:xfrm>
            <a:off x="3519360" y="4203720"/>
            <a:ext cx="1752840" cy="62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и потреб люд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49"/>
          <p:cNvSpPr/>
          <p:nvPr/>
        </p:nvSpPr>
        <p:spPr>
          <a:xfrm>
            <a:off x="611280" y="4959360"/>
            <a:ext cx="1752480" cy="419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усні потре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50"/>
          <p:cNvSpPr/>
          <p:nvPr/>
        </p:nvSpPr>
        <p:spPr>
          <a:xfrm>
            <a:off x="611280" y="4197240"/>
            <a:ext cx="17524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ові потре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51"/>
          <p:cNvSpPr/>
          <p:nvPr/>
        </p:nvSpPr>
        <p:spPr>
          <a:xfrm>
            <a:off x="611280" y="3422520"/>
            <a:ext cx="17524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іальні потре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 стрелкой 52"/>
          <p:cNvCxnSpPr/>
          <p:nvPr/>
        </p:nvCxnSpPr>
        <p:spPr>
          <a:xfrm>
            <a:off x="2363760" y="3557160"/>
            <a:ext cx="1156320" cy="78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Прямая со стрелкой 53"/>
          <p:cNvCxnSpPr/>
          <p:nvPr/>
        </p:nvCxnSpPr>
        <p:spPr>
          <a:xfrm>
            <a:off x="2363760" y="4431960"/>
            <a:ext cx="1156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Прямая со стрелкой 54"/>
          <p:cNvCxnSpPr/>
          <p:nvPr/>
        </p:nvCxnSpPr>
        <p:spPr>
          <a:xfrm flipV="1">
            <a:off x="2363760" y="4558680"/>
            <a:ext cx="11563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Заголовок 1"/>
          <p:cNvGrpSpPr/>
          <p:nvPr/>
        </p:nvGrpSpPr>
        <p:grpSpPr>
          <a:xfrm>
            <a:off x="414360" y="249120"/>
            <a:ext cx="8186760" cy="939960"/>
            <a:chOff x="414360" y="249120"/>
            <a:chExt cx="8186760" cy="939960"/>
          </a:xfrm>
        </p:grpSpPr>
        <p:pic>
          <p:nvPicPr>
            <p:cNvPr id="4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14360" y="249120"/>
              <a:ext cx="818676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479520" y="333360"/>
              <a:ext cx="80532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000000"/>
                  </a:solidFill>
                  <a:latin typeface="Century Schoolbook"/>
                </a:rPr>
                <a:t>ТЕОРІЇ МОТИВАЦІЇ ПРАЦІ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Прямоугольник 3"/>
          <p:cNvSpPr/>
          <p:nvPr/>
        </p:nvSpPr>
        <p:spPr>
          <a:xfrm>
            <a:off x="3594240" y="1461960"/>
            <a:ext cx="1993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и теорій мотиваці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"/>
          <p:cNvSpPr/>
          <p:nvPr/>
        </p:nvSpPr>
        <p:spPr>
          <a:xfrm>
            <a:off x="4927680" y="2071800"/>
            <a:ext cx="1498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сійні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2540160" y="2071800"/>
            <a:ext cx="1549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Змістовні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6"/>
          <p:cNvSpPr/>
          <p:nvPr/>
        </p:nvSpPr>
        <p:spPr>
          <a:xfrm>
            <a:off x="1511280" y="2579760"/>
            <a:ext cx="207000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ія потреб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. Туган-Барановськог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1523880" y="37987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еорія потреб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ERG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К. Алдерф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1523880" y="3265560"/>
            <a:ext cx="2070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 потреб А. Масло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9"/>
          <p:cNvSpPr/>
          <p:nvPr/>
        </p:nvSpPr>
        <p:spPr>
          <a:xfrm>
            <a:off x="1523880" y="51577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 потреб Д. Мак-Клелланд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0"/>
          <p:cNvSpPr/>
          <p:nvPr/>
        </p:nvSpPr>
        <p:spPr>
          <a:xfrm>
            <a:off x="1523880" y="44719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д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вофакторна теорі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мотивації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 Ф. Герцбер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1"/>
          <p:cNvSpPr/>
          <p:nvPr/>
        </p:nvSpPr>
        <p:spPr>
          <a:xfrm>
            <a:off x="5321160" y="2579760"/>
            <a:ext cx="207036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еорія очікувань В. Врум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2"/>
          <p:cNvSpPr/>
          <p:nvPr/>
        </p:nvSpPr>
        <p:spPr>
          <a:xfrm>
            <a:off x="5321160" y="31129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ією справедливості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. Адам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3"/>
          <p:cNvSpPr/>
          <p:nvPr/>
        </p:nvSpPr>
        <p:spPr>
          <a:xfrm>
            <a:off x="5321160" y="44593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еорія атрибуці</a:t>
            </a:r>
            <a:r>
              <a:rPr b="0" i="1" lang="uk-UA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4"/>
          <p:cNvSpPr/>
          <p:nvPr/>
        </p:nvSpPr>
        <p:spPr>
          <a:xfrm>
            <a:off x="5321160" y="37861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плексна теорія Л. Портера і Е. Лоул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5"/>
          <p:cNvSpPr/>
          <p:nvPr/>
        </p:nvSpPr>
        <p:spPr>
          <a:xfrm>
            <a:off x="5321160" y="51577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еорії “Х” та “Y”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Д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Мак-Грего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16"/>
          <p:cNvCxnSpPr/>
          <p:nvPr/>
        </p:nvCxnSpPr>
        <p:spPr>
          <a:xfrm flipH="1">
            <a:off x="3707640" y="1829880"/>
            <a:ext cx="16596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Прямая со стрелкой 17"/>
          <p:cNvCxnSpPr/>
          <p:nvPr/>
        </p:nvCxnSpPr>
        <p:spPr>
          <a:xfrm>
            <a:off x="5219280" y="1817640"/>
            <a:ext cx="191160" cy="241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Прямая со стрелкой 18"/>
          <p:cNvCxnSpPr/>
          <p:nvPr/>
        </p:nvCxnSpPr>
        <p:spPr>
          <a:xfrm>
            <a:off x="5079960" y="544968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Прямая со стрелкой 19"/>
          <p:cNvCxnSpPr/>
          <p:nvPr/>
        </p:nvCxnSpPr>
        <p:spPr>
          <a:xfrm flipH="1">
            <a:off x="3580560" y="5449680"/>
            <a:ext cx="242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Прямая соединительная линия 20"/>
          <p:cNvSpPr/>
          <p:nvPr/>
        </p:nvSpPr>
        <p:spPr>
          <a:xfrm flipV="1">
            <a:off x="3835440" y="2439720"/>
            <a:ext cx="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21"/>
          <p:cNvSpPr/>
          <p:nvPr/>
        </p:nvSpPr>
        <p:spPr>
          <a:xfrm flipV="1">
            <a:off x="5067360" y="2426760"/>
            <a:ext cx="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Прямая со стрелкой 22"/>
          <p:cNvCxnSpPr/>
          <p:nvPr/>
        </p:nvCxnSpPr>
        <p:spPr>
          <a:xfrm flipH="1">
            <a:off x="3580560" y="4712760"/>
            <a:ext cx="242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23"/>
          <p:cNvCxnSpPr/>
          <p:nvPr/>
        </p:nvCxnSpPr>
        <p:spPr>
          <a:xfrm flipH="1">
            <a:off x="3580560" y="3430080"/>
            <a:ext cx="242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Прямая со стрелкой 24"/>
          <p:cNvCxnSpPr/>
          <p:nvPr/>
        </p:nvCxnSpPr>
        <p:spPr>
          <a:xfrm flipH="1">
            <a:off x="3568320" y="403992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Прямая со стрелкой 25"/>
          <p:cNvCxnSpPr/>
          <p:nvPr/>
        </p:nvCxnSpPr>
        <p:spPr>
          <a:xfrm flipH="1">
            <a:off x="3568320" y="287136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Прямая со стрелкой 26"/>
          <p:cNvCxnSpPr/>
          <p:nvPr/>
        </p:nvCxnSpPr>
        <p:spPr>
          <a:xfrm>
            <a:off x="5079960" y="471276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1" name="Прямая со стрелкой 27"/>
          <p:cNvCxnSpPr/>
          <p:nvPr/>
        </p:nvCxnSpPr>
        <p:spPr>
          <a:xfrm>
            <a:off x="5079960" y="402696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2" name="Прямая со стрелкой 28"/>
          <p:cNvCxnSpPr/>
          <p:nvPr/>
        </p:nvCxnSpPr>
        <p:spPr>
          <a:xfrm>
            <a:off x="5079960" y="341748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Прямая со стрелкой 29"/>
          <p:cNvCxnSpPr/>
          <p:nvPr/>
        </p:nvCxnSpPr>
        <p:spPr>
          <a:xfrm>
            <a:off x="5079960" y="285876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2"/>
          <p:cNvSpPr/>
          <p:nvPr/>
        </p:nvSpPr>
        <p:spPr>
          <a:xfrm>
            <a:off x="4572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H:\натусик\мета.jpg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5850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439560"/>
            <a:ext cx="74678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ОСНОВНІ ВИДИ МОТИВАЦІЇ ПРАЦІ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Прямоугольник 3"/>
          <p:cNvSpPr/>
          <p:nvPr/>
        </p:nvSpPr>
        <p:spPr>
          <a:xfrm>
            <a:off x="3998880" y="3386160"/>
            <a:ext cx="1498680" cy="48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6068880" y="3386160"/>
            <a:ext cx="1346400" cy="48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ус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5"/>
          <p:cNvSpPr/>
          <p:nvPr/>
        </p:nvSpPr>
        <p:spPr>
          <a:xfrm>
            <a:off x="1865160" y="3398760"/>
            <a:ext cx="1524240" cy="48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іаль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Прямая со стрелкой 6"/>
          <p:cNvCxnSpPr/>
          <p:nvPr/>
        </p:nvCxnSpPr>
        <p:spPr>
          <a:xfrm>
            <a:off x="4722480" y="2868120"/>
            <a:ext cx="1080" cy="52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Прямая со стрелкой 7"/>
          <p:cNvCxnSpPr/>
          <p:nvPr/>
        </p:nvCxnSpPr>
        <p:spPr>
          <a:xfrm flipH="1">
            <a:off x="2766240" y="2868120"/>
            <a:ext cx="940680" cy="52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3" name="Прямая со стрелкой 8"/>
          <p:cNvCxnSpPr/>
          <p:nvPr/>
        </p:nvCxnSpPr>
        <p:spPr>
          <a:xfrm>
            <a:off x="5675040" y="2868120"/>
            <a:ext cx="851400" cy="52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4" name="Прямоугольник 9"/>
          <p:cNvSpPr/>
          <p:nvPr/>
        </p:nvSpPr>
        <p:spPr>
          <a:xfrm>
            <a:off x="3478320" y="2419200"/>
            <a:ext cx="24638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и мотивац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0"/>
          <p:cNvSpPr/>
          <p:nvPr/>
        </p:nvSpPr>
        <p:spPr>
          <a:xfrm>
            <a:off x="1751040" y="4008600"/>
            <a:ext cx="1727280" cy="1815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гнення достатку, певного рівня добробуту, певного матеріального стандарту житт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1"/>
          <p:cNvSpPr/>
          <p:nvPr/>
        </p:nvSpPr>
        <p:spPr>
          <a:xfrm>
            <a:off x="3897360" y="4021200"/>
            <a:ext cx="1689120" cy="180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оджується самою роботою, тобто її змістом, умовами, організацією трудового процесу, режимом прац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2"/>
          <p:cNvSpPr/>
          <p:nvPr/>
        </p:nvSpPr>
        <p:spPr>
          <a:xfrm>
            <a:off x="5942160" y="4021200"/>
            <a:ext cx="1612800" cy="180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 внутрішньою рушійною силою поведінки, пов'язаної з прагненням людини зайняти вищу по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Прямая со стрелкой 13"/>
          <p:cNvCxnSpPr/>
          <p:nvPr/>
        </p:nvCxnSpPr>
        <p:spPr>
          <a:xfrm>
            <a:off x="2652480" y="3881520"/>
            <a:ext cx="1080" cy="14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Прямая со стрелкой 14"/>
          <p:cNvCxnSpPr/>
          <p:nvPr/>
        </p:nvCxnSpPr>
        <p:spPr>
          <a:xfrm>
            <a:off x="4722480" y="3855960"/>
            <a:ext cx="1080" cy="14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0" name="Прямая со стрелкой 15"/>
          <p:cNvCxnSpPr/>
          <p:nvPr/>
        </p:nvCxnSpPr>
        <p:spPr>
          <a:xfrm>
            <a:off x="6741720" y="3881520"/>
            <a:ext cx="1080" cy="14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2T15:09:30Z</dcterms:created>
  <dc:creator>User</dc:creator>
  <dc:description/>
  <dc:language>en-US</dc:language>
  <cp:lastModifiedBy>Наталка</cp:lastModifiedBy>
  <dcterms:modified xsi:type="dcterms:W3CDTF">2015-06-16T11:04:59Z</dcterms:modified>
  <cp:revision>49</cp:revision>
  <dc:subject/>
  <dc:title>СТАН ТА ШЛЯХИ УДОСКОНАЛЕННЯ УПРАВЛІННЯ ПРОДУКТИВНІСТЮ ПРАЦІ НА ПІДПРИЄМСТВІ “ВІННИЦЬКИЙ ОЛІЙНОЖИРОВИЙ КОМБІНАТ”</dc:title>
</cp:coreProperties>
</file>