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480-F4E9-4CA7-B3AD-478DB063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2CC-1D6E-41FB-99F3-7D6D67E0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1FC20-66D2-4D2F-ACAE-E20511CC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F2D4B-BF48-44D9-8415-06E1797A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59201-7749-4D67-A1BF-7A9D8FC6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D0B27-BA1A-4D83-ABD1-1520133C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59425-B426-4685-AD65-4EA4E7B7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5C5BB-50E7-4253-84A4-423E17B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04ACE-F7F8-40F8-AC15-A40E4F49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6B1BF-D5E6-4E27-AE1D-B7B9A7E1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85994-4B38-4614-AE65-40EF9D2A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004B3-1A8C-454B-9F8F-4D8AFE51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32C-F3F1-4D9A-AAF7-84BE6A80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E9B47-D069-4C46-83DC-4DDE32F6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1910F-F62E-44D8-A3A0-1D252728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095F2-F915-4DCC-B5BA-7E2A0659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C4D28-1FB6-45D6-8590-C50EB46B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E1407-A7AA-496F-8D90-52629467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B410B-FC5A-4720-9BB4-6AD38026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36689-C4AA-4A79-A802-59EE88F7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39679-DF98-4E4E-929D-A6A65999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7C581-29F6-4B6B-8195-3C805F24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434B5-D335-4FC6-A699-F4F809F0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052-8E07-41F3-9FED-B1596208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6B1D5-1E58-43CE-9830-80746605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3AFCB-7E9E-4F93-B045-02291934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71D99-7FAA-401F-893D-0BEA0501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2211C-89E4-4F05-849D-6A1129A0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021E5-767A-4546-9FDF-F84F3137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BA10D-81BD-4E42-9968-E5EF9E01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0B4AF-53A4-41BE-B9A5-7EC0FE25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6BD84-99DA-4B22-835D-C677651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F6C71-261E-49A9-9281-2D216E07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9B335-EEA1-40ED-8EDE-D5CC49A5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B7AC-0AA5-416D-882B-71A9F55A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376C9-FC6B-45FD-9A5E-CF752EE0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02E66-8346-4227-8D60-B4AD3859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1F98B-8566-4371-BB2C-FE845445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D3F55-19FF-41C3-B349-52284F3A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9D5AA-9C38-455D-BB3D-96CCAA03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1D524-89B2-4F5C-9E3B-9898F87F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C668C-D925-487F-BEE9-44C20225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6E293-5C74-44EC-B585-0AEBB99E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149F4-C004-4568-9C53-6003FF14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C1DC1-3F91-423B-8B25-E47102FB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09D0-83F0-42A9-8391-AAA7D75B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F038A-77F6-4D60-8ABB-DF95471B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FA5A4-5006-4A1F-A97A-23E1625E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6D2F5-CD66-4B2D-AA2B-79222E82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FE9A8-FF18-4353-84BE-240C90D6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EAA75-7446-405B-992D-84AC6325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38D32-F6A6-4ADD-8FC1-71DA48DD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EFF10-6639-4CA3-B52F-C807B53D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978F7-A2D1-41A3-A65C-A5B2342C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85762-22DE-44BB-9325-945AB05F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59A93-2BB6-4CA7-AE04-7A9A63A0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4B92-44ED-423E-BBAC-1346113F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06A0D-5A2A-4154-8CEE-914A34EB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56177-611E-4C5E-A5D7-AF1D9CB0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A30D8-7FF4-456D-B7DE-1F5FBA37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4BD6E-7286-4BA4-9201-FBB985B6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2B60F-14A3-4253-897D-EDCD28F0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96B79-334B-4A24-B95F-D07DC31C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10212-0D76-4BC4-B39F-D9ABC96F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341F-4921-41FC-8374-5F5AB24E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DDD1-AB04-43D8-A99F-BCFB312B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0978-369A-4482-BFC6-BBDF7497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B4B7-EB24-4799-8F4D-97B704B0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C89-883B-4AE4-89C6-8CB01EAB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D76A-1D3D-41C9-8FF5-5A3D29D2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361B-A2A3-40CB-A777-9841B200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3467-1584-457D-8B28-F28C4E32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1C5C-B080-4DEC-9DA2-33063585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3D76-7954-4D39-B071-D76E2D55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665A-FCA3-407C-BCDF-D1F2F8C6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1E03-6222-407D-8E60-8DA02C4E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A53CF-96FC-436E-AD91-57BDC823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50E4-C409-450B-A3C3-1A644ADC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43BE-108A-4664-9CAD-7B9D4763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4D0-901F-4F92-9707-B53F0E13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C07D-07A0-4BC8-A98D-F810B763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3F66-8647-457C-BF4A-C9A296A0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FCD4-A0F8-4AA0-8E26-129A6720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2C36D-C40C-4C5C-88DC-F6641934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903D-824C-4EF1-B337-D5DBB870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BE4A-2014-40A4-8199-6010FD52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3DC0-DE80-4A63-B0E7-8A3E5E91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23843-BFD1-4AE5-B44E-DAB1F16B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9C37-7968-4157-959C-F23B6BE3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0837F-554A-4482-B458-16C302E5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92B-A0BB-4431-8CB4-A9283C22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26B5-DC4B-47E4-860E-29312572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6BBF1-11CB-44F7-A33F-8498F269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B6BE-505A-4027-91EB-79D5C407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4263B-2A63-4138-A2FC-CEDD235E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6554-0957-4E75-826C-34805A02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93F23-322C-4366-861C-34501BEF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BA230-AC10-4B75-9C73-CA2E90D1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FDC9-FF29-4085-B679-94F37EBD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4BFD-5C25-416A-90CE-F3BEB168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8FE1E-DAB9-4002-876A-5FB3029F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0FB-E2B5-4F32-B744-8F985CA2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FA295-9987-485D-B347-0F188144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D8ED0-0D7F-4E2B-AA8F-7F113277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FE9CC-FE09-45C2-A559-994D2AA2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6173F-953D-47C2-8739-CF7E066E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7CD8-1890-4B70-8AB9-A419FD36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2529-717F-4FDB-A548-2E75E0CF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E6CE1-ED89-4DD6-9671-99FAF186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513E2-0532-4342-80C6-E755F834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D6164-64C1-4161-85D5-E3656273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5262E-56E6-4740-9318-CBE96206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ECC-B4FE-4D0C-A0D5-2B4ED956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28A44-A974-46BB-A556-2EE0B5D7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B55B2-99FA-4E04-BDFE-2FDC3B2C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E7FDF-C360-4A31-A7A6-574FE2D3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68B0B-2505-44C2-8D1B-492310B0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60C2E-CAE1-46D1-9D4C-A3567C6C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6623-1AD6-4F8B-8C35-CCDA6686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34420-2291-483B-A4F7-62CB5343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1111F-135C-428C-8928-4A4CFD21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9823E-8241-42C4-914A-CFB7532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A8238-C29B-4E31-A8C9-F6D0F549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D73-3F32-4F12-B29C-D2A9DAE6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0DE26-2853-44D3-A049-B78212DD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E4038-7BCF-4963-9165-44B01C4B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D98F8-ABCC-40F6-BC91-F2E7F0E6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0F15F-E4D7-43E8-B55A-9ED9A9E2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2CAD0-FE61-4DDA-B6C5-ECD8115A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76FEE-5F06-46C0-9D8D-77E61DDF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F9961-3B16-42A3-AB5C-82209A7D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EF48C-C173-45B3-83F8-9B51DEAD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2A105-C9F0-415E-A820-2BFC0A63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E1447-C7AE-4030-A10B-75092ACB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514-6227-43BC-8752-651D872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43D7C-184C-4935-893B-88938CF1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7F44A-0882-43B4-9D19-0C218B7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E094B-B3EF-4A1E-B3AA-4331DF12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6F21F-57E3-4F80-8563-0BD802F4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F24E9-1D90-4A89-ACCA-AF62FDF4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E7DAD-F56E-484D-B434-98270DFC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F3809-7626-4A16-8AE9-D02B0791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EB7E1-EFA4-489F-B4C9-1111A65D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2A75D-CC46-43E6-9F3D-B47CF241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726C0-053D-47E3-9FCF-849F5C73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399-3A69-487A-919E-331371B4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A6CBA-2D38-4F10-9CD3-E09D1D30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B0CC5-25E1-4625-8E00-D4D0C4C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09EFE-8086-4B80-9D9B-3EAF779A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28BA8-0A4F-4D22-A6AF-F273300A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F7853-E013-4C12-A6BF-C4A37574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CD28C-B385-4F1A-A985-0930B0BF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1F899-B6EC-41C3-B923-EF3D5490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867F2-E283-43AF-BA58-8C44FEC0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47A14-68E8-4241-B2C3-CA218931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7B73E-F29B-4E2E-8917-FB6D0C45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9087-1446-46F7-AFA4-E58A745FDC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9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6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B3EC-479E-44BB-BB37-72F4ED4F0D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4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19C0-6A22-49C5-8994-EDE57603DF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0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2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3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0413-E77E-45F0-BC7D-BBCF1FBC0A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1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2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6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6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1A60-679E-477B-B99F-605FA938C2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21E4-D255-4C57-8DB9-2BE5FEC9EE6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4CA2-0C3E-4A80-BDD9-1935F5270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3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503E-3442-4BEE-8FF7-976C36C4FD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0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FC96-E883-431F-908C-F8EDD0B84C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C1C6-9624-4331-B66F-F5856209BF9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4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EA0F-5153-4FC1-8C77-722AEC787E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9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0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71A2-C924-415F-B891-1199F72DA65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4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BCB0-5DB0-41D1-856C-A5F69F62872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imes New Roman"/>
              </a:rPr>
              <a:t>Дипломна робот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ubTitle"/>
          </p:nvPr>
        </p:nvSpPr>
        <p:spPr>
          <a:xfrm>
            <a:off x="1258920" y="2491920"/>
            <a:ext cx="6913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правління безготівковими розрахунками в системі комерційного бан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На прикладі ПАТ КБ “ПриватБанк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конав: студент груп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оф-14 с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робко А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ШЛЯХИ ВДОСКОНАЛЕННЯ УПРАВЛІННЯ 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БЕЗГОТІВКОВИМИ РОЗРАХУНКАМИ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НА ПАТ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 КБ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«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ПРИВАТБАНК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досконалення технологій з обліку та проведення трансакцій по безготівковим переказам кошті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удосконалення бізнес-процесів  в роботі відділів розрахунково-касового обслуговування у філіях та відділеннях банк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досконалення інформаційної системи банк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2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dfdef6"/>
                </a:solidFill>
                <a:latin typeface="Arial"/>
              </a:rPr>
              <a:t>Дякую за увагу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Метою дипломного дослідження є </a:t>
            </a:r>
            <a:r>
              <a:rPr b="0" lang="uk-UA" sz="2400" spc="-1" strike="noStrike">
                <a:solidFill>
                  <a:srgbClr val="ccecff"/>
                </a:solidFill>
                <a:latin typeface="Arial"/>
              </a:rPr>
              <a:t>управління ефективністю , проведення аналізу і виявлення резервів підвищення ефективності використання безготівкових розрахунків комерційного банку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б'єктом дослідження дипломної роботи є процес управління безготівковими розрахунками банкі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вдання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вчити теоретичні основи безготівкових розрахункі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провести аналіз фінансово-господарської діяльності бан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оцінити і проаналізувати управління безготівковими розрахунками на ПАТ КБ "ПРИВАТБАНК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розробити пропозиції щодо підвищення ефективності управління безготівковими розрахун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66ff"/>
                </a:solidFill>
                <a:latin typeface="Tahoma"/>
              </a:rPr>
              <a:t>Визначення поняття безготівкові розрахун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Розрахунки за товарними операція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Розрахунки за нетоварними операці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Внутрішньодержавні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66ff"/>
                </a:solidFill>
                <a:latin typeface="Tahoma"/>
              </a:rPr>
              <a:t>Міждержавн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а безготівкових розрахункі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кредет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Че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екс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Характеристика ПАТ КБ “ПриватБан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иватБанк — найбільший за розмірами активів український банк і лідер роздрібного банківського ринку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Предметом діяльності є система грошово-кредитних і фінансових відно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сновними операціями є: приймання депозитів, операції з валютними цінностями, емісія власних цінних паперів тощо.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11111"/>
                </a:solidFill>
                <a:latin typeface="Arial"/>
              </a:rPr>
              <a:t>Структура наданих послуг банкам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2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і показники фінансово-господарської діяльності ПАТ КБ «ПРИВАТБАНК» (тис. грн.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8" name=""/>
          <p:cNvGraphicFramePr/>
          <p:nvPr/>
        </p:nvGraphicFramePr>
        <p:xfrm>
          <a:off x="457200" y="1600200"/>
          <a:ext cx="8229600" cy="50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Calibri"/>
                        </a:rPr>
                        <a:t>Найменування показн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 активі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840 72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 918 82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і Засоб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75 77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37 19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гострокові фінансові інвестиції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78 52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57 04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арна дебіторська заборгованіс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 29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6 69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шові кошти та їх еквівалент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356 34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157 25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сний капіта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300 76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311 62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тнийй капіта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897 55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352 07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Garamond"/>
              </a:rPr>
              <a:t>Кількість платі</a:t>
            </a:r>
            <a:r>
              <a:rPr b="1" lang="ru-RU" sz="4000" spc="-1" strike="noStrike">
                <a:solidFill>
                  <a:srgbClr val="ffff99"/>
                </a:solidFill>
                <a:latin typeface="Garamond"/>
              </a:rPr>
              <a:t>жних карток станом на 01.01.2014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Назва банк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Платіжних карток ( в обігу,од.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Платіжних карток (активні,од.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ПАТ КБ "ПРИВАТБАНК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30 984 18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18 330 26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АТ "ОЩАДБАНК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11 375 3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2 349 65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АТ "Райффайзен Банк Аваль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4 075 10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2 996 00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АТ "Дельта Банк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2 149 52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Garamond"/>
                        </a:rPr>
                        <a:t>738 03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Загальна кількість відкритих рахунків клієнті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 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22:44:05Z</dcterms:created>
  <dc:creator>А</dc:creator>
  <dc:description/>
  <dc:language>en-US</dc:language>
  <cp:lastModifiedBy>А</cp:lastModifiedBy>
  <dcterms:modified xsi:type="dcterms:W3CDTF">2015-06-17T00:24:12Z</dcterms:modified>
  <cp:revision>9</cp:revision>
  <dc:subject/>
  <dc:title>Дипломна робота</dc:title>
</cp:coreProperties>
</file>