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6B7-6E89-4191-A517-BD6BF633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4F0-DADA-4D02-B6AC-BA5609B9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936F1-96AF-4B6F-9C53-4E2466C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5A3FA-B317-47DB-93B1-2C9F2CBE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A4FB2-CFA2-401D-9DD2-ED749B35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3461F-E180-44FA-A334-CD9EEAB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8033B-AB2C-40BB-A4DB-452DD7F5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6ECED-9C7D-4235-A0F1-31DB08DA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AC7C1-59F5-458D-A0D9-91DA506D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1579C-B84D-4442-9F96-E5CFD3D1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F4391-ACA5-478C-A568-A038AAB8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A5869-F40B-4E1A-9020-B9ACD66D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DC6-8FB4-4C10-99E3-45845774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A8007-E80E-4A9B-9F11-4D5B68A8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2A5F0-29C4-42F1-9EF9-625FCBA2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A798E-AE7B-4BE0-B935-E7AEB91F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47FCE-112D-4E40-AC7D-AA9C784F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A03F0-F911-42E1-B3D7-974B39F1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59F46-321C-4BC4-8E02-B4155543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47DBB-4289-4A88-B85D-93517C69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F2618-C50E-4AEE-9911-EA2AA988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3FB42-15B0-4B5C-A84F-550D70B8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9AA23-3F38-4CA3-A34A-54E10D01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300-4780-49CB-996D-02FEF5FC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5BBD5-D6FA-498A-9E51-1C80DF46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C23BC-720D-4C15-B283-22582682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21AEA-EF1D-4299-BFB4-4B00A292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1A233-E714-4CE2-8F0B-8424235C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666A3-F150-4706-AB9F-44D98CCF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8CBD4-C3A7-4F1C-B9E2-0AA552F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BD5E6-F92D-4701-80C4-7BBBC304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42636-7D33-4AE5-8B67-0548E055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DC7DB-D115-4838-AD37-E134E51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411F2-1A53-4A51-B132-C15A57D9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3017-797D-426D-988F-B0FB3803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286C7-4AE8-403A-887B-17781D10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CC8A6-32DB-4CD4-BD25-6E3F1482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97086-142A-445C-B583-D3282B47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41986-153F-4712-8984-AF719253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7B63C-5AD7-42C7-8E9C-5644D34B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205DD-A10B-4F0A-85F8-B153E19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A0BD3-5829-49AA-9963-A8941CCC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2F5DF-6BF8-4D31-AF2D-70017928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D851E-9FCB-4F67-8E06-0574F72F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48B3A-C0CA-4247-BA59-C3A1923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7D0C-A4F2-4DBB-B2D6-FBC58B7D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720F3-D85D-402A-8ABB-5BC188F8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B5C77-CF39-41CB-9D2C-E1B8E091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837FE-CD72-4245-9D4B-1C93ABEB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114A5-4FCE-421C-BA02-AA89C586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2EFF8-4672-48FD-B5A0-F381262C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6152F-6F5D-41B8-9BD0-B2C5ECC3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C8BF1-6E95-4209-A2A8-95A82374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297DE-6D97-426A-AFFD-83AFBE50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22CE0-14F4-450C-BF6F-EE49B62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5BA40-E179-40D6-82E6-81A34450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EE1A-8F65-4B6C-9451-5B3C9E3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233BB-FF5A-42B3-ABB6-7A4B3796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FF2E8-6035-40EF-A67E-43D6F00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6F769-5EAA-41EB-9D45-2FB7822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5DDCB-1149-4583-85EB-EC043419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1061B-2C3D-46D8-A776-6EC721AE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01EA2-A575-4423-B1B5-7621FBAA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E331D-E898-4536-936E-7C71DC37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E30B-D7AC-49CA-A1D4-CA54102E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2694-74AF-4F7B-BDD1-D487AFFD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C973-1862-41D3-80C1-CB6D06CA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A7EE-C388-45E9-A50D-67AE7EDA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733-2B91-4AD8-9071-3B9F04E9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B76F-9822-4CC9-BDF3-D516851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CB49-982B-4EE3-88EA-C275B14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2046-32C4-4A40-B0D6-FFB57B2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425B-6687-484D-99FC-774D22EE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F480-B1BC-4E23-9E61-C64E685A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5272-3BD3-422B-A371-1B457252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DD62-DA45-4BE8-9FBE-3ED57620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5218-A834-484C-90EA-ABFCFC4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BC02-CD86-4557-AE26-57044CC4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1E7F-8D07-4D17-9A18-FD8B1F27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B79-954B-4357-AB7C-5C3C7A93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3A20-1279-443A-8CE4-3855E0A8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9558-0AD1-4CBE-A385-422D23D4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E758-1830-4A69-B293-920EB051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4BE2-0A72-4F29-822A-7693149B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28D7-7782-461D-9798-CE17D95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9E50-815C-4385-AF7A-0C4AAF77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8EFE-D91A-4678-AD27-0B8CAC14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E3388-056F-4B87-8336-484BE89E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07B6-63CF-4C0B-8EDD-C7DC7F81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FC419-CC73-412C-B8D9-8F0D104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629-0D5F-4F94-BDF8-FBF871A7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EDF3-11AD-40FC-8B40-0C55F901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BB7F6-F8FD-41CE-ABF0-35F0C9AA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9D833-47C0-49DD-A40A-2E30F389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F567A-CF3E-42AC-964A-6322AED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6EB1D-8846-4CC0-A5F8-0CD040C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40025-FC4E-4522-AB68-4583DD6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F8C6-9654-41D0-9221-CC1AFCED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DF8A-2A8A-4AF0-A475-ADC5E829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9EAF-3051-4AE8-8833-ECE7633E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DD5D-C3C0-473E-BE3B-3383F6BB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3A4-B388-4C74-BABC-4B095825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CA193-44E1-4D12-B4B1-2F04B0AE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10DE1-667F-400A-AD7B-CFD72F8C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21E1-39ED-4749-B08D-3E5BA32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7D05F-BD52-48D3-BCF1-02AB9C5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DE488-C822-4852-91F9-E1FB530B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69B7E-DB41-4172-9A43-01C07869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62DAC-E410-4D88-8A9C-2FA8209B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4A33-1C83-4B76-B814-FF5D9108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1F5C-D647-411B-A005-94CB0A86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E9B4B-2477-4375-B88B-A834B226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B1E-2DD8-4A78-AA31-FACE3133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F733-1F61-46D6-87EF-C47F558E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B2197-5F32-451A-A4D3-9BC8E2D9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1DF6B-B30C-41AE-AAC7-9FEECFB5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0E44B-8008-4D76-91ED-FDF9B388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4B4CF-C5F3-4475-A069-D733471D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7E359-16CC-44EC-87FC-841C0438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AF75-BD14-40DF-B490-A49DA7AD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81DA-9282-4752-B135-2BBB759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EF07A-90C6-45C6-A068-706002C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0C3C6-D2F9-4346-8769-BE62754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247-607F-4CCB-A6F6-65984AB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FB80E-1AFB-4E5E-B89A-7BBB51CC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E082A-5CD7-44E0-A9DC-AD61E823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E76A5-0528-4A7A-A383-438ACC15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67200-CAA8-42BA-BA83-7C7D9530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9636-EC81-4808-A1C6-FA987849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15EC8-B007-43F0-86E5-1E5DF031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14067-D275-4936-8F17-AB4072B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FE638-54F2-4C69-86CA-8C222A8A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8D574-DB13-480D-AABB-3D605AB7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AF1A7-C086-40C0-A99C-88F56AAF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6D8-B6A3-4FEC-87AE-5B89F14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469AE-F241-406C-94E4-5F895C0C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A401C-559D-426A-828C-BBD427A0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5813-0D6F-436F-8739-FB668EA8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1B550-8C5E-4C52-952C-8B7426AD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B41B8-1CD9-4665-B0C9-FBB03C7F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CF2AD-1E85-470A-AC35-5FE4C392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CF8F1-EAAE-460F-99CF-E31B2955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4C3B-912C-4DBD-9151-A41DB1BD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54A75-9AAE-43F0-86A3-869991C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D1E24-9D24-48FD-BC8D-34CBA0B0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4AB-CA4E-483D-BAE6-CC89E4F7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3DE95-1A48-4A08-92DC-EFBDA24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BB11-2E72-4C5C-BF04-F18D535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5DFA-5C8F-4BD6-BA12-8A95C822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4FDC3-6EEF-4643-BB45-8BE9D6F3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DC952-FE18-4867-8EB4-B4F288EB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81331-D335-4284-9634-24A6954D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17D1-06DE-4D0D-A7F2-6BEE53D7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6C9B2-5728-4DBE-8F09-73B26F20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C81CC-5397-4A5B-9772-31E77CF3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6D14F-4FFC-4643-A7F5-CB13F37D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3C38-8F56-47AD-B34A-40C4A55016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9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BBC7-1D3B-4B9C-8482-7D045BDC41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4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626E-0313-47EB-814A-B54A2D9377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0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2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3BAE-E2B4-4A93-8029-94C93DF23F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1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2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6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906A-5603-478E-B3AE-85307DC2C3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9732-6A4E-489D-A24F-0D2134FF31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E52-964D-4017-A75A-F6D3576DD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3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5B3C-1232-48E8-BD62-7084A9035C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0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C9B-B8CB-4CFF-999A-83BD2BF1FD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33BE-87A0-4FF5-9CBB-F70AAF387EF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4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94A2-67D0-4E79-AF59-3BE5E94505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9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0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EAED-6950-463D-BA6B-D49F2D26AA7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4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43B8-0309-4DB1-97F6-1994CDC5568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Дипломна робот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ubTitle"/>
          </p:nvPr>
        </p:nvSpPr>
        <p:spPr>
          <a:xfrm>
            <a:off x="1258920" y="2491920"/>
            <a:ext cx="6913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правління безготівковими розрахунками в системі комерційного ба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На прикладі ПАТ КБ “ПриватБанк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конав: студент груп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оф-14 с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робко А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ШЛЯХИ ВДОСКОНАЛЕННЯ УПРАВЛІННЯ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БЕЗГОТІВКОВИМИ РОЗРАХУНКАМИ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НА ПАТ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КБ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«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ПРИВАТБАНК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досконалення технологій з обліку та проведення трансакцій по безготівковим переказам кошті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удосконалення бізнес-процесів  в роботі відділів розрахунково-касового обслуговування у філіях та відділеннях банк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досконалення інформаційної системи банк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dfdef6"/>
                </a:solidFill>
                <a:latin typeface="Arial"/>
              </a:rPr>
              <a:t>Дякую за увагу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Метою дипломного дослідження є </a:t>
            </a:r>
            <a:r>
              <a:rPr b="0" lang="uk-UA" sz="2400" spc="-1" strike="noStrike">
                <a:solidFill>
                  <a:srgbClr val="ccecff"/>
                </a:solidFill>
                <a:latin typeface="Arial"/>
              </a:rPr>
              <a:t>управління ефективністю , проведення аналізу і виявлення резервів підвищення ефективності використання безготівкових розрахунків комерційного банку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б'єктом дослідження дипломної роботи є процес управління безготівковими розрахунками банкі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вдання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вчити теоретичні основи безготівкових розрахункі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ровести аналіз фінансово-господарської діяльності бан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оцінити і проаналізувати управління безготівковими розрахунками на ПАТ КБ "ПРИВАТБАНК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розробити пропозиції щодо підвищення ефективності управління безготівковими розрахун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66ff"/>
                </a:solidFill>
                <a:latin typeface="Tahoma"/>
              </a:rPr>
              <a:t>Визначення поняття безготівкові розрахун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Розрахунки за товарними операція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Розрахунки за нетоварними операці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Внутрішньодержавні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Міждержавн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а безготівкових розрахункі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кредет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екс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Характеристика ПАТ КБ “ПриватБан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ватБанк — найбільший за розмірами активів український банк і лідер роздрібного банківського ринку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дметом діяльності є система грошово-кредитних і фінансових відно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сновними операціями є: приймання депозитів, операції з валютними цінностями, емісія власних цінних паперів тощо.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11111"/>
                </a:solidFill>
                <a:latin typeface="Arial"/>
              </a:rPr>
              <a:t>Структура наданих послуг банкам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2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і показники фінансово-господарської діяльності ПАТ КБ «ПРИВАТБАНК» (тис. грн.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457200" y="1600200"/>
          <a:ext cx="8229600" cy="50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Найменування показ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 активі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840 72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 918 82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і Засоб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5 77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37 19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гострокові фінансові інвестиції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78 52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7 04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арна дебіторська заборгованіс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 29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 69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шові кошти та їх еквівалент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356 34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157 25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ний капіта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300 76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11 62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тнийй капіта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897 55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52 07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Garamond"/>
              </a:rPr>
              <a:t>Кількість платі</a:t>
            </a:r>
            <a:r>
              <a:rPr b="1" lang="ru-RU" sz="4000" spc="-1" strike="noStrike">
                <a:solidFill>
                  <a:srgbClr val="ffff99"/>
                </a:solidFill>
                <a:latin typeface="Garamond"/>
              </a:rPr>
              <a:t>жних карток станом на 01.01.2014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Назва банк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латіжних карток ( в обігу,од.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латіжних карток (активні,од.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АТ КБ "ПРИВАТ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30 984 18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18 330 26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ОЩАД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11 375 3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349 65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Райффайзен Банк Аваль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4 075 10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996 00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Дельта 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149 52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738 03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Загальна кількість відкритих рахунків клієнті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 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22:44:05Z</dcterms:created>
  <dc:creator>А</dc:creator>
  <dc:description/>
  <dc:language>en-US</dc:language>
  <cp:lastModifiedBy>А</cp:lastModifiedBy>
  <dcterms:modified xsi:type="dcterms:W3CDTF">2015-06-17T00:24:12Z</dcterms:modified>
  <cp:revision>9</cp:revision>
  <dc:subject/>
  <dc:title>Дипломна робота</dc:title>
</cp:coreProperties>
</file>