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C295-360C-414B-AB11-8083600ED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0D92-F7AF-42A4-9A46-6E3579D1D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DB9B-9B0C-4D12-84B3-B6364749B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924-2037-414D-960B-9662D6DB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4C0-23B4-4085-AE0D-5B1399EE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224-A37B-472D-88A1-BB94434C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EED-6CD2-446C-9A38-1E6B322B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4838-038E-404E-B71E-68E0831B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CCFF-E46B-4A9C-89B1-E6AFF67E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EE5B-0FD2-4834-91D5-D5B2C83F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A5AD-7A18-4E1B-83E0-475A2795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3401-04C7-493A-823B-AAAFDA69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5837-CBE3-450E-863B-F4E532D8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4647-0F84-4886-A491-C84413BD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C39-B25F-40CB-84F2-36C54A12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3F4-7077-498C-BEB0-E901150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1263-C4C8-461E-BA9A-E3D1441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9E31-DA62-4D39-AA2A-E9444A6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77D0-3D23-49DD-88EB-0A958BFB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9EDA-8282-441E-9C09-34EA94C3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4494-A0F2-48AB-931F-12D24D8D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CDB2-7B2D-49F7-B8D2-9F4444C0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5F2D-83B3-49F8-B6C9-FE8B6522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5EF9-170D-48D8-BF5E-0274693A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F2BD-6BF0-4915-9363-A6CF5D04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D2B-12E3-4BE0-AA5E-176C721B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2B5F7-0450-4975-AEBA-90AED382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AFAE-E3CD-45C2-822A-1B150E6A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24CC-8C53-4B5E-B0C5-8721FA08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087C-F048-4F94-BFBC-7439C72D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8249-B972-4EC4-B97D-DEFCAD38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0CA2-7A2C-4758-A974-783C32B4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7DD9-C734-4334-B021-268AA3B4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AF4E-3405-4F2D-BFCA-4E8D2611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4B87-0C25-419A-9F01-1343E27B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D04E8-41EA-4BDE-9ED2-ED872B4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6EE-EE85-446C-97BB-DA0B760A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7195-3EA9-4AB3-8ACA-A4434679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0BB0-39F1-49B8-982C-39DF7CA8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2D4C-10AF-43DF-8B2B-F5871D08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50C90-FFCF-45DC-A453-77CB7AAD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D2CC-FA4F-480D-8D69-98731E9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FFA5-F2A2-4C57-953E-572F40D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ABE1-8F57-465F-8C69-97981505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267A-FFB7-4F6F-9EFD-13D33603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D6B9-BB2F-45CE-8490-06441E2F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1B9-46CD-469E-8FD4-1798AED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54C-C18F-456C-A36D-AABC1B21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F5D-AE9A-4A06-B9AF-535FEE6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4E6-2ABE-4D1F-BC09-FFFDD852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DE0-6502-4EE5-B38A-302D71F8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957C-A433-4E98-A39D-C37F2B0A4331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737-72D8-42BB-8673-D7B02C5B72A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6416-698F-4FB9-8C78-EEF9C2E61FCA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6712-D5CA-467B-A5CF-9335708249B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BD53-7E7A-4A08-89BA-4DC85C41F1BA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9703-AB6B-4764-A7EE-F405102B162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F91B-DCA5-468A-9A9A-4970586F7D66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8215-C622-4D92-984C-340FCFF4AE2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Заголовок 1"/>
          <p:cNvSpPr/>
          <p:nvPr/>
        </p:nvSpPr>
        <p:spPr>
          <a:xfrm>
            <a:off x="714240" y="428760"/>
            <a:ext cx="785844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Arial"/>
                <a:ea typeface="Arial"/>
              </a:rPr>
              <a:t>ВИМІРЮВАЧ ОПТИЧНОГО ВИПРОМІНЮВАННЯ НА ОСНОВІ ФОТОТИРИС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Доповідач: 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Купчик  К.В., ст. гр. МП-14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Керівник: 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Мартинюк В.В., к.т.н., доцент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1"/>
          <p:cNvSpPr/>
          <p:nvPr/>
        </p:nvSpPr>
        <p:spPr>
          <a:xfrm>
            <a:off x="7956720" y="115920"/>
            <a:ext cx="107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84C3-F35C-4513-A9F7-A69073DFE38E}" type="slidenum">
              <a:rPr b="1" i="1" lang="ru-RU" sz="1600" spc="-1" strike="noStrike">
                <a:solidFill>
                  <a:srgbClr val="4fadf3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674800" y="1328760"/>
            <a:ext cx="3697560" cy="491184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2"/>
          <p:cNvSpPr/>
          <p:nvPr/>
        </p:nvSpPr>
        <p:spPr>
          <a:xfrm>
            <a:off x="1258920" y="2602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d79ca"/>
                </a:solidFill>
                <a:latin typeface="Arial"/>
              </a:rPr>
              <a:t>Симулювання вимірювача оптичного випромінювання в програмному середовищ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1"/>
          <p:cNvSpPr/>
          <p:nvPr/>
        </p:nvSpPr>
        <p:spPr>
          <a:xfrm flipV="1">
            <a:off x="3564000" y="5083920"/>
            <a:ext cx="165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Заголовок 1"/>
          <p:cNvSpPr/>
          <p:nvPr/>
        </p:nvSpPr>
        <p:spPr>
          <a:xfrm>
            <a:off x="539640" y="189000"/>
            <a:ext cx="7971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Arial"/>
                <a:ea typeface="Arial"/>
              </a:rPr>
              <a:t>ЗОБРАЖЕННЯ МОДЕЛІ ДРУКОВАНОЇ ПЛАТИ ВИМІРЮВАЧА ОПТИЧНОГО ВИПРОМ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8187840" y="295200"/>
            <a:ext cx="128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23CD-5720-40B3-9A94-D667B4544BC5}" type="slidenum">
              <a:rPr b="1" i="1" lang="ru-RU" sz="18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30440" y="1557360"/>
            <a:ext cx="5789520" cy="3873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1"/>
          <p:cNvSpPr/>
          <p:nvPr/>
        </p:nvSpPr>
        <p:spPr>
          <a:xfrm>
            <a:off x="8244000" y="214200"/>
            <a:ext cx="90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1052-B126-43BE-8EE1-41B279D4DBDC}" type="slidenum">
              <a:rPr b="1" i="1" lang="ru-RU" sz="1600" spc="-1" strike="noStrike">
                <a:solidFill>
                  <a:srgbClr val="0d79ca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96000" cy="49752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2"/>
          <p:cNvSpPr/>
          <p:nvPr/>
        </p:nvSpPr>
        <p:spPr>
          <a:xfrm>
            <a:off x="900000" y="2142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Arial"/>
                <a:ea typeface="Arial"/>
              </a:rPr>
              <a:t>СКЛАДАЛЬНЕ КРЕСЛЕННЯ ВИМІРЮВАЧА ОПТИЧНОГО ВИПРОМІН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1"/>
          <p:cNvSpPr/>
          <p:nvPr/>
        </p:nvSpPr>
        <p:spPr>
          <a:xfrm flipH="1">
            <a:off x="8387640" y="18900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9C20-D87B-4CDB-904D-28E69C5C03AA}" type="slidenum">
              <a:rPr b="1" i="1" lang="ru-RU" sz="16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55760" y="1341360"/>
            <a:ext cx="6240600" cy="446400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3"/>
          <p:cNvSpPr/>
          <p:nvPr/>
        </p:nvSpPr>
        <p:spPr>
          <a:xfrm>
            <a:off x="971640" y="2016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d79ca"/>
                </a:solidFill>
                <a:latin typeface="Arial"/>
                <a:ea typeface="Arial"/>
              </a:rPr>
              <a:t> </a:t>
            </a:r>
            <a:r>
              <a:rPr b="1" i="1" lang="uk-UA" sz="2400" spc="-1" strike="noStrike">
                <a:solidFill>
                  <a:srgbClr val="0d79ca"/>
                </a:solidFill>
                <a:latin typeface="Arial"/>
                <a:ea typeface="Arial"/>
              </a:rPr>
              <a:t>КРЕСЛЕННЯ ЗАГАЛЬНОГО ВИГЛЯДУ ВИМІРЮВАЧА ОПТИЧНОГО ВИПРОМ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1"/>
          <p:cNvSpPr/>
          <p:nvPr/>
        </p:nvSpPr>
        <p:spPr>
          <a:xfrm>
            <a:off x="7961400" y="115920"/>
            <a:ext cx="117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d79ca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Прямоугольник 2" descr=""/>
          <p:cNvPicPr/>
          <p:nvPr/>
        </p:nvPicPr>
        <p:blipFill>
          <a:blip r:embed="rId1"/>
          <a:stretch/>
        </p:blipFill>
        <p:spPr>
          <a:xfrm>
            <a:off x="652320" y="1268280"/>
            <a:ext cx="7882200" cy="480384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3"/>
          <p:cNvSpPr/>
          <p:nvPr/>
        </p:nvSpPr>
        <p:spPr>
          <a:xfrm>
            <a:off x="2286000" y="606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d79ca"/>
                </a:solidFill>
                <a:latin typeface="Arial"/>
                <a:ea typeface="Arial"/>
              </a:rPr>
              <a:t>вис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64B-EBB0-413F-9B22-1B72C4381BA7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Заголовок 1"/>
          <p:cNvSpPr/>
          <p:nvPr/>
        </p:nvSpPr>
        <p:spPr>
          <a:xfrm>
            <a:off x="2195640" y="1557360"/>
            <a:ext cx="50194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800" spc="-1" strike="noStrike">
                <a:solidFill>
                  <a:srgbClr val="12b2eb"/>
                </a:solidFill>
                <a:latin typeface="Georgia"/>
                <a:ea typeface="Times New Roman"/>
              </a:rPr>
              <a:t>ДЯКУЮ ЗА УВАГУ</a:t>
            </a:r>
            <a:r>
              <a:rPr b="0" i="1" lang="uk-UA" sz="9600" spc="-1" strike="noStrike">
                <a:solidFill>
                  <a:srgbClr val="12b2eb"/>
                </a:solidFill>
                <a:latin typeface="Georgia"/>
                <a:ea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3479-59CE-4626-BE56-C46E34CBB1CF}" type="slidenum">
              <a:rPr b="1" i="1" lang="ru-RU" sz="2000" spc="-1" strike="noStrike">
                <a:solidFill>
                  <a:srgbClr val="4fadf3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409680" y="1125360"/>
            <a:ext cx="83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  </a:t>
            </a: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Мета дослідже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вимірювача оптичного випромінювання на основі фототиристора та розширення функціональності сх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  </a:t>
            </a: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Задачі дослідження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аналізувати існуючі вимірювачі оптичного випромінювання, принцип роботи, переваги та недолі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дійснити техніко-економічне обґрунтування доцільності розробки вимірювача оптичного випромінювання на основі фототирис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ити структурну та електричну принципову схеми пристро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оделювати схему та розробити друковану пла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ити заходи з охорони праці та безпеки у надзвичайних ситуаціях при виготовленні та використанні пристро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дійснити економічні розрахунки витрат на виготовлення та реалізаці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ірювача оптичного випромінювання на основі фототиристор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   </a:t>
            </a: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Об’єктом дослідже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ється процеси перетворення світлової енергії в електрич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642960" y="500040"/>
            <a:ext cx="79707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МЕТА ДОСЛІ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F64-0B16-4DF3-BB06-4DE6D21CD417}" type="slidenum">
              <a:rPr b="1" i="1" lang="ru-RU" sz="2000" spc="-1" strike="noStrike">
                <a:solidFill>
                  <a:srgbClr val="4fadf3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571680" y="285840"/>
            <a:ext cx="7970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СТРУКТУРНА СХЕМА ВИМІРЮВАЧА ОПТИЧН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ВИПРОМІНЮВАННЯ НА ОСНОВІ ФОТОТИРИС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1258920" y="1601640"/>
            <a:ext cx="70419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1"/>
          <p:cNvSpPr/>
          <p:nvPr/>
        </p:nvSpPr>
        <p:spPr>
          <a:xfrm>
            <a:off x="214200" y="357120"/>
            <a:ext cx="85010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ЕЛЕКТРИЧНА СХЕМА ПЕРВИННОГО ПЕРЕТВОРЮВАЧ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DB3C-7054-4565-BF91-50C4F4A513F5}" type="slidenum">
              <a:rPr b="1" i="1" lang="ru-RU" sz="2000" spc="-1" strike="noStrike">
                <a:solidFill>
                  <a:srgbClr val="4fadf3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Объект 5"/>
          <p:cNvGraphicFramePr/>
          <p:nvPr/>
        </p:nvGraphicFramePr>
        <p:xfrm>
          <a:off x="2050920" y="1628640"/>
          <a:ext cx="540072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628640"/>
                    <a:ext cx="540072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1"/>
          <p:cNvSpPr/>
          <p:nvPr/>
        </p:nvSpPr>
        <p:spPr>
          <a:xfrm>
            <a:off x="8317080" y="333360"/>
            <a:ext cx="79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671640" cy="365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4103640" cy="365580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534960" y="5438880"/>
            <a:ext cx="821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Теоретична та експериментальна залежність активної складової від потужності оптичного випромінювання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Залежність вихідної  напруги від потужності оптичного випромінювання (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244980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3c65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6521760" y="4894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3c65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1"/>
          <p:cNvSpPr/>
          <p:nvPr/>
        </p:nvSpPr>
        <p:spPr>
          <a:xfrm>
            <a:off x="214200" y="357120"/>
            <a:ext cx="85010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РЕЗУЛЬТАТИ МОДЕЛЮВАННЯ ВИМІРЮВАЧА ОПТИЧНОГО ВИПРОМІНЮВАННЯ НА ОСНОВІ ФОТОТИРИС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5F28-0CB2-4012-BCE0-BF2F56820C68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26768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Заголовок 1"/>
          <p:cNvSpPr/>
          <p:nvPr/>
        </p:nvSpPr>
        <p:spPr>
          <a:xfrm>
            <a:off x="214200" y="357120"/>
            <a:ext cx="85010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РЕЗУЛЬТАТИ МОДЕЛЮВАННЯ СХЕ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F784-1C7B-46EB-88E0-AEA04E5A48D3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"/>
          <p:cNvPicPr/>
          <p:nvPr/>
        </p:nvPicPr>
        <p:blipFill>
          <a:blip r:embed="rId1"/>
          <a:stretch/>
        </p:blipFill>
        <p:spPr>
          <a:xfrm>
            <a:off x="214200" y="1052640"/>
            <a:ext cx="5365800" cy="2622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/>
          <p:cNvPicPr/>
          <p:nvPr/>
        </p:nvPicPr>
        <p:blipFill>
          <a:blip r:embed="rId2"/>
          <a:stretch/>
        </p:blipFill>
        <p:spPr>
          <a:xfrm>
            <a:off x="3484440" y="3933720"/>
            <a:ext cx="5521320" cy="26845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"/>
          <p:cNvSpPr/>
          <p:nvPr/>
        </p:nvSpPr>
        <p:spPr>
          <a:xfrm>
            <a:off x="5724360" y="1413000"/>
            <a:ext cx="32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роботи 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227160" y="5275440"/>
            <a:ext cx="31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роботи 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5 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7D8A-3AD6-42BB-B998-8F8C094B1477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Объект 1"/>
          <p:cNvGraphicFramePr/>
          <p:nvPr/>
        </p:nvGraphicFramePr>
        <p:xfrm>
          <a:off x="836640" y="1125360"/>
          <a:ext cx="7878600" cy="53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125360"/>
                    <a:ext cx="7878600" cy="53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Прямоугольник 2"/>
          <p:cNvSpPr/>
          <p:nvPr/>
        </p:nvSpPr>
        <p:spPr>
          <a:xfrm>
            <a:off x="817560" y="1555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ЕЛЕКТРИЧНА СХЕМА ВИМІРЮВАЧА ОПТИЧНОГО ВИПРОМІНЮВАННЯ НА ОСНОВІ ФОТОТИРИС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442E-501A-4698-A5DD-581BC5348F50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893880" y="1628640"/>
            <a:ext cx="7372080" cy="457200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"/>
          <p:cNvSpPr/>
          <p:nvPr/>
        </p:nvSpPr>
        <p:spPr>
          <a:xfrm>
            <a:off x="-567360" y="549360"/>
            <a:ext cx="102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МОДЕЛЮВАННЯ ВИМІРЮВАЧА ОПТИЧНОГО ВИПРОМІН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НА ОСНОВІ ФОТОТИРИС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тюша</cp:lastModifiedBy>
  <dcterms:modified xsi:type="dcterms:W3CDTF">2015-06-17T23:12:23Z</dcterms:modified>
  <cp:revision>148</cp:revision>
  <dc:subject/>
  <dc:title>Слайд 1</dc:title>
</cp:coreProperties>
</file>