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4463-B2FC-4871-B7CC-50A466B5BE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6467-1C2A-410E-90DF-A49E1638FB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08BC-8E74-4293-AF12-7459BF054E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FD3-D9A1-448D-BC0E-7E4FD618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A88-06CB-410E-8AAB-1C3E05CE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430B-7174-4310-9CD0-4592AFD0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84E0-9959-49FB-B12D-4E0B5411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2365-AFB3-4238-9246-48977DE1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5ACA-C1CF-4E1D-A6D0-201BE68A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DD27-F7E6-41AD-84C0-5B739E65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4988-9DCA-4AF8-8B45-03CA96CD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37D4-B714-4880-BFDB-D80EB8FC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80C4-D905-4F60-8F86-3CC0A763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7F77-4C38-4DB4-BB07-CFC8A037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EA39-F3C1-40F6-918E-F4DA6FB9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049B-BDB1-4A01-BF82-99EAD010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2D71-8684-41D2-AAF2-F1A96D2D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B59F-A7DC-4ADE-8687-B08D029C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48D5-A03C-48BE-B7B8-E179BCC3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9E5F-DF18-45D9-8383-BBC88943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C1338-09B0-4791-8A15-96D5F37E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8A619-AC0C-4FAA-9636-822FB0CF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A056D-546F-4509-82BE-0AA6FB95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BE647-1029-4571-B78B-61228B26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1BEE1-DD57-4A70-B1A2-FFD9A75C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62B9-BEC7-4E4B-A4B6-78F55E3F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6184D-B218-4D77-9AF3-A2137C59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689C5-F077-489E-8811-09A36898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58F25-8768-4AC7-B617-2DF9EABB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1D913-C3CF-4498-8AC1-05F183B8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2230-6BEF-44AC-8C5F-CD705FC9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B7007-92A5-49C0-B677-40BF2D40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9B01E-9839-4E29-97AB-553BF1D9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3F508-937A-4714-8C35-49121A1A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DF148-DD77-43D2-9125-95C1FEAF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F55AE-2997-4D82-A004-315B3B50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2D4A-D9C0-46B9-ABB9-91DA56AA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66F1C-7EBD-4D13-B53E-CC50EEF8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A51C5-2CB6-4FB7-BEBD-A58FD6A0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A44CF-AD38-48F0-983C-1C767973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1599C-D94D-43D3-9C11-4F591415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4A6BA-3BA9-41F2-B176-DC2EACB1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327CA-3FC9-4011-B7DD-0CE681FE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AC94C-8013-4B0D-B626-4BE1E7EE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2FFC4-3EC8-49FD-936E-00A4B74A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50410-463C-434A-AC98-6DC1B47C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8842-D7FF-4951-8B2E-5B55FEEC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F6C7-9FC3-498A-801B-39324F8A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EA51-7453-4787-81D8-B5AC805D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81F4-94F9-4393-B048-ED0C3A04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B51-C9D1-4C66-B737-19886822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690C-9795-4B73-8F91-E62F0DBA78D3}" type="datetime">
              <a:rPr b="1" lang="ru-RU" sz="1100" spc="-1" strike="noStrike">
                <a:solidFill>
                  <a:srgbClr val="7f7f7f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2B83-6B3A-42E5-9868-1D92DDB943C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E99A-EE2F-4BF6-8A63-A26EB18422F5}" type="datetime">
              <a:rPr b="1" lang="ru-RU" sz="1100" spc="-1" strike="noStrike">
                <a:solidFill>
                  <a:srgbClr val="7f7f7f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7841-1E04-4A94-AA0E-0C2ACB2BD70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3527-BCD3-48AC-B683-2D821BC03A4F}" type="datetime">
              <a:rPr b="1" lang="ru-RU" sz="1100" spc="-1" strike="noStrike">
                <a:solidFill>
                  <a:srgbClr val="7f7f7f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54F4-5B44-40A1-98B0-CE90483AB77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2F90-A042-4CB4-BBB2-ED894072C9BE}" type="datetime">
              <a:rPr b="1" lang="ru-RU" sz="1100" spc="-1" strike="noStrike">
                <a:solidFill>
                  <a:srgbClr val="7f7f7f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D6BC-C630-43EC-9B2F-A44AD74D18B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Заголовок 1"/>
          <p:cNvSpPr/>
          <p:nvPr/>
        </p:nvSpPr>
        <p:spPr>
          <a:xfrm>
            <a:off x="714240" y="428760"/>
            <a:ext cx="785844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d79ca"/>
                </a:solidFill>
                <a:latin typeface="Arial"/>
                <a:ea typeface="Arial"/>
              </a:rPr>
              <a:t>ВИМІРЮВАЧ ОПТИЧНОГО ВИПРОМІНЮВАННЯ НА ОСНОВІ ФОТОТИРИС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Доповідач: </a:t>
            </a: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   </a:t>
            </a: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Купчик  К.В., ст. гр. МП-14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Керівник: </a:t>
            </a: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    </a:t>
            </a: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Мартинюк В.В., к.т.н., доцент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Номер слайда 1"/>
          <p:cNvSpPr/>
          <p:nvPr/>
        </p:nvSpPr>
        <p:spPr>
          <a:xfrm>
            <a:off x="7956720" y="115920"/>
            <a:ext cx="107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149B-D1EF-401D-BF69-68B1B7F32A3A}" type="slidenum">
              <a:rPr b="1" i="1" lang="ru-RU" sz="1600" spc="-1" strike="noStrike">
                <a:solidFill>
                  <a:srgbClr val="4fadf3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2674800" y="1328760"/>
            <a:ext cx="3697560" cy="491184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2"/>
          <p:cNvSpPr/>
          <p:nvPr/>
        </p:nvSpPr>
        <p:spPr>
          <a:xfrm>
            <a:off x="1258920" y="26028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d79ca"/>
                </a:solidFill>
                <a:latin typeface="Arial"/>
              </a:rPr>
              <a:t>Симулювання вимірювача оптичного випромінювання в програмному середовищ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1"/>
          <p:cNvSpPr/>
          <p:nvPr/>
        </p:nvSpPr>
        <p:spPr>
          <a:xfrm flipV="1">
            <a:off x="3564000" y="5083920"/>
            <a:ext cx="16556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Заголовок 1"/>
          <p:cNvSpPr/>
          <p:nvPr/>
        </p:nvSpPr>
        <p:spPr>
          <a:xfrm>
            <a:off x="539640" y="189000"/>
            <a:ext cx="79711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d79ca"/>
                </a:solidFill>
                <a:latin typeface="Arial"/>
                <a:ea typeface="Arial"/>
              </a:rPr>
              <a:t>ЗОБРАЖЕННЯ МОДЕЛІ ДРУКОВАНОЇ ПЛАТИ ВИМІРЮВАЧА ОПТИЧНОГО ВИПРОМІН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"/>
          <p:cNvSpPr/>
          <p:nvPr/>
        </p:nvSpPr>
        <p:spPr>
          <a:xfrm>
            <a:off x="8187840" y="295200"/>
            <a:ext cx="128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9BE8-A070-4BBC-8EB0-32258C336596}" type="slidenum">
              <a:rPr b="1" i="1" lang="ru-RU" sz="1800" spc="-1" strike="noStrike">
                <a:solidFill>
                  <a:srgbClr val="4fadf3"/>
                </a:solidFill>
                <a:latin typeface="Century Schoolbook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630440" y="1557360"/>
            <a:ext cx="5789520" cy="3873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омер слайда 1"/>
          <p:cNvSpPr/>
          <p:nvPr/>
        </p:nvSpPr>
        <p:spPr>
          <a:xfrm>
            <a:off x="8244000" y="214200"/>
            <a:ext cx="900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3DDB-870E-43D8-AF4D-ED649B9393A1}" type="slidenum">
              <a:rPr b="1" i="1" lang="ru-RU" sz="1600" spc="-1" strike="noStrike">
                <a:solidFill>
                  <a:srgbClr val="0d79ca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696000" cy="497520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2"/>
          <p:cNvSpPr/>
          <p:nvPr/>
        </p:nvSpPr>
        <p:spPr>
          <a:xfrm>
            <a:off x="900000" y="21420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d79ca"/>
                </a:solidFill>
                <a:latin typeface="Arial"/>
                <a:ea typeface="Arial"/>
              </a:rPr>
              <a:t>СКЛАДАЛЬНЕ КРЕСЛЕННЯ ВИМІРЮВАЧА ОПТИЧНОГО ВИПРОМІНЮВ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омер слайда 1"/>
          <p:cNvSpPr/>
          <p:nvPr/>
        </p:nvSpPr>
        <p:spPr>
          <a:xfrm flipH="1">
            <a:off x="8387640" y="189000"/>
            <a:ext cx="6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6DAF-FBEF-4CDE-9940-225420DA67E9}" type="slidenum">
              <a:rPr b="1" i="1" lang="ru-RU" sz="1600" spc="-1" strike="noStrike">
                <a:solidFill>
                  <a:srgbClr val="4fadf3"/>
                </a:solidFill>
                <a:latin typeface="Century Schoolbook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55760" y="1341360"/>
            <a:ext cx="6240600" cy="4464000"/>
          </a:xfrm>
          <a:prstGeom prst="rect">
            <a:avLst/>
          </a:prstGeom>
          <a:ln w="0">
            <a:noFill/>
          </a:ln>
        </p:spPr>
      </p:pic>
      <p:sp>
        <p:nvSpPr>
          <p:cNvPr id="286" name="Прямоугольник 3"/>
          <p:cNvSpPr/>
          <p:nvPr/>
        </p:nvSpPr>
        <p:spPr>
          <a:xfrm>
            <a:off x="971640" y="2016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d79ca"/>
                </a:solidFill>
                <a:latin typeface="Arial"/>
                <a:ea typeface="Arial"/>
              </a:rPr>
              <a:t> </a:t>
            </a:r>
            <a:r>
              <a:rPr b="1" i="1" lang="uk-UA" sz="2400" spc="-1" strike="noStrike">
                <a:solidFill>
                  <a:srgbClr val="0d79ca"/>
                </a:solidFill>
                <a:latin typeface="Arial"/>
                <a:ea typeface="Arial"/>
              </a:rPr>
              <a:t>КРЕСЛЕННЯ ЗАГАЛЬНОГО ВИГЛЯДУ ВИМІРЮВАЧА ОПТИЧНОГО ВИПРОМІН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Номер слайда 1"/>
          <p:cNvSpPr/>
          <p:nvPr/>
        </p:nvSpPr>
        <p:spPr>
          <a:xfrm>
            <a:off x="7961400" y="115920"/>
            <a:ext cx="117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d79ca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Прямоугольник 2" descr=""/>
          <p:cNvPicPr/>
          <p:nvPr/>
        </p:nvPicPr>
        <p:blipFill>
          <a:blip r:embed="rId1"/>
          <a:stretch/>
        </p:blipFill>
        <p:spPr>
          <a:xfrm>
            <a:off x="652320" y="1268280"/>
            <a:ext cx="7882200" cy="4803840"/>
          </a:xfrm>
          <a:prstGeom prst="rect">
            <a:avLst/>
          </a:prstGeom>
          <a:ln w="0">
            <a:noFill/>
          </a:ln>
        </p:spPr>
      </p:pic>
      <p:sp>
        <p:nvSpPr>
          <p:cNvPr id="289" name="Прямоугольник 3"/>
          <p:cNvSpPr/>
          <p:nvPr/>
        </p:nvSpPr>
        <p:spPr>
          <a:xfrm>
            <a:off x="2286000" y="606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d79ca"/>
                </a:solidFill>
                <a:latin typeface="Arial"/>
                <a:ea typeface="Arial"/>
              </a:rPr>
              <a:t>висн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3"/>
          <p:cNvSpPr/>
          <p:nvPr/>
        </p:nvSpPr>
        <p:spPr>
          <a:xfrm>
            <a:off x="8529480" y="0"/>
            <a:ext cx="61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D141-1B2E-4B03-B32F-CB5551C0DF72}" type="slidenum">
              <a:rPr b="1" i="1" lang="ru-RU" sz="2000" spc="-1" strike="noStrike">
                <a:solidFill>
                  <a:srgbClr val="4fadf3"/>
                </a:solidFill>
                <a:latin typeface="Century Schoolbook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Заголовок 1"/>
          <p:cNvSpPr/>
          <p:nvPr/>
        </p:nvSpPr>
        <p:spPr>
          <a:xfrm>
            <a:off x="2195640" y="1557360"/>
            <a:ext cx="501948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8800" spc="-1" strike="noStrike">
                <a:solidFill>
                  <a:srgbClr val="12b2eb"/>
                </a:solidFill>
                <a:latin typeface="Georgia"/>
                <a:ea typeface="Times New Roman"/>
              </a:rPr>
              <a:t>ДЯКУЮ ЗА УВАГУ</a:t>
            </a:r>
            <a:r>
              <a:rPr b="0" i="1" lang="uk-UA" sz="9600" spc="-1" strike="noStrike">
                <a:solidFill>
                  <a:srgbClr val="12b2eb"/>
                </a:solidFill>
                <a:latin typeface="Georgia"/>
                <a:ea typeface="Times New Roman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3"/>
          <p:cNvSpPr/>
          <p:nvPr/>
        </p:nvSpPr>
        <p:spPr>
          <a:xfrm>
            <a:off x="8529480" y="0"/>
            <a:ext cx="61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58B7-4A58-4C05-913C-B374F7D85846}" type="slidenum">
              <a:rPr b="1" i="1" lang="ru-RU" sz="2000" spc="-1" strike="noStrike">
                <a:solidFill>
                  <a:srgbClr val="4fadf3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409680" y="1125360"/>
            <a:ext cx="8319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     </a:t>
            </a:r>
            <a:r>
              <a:rPr b="1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Мета дослідже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вимірювача оптичного випромінювання на основі фототиристора та розширення функціональності схе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     </a:t>
            </a:r>
            <a:r>
              <a:rPr b="1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Задачі дослідження</a:t>
            </a:r>
            <a:r>
              <a:rPr b="0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аналізувати існуючі вимірювачі оптичного випромінювання, принцип роботи, переваги та недолі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дійснити техніко-економічне обґрунтування доцільності розробки вимірювача оптичного випромінювання на основі фототирист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робити структурну та електричну принципову схеми пристро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моделювати схему та розробити друковану пла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зробити заходи з охорони праці та безпеки у надзвичайних ситуаціях при виготовленні та використанні пристро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дійснити економічні розрахунки витрат на виготовлення та реалізацію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ірювача оптичного випромінювання на основі фототиристор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      </a:t>
            </a:r>
            <a:r>
              <a:rPr b="1" lang="uk-UA" sz="20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Об’єктом дослідженн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ється процеси перетворення світлової енергії в електрич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Заголовок 1"/>
          <p:cNvSpPr/>
          <p:nvPr/>
        </p:nvSpPr>
        <p:spPr>
          <a:xfrm>
            <a:off x="642960" y="500040"/>
            <a:ext cx="79707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МЕТА ДОСЛІДЖ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3"/>
          <p:cNvSpPr/>
          <p:nvPr/>
        </p:nvSpPr>
        <p:spPr>
          <a:xfrm>
            <a:off x="8529480" y="0"/>
            <a:ext cx="61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466C-DD16-4EDB-AC2C-8E4C752157D6}" type="slidenum">
              <a:rPr b="1" i="1" lang="ru-RU" sz="2000" spc="-1" strike="noStrike">
                <a:solidFill>
                  <a:srgbClr val="4fadf3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Заголовок 1"/>
          <p:cNvSpPr/>
          <p:nvPr/>
        </p:nvSpPr>
        <p:spPr>
          <a:xfrm>
            <a:off x="571680" y="285840"/>
            <a:ext cx="79707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СТРУКТУРНА СХЕМА ВИМІРЮВАЧА ОПТИЧН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ВИПРОМІНЮВАННЯ НА ОСНОВІ ФОТОТИРИСТ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"/>
          <p:cNvPicPr/>
          <p:nvPr/>
        </p:nvPicPr>
        <p:blipFill>
          <a:blip r:embed="rId1"/>
          <a:stretch/>
        </p:blipFill>
        <p:spPr>
          <a:xfrm>
            <a:off x="1258920" y="1601640"/>
            <a:ext cx="7041960" cy="344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Заголовок 1"/>
          <p:cNvSpPr/>
          <p:nvPr/>
        </p:nvSpPr>
        <p:spPr>
          <a:xfrm>
            <a:off x="214200" y="357120"/>
            <a:ext cx="850104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ЕЛЕКТРИЧНА СХЕМА ПЕРВИННОГО ПЕРЕТВОРЮВАЧ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8529480" y="0"/>
            <a:ext cx="61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4DFC-7FB0-4FC5-AFD7-BABCA45C9E30}" type="slidenum">
              <a:rPr b="1" i="1" lang="ru-RU" sz="2000" spc="-1" strike="noStrike">
                <a:solidFill>
                  <a:srgbClr val="4fadf3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Объект 5"/>
          <p:cNvGraphicFramePr/>
          <p:nvPr/>
        </p:nvGraphicFramePr>
        <p:xfrm>
          <a:off x="2050920" y="1628640"/>
          <a:ext cx="5400720" cy="38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628640"/>
                    <a:ext cx="540072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1"/>
          <p:cNvSpPr/>
          <p:nvPr/>
        </p:nvSpPr>
        <p:spPr>
          <a:xfrm>
            <a:off x="8317080" y="333360"/>
            <a:ext cx="79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fadf3"/>
                </a:solidFill>
                <a:latin typeface="Century Schoolbook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2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671640" cy="36558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" descr=""/>
          <p:cNvPicPr/>
          <p:nvPr/>
        </p:nvPicPr>
        <p:blipFill>
          <a:blip r:embed="rId2"/>
          <a:stretch/>
        </p:blipFill>
        <p:spPr>
          <a:xfrm>
            <a:off x="4572000" y="1052640"/>
            <a:ext cx="4103640" cy="365580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4"/>
          <p:cNvSpPr/>
          <p:nvPr/>
        </p:nvSpPr>
        <p:spPr>
          <a:xfrm>
            <a:off x="534960" y="5438880"/>
            <a:ext cx="821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Теоретична та експериментальна залежність активної складової від потужності оптичного випромінювання (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3c65"/>
                </a:solidFill>
                <a:latin typeface="Times New Roman"/>
                <a:ea typeface="Times New Roman"/>
              </a:rPr>
              <a:t>Залежність вихідної  напруги від потужності оптичного випромінювання (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5"/>
          <p:cNvSpPr/>
          <p:nvPr/>
        </p:nvSpPr>
        <p:spPr>
          <a:xfrm>
            <a:off x="2449800" y="4941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3c65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6"/>
          <p:cNvSpPr/>
          <p:nvPr/>
        </p:nvSpPr>
        <p:spPr>
          <a:xfrm>
            <a:off x="6521760" y="4894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3c65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Заголовок 1"/>
          <p:cNvSpPr/>
          <p:nvPr/>
        </p:nvSpPr>
        <p:spPr>
          <a:xfrm>
            <a:off x="214200" y="357120"/>
            <a:ext cx="85010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РЕЗУЛЬТАТИ МОДЕЛЮВАННЯ ВИМІРЮВАЧА ОПТИЧНОГО ВИПРОМІНЮВАННЯ НА ОСНОВІ ФОТОТИРИСТ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8529480" y="0"/>
            <a:ext cx="61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9480-C175-4D75-8F8B-832011DB2CCF}" type="slidenum">
              <a:rPr b="1" i="1" lang="ru-RU" sz="2000" spc="-1" strike="noStrike">
                <a:solidFill>
                  <a:srgbClr val="4fadf3"/>
                </a:solidFill>
                <a:latin typeface="Century Schoolbook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3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267680" cy="403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Заголовок 1"/>
          <p:cNvSpPr/>
          <p:nvPr/>
        </p:nvSpPr>
        <p:spPr>
          <a:xfrm>
            <a:off x="214200" y="357120"/>
            <a:ext cx="85010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РЕЗУЛЬТАТИ МОДЕЛЮВАННЯ СХЕМ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8529480" y="0"/>
            <a:ext cx="61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024B-1EC0-4E6B-A7F8-2DE160F1AD8C}" type="slidenum">
              <a:rPr b="1" i="1" lang="ru-RU" sz="2000" spc="-1" strike="noStrike">
                <a:solidFill>
                  <a:srgbClr val="4fadf3"/>
                </a:solidFill>
                <a:latin typeface="Century Schoolbook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2" descr=""/>
          <p:cNvPicPr/>
          <p:nvPr/>
        </p:nvPicPr>
        <p:blipFill>
          <a:blip r:embed="rId1"/>
          <a:stretch/>
        </p:blipFill>
        <p:spPr>
          <a:xfrm>
            <a:off x="214200" y="1052640"/>
            <a:ext cx="5365800" cy="2622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" descr=""/>
          <p:cNvPicPr/>
          <p:nvPr/>
        </p:nvPicPr>
        <p:blipFill>
          <a:blip r:embed="rId2"/>
          <a:stretch/>
        </p:blipFill>
        <p:spPr>
          <a:xfrm>
            <a:off x="3484440" y="3933720"/>
            <a:ext cx="5521320" cy="268452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"/>
          <p:cNvSpPr/>
          <p:nvPr/>
        </p:nvSpPr>
        <p:spPr>
          <a:xfrm>
            <a:off x="5724360" y="1413000"/>
            <a:ext cx="32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аграма роботи пр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к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227160" y="5275440"/>
            <a:ext cx="31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аграма роботи пр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5 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омер слайда 3"/>
          <p:cNvSpPr/>
          <p:nvPr/>
        </p:nvSpPr>
        <p:spPr>
          <a:xfrm>
            <a:off x="8529480" y="0"/>
            <a:ext cx="61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2203-1918-4999-A18F-8AC49587BC15}" type="slidenum">
              <a:rPr b="1" i="1" lang="ru-RU" sz="2000" spc="-1" strike="noStrike">
                <a:solidFill>
                  <a:srgbClr val="4fadf3"/>
                </a:solidFill>
                <a:latin typeface="Century Schoolbook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Объект 1"/>
          <p:cNvGraphicFramePr/>
          <p:nvPr/>
        </p:nvGraphicFramePr>
        <p:xfrm>
          <a:off x="836640" y="1125360"/>
          <a:ext cx="7878600" cy="538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125360"/>
                    <a:ext cx="7878600" cy="53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Прямоугольник 2"/>
          <p:cNvSpPr/>
          <p:nvPr/>
        </p:nvSpPr>
        <p:spPr>
          <a:xfrm>
            <a:off x="817560" y="1555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ЕЛЕКТРИЧНА СХЕМА ВИМІРЮВАЧА ОПТИЧНОГО ВИПРОМІНЮВАННЯ НА ОСНОВІ ФОТОТИРИС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Номер слайда 3"/>
          <p:cNvSpPr/>
          <p:nvPr/>
        </p:nvSpPr>
        <p:spPr>
          <a:xfrm>
            <a:off x="8529480" y="0"/>
            <a:ext cx="614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EEEC-1C22-4E01-8C2B-C99FDA502CC0}" type="slidenum">
              <a:rPr b="1" i="1" lang="ru-RU" sz="2000" spc="-1" strike="noStrike">
                <a:solidFill>
                  <a:srgbClr val="4fadf3"/>
                </a:solidFill>
                <a:latin typeface="Century Schoolbook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7" descr=""/>
          <p:cNvPicPr/>
          <p:nvPr/>
        </p:nvPicPr>
        <p:blipFill>
          <a:blip r:embed="rId1"/>
          <a:stretch/>
        </p:blipFill>
        <p:spPr>
          <a:xfrm>
            <a:off x="893880" y="1628640"/>
            <a:ext cx="7372080" cy="457200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1"/>
          <p:cNvSpPr/>
          <p:nvPr/>
        </p:nvSpPr>
        <p:spPr>
          <a:xfrm>
            <a:off x="-567360" y="549360"/>
            <a:ext cx="102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МОДЕЛЮВАННЯ ВИМІРЮВАЧА ОПТИЧНОГО ВИПРОМІНЮВ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НА ОСНОВІ ФОТОТИРИС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тюша</cp:lastModifiedBy>
  <dcterms:modified xsi:type="dcterms:W3CDTF">2015-06-17T23:12:23Z</dcterms:modified>
  <cp:revision>148</cp:revision>
  <dc:subject/>
  <dc:title>Слайд 1</dc:title>
</cp:coreProperties>
</file>