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16.wmf" ContentType="image/x-wmf"/>
  <Override PartName="/ppt/media/image33.png" ContentType="image/png"/>
  <Override PartName="/ppt/media/image3.png" ContentType="image/png"/>
  <Override PartName="/ppt/media/image11.wmf" ContentType="image/x-wmf"/>
  <Override PartName="/ppt/media/image48.wmf" ContentType="image/x-wmf"/>
  <Override PartName="/ppt/media/image26.png" ContentType="image/png"/>
  <Override PartName="/ppt/media/image25.png" ContentType="image/png"/>
  <Override PartName="/ppt/media/image18.wmf" ContentType="image/x-wmf"/>
  <Override PartName="/ppt/media/image36.jpeg" ContentType="image/jpeg"/>
  <Override PartName="/ppt/media/image10.png" ContentType="image/png"/>
  <Override PartName="/ppt/media/image41.jpeg" ContentType="image/jpeg"/>
  <Override PartName="/ppt/media/image23.wmf" ContentType="image/x-wmf"/>
  <Override PartName="/ppt/media/image7.png" ContentType="image/png"/>
  <Override PartName="/ppt/media/image32.png" ContentType="image/png"/>
  <Override PartName="/ppt/media/image2.png" ContentType="image/png"/>
  <Override PartName="/ppt/media/image15.wmf" ContentType="image/x-wmf"/>
  <Override PartName="/ppt/media/image58.png" ContentType="image/png"/>
  <Override PartName="/ppt/media/image19.wmf" ContentType="image/x-wmf"/>
  <Override PartName="/ppt/media/image60.png" ContentType="image/png"/>
  <Override PartName="/ppt/media/image21.wmf" ContentType="image/x-wmf"/>
  <Override PartName="/ppt/media/image22.wmf" ContentType="image/x-wmf"/>
  <Override PartName="/ppt/media/image61.png" ContentType="image/png"/>
  <Override PartName="/ppt/media/image42.jpeg" ContentType="image/jpeg"/>
  <Override PartName="/ppt/media/image6.png" ContentType="image/png"/>
  <Override PartName="/ppt/media/image57.png" ContentType="image/png"/>
  <Override PartName="/ppt/media/image14.wmf" ContentType="image/x-wmf"/>
  <Override PartName="/ppt/media/image31.png" ContentType="image/png"/>
  <Override PartName="/ppt/media/image1.png" ContentType="image/png"/>
  <Override PartName="/ppt/media/image20.wmf" ContentType="image/x-wmf"/>
  <Override PartName="/ppt/media/image17.wmf" ContentType="image/x-wmf"/>
  <Override PartName="/ppt/media/image24.png" ContentType="image/png"/>
  <Override PartName="/ppt/media/image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5.png" ContentType="image/png"/>
  <Override PartName="/ppt/media/image12.wmf" ContentType="image/x-wmf"/>
  <Override PartName="/ppt/media/image49.wmf" ContentType="image/x-wmf"/>
  <Override PartName="/ppt/media/image9.wmf" ContentType="image/x-wmf"/>
  <Override PartName="/ppt/media/image38.jpeg" ContentType="image/jpeg"/>
  <Override PartName="/ppt/media/image39.jpeg" ContentType="image/jpeg"/>
  <Override PartName="/ppt/media/image5.png" ContentType="image/png"/>
  <Override PartName="/ppt/media/image35.png" ContentType="image/png"/>
  <Override PartName="/ppt/media/image50.wmf" ContentType="image/x-wmf"/>
  <Override PartName="/ppt/media/image28.png" ContentType="image/png"/>
  <Override PartName="/ppt/media/image43.jpeg" ContentType="image/jpeg"/>
  <Override PartName="/ppt/media/image30.png" ContentType="image/png"/>
  <Override PartName="/ppt/media/image37.jpeg" ContentType="image/jpeg"/>
  <Override PartName="/ppt/media/image56.png" ContentType="image/png"/>
  <Override PartName="/ppt/media/image13.wmf" ContentType="image/x-wmf"/>
  <Override PartName="/ppt/media/image40.jpeg" ContentType="image/jpeg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29.png" ContentType="image/png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6EC2-F3B5-4D40-A445-60F53C99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7368-6CBB-4B5F-91EE-1D04E436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783E-02BB-4F67-892F-ABEEAF47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66A3-5389-4C66-B044-F8383E1C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3E37-2ED4-4D15-92DC-C98FFB4C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CF9A-9D38-477A-B9E0-865B0027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6545-CD73-473D-A659-F6FF659F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3FA7-59A0-419A-BAA2-333ED822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0D63-534A-43BA-8B02-0179D0F5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72F7-209A-4E9F-BA60-B5CB1EB7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DB33-CBD9-482B-A5F7-F8164785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1873-FD6F-4CC4-B3F6-1E17436D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6A63-5AA9-49E4-A802-F50BFC1FD1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4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3.wmf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250920" y="260280"/>
            <a:ext cx="864216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ІННИЦЬКИЙ НАЦІОНАЛЬНИЙ ТЕХНІЧНИЙ УНІВЕРС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Факультет радіотехніки, зв'язку та приладобуду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Кафедра радіотехні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ослідження впливу нелінійних властивостей ТСВО на форму і потужність генерованих коливан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Дипломна роб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на здобуття кваліфікації радіоінжен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за спеціальністю 7.05090101 – радіотехні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Виконав 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убарев Олександр Василь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студент групи РТр-14сп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Керівник дипломної роботи –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Семенов Андрій Олександрович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кандидат технічних наук, доц. каф. 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Вінниця -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DSC00891"/>
          <p:cNvPicPr/>
          <p:nvPr/>
        </p:nvPicPr>
        <p:blipFill>
          <a:blip r:embed="rId1"/>
          <a:stretch/>
        </p:blipFill>
        <p:spPr>
          <a:xfrm>
            <a:off x="1116000" y="333360"/>
            <a:ext cx="3111480" cy="2330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DSC00892"/>
          <p:cNvPicPr/>
          <p:nvPr/>
        </p:nvPicPr>
        <p:blipFill>
          <a:blip r:embed="rId2"/>
          <a:stretch/>
        </p:blipFill>
        <p:spPr>
          <a:xfrm>
            <a:off x="5003640" y="333360"/>
            <a:ext cx="3111840" cy="23306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884160" y="2647800"/>
            <a:ext cx="771084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б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Рис.8. Фазовий портрет (а) і осцилограма генерованих гармонічних коливань (б) в м'якому режим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ГЕК на ТС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и розміщенні робочої точки в середній точці 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) ділянки від'ємного опо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DSC00876"/>
          <p:cNvPicPr/>
          <p:nvPr/>
        </p:nvPicPr>
        <p:blipFill>
          <a:blip r:embed="rId3"/>
          <a:stretch/>
        </p:blipFill>
        <p:spPr>
          <a:xfrm>
            <a:off x="1116000" y="3429000"/>
            <a:ext cx="3113280" cy="2330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Поворот Поворот DSC00875"/>
          <p:cNvPicPr/>
          <p:nvPr/>
        </p:nvPicPr>
        <p:blipFill>
          <a:blip r:embed="rId4"/>
          <a:stretch/>
        </p:blipFill>
        <p:spPr>
          <a:xfrm>
            <a:off x="5060880" y="3500280"/>
            <a:ext cx="3111480" cy="23148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"/>
          <p:cNvSpPr/>
          <p:nvPr/>
        </p:nvSpPr>
        <p:spPr>
          <a:xfrm>
            <a:off x="1679040" y="5803920"/>
            <a:ext cx="635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Рис.9. Фазовий портрет (а) і осцилограма спотворених гармонічних коливань (б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 жорсткому режимі ГЕК на ТС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8533800" y="3322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2269080" y="391320"/>
            <a:ext cx="43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елінійна модель ГЕК на основі ТСВ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5"/>
          <p:cNvGraphicFramePr/>
          <p:nvPr/>
        </p:nvGraphicFramePr>
        <p:xfrm>
          <a:off x="260280" y="912960"/>
          <a:ext cx="3368880" cy="21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912960"/>
                    <a:ext cx="3368880" cy="21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6"/>
          <p:cNvSpPr/>
          <p:nvPr/>
        </p:nvSpPr>
        <p:spPr>
          <a:xfrm>
            <a:off x="4493880" y="1053360"/>
            <a:ext cx="30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Неоднорідне диференційне рівнян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7"/>
          <p:cNvGraphicFramePr/>
          <p:nvPr/>
        </p:nvGraphicFramePr>
        <p:xfrm>
          <a:off x="3924360" y="1557360"/>
          <a:ext cx="439092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1557360"/>
                    <a:ext cx="43909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8"/>
          <p:cNvSpPr/>
          <p:nvPr/>
        </p:nvSpPr>
        <p:spPr>
          <a:xfrm>
            <a:off x="8316720" y="162180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10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9"/>
          <p:cNvGraphicFramePr/>
          <p:nvPr/>
        </p:nvGraphicFramePr>
        <p:xfrm>
          <a:off x="3924360" y="2422440"/>
          <a:ext cx="3762360" cy="4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2422440"/>
                    <a:ext cx="37623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10"/>
          <p:cNvSpPr/>
          <p:nvPr/>
        </p:nvSpPr>
        <p:spPr>
          <a:xfrm>
            <a:off x="8316720" y="248688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11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62240" y="3069000"/>
            <a:ext cx="49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Рис.10. Еквівалентна схема діапазонного ГЕК на основі ТС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12"/>
          <p:cNvGraphicFramePr/>
          <p:nvPr/>
        </p:nvGraphicFramePr>
        <p:xfrm>
          <a:off x="1835280" y="3933720"/>
          <a:ext cx="5333760" cy="60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35280" y="3933720"/>
                    <a:ext cx="53337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Rectangle 13"/>
          <p:cNvSpPr/>
          <p:nvPr/>
        </p:nvSpPr>
        <p:spPr>
          <a:xfrm>
            <a:off x="8276760" y="400608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12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675000" y="4560120"/>
            <a:ext cx="44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Як малий параметр при розрахунку обираємо величин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15"/>
          <p:cNvGraphicFramePr/>
          <p:nvPr/>
        </p:nvGraphicFramePr>
        <p:xfrm>
          <a:off x="3851280" y="5065560"/>
          <a:ext cx="1380960" cy="52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51280" y="5065560"/>
                    <a:ext cx="13809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Rectangle 16"/>
          <p:cNvSpPr/>
          <p:nvPr/>
        </p:nvSpPr>
        <p:spPr>
          <a:xfrm>
            <a:off x="8316720" y="513648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13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8533440" y="259200"/>
            <a:ext cx="4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596160" y="398880"/>
            <a:ext cx="828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Умова м'якого режиму самозбудження ГЕК на основі ТСВО і рівняння амплітуди стаціонарних коливан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5"/>
          <p:cNvGraphicFramePr/>
          <p:nvPr/>
        </p:nvGraphicFramePr>
        <p:xfrm>
          <a:off x="755640" y="725400"/>
          <a:ext cx="275256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725400"/>
                    <a:ext cx="27525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Rectangle 6"/>
          <p:cNvSpPr/>
          <p:nvPr/>
        </p:nvSpPr>
        <p:spPr>
          <a:xfrm>
            <a:off x="3708000" y="108504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14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7"/>
          <p:cNvGraphicFramePr/>
          <p:nvPr/>
        </p:nvGraphicFramePr>
        <p:xfrm>
          <a:off x="4356000" y="971640"/>
          <a:ext cx="3571920" cy="6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971640"/>
                    <a:ext cx="35719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Rectangle 8"/>
          <p:cNvSpPr/>
          <p:nvPr/>
        </p:nvSpPr>
        <p:spPr>
          <a:xfrm>
            <a:off x="8132400" y="107892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15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603000" y="1805400"/>
            <a:ext cx="44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Співвідношення для визначення коефіцієнтів гармоні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10"/>
          <p:cNvGraphicFramePr/>
          <p:nvPr/>
        </p:nvGraphicFramePr>
        <p:xfrm>
          <a:off x="826920" y="2166840"/>
          <a:ext cx="2476800" cy="8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2166840"/>
                    <a:ext cx="24768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11"/>
          <p:cNvSpPr/>
          <p:nvPr/>
        </p:nvSpPr>
        <p:spPr>
          <a:xfrm>
            <a:off x="3597120" y="216612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16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12"/>
          <p:cNvGraphicFramePr/>
          <p:nvPr/>
        </p:nvGraphicFramePr>
        <p:xfrm>
          <a:off x="4270320" y="2109960"/>
          <a:ext cx="3686400" cy="84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70320" y="2109960"/>
                    <a:ext cx="368640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ectangle 13"/>
          <p:cNvSpPr/>
          <p:nvPr/>
        </p:nvSpPr>
        <p:spPr>
          <a:xfrm>
            <a:off x="559440" y="2986560"/>
            <a:ext cx="77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коефіцієнта нелінійних спотворень форми генерованого сигналу і нелінійного відхилення часто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14"/>
          <p:cNvGraphicFramePr/>
          <p:nvPr/>
        </p:nvGraphicFramePr>
        <p:xfrm>
          <a:off x="1692360" y="3462480"/>
          <a:ext cx="480996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92360" y="3462480"/>
                    <a:ext cx="4809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15"/>
          <p:cNvSpPr/>
          <p:nvPr/>
        </p:nvSpPr>
        <p:spPr>
          <a:xfrm>
            <a:off x="6876720" y="353304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1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16"/>
          <p:cNvGraphicFramePr/>
          <p:nvPr/>
        </p:nvGraphicFramePr>
        <p:xfrm>
          <a:off x="723960" y="4541760"/>
          <a:ext cx="7448400" cy="1695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0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3960" y="4541760"/>
                    <a:ext cx="744840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17"/>
          <p:cNvSpPr/>
          <p:nvPr/>
        </p:nvSpPr>
        <p:spPr>
          <a:xfrm>
            <a:off x="8243640" y="526176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1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205480" y="216612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17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8647920" y="259200"/>
            <a:ext cx="4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2432160" y="2491200"/>
            <a:ext cx="65815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ис.12. Теоретичні та експериментальні залежності нормованого коефіцієнтів 2-ї (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та 3-ї (б) гармонік від напруги живлення з різними опорами навантаженням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2624040" y="5515920"/>
            <a:ext cx="652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         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ис.13. Теоретична залежність нормованого коефіцієнта нелінійних спотворень (а) і неліній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відхилення частоти (б) від напруги живлення при різних значеннях опору навантаженн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"/>
          <p:cNvPicPr/>
          <p:nvPr/>
        </p:nvPicPr>
        <p:blipFill>
          <a:blip r:embed="rId1"/>
          <a:stretch/>
        </p:blipFill>
        <p:spPr>
          <a:xfrm>
            <a:off x="206280" y="571680"/>
            <a:ext cx="2997360" cy="19206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1"/>
          <p:cNvSpPr/>
          <p:nvPr/>
        </p:nvSpPr>
        <p:spPr>
          <a:xfrm>
            <a:off x="358560" y="4868280"/>
            <a:ext cx="2864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ис.11. Електрична схема генера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армонічних коливань НВЧ діапазону (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і  графік статичної ВАХ ТСВО (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8647920" y="259200"/>
            <a:ext cx="4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6" descr=""/>
          <p:cNvPicPr/>
          <p:nvPr/>
        </p:nvPicPr>
        <p:blipFill>
          <a:blip r:embed="rId2"/>
          <a:stretch/>
        </p:blipFill>
        <p:spPr>
          <a:xfrm>
            <a:off x="250920" y="2781360"/>
            <a:ext cx="3058920" cy="18604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7"/>
          <p:cNvSpPr/>
          <p:nvPr/>
        </p:nvSpPr>
        <p:spPr>
          <a:xfrm>
            <a:off x="1550160" y="250596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1549440" y="45806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9" descr=""/>
          <p:cNvPicPr/>
          <p:nvPr/>
        </p:nvPicPr>
        <p:blipFill>
          <a:blip r:embed="rId3"/>
          <a:stretch/>
        </p:blipFill>
        <p:spPr>
          <a:xfrm>
            <a:off x="3203640" y="333360"/>
            <a:ext cx="2720880" cy="2292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0" descr=""/>
          <p:cNvPicPr/>
          <p:nvPr/>
        </p:nvPicPr>
        <p:blipFill>
          <a:blip r:embed="rId4"/>
          <a:stretch/>
        </p:blipFill>
        <p:spPr>
          <a:xfrm>
            <a:off x="5987880" y="333360"/>
            <a:ext cx="2687760" cy="22478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2" descr=""/>
          <p:cNvPicPr/>
          <p:nvPr/>
        </p:nvPicPr>
        <p:blipFill>
          <a:blip r:embed="rId5"/>
          <a:stretch/>
        </p:blipFill>
        <p:spPr>
          <a:xfrm>
            <a:off x="3313080" y="3340080"/>
            <a:ext cx="2781360" cy="2176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3" descr=""/>
          <p:cNvPicPr/>
          <p:nvPr/>
        </p:nvPicPr>
        <p:blipFill>
          <a:blip r:embed="rId6"/>
          <a:stretch/>
        </p:blipFill>
        <p:spPr>
          <a:xfrm>
            <a:off x="6408720" y="3340080"/>
            <a:ext cx="23400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оповідь завершено.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якую за уваг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6840" y="5084280"/>
            <a:ext cx="771516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36720" y="392760"/>
            <a:ext cx="9023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Метою дипломної роботи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є розробка математичних моделей  генераторів електричних коливан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 основі транзисторних структур з від'ємним опором з підвищеним коефіцієнтом корисної дії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більністю та розширеним діапазону перебудови часто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Об’єктом дослідження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є процес перетворення енергії джерел постійної напруги в енергі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лектричних коливань в генераторних пристроях на основі транзисторних структур з від'ємним опор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 електричною перебудовою частоти генерації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Предметом дослідження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є статичні і динамічні характеристики активних елементів генераторі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лектричних коливань на основі транзисторних структур з від'ємним опором з електричною перебудово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частоти генерації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-253440" y="2407680"/>
            <a:ext cx="97225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Задачі дослідження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робити квазілінійні математичні моделі генераторів на основі транзисторних структур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 від'ємним опор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тримати рівняння, які апроксимують статичні ВАХ активних елементів генераторів на основі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ранзисторних структур з від'ємним опором з врахуванням фізичних процесів, які в них протікають,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що дасть змогу обрати оптимальні режими їх електричного живлення для підвищення КК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 основі методу фазової площини провести дослідження стійкості роботи розроблених схем генераторів,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значити амплітуду і частоту стаціонарних коливан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 основі квазілінійної моделі генератора визначити флуктуації амплітуди і фази генерованих коливань,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що дасть змогу оцінити короткотривалу нестабільність генера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 основі асимптотичного методу малого параметру розробити математичну нелінійну модель генератора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 основі транзисторної структури з від'ємним опором, визначити режими збудження,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мплітуду і частоту стаціонарних коливан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значити нелінійні спотворення форми і нелінійне відхилення частоти генерованих колива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204120" y="5505480"/>
            <a:ext cx="868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Апробація результатів роботи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 За результатами теоретичних та експериментальних досліджен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втором опубліковано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4 праці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з яких: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у фаховому виданні з переліку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ВАК України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у закордонному виданні з індексуванням у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pus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, 2 тези конференції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G_E_R_F_G"/>
          <p:cNvPicPr/>
          <p:nvPr/>
        </p:nvPicPr>
        <p:blipFill>
          <a:blip r:embed="rId1"/>
          <a:stretch/>
        </p:blipFill>
        <p:spPr>
          <a:xfrm>
            <a:off x="826920" y="1341360"/>
            <a:ext cx="3524400" cy="1800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1113840" y="403200"/>
            <a:ext cx="2777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атент на корисну модель 741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МКИ Н03В7/00. Генератор 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електричним регулюванн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частоти генерації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4427640" y="1150920"/>
            <a:ext cx="3967200" cy="1990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4577760" y="476280"/>
            <a:ext cx="348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атент на корисну модель 1659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МКИ Н03В7/00. Стабільний діапазон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генератор гармонічних коливан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G_E_K"/>
          <p:cNvPicPr/>
          <p:nvPr/>
        </p:nvPicPr>
        <p:blipFill>
          <a:blip r:embed="rId3"/>
          <a:stretch/>
        </p:blipFill>
        <p:spPr>
          <a:xfrm>
            <a:off x="971640" y="4022640"/>
            <a:ext cx="3392280" cy="2359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1044720" y="3229200"/>
            <a:ext cx="297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атент на корисну модель 791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МКИ Н03В7/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Генератор електричних коливань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4500720" y="3936960"/>
            <a:ext cx="4128840" cy="2300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4680000" y="3140280"/>
            <a:ext cx="306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атент на корисну модель 9202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МКИ Н03В7/00. Мікроелектрон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генератор електричних коливань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8533800" y="3322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68360" y="1192320"/>
            <a:ext cx="4276800" cy="20206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686880" y="470160"/>
            <a:ext cx="2963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атент на корисну модель 16587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МКИ Н03В7/0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Електрично керований генератор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3936960" cy="22719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5292360" y="249480"/>
            <a:ext cx="2925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атент на корисну модель 1441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МКИ Н03В7/00. Різнице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генератор гармонічних коливань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3"/>
          <a:stretch/>
        </p:blipFill>
        <p:spPr>
          <a:xfrm>
            <a:off x="395280" y="4076640"/>
            <a:ext cx="4041720" cy="18734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757440" y="3356280"/>
            <a:ext cx="297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атент на корисну модель 9209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МКИ Н03В7/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Генератор електричних коливань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/>
          <p:cNvPicPr/>
          <p:nvPr/>
        </p:nvPicPr>
        <p:blipFill>
          <a:blip r:embed="rId4"/>
          <a:stretch/>
        </p:blipFill>
        <p:spPr>
          <a:xfrm>
            <a:off x="4427640" y="4238640"/>
            <a:ext cx="4483080" cy="17114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1"/>
          <p:cNvSpPr/>
          <p:nvPr/>
        </p:nvSpPr>
        <p:spPr>
          <a:xfrm>
            <a:off x="5326560" y="3356280"/>
            <a:ext cx="327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атент на корисну модель 1040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МКИ Н 03 С 3/36. Оптично кер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генератор електричних коливань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8533800" y="3322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2269080" y="475560"/>
            <a:ext cx="45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вазілінійна модель ГЕК на основі ТС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5"/>
          <p:cNvGraphicFramePr/>
          <p:nvPr/>
        </p:nvGraphicFramePr>
        <p:xfrm>
          <a:off x="1116000" y="1197000"/>
          <a:ext cx="292428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197000"/>
                    <a:ext cx="292428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4284720" y="981000"/>
            <a:ext cx="4100400" cy="20210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675360" y="2924280"/>
            <a:ext cx="739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б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Рис.1.  Еквівалентна схема ГЕК на основі ТСВО з квазігармонічним генерованим сигналом (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і графік апроксимованої статичної ВАХ ТСВО поліномом 3-го степеня (б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818640" y="3796560"/>
            <a:ext cx="55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Рівняння апроксимації статичної ВАХ ТСВО поліномом 3-го степе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9"/>
          <p:cNvGraphicFramePr/>
          <p:nvPr/>
        </p:nvGraphicFramePr>
        <p:xfrm>
          <a:off x="2124000" y="4267080"/>
          <a:ext cx="4267440" cy="31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4000" y="4267080"/>
                    <a:ext cx="4267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10"/>
          <p:cNvSpPr/>
          <p:nvPr/>
        </p:nvSpPr>
        <p:spPr>
          <a:xfrm>
            <a:off x="8244000" y="419508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11"/>
          <p:cNvGraphicFramePr/>
          <p:nvPr/>
        </p:nvGraphicFramePr>
        <p:xfrm>
          <a:off x="826920" y="5191200"/>
          <a:ext cx="1305000" cy="504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3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6920" y="5191200"/>
                    <a:ext cx="13050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12"/>
          <p:cNvGraphicFramePr/>
          <p:nvPr/>
        </p:nvGraphicFramePr>
        <p:xfrm>
          <a:off x="2411280" y="5157720"/>
          <a:ext cx="2200320" cy="609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5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11280" y="5157720"/>
                    <a:ext cx="22003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Rectangle 13"/>
          <p:cNvSpPr/>
          <p:nvPr/>
        </p:nvSpPr>
        <p:spPr>
          <a:xfrm>
            <a:off x="895680" y="4652280"/>
            <a:ext cx="39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араметри апроксимації визначаються з рівня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14"/>
          <p:cNvGraphicFramePr/>
          <p:nvPr/>
        </p:nvGraphicFramePr>
        <p:xfrm>
          <a:off x="4859280" y="5191200"/>
          <a:ext cx="1295280" cy="504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8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59280" y="5191200"/>
                    <a:ext cx="1295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15"/>
          <p:cNvGraphicFramePr/>
          <p:nvPr/>
        </p:nvGraphicFramePr>
        <p:xfrm>
          <a:off x="6330960" y="5157720"/>
          <a:ext cx="2200320" cy="609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0" name="Object 1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330960" y="5157720"/>
                    <a:ext cx="22003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Rectangle 16"/>
          <p:cNvSpPr/>
          <p:nvPr/>
        </p:nvSpPr>
        <p:spPr>
          <a:xfrm>
            <a:off x="8533800" y="3322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815040" y="548280"/>
            <a:ext cx="794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Узагальнене диференційне рівняння ГЕК на основі ТСВО з квазігармонічним генерованим сигнало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5"/>
          <p:cNvGraphicFramePr/>
          <p:nvPr/>
        </p:nvGraphicFramePr>
        <p:xfrm>
          <a:off x="1042920" y="1071720"/>
          <a:ext cx="700092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071720"/>
                    <a:ext cx="70009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Rectangle 6"/>
          <p:cNvSpPr/>
          <p:nvPr/>
        </p:nvSpPr>
        <p:spPr>
          <a:xfrm>
            <a:off x="8294760" y="135180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901440" y="2234160"/>
            <a:ext cx="3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д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8"/>
          <p:cNvGraphicFramePr/>
          <p:nvPr/>
        </p:nvGraphicFramePr>
        <p:xfrm>
          <a:off x="1547640" y="2276640"/>
          <a:ext cx="657360" cy="23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276640"/>
                    <a:ext cx="65736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9"/>
          <p:cNvSpPr/>
          <p:nvPr/>
        </p:nvSpPr>
        <p:spPr>
          <a:xfrm>
            <a:off x="2627280" y="213300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10"/>
          <p:cNvGraphicFramePr/>
          <p:nvPr/>
        </p:nvGraphicFramePr>
        <p:xfrm>
          <a:off x="3473280" y="2081160"/>
          <a:ext cx="1819440" cy="77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73280" y="2081160"/>
                    <a:ext cx="18194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11"/>
          <p:cNvSpPr/>
          <p:nvPr/>
        </p:nvSpPr>
        <p:spPr>
          <a:xfrm>
            <a:off x="5796000" y="213300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850320" y="2978640"/>
            <a:ext cx="791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Умова м'якого режиму самозбудження ГЕК на основі ТСВО (5), рівняння амплітуди (6) і частоти (7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стаціонарних коливан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3686400" y="362664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14"/>
          <p:cNvGraphicFramePr/>
          <p:nvPr/>
        </p:nvGraphicFramePr>
        <p:xfrm>
          <a:off x="1525680" y="3627360"/>
          <a:ext cx="179064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5680" y="3627360"/>
                    <a:ext cx="17906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15"/>
          <p:cNvGraphicFramePr/>
          <p:nvPr/>
        </p:nvGraphicFramePr>
        <p:xfrm>
          <a:off x="4478400" y="3556080"/>
          <a:ext cx="2619360" cy="60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8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78400" y="3556080"/>
                    <a:ext cx="26193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6"/>
          <p:cNvSpPr/>
          <p:nvPr/>
        </p:nvSpPr>
        <p:spPr>
          <a:xfrm>
            <a:off x="7431120" y="362664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17"/>
          <p:cNvGraphicFramePr/>
          <p:nvPr/>
        </p:nvGraphicFramePr>
        <p:xfrm>
          <a:off x="3059280" y="4308480"/>
          <a:ext cx="1742760" cy="542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1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59280" y="4308480"/>
                    <a:ext cx="17427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Rectangle 18"/>
          <p:cNvSpPr/>
          <p:nvPr/>
        </p:nvSpPr>
        <p:spPr>
          <a:xfrm>
            <a:off x="5413320" y="434736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7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9"/>
          <p:cNvSpPr/>
          <p:nvPr/>
        </p:nvSpPr>
        <p:spPr>
          <a:xfrm>
            <a:off x="884880" y="4923360"/>
            <a:ext cx="766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Дисперсійні значення флуктуацій амплітуди (8) і фази (9) генерованого сигналу в реальному часі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0"/>
          <p:cNvGraphicFramePr/>
          <p:nvPr/>
        </p:nvGraphicFramePr>
        <p:xfrm>
          <a:off x="1762200" y="5445000"/>
          <a:ext cx="1819080" cy="581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5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62200" y="5445000"/>
                    <a:ext cx="18190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21"/>
          <p:cNvSpPr/>
          <p:nvPr/>
        </p:nvSpPr>
        <p:spPr>
          <a:xfrm>
            <a:off x="4044960" y="550944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22"/>
          <p:cNvGraphicFramePr/>
          <p:nvPr/>
        </p:nvGraphicFramePr>
        <p:xfrm>
          <a:off x="4859280" y="5487840"/>
          <a:ext cx="141912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8" name="Object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59280" y="5487840"/>
                    <a:ext cx="1419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23"/>
          <p:cNvSpPr/>
          <p:nvPr/>
        </p:nvSpPr>
        <p:spPr>
          <a:xfrm>
            <a:off x="6782040" y="550944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4"/>
          <p:cNvSpPr/>
          <p:nvPr/>
        </p:nvSpPr>
        <p:spPr>
          <a:xfrm>
            <a:off x="8533800" y="3322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68360" y="412920"/>
            <a:ext cx="272880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3348000" y="473040"/>
            <a:ext cx="2816280" cy="2152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6227640" y="466560"/>
            <a:ext cx="2654280" cy="21528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7"/>
          <p:cNvSpPr/>
          <p:nvPr/>
        </p:nvSpPr>
        <p:spPr>
          <a:xfrm>
            <a:off x="402120" y="2624400"/>
            <a:ext cx="8431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Рис.2. Суміщена ВАХ і фазовий портрет ГЕК на основі ТСВО (а), часові діаграми струму індуктивності (б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і генерованої напруги (в) при розміщенні робочої точки на початку ділянки від'ємного опору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539640" y="3306600"/>
            <a:ext cx="2684520" cy="2271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5"/>
          <a:stretch/>
        </p:blipFill>
        <p:spPr>
          <a:xfrm>
            <a:off x="3367080" y="3417840"/>
            <a:ext cx="2860560" cy="2124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"/>
          <p:cNvPicPr/>
          <p:nvPr/>
        </p:nvPicPr>
        <p:blipFill>
          <a:blip r:embed="rId6"/>
          <a:stretch/>
        </p:blipFill>
        <p:spPr>
          <a:xfrm>
            <a:off x="6227640" y="3417840"/>
            <a:ext cx="2670120" cy="21830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1"/>
          <p:cNvSpPr/>
          <p:nvPr/>
        </p:nvSpPr>
        <p:spPr>
          <a:xfrm>
            <a:off x="402120" y="5505480"/>
            <a:ext cx="8431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Рис.3. Суміщена ВАХ і фазовий портрет ГЕК на основі ТСВО (а), часові діаграми струму індуктивності (б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і генерованої напруги (в) при розміщенні робочої точки на кінці ділянки від'ємного опору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8533800" y="3322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95280" y="325440"/>
            <a:ext cx="2639880" cy="2257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3151080" y="398520"/>
            <a:ext cx="2860920" cy="2124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6083280" y="325440"/>
            <a:ext cx="2670120" cy="21826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446400" y="2390400"/>
            <a:ext cx="83876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Рис.4. Суміщена ВАХ і фазовий портрет ГЕК на основі ТСВО (а), часові діаграми струму індуктивності (б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і генерованої напруги (в) при розміщенні робочої точки в середній точці 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) ділянки від'ємного опо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м'який режим самозбудження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388800" y="3313080"/>
            <a:ext cx="2670480" cy="2197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5"/>
          <a:stretch/>
        </p:blipFill>
        <p:spPr>
          <a:xfrm>
            <a:off x="3132000" y="3349800"/>
            <a:ext cx="2890800" cy="2168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6"/>
          <a:stretch/>
        </p:blipFill>
        <p:spPr>
          <a:xfrm>
            <a:off x="6084720" y="3349800"/>
            <a:ext cx="2698920" cy="2197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1"/>
          <p:cNvSpPr/>
          <p:nvPr/>
        </p:nvSpPr>
        <p:spPr>
          <a:xfrm>
            <a:off x="454320" y="5437080"/>
            <a:ext cx="838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Рис.5. Суміщена ВАХ і фазовий портрет ГЕК на основі ТСВО (а), часові діаграми струму індуктивності (б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і генерованої напруги (в) при розміщенні робочої точки наприкінці ділянки від'ємного опо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жорсткий режим самозбудження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8648280" y="3322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DSC00886"/>
          <p:cNvPicPr/>
          <p:nvPr/>
        </p:nvPicPr>
        <p:blipFill>
          <a:blip r:embed="rId1"/>
          <a:stretch/>
        </p:blipFill>
        <p:spPr>
          <a:xfrm>
            <a:off x="1187280" y="352440"/>
            <a:ext cx="3111840" cy="2330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DSC00887"/>
          <p:cNvPicPr/>
          <p:nvPr/>
        </p:nvPicPr>
        <p:blipFill>
          <a:blip r:embed="rId2"/>
          <a:stretch/>
        </p:blipFill>
        <p:spPr>
          <a:xfrm>
            <a:off x="5076720" y="352440"/>
            <a:ext cx="3111480" cy="23302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534600" y="2765880"/>
            <a:ext cx="826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Рис.6. Фазовий портрет (а) і осцилограма зриву коливань генерованої напруги (б) на початку ділянки 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5"/>
          <p:cNvPicPr/>
          <p:nvPr/>
        </p:nvPicPr>
        <p:blipFill>
          <a:blip r:embed="rId3"/>
          <a:stretch/>
        </p:blipFill>
        <p:spPr>
          <a:xfrm>
            <a:off x="1173240" y="3403440"/>
            <a:ext cx="3111480" cy="2330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DSC00880"/>
          <p:cNvPicPr/>
          <p:nvPr/>
        </p:nvPicPr>
        <p:blipFill>
          <a:blip r:embed="rId4"/>
          <a:stretch/>
        </p:blipFill>
        <p:spPr>
          <a:xfrm>
            <a:off x="5076720" y="3429000"/>
            <a:ext cx="3111480" cy="23302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9"/>
          <p:cNvSpPr/>
          <p:nvPr/>
        </p:nvSpPr>
        <p:spPr>
          <a:xfrm>
            <a:off x="1390680" y="5949000"/>
            <a:ext cx="638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Рис.7. Фазові портрети зриву коливань генерованої напруги на кінці ділянки 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8533800" y="3322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22:13:13Z</dcterms:created>
  <dc:creator>User</dc:creator>
  <dc:description/>
  <dc:language>en-US</dc:language>
  <cp:lastModifiedBy>ххх</cp:lastModifiedBy>
  <dcterms:modified xsi:type="dcterms:W3CDTF">2015-06-16T21:10:46Z</dcterms:modified>
  <cp:revision>26</cp:revision>
  <dc:subject/>
  <dc:title>Слайд 1</dc:title>
</cp:coreProperties>
</file>