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11.wmf" ContentType="image/x-wmf"/>
  <Override PartName="/ppt/media/image48.wmf" ContentType="image/x-wmf"/>
  <Override PartName="/ppt/media/image26.png" ContentType="image/png"/>
  <Override PartName="/ppt/media/image25.png" ContentType="image/png"/>
  <Override PartName="/ppt/media/image18.wmf" ContentType="image/x-wmf"/>
  <Override PartName="/ppt/media/image36.jpeg" ContentType="image/jpeg"/>
  <Override PartName="/ppt/media/image10.png" ContentType="image/png"/>
  <Override PartName="/ppt/media/image41.jpeg" ContentType="image/jpeg"/>
  <Override PartName="/ppt/media/image23.wmf" ContentType="image/x-wmf"/>
  <Override PartName="/ppt/media/image7.png" ContentType="image/png"/>
  <Override PartName="/ppt/media/image32.png" ContentType="image/png"/>
  <Override PartName="/ppt/media/image2.png" ContentType="image/png"/>
  <Override PartName="/ppt/media/image15.wmf" ContentType="image/x-wmf"/>
  <Override PartName="/ppt/media/image58.png" ContentType="image/png"/>
  <Override PartName="/ppt/media/image19.wmf" ContentType="image/x-wmf"/>
  <Override PartName="/ppt/media/image60.png" ContentType="image/png"/>
  <Override PartName="/ppt/media/image21.wmf" ContentType="image/x-wmf"/>
  <Override PartName="/ppt/media/image22.wmf" ContentType="image/x-wmf"/>
  <Override PartName="/ppt/media/image61.png" ContentType="image/png"/>
  <Override PartName="/ppt/media/image42.jpeg" ContentType="image/jpeg"/>
  <Override PartName="/ppt/media/image6.png" ContentType="image/png"/>
  <Override PartName="/ppt/media/image57.png" ContentType="image/png"/>
  <Override PartName="/ppt/media/image14.wmf" ContentType="image/x-wmf"/>
  <Override PartName="/ppt/media/image31.png" ContentType="image/png"/>
  <Override PartName="/ppt/media/image1.png" ContentType="image/png"/>
  <Override PartName="/ppt/media/image20.wmf" ContentType="image/x-wmf"/>
  <Override PartName="/ppt/media/image17.wmf" ContentType="image/x-wmf"/>
  <Override PartName="/ppt/media/image24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5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8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50.wmf" ContentType="image/x-wmf"/>
  <Override PartName="/ppt/media/image28.png" ContentType="image/png"/>
  <Override PartName="/ppt/media/image43.jpeg" ContentType="image/jpeg"/>
  <Override PartName="/ppt/media/image30.png" ContentType="image/png"/>
  <Override PartName="/ppt/media/image37.jpeg" ContentType="image/jpeg"/>
  <Override PartName="/ppt/media/image56.png" ContentType="image/png"/>
  <Override PartName="/ppt/media/image13.wmf" ContentType="image/x-wmf"/>
  <Override PartName="/ppt/media/image40.jpeg" ContentType="image/jpe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29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865-D3CE-4E73-95BC-43A0035D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58C-92FD-461E-ABBB-EB594250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7A7-BA17-4B7F-94CD-E510E332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63D-3E4D-4AF7-BFEC-F357A22D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DC6-681E-404A-B66E-426D6689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DFC-A608-437B-B5B8-6ECF56E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D1D-14DD-414E-A46E-D1540AD8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99A-4EC8-4907-B588-19E2E7F9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D88-D1F2-4801-96CC-97779638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5F5-FCAF-42F0-A652-AD68AC9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8C5-FB65-47D3-9AA9-D175F8A7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207-2D7B-4AC0-BF9C-41CFA2C2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033-AABC-48F8-8D77-A6663C722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250920" y="260280"/>
            <a:ext cx="86421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Факультет радіотехніки, зв'язку та приладобуд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Кафедра радіотехні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слідження впливу нелінійних властивостей ТСВО на форму і потужність генерованих колив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ипломна ро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 здобуття кваліфікації радіоінжен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а спеціальністю 7.05090101 – радіотехні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иконав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убарев Олександр Василь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студент групи РТр-14с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івник дипломної роботи –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Семенов Андрій Олександрович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андидат технічних наук, доц. каф. 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нниця -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DSC00891"/>
          <p:cNvPicPr/>
          <p:nvPr/>
        </p:nvPicPr>
        <p:blipFill>
          <a:blip r:embed="rId1"/>
          <a:stretch/>
        </p:blipFill>
        <p:spPr>
          <a:xfrm>
            <a:off x="1116000" y="333360"/>
            <a:ext cx="3111480" cy="2330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SC00892"/>
          <p:cNvPicPr/>
          <p:nvPr/>
        </p:nvPicPr>
        <p:blipFill>
          <a:blip r:embed="rId2"/>
          <a:stretch/>
        </p:blipFill>
        <p:spPr>
          <a:xfrm>
            <a:off x="5003640" y="333360"/>
            <a:ext cx="3111840" cy="2330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884160" y="2647800"/>
            <a:ext cx="77108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8. Фазовий портрет (а) і осцилограма генерованих гармонічних коливань (б) в м'як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ГЕК на ТС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и розміщенні робочої точки в середній точці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) ділянки від'ємного оп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DSC00876"/>
          <p:cNvPicPr/>
          <p:nvPr/>
        </p:nvPicPr>
        <p:blipFill>
          <a:blip r:embed="rId3"/>
          <a:stretch/>
        </p:blipFill>
        <p:spPr>
          <a:xfrm>
            <a:off x="1116000" y="3429000"/>
            <a:ext cx="3113280" cy="233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Поворот Поворот DSC00875"/>
          <p:cNvPicPr/>
          <p:nvPr/>
        </p:nvPicPr>
        <p:blipFill>
          <a:blip r:embed="rId4"/>
          <a:stretch/>
        </p:blipFill>
        <p:spPr>
          <a:xfrm>
            <a:off x="5060880" y="3500280"/>
            <a:ext cx="3111480" cy="2314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1679040" y="5803920"/>
            <a:ext cx="635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9. Фазовий портрет (а) і осцилограма спотворених гармонічних коливань (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 жорсткому режимі ГЕК на ТС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2269080" y="391320"/>
            <a:ext cx="43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елінійна модель ГЕК на основі ТС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60280" y="912960"/>
          <a:ext cx="3368880" cy="21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912960"/>
                    <a:ext cx="336888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4493880" y="1053360"/>
            <a:ext cx="30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Неоднорідне диференційне рівня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3924360" y="1557360"/>
          <a:ext cx="4390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557360"/>
                    <a:ext cx="4390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8"/>
          <p:cNvSpPr/>
          <p:nvPr/>
        </p:nvSpPr>
        <p:spPr>
          <a:xfrm>
            <a:off x="8316720" y="162180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9"/>
          <p:cNvGraphicFramePr/>
          <p:nvPr/>
        </p:nvGraphicFramePr>
        <p:xfrm>
          <a:off x="3924360" y="2422440"/>
          <a:ext cx="376236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2422440"/>
                    <a:ext cx="3762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0"/>
          <p:cNvSpPr/>
          <p:nvPr/>
        </p:nvSpPr>
        <p:spPr>
          <a:xfrm>
            <a:off x="8316720" y="248688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62240" y="3069000"/>
            <a:ext cx="49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10. Еквівалентна схема діапазонного ГЕК на основі ТС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12"/>
          <p:cNvGraphicFramePr/>
          <p:nvPr/>
        </p:nvGraphicFramePr>
        <p:xfrm>
          <a:off x="1835280" y="3933720"/>
          <a:ext cx="533376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3933720"/>
                    <a:ext cx="5333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13"/>
          <p:cNvSpPr/>
          <p:nvPr/>
        </p:nvSpPr>
        <p:spPr>
          <a:xfrm>
            <a:off x="8276760" y="400608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75000" y="456012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Як малий параметр при розрахунку обираємо велич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15"/>
          <p:cNvGraphicFramePr/>
          <p:nvPr/>
        </p:nvGraphicFramePr>
        <p:xfrm>
          <a:off x="3851280" y="5065560"/>
          <a:ext cx="138096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5065560"/>
                    <a:ext cx="1380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16"/>
          <p:cNvSpPr/>
          <p:nvPr/>
        </p:nvSpPr>
        <p:spPr>
          <a:xfrm>
            <a:off x="8316720" y="513648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8533440" y="25920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596160" y="398880"/>
            <a:ext cx="828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мова м'якого режиму самозбудження ГЕК на основі ТСВО і рівняння амплітуди стаціонарних колива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755640" y="725400"/>
          <a:ext cx="275256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725400"/>
                    <a:ext cx="27525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3708000" y="108504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4356000" y="971640"/>
          <a:ext cx="35719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971640"/>
                    <a:ext cx="35719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8"/>
          <p:cNvSpPr/>
          <p:nvPr/>
        </p:nvSpPr>
        <p:spPr>
          <a:xfrm>
            <a:off x="8132400" y="10789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5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03000" y="1805400"/>
            <a:ext cx="44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Співвідношення для визначення коефіцієнтів гармоні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0"/>
          <p:cNvGraphicFramePr/>
          <p:nvPr/>
        </p:nvGraphicFramePr>
        <p:xfrm>
          <a:off x="826920" y="2166840"/>
          <a:ext cx="247680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166840"/>
                    <a:ext cx="2476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3597120" y="21661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4270320" y="2109960"/>
          <a:ext cx="3686400" cy="84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70320" y="2109960"/>
                    <a:ext cx="36864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3"/>
          <p:cNvSpPr/>
          <p:nvPr/>
        </p:nvSpPr>
        <p:spPr>
          <a:xfrm>
            <a:off x="559440" y="2986560"/>
            <a:ext cx="77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ефіцієнта нелінійних спотворень форми генерованого сигналу і нелінійного відхилення част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4"/>
          <p:cNvGraphicFramePr/>
          <p:nvPr/>
        </p:nvGraphicFramePr>
        <p:xfrm>
          <a:off x="1692360" y="3462480"/>
          <a:ext cx="480996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3462480"/>
                    <a:ext cx="4809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5"/>
          <p:cNvSpPr/>
          <p:nvPr/>
        </p:nvSpPr>
        <p:spPr>
          <a:xfrm>
            <a:off x="6876720" y="353304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16"/>
          <p:cNvGraphicFramePr/>
          <p:nvPr/>
        </p:nvGraphicFramePr>
        <p:xfrm>
          <a:off x="723960" y="4541760"/>
          <a:ext cx="7448400" cy="169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960" y="4541760"/>
                    <a:ext cx="744840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7"/>
          <p:cNvSpPr/>
          <p:nvPr/>
        </p:nvSpPr>
        <p:spPr>
          <a:xfrm>
            <a:off x="8243640" y="5261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205480" y="21661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7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8647920" y="25920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2432160" y="2491200"/>
            <a:ext cx="65815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ис.12. Теоретичні та експериментальні залежності нормованого коефіцієнтів 2-ї (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а 3-ї (б) гармонік від напруги живлення з різними опорами навантаження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624040" y="5515920"/>
            <a:ext cx="652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        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ис.13. Теоретична залежність нормованого коефіцієнта нелінійних спотворень (а) і неліній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ідхилення частоти (б) від напруги живлення при різних значеннях опору навантаженн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1"/>
          <a:stretch/>
        </p:blipFill>
        <p:spPr>
          <a:xfrm>
            <a:off x="206280" y="571680"/>
            <a:ext cx="2997360" cy="19206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1"/>
          <p:cNvSpPr/>
          <p:nvPr/>
        </p:nvSpPr>
        <p:spPr>
          <a:xfrm>
            <a:off x="358560" y="4868280"/>
            <a:ext cx="286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ис.11. Електрична схема генера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армонічних коливань НВЧ діапазону (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і  графік статичної ВАХ ТСВО (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8647920" y="25920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3058920" cy="18604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1550160" y="250596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1549440" y="4580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"/>
          <p:cNvPicPr/>
          <p:nvPr/>
        </p:nvPicPr>
        <p:blipFill>
          <a:blip r:embed="rId3"/>
          <a:stretch/>
        </p:blipFill>
        <p:spPr>
          <a:xfrm>
            <a:off x="3203640" y="333360"/>
            <a:ext cx="2720880" cy="2292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0" descr=""/>
          <p:cNvPicPr/>
          <p:nvPr/>
        </p:nvPicPr>
        <p:blipFill>
          <a:blip r:embed="rId4"/>
          <a:stretch/>
        </p:blipFill>
        <p:spPr>
          <a:xfrm>
            <a:off x="5987880" y="333360"/>
            <a:ext cx="2687760" cy="2247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"/>
          <p:cNvPicPr/>
          <p:nvPr/>
        </p:nvPicPr>
        <p:blipFill>
          <a:blip r:embed="rId5"/>
          <a:stretch/>
        </p:blipFill>
        <p:spPr>
          <a:xfrm>
            <a:off x="3313080" y="3340080"/>
            <a:ext cx="2781360" cy="217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6"/>
          <a:stretch/>
        </p:blipFill>
        <p:spPr>
          <a:xfrm>
            <a:off x="6408720" y="3340080"/>
            <a:ext cx="2340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повідь завершено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якую за ува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6840" y="5084280"/>
            <a:ext cx="77151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36720" y="392760"/>
            <a:ext cx="9023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Метою дипломної робот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є розробка математичних моделей  генераторів електричних колива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транзисторних структур з від'ємним опором з підвищеним коефіцієнтом корисної дії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ьністю та розширеним діапазону перебудови часто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Об’єктом дослідже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є процес перетворення енергії джерел постійної напруги в енергі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ичних коливань в генераторних пристроях на основі транзисторних структур з від'ємним оп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електричною перебудовою частоти генер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Предметом дослідже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є статичні і динамічні характеристики активних елементів генератор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ичних коливань на основі транзисторних структур з від'ємним опором з електричною перебудово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астоти генер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-253440" y="2407680"/>
            <a:ext cx="97225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дачі дослідже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робити квазілінійні математичні моделі генераторів на основі транзисторних структур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від'ємним опо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тримати рівняння, які апроксимують статичні ВАХ активних елементів генераторів на основі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анзисторних структур з від'ємним опором з врахуванням фізичних процесів, які в них протікають,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що дасть змогу обрати оптимальні режими їх електричного живлення для підвищення КК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методу фазової площини провести дослідження стійкості роботи розроблених схем генераторів,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значити амплітуду і частоту стаціонарних колива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квазілінійної моделі генератора визначити флуктуації амплітуди і фази генерованих коливань,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що дасть змогу оцінити короткотривалу нестабільність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асимптотичного методу малого параметру розробити математичну нелінійну модель генератора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транзисторної структури з від'ємним опором, визначити режими збудження,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мплітуду і частоту стаціонарних колива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значити нелінійні спотворення форми і нелінійне відхилення частоти генерованих колива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04120" y="5505480"/>
            <a:ext cx="868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Апробація результатів робот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За результатами теоретичних та експериментальних дослідж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втором опубліковано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4 прац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з яких: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у фаховому виданні з переліку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АК Україн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у закордонному виданні з індексуванням 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pus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, 2 тези конферен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G_E_R_F_G"/>
          <p:cNvPicPr/>
          <p:nvPr/>
        </p:nvPicPr>
        <p:blipFill>
          <a:blip r:embed="rId1"/>
          <a:stretch/>
        </p:blipFill>
        <p:spPr>
          <a:xfrm>
            <a:off x="826920" y="1341360"/>
            <a:ext cx="3524400" cy="1800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113840" y="403200"/>
            <a:ext cx="277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74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Генератор 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лектричним регулюванн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частоти генерації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4427640" y="1150920"/>
            <a:ext cx="3967200" cy="199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4577760" y="476280"/>
            <a:ext cx="348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1659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Стабільний діапазон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гармонічних коливан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G_E_K"/>
          <p:cNvPicPr/>
          <p:nvPr/>
        </p:nvPicPr>
        <p:blipFill>
          <a:blip r:embed="rId3"/>
          <a:stretch/>
        </p:blipFill>
        <p:spPr>
          <a:xfrm>
            <a:off x="971640" y="4022640"/>
            <a:ext cx="3392280" cy="2359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044720" y="3229200"/>
            <a:ext cx="297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79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електри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500720" y="3936960"/>
            <a:ext cx="4128840" cy="2300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680000" y="3140280"/>
            <a:ext cx="30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920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Мікроелектрон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електри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68360" y="1192320"/>
            <a:ext cx="4276800" cy="2020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686880" y="470160"/>
            <a:ext cx="296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16587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лектрично керований генерато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936960" cy="227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5292360" y="249480"/>
            <a:ext cx="292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1441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Різнице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гармоні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4041720" cy="1873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757440" y="3356280"/>
            <a:ext cx="297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9209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електри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4427640" y="4238640"/>
            <a:ext cx="4483080" cy="1711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5326560" y="3356280"/>
            <a:ext cx="327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1040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 03 С 3/36. Оптично кер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електри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269080" y="475560"/>
            <a:ext cx="45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вазілінійна модель ГЕК на основі ТС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1116000" y="1197000"/>
          <a:ext cx="292428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29242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4284720" y="981000"/>
            <a:ext cx="4100400" cy="2021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675360" y="2924280"/>
            <a:ext cx="739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1.  Еквівалентна схема ГЕК на основі ТСВО з квазігармонічним генерованим сигналом (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рафік апроксимованої статичної ВАХ ТСВО поліномом 3-го степеня (б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818640" y="379656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івняння апроксимації статичної ВАХ ТСВО поліномом 3-го степе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9"/>
          <p:cNvGraphicFramePr/>
          <p:nvPr/>
        </p:nvGraphicFramePr>
        <p:xfrm>
          <a:off x="2124000" y="4267080"/>
          <a:ext cx="42674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4267080"/>
                    <a:ext cx="4267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0"/>
          <p:cNvSpPr/>
          <p:nvPr/>
        </p:nvSpPr>
        <p:spPr>
          <a:xfrm>
            <a:off x="8244000" y="419508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826920" y="5191200"/>
          <a:ext cx="130500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5191200"/>
                    <a:ext cx="1305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2"/>
          <p:cNvGraphicFramePr/>
          <p:nvPr/>
        </p:nvGraphicFramePr>
        <p:xfrm>
          <a:off x="2411280" y="5157720"/>
          <a:ext cx="2200320" cy="6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5157720"/>
                    <a:ext cx="2200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13"/>
          <p:cNvSpPr/>
          <p:nvPr/>
        </p:nvSpPr>
        <p:spPr>
          <a:xfrm>
            <a:off x="895680" y="46522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араметри апроксимації визначаються з рівня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14"/>
          <p:cNvGraphicFramePr/>
          <p:nvPr/>
        </p:nvGraphicFramePr>
        <p:xfrm>
          <a:off x="4859280" y="5191200"/>
          <a:ext cx="1295280" cy="50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59280" y="5191200"/>
                    <a:ext cx="129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5"/>
          <p:cNvGraphicFramePr/>
          <p:nvPr/>
        </p:nvGraphicFramePr>
        <p:xfrm>
          <a:off x="6330960" y="5157720"/>
          <a:ext cx="2200320" cy="609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30960" y="5157720"/>
                    <a:ext cx="2200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16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815040" y="548280"/>
            <a:ext cx="794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загальнене диференційне рівняння ГЕК на основі ТСВО з квазігармонічним генерованим сигнал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042920" y="1071720"/>
          <a:ext cx="700092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71720"/>
                    <a:ext cx="7000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6"/>
          <p:cNvSpPr/>
          <p:nvPr/>
        </p:nvSpPr>
        <p:spPr>
          <a:xfrm>
            <a:off x="8294760" y="135180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01440" y="2234160"/>
            <a:ext cx="3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47640" y="2276640"/>
          <a:ext cx="657360" cy="23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276640"/>
                    <a:ext cx="6573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9"/>
          <p:cNvSpPr/>
          <p:nvPr/>
        </p:nvSpPr>
        <p:spPr>
          <a:xfrm>
            <a:off x="2627280" y="213300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0"/>
          <p:cNvGraphicFramePr/>
          <p:nvPr/>
        </p:nvGraphicFramePr>
        <p:xfrm>
          <a:off x="3473280" y="2081160"/>
          <a:ext cx="1819440" cy="7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73280" y="2081160"/>
                    <a:ext cx="18194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11"/>
          <p:cNvSpPr/>
          <p:nvPr/>
        </p:nvSpPr>
        <p:spPr>
          <a:xfrm>
            <a:off x="5796000" y="213300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850320" y="2978640"/>
            <a:ext cx="791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мова м'якого режиму самозбудження ГЕК на основі ТСВО (5), рівняння амплітуди (6) і частоти (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стаціонарних коливан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3686400" y="362664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1525680" y="3627360"/>
          <a:ext cx="179064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5680" y="3627360"/>
                    <a:ext cx="1790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5"/>
          <p:cNvGraphicFramePr/>
          <p:nvPr/>
        </p:nvGraphicFramePr>
        <p:xfrm>
          <a:off x="4478400" y="3556080"/>
          <a:ext cx="261936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78400" y="3556080"/>
                    <a:ext cx="2619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6"/>
          <p:cNvSpPr/>
          <p:nvPr/>
        </p:nvSpPr>
        <p:spPr>
          <a:xfrm>
            <a:off x="7431120" y="362664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7"/>
          <p:cNvGraphicFramePr/>
          <p:nvPr/>
        </p:nvGraphicFramePr>
        <p:xfrm>
          <a:off x="3059280" y="4308480"/>
          <a:ext cx="174276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9280" y="4308480"/>
                    <a:ext cx="1742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18"/>
          <p:cNvSpPr/>
          <p:nvPr/>
        </p:nvSpPr>
        <p:spPr>
          <a:xfrm>
            <a:off x="5413320" y="434736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884880" y="4923360"/>
            <a:ext cx="76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Дисперсійні значення флуктуацій амплітуди (8) і фази (9) генерованого сигналу в реальному часі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0"/>
          <p:cNvGraphicFramePr/>
          <p:nvPr/>
        </p:nvGraphicFramePr>
        <p:xfrm>
          <a:off x="1762200" y="5445000"/>
          <a:ext cx="1819080" cy="58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2200" y="5445000"/>
                    <a:ext cx="1819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21"/>
          <p:cNvSpPr/>
          <p:nvPr/>
        </p:nvSpPr>
        <p:spPr>
          <a:xfrm>
            <a:off x="4044960" y="550944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22"/>
          <p:cNvGraphicFramePr/>
          <p:nvPr/>
        </p:nvGraphicFramePr>
        <p:xfrm>
          <a:off x="4859280" y="5487840"/>
          <a:ext cx="141912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8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9280" y="5487840"/>
                    <a:ext cx="1419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23"/>
          <p:cNvSpPr/>
          <p:nvPr/>
        </p:nvSpPr>
        <p:spPr>
          <a:xfrm>
            <a:off x="6782040" y="550944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412920"/>
            <a:ext cx="27288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3348000" y="473040"/>
            <a:ext cx="2816280" cy="2152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227640" y="466560"/>
            <a:ext cx="2654280" cy="2152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402120" y="2624400"/>
            <a:ext cx="84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2. Суміщена ВАХ і фазовий портрет ГЕК на основі ТСВО (а), часові діаграми струму індуктивності (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енерованої напруги (в) при розміщенні робочої точки на початку ділянки від'ємного опор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39640" y="3306600"/>
            <a:ext cx="2684520" cy="2271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3367080" y="3417840"/>
            <a:ext cx="2860560" cy="21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6227640" y="3417840"/>
            <a:ext cx="2670120" cy="2183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402120" y="5505480"/>
            <a:ext cx="84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3. Суміщена ВАХ і фазовий портрет ГЕК на основі ТСВО (а), часові діаграми струму індуктивності (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енерованої напруги (в) при розміщенні робочої точки на кінці ділянки від'ємного опор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95280" y="325440"/>
            <a:ext cx="263988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151080" y="398520"/>
            <a:ext cx="2860920" cy="21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083280" y="325440"/>
            <a:ext cx="2670120" cy="2182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46400" y="2390400"/>
            <a:ext cx="83876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4. Суміщена ВАХ і фазовий портрет ГЕК на основі ТСВО (а), часові діаграми струму індуктивності (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енерованої напруги (в) при розміщенні робочої точки в середній точці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) ділянки від'ємного оп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м'який режим самозбудження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388800" y="3313080"/>
            <a:ext cx="2670480" cy="219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5"/>
          <a:stretch/>
        </p:blipFill>
        <p:spPr>
          <a:xfrm>
            <a:off x="3132000" y="3349800"/>
            <a:ext cx="2890800" cy="216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6"/>
          <a:stretch/>
        </p:blipFill>
        <p:spPr>
          <a:xfrm>
            <a:off x="6084720" y="3349800"/>
            <a:ext cx="2698920" cy="2197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1"/>
          <p:cNvSpPr/>
          <p:nvPr/>
        </p:nvSpPr>
        <p:spPr>
          <a:xfrm>
            <a:off x="454320" y="5437080"/>
            <a:ext cx="83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5. Суміщена ВАХ і фазовий портрет ГЕК на основі ТСВО (а), часові діаграми струму індуктивності (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енерованої напруги (в) при розміщенні робочої точки наприкінці ділянки від'ємного оп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жорсткий режим самозбудження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864828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SC00886"/>
          <p:cNvPicPr/>
          <p:nvPr/>
        </p:nvPicPr>
        <p:blipFill>
          <a:blip r:embed="rId1"/>
          <a:stretch/>
        </p:blipFill>
        <p:spPr>
          <a:xfrm>
            <a:off x="1187280" y="352440"/>
            <a:ext cx="3111840" cy="233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SC00887"/>
          <p:cNvPicPr/>
          <p:nvPr/>
        </p:nvPicPr>
        <p:blipFill>
          <a:blip r:embed="rId2"/>
          <a:stretch/>
        </p:blipFill>
        <p:spPr>
          <a:xfrm>
            <a:off x="5076720" y="352440"/>
            <a:ext cx="3111480" cy="2330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534600" y="2765880"/>
            <a:ext cx="826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6. Фазовий портрет (а) і осцилограма зриву коливань генерованої напруги (б) на початку ділянки 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5"/>
          <p:cNvPicPr/>
          <p:nvPr/>
        </p:nvPicPr>
        <p:blipFill>
          <a:blip r:embed="rId3"/>
          <a:stretch/>
        </p:blipFill>
        <p:spPr>
          <a:xfrm>
            <a:off x="1173240" y="3403440"/>
            <a:ext cx="3111480" cy="233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DSC00880"/>
          <p:cNvPicPr/>
          <p:nvPr/>
        </p:nvPicPr>
        <p:blipFill>
          <a:blip r:embed="rId4"/>
          <a:stretch/>
        </p:blipFill>
        <p:spPr>
          <a:xfrm>
            <a:off x="5076720" y="3429000"/>
            <a:ext cx="3111480" cy="2330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1390680" y="5949000"/>
            <a:ext cx="638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7. Фазові портрети зриву коливань генерованої напруги на кінці ділянки 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22:13:13Z</dcterms:created>
  <dc:creator>User</dc:creator>
  <dc:description/>
  <dc:language>en-US</dc:language>
  <cp:lastModifiedBy>ххх</cp:lastModifiedBy>
  <dcterms:modified xsi:type="dcterms:W3CDTF">2015-06-16T21:10:46Z</dcterms:modified>
  <cp:revision>26</cp:revision>
  <dc:subject/>
  <dc:title>Слайд 1</dc:title>
</cp:coreProperties>
</file>