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C530-867D-4A2B-AFA7-631FBB07C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EF12-6AF1-433A-8112-776D63EE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9941-8204-490A-AD17-1046E364B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9CC4-FFCE-4B6C-B04E-211EA6451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BDEF-9311-430B-82EC-8F2A714A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19ED-9500-43AF-8367-7D1B9334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725F-3B81-4803-B86B-79FF337D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C54D-5C0C-441D-AE82-D41F55D4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6DB9-9DFD-40B7-A474-3F396027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136B-6B39-43B1-B14A-8B2F5D98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4EA4-B57B-4025-B28B-E2451667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53D5-68BA-4871-8228-65F0E9C1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CB8E-F01B-4E17-8951-21AC1BDE4C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8569440" cy="54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Дипломна робота на тему  «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ДІОВИМІРЮВАЛЬНИЙ ПЕРЕТВОРЮВАЧ КОНЦЕНТАЦІЇ ГОРЮЧИХ ГАЗІВ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»</a:t>
            </a:r>
            <a:br>
              <a:rPr sz="2600"/>
            </a:br>
            <a:r>
              <a:rPr b="1" lang="uk-UA" sz="2600" spc="-1" strike="noStrike">
                <a:solidFill>
                  <a:srgbClr val="000000"/>
                </a:solidFill>
                <a:latin typeface="Calibri"/>
              </a:rPr>
              <a:t>ст. гр. РТ-14СП</a:t>
            </a:r>
            <a:br>
              <a:rPr sz="2600"/>
            </a:br>
            <a:r>
              <a:rPr b="1" lang="uk-UA" sz="2600" spc="-1" strike="noStrike">
                <a:solidFill>
                  <a:srgbClr val="000000"/>
                </a:solidFill>
                <a:latin typeface="Calibri"/>
              </a:rPr>
              <a:t>Кушим Олександр Петрович</a:t>
            </a:r>
            <a:br>
              <a:rPr sz="26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Науковий керівник</a:t>
            </a:r>
            <a:br>
              <a:rPr sz="24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октор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технічних наук, професор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Осадчук Олександр Володимирович</a:t>
            </a:r>
            <a:br>
              <a:rPr sz="2400"/>
            </a:br>
            <a:br>
              <a:rPr sz="5000"/>
            </a:br>
            <a:br>
              <a:rPr sz="5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периментальна залежність частоти генерацій від напруги живленн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1638" descr="2БпасFUжt+e"/>
          <p:cNvPicPr/>
          <p:nvPr/>
        </p:nvPicPr>
        <p:blipFill>
          <a:blip r:embed="rId1"/>
          <a:stretch/>
        </p:blipFill>
        <p:spPr>
          <a:xfrm>
            <a:off x="1619280" y="1413000"/>
            <a:ext cx="590544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Теоретична та експериментальна залежність частоти генерації від концентрацій метану при різних напругах живленн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U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1640" descr="2БпасFСt+e"/>
          <p:cNvPicPr/>
          <p:nvPr/>
        </p:nvPicPr>
        <p:blipFill>
          <a:blip r:embed="rId1"/>
          <a:stretch/>
        </p:blipFill>
        <p:spPr>
          <a:xfrm>
            <a:off x="2050920" y="1628640"/>
            <a:ext cx="5473800" cy="49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Експериментальна залежність частоти генерацій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від концентрацій метану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при різних напругах живленн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U1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1646" descr="Cx2bpasUSTmet"/>
          <p:cNvPicPr/>
          <p:nvPr/>
        </p:nvPicPr>
        <p:blipFill>
          <a:blip r:embed="rId1"/>
          <a:stretch/>
        </p:blipFill>
        <p:spPr>
          <a:xfrm>
            <a:off x="1908000" y="1773360"/>
            <a:ext cx="532800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ежність частоти генерацій від концентрації газ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Object 1"/>
          <p:cNvGraphicFramePr/>
          <p:nvPr/>
        </p:nvGraphicFramePr>
        <p:xfrm>
          <a:off x="949320" y="2967120"/>
          <a:ext cx="7605720" cy="185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9320" y="2967120"/>
                    <a:ext cx="7605720" cy="18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ежність чутливості від концентрації газ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1655" descr="Чув 2бак"/>
          <p:cNvPicPr/>
          <p:nvPr/>
        </p:nvPicPr>
        <p:blipFill>
          <a:blip r:embed="rId1"/>
          <a:stretch/>
        </p:blipFill>
        <p:spPr>
          <a:xfrm>
            <a:off x="1547640" y="1960560"/>
            <a:ext cx="640908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ЯКУЮ ЗА УВАГ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51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етою даної роботи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є дослідження радіовимірювальних  перетворювачів  газу на основі двох біполярних транзисторів. 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б’єкт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ом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дослідженн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є процеси формування і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перетворення концентрації газів у частоту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едмет дослідженн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є статичні і динамічні характеристики радіовимірювальних  перетворювачів  газу  на основі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двох біполярних транзисторів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50437"/>
          <p:cNvPicPr/>
          <p:nvPr/>
        </p:nvPicPr>
        <p:blipFill>
          <a:blip r:embed="rId1"/>
          <a:stretch/>
        </p:blipFill>
        <p:spPr>
          <a:xfrm>
            <a:off x="1763640" y="333360"/>
            <a:ext cx="5832720" cy="36878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911520" y="4048200"/>
            <a:ext cx="732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джерело випромінювання; кювет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– світлофільтр; 4 – приймач випромінюва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Схема багатоканального інтерферометричного аналізат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0" y="47782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1 – джерело випромінювання; 2 - плоскопаралельна світлоподіляюча пластина; 3 - 3.m +1оптичні кювети, 3.1 з яких є порівняльною; 4 – відбивач; 5 – комутатор; 6 - об`єктив; 7 – фотоприймач; 8 - датчик положення; 9 - диференціальний підсилювач; 10,11 - пристрій для вибору та зберігання опорного каналу; 12 - диференціальний підсилювач; 13 - аналогово-цифровий перетворювач (АЦП); 14 - постійний запам`ятовуючий пристрій (ПЗП); 15 - цифровий індикат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6" descr="38776"/>
          <p:cNvPicPr/>
          <p:nvPr/>
        </p:nvPicPr>
        <p:blipFill>
          <a:blip r:embed="rId1"/>
          <a:stretch/>
        </p:blipFill>
        <p:spPr>
          <a:xfrm>
            <a:off x="1979640" y="620640"/>
            <a:ext cx="504036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Класифіка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ці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я газових перетворювачі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593" descr="Клас"/>
          <p:cNvPicPr/>
          <p:nvPr/>
        </p:nvPicPr>
        <p:blipFill>
          <a:blip r:embed="rId1"/>
          <a:stretch/>
        </p:blipFill>
        <p:spPr>
          <a:xfrm>
            <a:off x="684360" y="1916280"/>
            <a:ext cx="791208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ична схема перетворювача на основі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х біполярних транзисторі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753" descr="2bпаселектр"/>
          <p:cNvPicPr/>
          <p:nvPr/>
        </p:nvPicPr>
        <p:blipFill>
          <a:blip r:embed="rId1"/>
          <a:stretch/>
        </p:blipFill>
        <p:spPr>
          <a:xfrm>
            <a:off x="1258920" y="2060640"/>
            <a:ext cx="65419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30412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Експериментальна та теоретична ВАХ частотного перетворювача концентрацій газу на основі двох біполярних транзисторі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844" descr="b2pasBAXt+e"/>
          <p:cNvPicPr/>
          <p:nvPr/>
        </p:nvPicPr>
        <p:blipFill>
          <a:blip r:embed="rId1"/>
          <a:stretch/>
        </p:blipFill>
        <p:spPr>
          <a:xfrm>
            <a:off x="1908000" y="1989000"/>
            <a:ext cx="568836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8497800" cy="109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Теоретична та експериментальна залежність активної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складової повного опору від напруги живленн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1633" descr="2БпасRt+e"/>
          <p:cNvPicPr/>
          <p:nvPr/>
        </p:nvPicPr>
        <p:blipFill>
          <a:blip r:embed="rId1"/>
          <a:stretch/>
        </p:blipFill>
        <p:spPr>
          <a:xfrm>
            <a:off x="2124000" y="2133720"/>
            <a:ext cx="5184720" cy="44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6"/>
          <p:cNvSpPr/>
          <p:nvPr/>
        </p:nvSpPr>
        <p:spPr>
          <a:xfrm>
            <a:off x="324000" y="551664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ежність реактивної складової від напруги живлення при різних напругах керуванн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1636" descr="2БпасXt+e"/>
          <p:cNvPicPr/>
          <p:nvPr/>
        </p:nvPicPr>
        <p:blipFill>
          <a:blip r:embed="rId1"/>
          <a:stretch/>
        </p:blipFill>
        <p:spPr>
          <a:xfrm>
            <a:off x="1476360" y="333360"/>
            <a:ext cx="590400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RePack by SPecialiST</cp:lastModifiedBy>
  <dcterms:modified xsi:type="dcterms:W3CDTF">2015-06-15T15:44:09Z</dcterms:modified>
  <cp:revision>71</cp:revision>
  <dc:subject/>
  <dc:title>Радіовимірювальний перетворювач температури на основі реактивних властивостей транзисторних структур</dc:title>
</cp:coreProperties>
</file>