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2812-03F8-43DD-A603-60B338D01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7271-AC4E-4ADD-96E8-0BB72AB87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4B28-138B-487F-8509-87DAC33C3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CC26-3A7D-4953-B8C1-4621786EF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48CD-6753-4805-9C0F-D1EB745B2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791F-E6A5-42B8-8AED-8613032A4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A6DC-AFCE-45DF-91D2-083D706B8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EBFD-8769-4FFB-AA24-6F012A4E6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701F-49DE-4786-894C-44BE9BACD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3214-FEFF-47F2-86BC-7F2655E43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1CD9-3735-4E7E-8B69-6C9018257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B63B-22CE-4A42-AA72-6704A1C99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9660A-7142-44DD-9812-841E9789A0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549360"/>
            <a:ext cx="8569440" cy="54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br>
              <a:rPr sz="5000"/>
            </a:br>
            <a:br>
              <a:rPr sz="5000"/>
            </a:b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Дипломна робота на тему  «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ДІОВИМІРЮВАЛЬНИЙ ПЕРЕТВОРЮВАЧ КОНЦЕНТАЦІЇ ГОРЮЧИХ ГАЗІВ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»</a:t>
            </a:r>
            <a:br>
              <a:rPr sz="2600"/>
            </a:br>
            <a:r>
              <a:rPr b="1" lang="uk-UA" sz="2600" spc="-1" strike="noStrike">
                <a:solidFill>
                  <a:srgbClr val="000000"/>
                </a:solidFill>
                <a:latin typeface="Calibri"/>
              </a:rPr>
              <a:t>ст. гр. РТ-14СП</a:t>
            </a:r>
            <a:br>
              <a:rPr sz="2600"/>
            </a:br>
            <a:r>
              <a:rPr b="1" lang="uk-UA" sz="2600" spc="-1" strike="noStrike">
                <a:solidFill>
                  <a:srgbClr val="000000"/>
                </a:solidFill>
                <a:latin typeface="Calibri"/>
              </a:rPr>
              <a:t>Кушим Олександр Петрович</a:t>
            </a:r>
            <a:br>
              <a:rPr sz="26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Науковий керівник</a:t>
            </a:r>
            <a:br>
              <a:rPr sz="2400"/>
            </a:b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доктор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технічних наук, професор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Осадчук Олександр Володимирович</a:t>
            </a:r>
            <a:br>
              <a:rPr sz="2400"/>
            </a:br>
            <a:br>
              <a:rPr sz="5000"/>
            </a:br>
            <a:br>
              <a:rPr sz="5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спериментальна залежність частоти генерацій від напруги живленн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1638" descr="2БпасFUжt+e"/>
          <p:cNvPicPr/>
          <p:nvPr/>
        </p:nvPicPr>
        <p:blipFill>
          <a:blip r:embed="rId1"/>
          <a:stretch/>
        </p:blipFill>
        <p:spPr>
          <a:xfrm>
            <a:off x="1619280" y="1413000"/>
            <a:ext cx="590544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Теоретична та експериментальна залежність частоти генерації від концентрацій метану при різних напругах живлення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U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1640" descr="2БпасFСt+e"/>
          <p:cNvPicPr/>
          <p:nvPr/>
        </p:nvPicPr>
        <p:blipFill>
          <a:blip r:embed="rId1"/>
          <a:stretch/>
        </p:blipFill>
        <p:spPr>
          <a:xfrm>
            <a:off x="2050920" y="1628640"/>
            <a:ext cx="5473800" cy="49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Експериментальна залежність частоти генерацій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від концентрацій метану 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при різних напругах живлення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U1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1646" descr="Cx2bpasUSTmet"/>
          <p:cNvPicPr/>
          <p:nvPr/>
        </p:nvPicPr>
        <p:blipFill>
          <a:blip r:embed="rId1"/>
          <a:stretch/>
        </p:blipFill>
        <p:spPr>
          <a:xfrm>
            <a:off x="1908000" y="1773360"/>
            <a:ext cx="5328000" cy="46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лежність частоти генерацій від концентрації газу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" name="Object 1"/>
          <p:cNvGraphicFramePr/>
          <p:nvPr/>
        </p:nvGraphicFramePr>
        <p:xfrm>
          <a:off x="949320" y="2967120"/>
          <a:ext cx="7605720" cy="185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9320" y="2967120"/>
                    <a:ext cx="7605720" cy="18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лежність чутливості від концентрації газ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Рисунок 1655" descr="Чув 2бак"/>
          <p:cNvPicPr/>
          <p:nvPr/>
        </p:nvPicPr>
        <p:blipFill>
          <a:blip r:embed="rId1"/>
          <a:stretch/>
        </p:blipFill>
        <p:spPr>
          <a:xfrm>
            <a:off x="1547640" y="1960560"/>
            <a:ext cx="6409080" cy="42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ЯКУЮ ЗА УВАГ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713800" cy="51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етою даної роботи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є дослідження радіовимірювальних  перетворювачів  газу на основі двох біполярних транзисторів. 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Об’єкт</a:t>
            </a: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ом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дослідження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є процеси формування і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перетворення концентрації газів у частоту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редмет дослідження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є статичні і динамічні характеристики радіовимірювальних  перетворювачів  газу  на основі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двох біполярних транзисторів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50437"/>
          <p:cNvPicPr/>
          <p:nvPr/>
        </p:nvPicPr>
        <p:blipFill>
          <a:blip r:embed="rId1"/>
          <a:stretch/>
        </p:blipFill>
        <p:spPr>
          <a:xfrm>
            <a:off x="1763640" y="333360"/>
            <a:ext cx="5832720" cy="368784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4"/>
          <p:cNvSpPr/>
          <p:nvPr/>
        </p:nvSpPr>
        <p:spPr>
          <a:xfrm>
            <a:off x="911520" y="4048200"/>
            <a:ext cx="732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– джерело випромінювання; кювет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– світлофільтр; 4 – приймач випромінюванн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Схема багатоканального інтерферометричного аналізато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0" y="47782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1 – джерело випромінювання; 2 - плоскопаралельна світлоподіляюча пластина; 3 - 3.m +1оптичні кювети, 3.1 з яких є порівняльною; 4 – відбивач; 5 – комутатор; 6 - об`єктив; 7 – фотоприймач; 8 - датчик положення; 9 - диференціальний підсилювач; 10,11 - пристрій для вибору та зберігання опорного каналу; 12 - диференціальний підсилювач; 13 - аналогово-цифровий перетворювач (АЦП); 14 - постійний запам`ятовуючий пристрій (ПЗП); 15 - цифровий індикат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6" descr="38776"/>
          <p:cNvPicPr/>
          <p:nvPr/>
        </p:nvPicPr>
        <p:blipFill>
          <a:blip r:embed="rId1"/>
          <a:stretch/>
        </p:blipFill>
        <p:spPr>
          <a:xfrm>
            <a:off x="1979640" y="620640"/>
            <a:ext cx="5040360" cy="40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Класифіка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ці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я газових перетворювачі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593" descr="Клас"/>
          <p:cNvPicPr/>
          <p:nvPr/>
        </p:nvPicPr>
        <p:blipFill>
          <a:blip r:embed="rId1"/>
          <a:stretch/>
        </p:blipFill>
        <p:spPr>
          <a:xfrm>
            <a:off x="684360" y="1916280"/>
            <a:ext cx="7912080" cy="42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ична схема перетворювача на основі</a:t>
            </a:r>
            <a:br>
              <a:rPr sz="2800"/>
            </a:b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ох біполярних транзисторі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753" descr="2bпаселектр"/>
          <p:cNvPicPr/>
          <p:nvPr/>
        </p:nvPicPr>
        <p:blipFill>
          <a:blip r:embed="rId1"/>
          <a:stretch/>
        </p:blipFill>
        <p:spPr>
          <a:xfrm>
            <a:off x="1258920" y="2060640"/>
            <a:ext cx="654192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68000" y="260280"/>
            <a:ext cx="830412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Експериментальна та теоретична ВАХ частотного перетворювача концентрацій газу на основі двох біполярних транзисторі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844" descr="b2pasBAXt+e"/>
          <p:cNvPicPr/>
          <p:nvPr/>
        </p:nvPicPr>
        <p:blipFill>
          <a:blip r:embed="rId1"/>
          <a:stretch/>
        </p:blipFill>
        <p:spPr>
          <a:xfrm>
            <a:off x="1908000" y="1989000"/>
            <a:ext cx="5688360" cy="45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94920" y="475920"/>
            <a:ext cx="8497800" cy="109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Теоретична та експериментальна залежність активної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складової повного опору від напруги живленн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1633" descr="2БпасRt+e"/>
          <p:cNvPicPr/>
          <p:nvPr/>
        </p:nvPicPr>
        <p:blipFill>
          <a:blip r:embed="rId1"/>
          <a:stretch/>
        </p:blipFill>
        <p:spPr>
          <a:xfrm>
            <a:off x="2124000" y="2133720"/>
            <a:ext cx="5184720" cy="44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6"/>
          <p:cNvSpPr/>
          <p:nvPr/>
        </p:nvSpPr>
        <p:spPr>
          <a:xfrm>
            <a:off x="324000" y="551664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лежність реактивної складової від напруги живлення при різних напругах керуванн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Рисунок 1636" descr="2БпасXt+e"/>
          <p:cNvPicPr/>
          <p:nvPr/>
        </p:nvPicPr>
        <p:blipFill>
          <a:blip r:embed="rId1"/>
          <a:stretch/>
        </p:blipFill>
        <p:spPr>
          <a:xfrm>
            <a:off x="1476360" y="333360"/>
            <a:ext cx="590400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RePack by SPecialiST</cp:lastModifiedBy>
  <dcterms:modified xsi:type="dcterms:W3CDTF">2015-06-15T15:44:09Z</dcterms:modified>
  <cp:revision>71</cp:revision>
  <dc:subject/>
  <dc:title>Радіовимірювальний перетворювач температури на основі реактивних властивостей транзисторних структур</dc:title>
</cp:coreProperties>
</file>