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36A-A57D-44C4-AA83-4CA2E6BC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9DE-C44D-41B9-BF7A-C7BD508A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770-C463-4437-908E-36AAB85C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EFE-8D30-4E75-9D59-4A9A031A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82F1-336E-40F0-A628-2566B6BC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ECC5-41B1-4DFE-8CF7-F03544EF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66A1-220B-468A-AD7C-98C041AC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C4DE-ECF9-48DB-B839-2AFE0958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52B8-2AD0-49C7-8F6E-36EE31B0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C5D5-FACA-4F0C-96C6-605D49E9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0A6E-7E87-4492-9A30-4E6CD619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448-2AF8-447A-B89E-5EE88233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55AC-9A30-4A95-9724-185F1EF4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A3A9-CE0A-4E10-9E06-F5ACEDB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7DEF-2447-423E-AB29-7BC6F632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7F0E-936C-458F-8F87-7EC3296F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C361-525A-414E-A10E-62A27C81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CD6-2EAF-49C4-B8C6-C54384AE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DAC-F033-4403-B772-C29DC389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A9D-4804-407D-9313-B33497A7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FDB-B4F4-4695-91D7-A5A323F4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BA5-A8D4-4BCD-B936-E3EA737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2CA-2BC4-4F72-A35A-7579AF7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4A1-BE59-4584-827F-1495423C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DF29-9273-41BD-B1C1-5BBB2A14E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28B0-8788-42DA-B167-3FF483542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Дипломний проект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На тему: Блок ультразвукової локації для визначення об’єктів на невеликій відстан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533376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Виконав ст. гр. РЗ-14с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Бистрицький Р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Структурна схема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Схема електрична принципова блоку ультразвукової локації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Друкована плата блоку вимірювання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кладальне креслення друкованої плати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кладальне креслення блоку в корпусі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Моделювання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Дякую за увагу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8T09:49:33Z</dcterms:created>
  <dc:creator>Саня</dc:creator>
  <dc:description/>
  <dc:language>en-US</dc:language>
  <cp:lastModifiedBy>Саня</cp:lastModifiedBy>
  <dcterms:modified xsi:type="dcterms:W3CDTF">2015-06-18T10:32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