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474-7757-4913-838E-6F177965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A98-EC94-4639-803E-D6603701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2C8-B5C7-4FB5-A002-B5B10A00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A9B-CFDD-4548-955E-089D526D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D554-C2E6-4A84-90D2-30FC0000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EF1C-FC8A-4744-A0F7-07F03E64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C4A0-1A61-4D5F-97A8-FDDFC68B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AA5F-C67B-47FF-AA28-704EF622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F6C0-2D34-40A2-9FE8-4FE2E1AC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5A0D-2138-4350-9838-DB6A7D50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EB0E-011D-4E1D-AF90-B92539C4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B52-1301-4E27-8E21-442E848B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F86E-8BCA-4A6B-831D-4FB18164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C962-A213-4321-8058-095929A2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0B0F-7827-4654-B265-E760934B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3317-7A5E-4FF1-AE4F-B076CF1E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7EEC-9C8C-41F4-AA0D-B3AE9DF7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90C-BFF5-46DF-A7BF-9C4AB52C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770-F0FB-4A6C-9E3C-0B194664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055-DA45-4506-AF9C-8F2DA511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ED7-E9E3-4DAB-8674-CF126CC4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10B-6F18-44C0-A734-2044F9D3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DF3-06A0-460E-967C-677B5B79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1EF-6A24-4E82-9B59-3E0DCEB6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B630-B75E-402D-9FAA-FC6B2B790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7668-5810-4C41-9546-DF79E571D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Дипломний проект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На тему: Блок ультразвукової локації для визначення об’єктів на невеликій відстан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533376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Times New Roman"/>
              </a:rPr>
              <a:t>Виконав ст. гр. РЗ-14с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Times New Roman"/>
              </a:rPr>
              <a:t>Бистрицький Р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Структурна схема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Схема електрична принципова блоку ультразвукової локації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Друкована плата блоку вимірювання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кладальне креслення друкованої плати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кладальне креслення блоку в корпусі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Моделювання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Дякую за увагу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8T09:49:33Z</dcterms:created>
  <dc:creator>Саня</dc:creator>
  <dc:description/>
  <dc:language>en-US</dc:language>
  <cp:lastModifiedBy>Саня</cp:lastModifiedBy>
  <dcterms:modified xsi:type="dcterms:W3CDTF">2015-06-18T10:32:0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