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D61-6F92-4563-A1AD-88865D72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A94-6EA8-4631-A68A-73824631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35A-88E0-4004-9DFD-7B2F39C1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B39-E217-4168-AA71-9EE6C000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1BA-C4E8-4245-B3C0-6D384F51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090-6B7E-40AE-B1C1-84B60306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3EE-35A8-4376-8031-50988353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0CF-ED87-460F-BEEA-7D602DC9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269-9DA5-4E61-8C41-2FAC4560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47E1-7768-4F75-BCB3-AC7C3DE0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25F2-D8D6-4552-8D56-2E7AC2B1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340-0015-4917-B551-71C439D1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96FF-42A2-49D9-AF2A-C5FCBE54CE5A}" type="datetime">
              <a:rPr b="0" lang="uk-UA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2EC5-C974-4AB0-8845-08057A6E8DCA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9288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МІКРОКОНТРОЛЕРНИЙ ПРИСТРІЙ ПЕРЕВІРКИ МЕРЕЖНИХ  КАБЕЛІВ UT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3071880"/>
            <a:ext cx="64008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дипломна робо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libri"/>
              </a:rPr>
              <a:t>зі спеціальності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7.05090102 –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паратура радіозв’язку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адіомовлення і телебаченн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4643280" y="4563360"/>
            <a:ext cx="403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ерівник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к.т.н., ст. викл. Стец О.С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ив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Гуйван С.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3071880" y="5858280"/>
            <a:ext cx="27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інниця ВНТУ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714240" y="428760"/>
            <a:ext cx="821556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Вінницький національний технічний універс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Факультет радіотехніки, зв'язку та приладобуд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Кафедра телекомунікаційних систем і телебач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126B-8D9F-4249-BC6E-B2B6B6AF71C6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32000" y="765000"/>
            <a:ext cx="6985080" cy="37436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1332000" y="479736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Дослідження роботи схеми в режимі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ross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826920" y="750960"/>
            <a:ext cx="792180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становка завд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Розробити пробник для перевірки мережних кабелів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UTP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TP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FTP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. Пробник повинен дозволя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перевіряти кабель типу „комп’ютер – комп’ютер” для мережі 100 мБіт/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перевіряти кабель типу „комп’ютер – комп’ютер” для мережі 10 мБіт/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перевіряти кабель типу „комп’ютер – концентратор” для мережі 100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мБіт/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перевіряти кабель типу „комп’ютер – концентратор” для мережі   10 мБіт/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виявляти коротке замикання та обрив в кабелі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перевіряти телефонний каб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06F5-D85D-4209-8842-D914D64E6DD8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100160" y="4775040"/>
            <a:ext cx="77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Функціональна схема перевірки кабеля з використанням мікроконтрол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7FB6-83C8-442C-937B-687984ED456B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Объект 2"/>
          <p:cNvGraphicFramePr/>
          <p:nvPr/>
        </p:nvGraphicFramePr>
        <p:xfrm>
          <a:off x="1930320" y="1052640"/>
          <a:ext cx="6045120" cy="33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0320" y="1052640"/>
                    <a:ext cx="6045120" cy="33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DA71-64E8-41BB-A032-49A4DA320A3D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Объект 2"/>
          <p:cNvGraphicFramePr/>
          <p:nvPr/>
        </p:nvGraphicFramePr>
        <p:xfrm>
          <a:off x="1403280" y="765000"/>
          <a:ext cx="659916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765000"/>
                    <a:ext cx="65991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Прямоугольник 3"/>
          <p:cNvSpPr/>
          <p:nvPr/>
        </p:nvSpPr>
        <p:spPr>
          <a:xfrm>
            <a:off x="1763640" y="4869000"/>
            <a:ext cx="648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Функціональна схема кабельного тестера на мікроконтролері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AT89C20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7C68-A15D-4123-8E2C-D82B6CC8A597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1763640" y="59007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Схема пасивної частини кабельного тес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Объект 5"/>
          <p:cNvGraphicFramePr/>
          <p:nvPr/>
        </p:nvGraphicFramePr>
        <p:xfrm>
          <a:off x="2484360" y="623880"/>
          <a:ext cx="45817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623880"/>
                    <a:ext cx="4581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1619280" y="549360"/>
            <a:ext cx="68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Схема пробника для перевірки мережних кабелів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UTP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TP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D9E6-D250-4D17-8421-6F18762805A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1652760" y="887400"/>
            <a:ext cx="620064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468360" y="5959440"/>
            <a:ext cx="43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Алгоритм роботи основної прогр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88C4-1495-4E29-B4BD-39628A5723C4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Объект 2"/>
          <p:cNvGraphicFramePr/>
          <p:nvPr/>
        </p:nvGraphicFramePr>
        <p:xfrm>
          <a:off x="3780000" y="365040"/>
          <a:ext cx="309708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65040"/>
                    <a:ext cx="309708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2195640" y="5065560"/>
            <a:ext cx="484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Дослідження роботи мережного тестера в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Proteus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7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A1E0-223D-4327-B2B8-2923D5A1A551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1">
            <a:grayscl/>
            <a:lum contrast="30000"/>
          </a:blip>
          <a:srcRect l="0" t="0" r="0" b="5206"/>
          <a:stretch/>
        </p:blipFill>
        <p:spPr>
          <a:xfrm>
            <a:off x="1447920" y="523800"/>
            <a:ext cx="69404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233F-819E-460C-8700-CB9D894731EC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"/>
          <p:cNvSpPr/>
          <p:nvPr/>
        </p:nvSpPr>
        <p:spPr>
          <a:xfrm>
            <a:off x="1476360" y="4992840"/>
            <a:ext cx="68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боти схеми в режимі перевірк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h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"/>
          <p:cNvPicPr/>
          <p:nvPr/>
        </p:nvPicPr>
        <p:blipFill>
          <a:blip r:embed="rId1">
            <a:grayscl/>
            <a:lum contrast="30000"/>
          </a:blip>
          <a:stretch/>
        </p:blipFill>
        <p:spPr>
          <a:xfrm>
            <a:off x="1403280" y="836640"/>
            <a:ext cx="712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6:25:00Z</dcterms:created>
  <dc:creator>sergik</dc:creator>
  <dc:description/>
  <dc:language>en-US</dc:language>
  <cp:lastModifiedBy>guivan</cp:lastModifiedBy>
  <dcterms:modified xsi:type="dcterms:W3CDTF">2015-06-18T23:13:09Z</dcterms:modified>
  <cp:revision>29</cp:revision>
  <dc:subject/>
  <dc:title>РОЗРОБКА СИСТЕМИ ЗАХИСТУ приміщення за допомогою кодового замка на основі мікроконтролера AT90S2313</dc:title>
</cp:coreProperties>
</file>