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63B4-FDF2-4208-8AA4-AE0BC899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536-2ADE-44CD-AAE7-C0451070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44E-B1E7-468D-A1F3-6D6C23FB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4B0-E42F-44D6-A606-7F892ED7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8E6-E78D-4DE1-9A80-CC06AEAB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17E1-A4B0-49A6-BF80-ED009041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E628-9D80-406B-9855-82010D42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09D6-384E-4618-9011-2CA905B9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77D8-E490-4183-8BAB-7DDCA10B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CE6-2445-47B6-8ECE-6F295E7A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022-BDE7-401F-818B-95A971CD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A45B-A6A4-497A-94E6-33C3F947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653C-BAE8-4E47-AC90-FE9525D7E23A}" type="datetime">
              <a:rPr b="0" lang="uk-UA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0054-001F-4360-AC7D-44D0B5865056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9288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МІКРОКОНТРОЛЕРНИЙ ПРИСТРІЙ ПЕРЕВІРКИ МЕРЕЖНИХ  КАБЕЛІВ UT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3071880"/>
            <a:ext cx="64008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дипломна робо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libri"/>
              </a:rPr>
              <a:t>зі спеціальності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7.05090102 –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паратура радіозв’язку,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радіомовлення і телебаченн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4643280" y="4563360"/>
            <a:ext cx="403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ерівник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</a:rPr>
              <a:t>к.т.н., ст. викл. Стец О.С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обив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Гуйван С.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3071880" y="5858280"/>
            <a:ext cx="27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інниця ВНТУ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714240" y="428760"/>
            <a:ext cx="821556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Вінницький національний технічний універс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Факультет радіотехніки, зв'язку та приладобуд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Кафедра телекомунікаційних систем і телебач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9DFB-FADA-4BF6-BF36-EBD5BAB2FA44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32000" y="765000"/>
            <a:ext cx="6985080" cy="37436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1332000" y="479736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Дослідження роботи схеми в режимі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ross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826920" y="750960"/>
            <a:ext cx="792180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становка завд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Розробити пробник для перевірки мережних кабелів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UTP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TP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FTP</a:t>
            </a: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. Пробник повинен дозволя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перевіряти кабель типу „комп’ютер – комп’ютер” для мережі 100 мБіт/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перевіряти кабель типу „комп’ютер – комп’ютер” для мережі 10 мБіт/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перевіряти кабель типу „комп’ютер – концентратор” для мережі 100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мБіт/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перевіряти кабель типу „комп’ютер – концентратор” для мережі   10 мБіт/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виявляти коротке замикання та обрив в кабелі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перевіряти телефонний каб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07C2-2E52-49B4-A9EA-3A8E2073E6D1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100160" y="4775040"/>
            <a:ext cx="77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Функціональна схема перевірки кабеля з використанням мікроконтрол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2C28-C4BA-463B-930B-154C3735876B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Объект 2"/>
          <p:cNvGraphicFramePr/>
          <p:nvPr/>
        </p:nvGraphicFramePr>
        <p:xfrm>
          <a:off x="1930320" y="1052640"/>
          <a:ext cx="6045120" cy="33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0320" y="1052640"/>
                    <a:ext cx="6045120" cy="33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CAB3-E770-48A9-9B28-07DAF3CCA797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Объект 2"/>
          <p:cNvGraphicFramePr/>
          <p:nvPr/>
        </p:nvGraphicFramePr>
        <p:xfrm>
          <a:off x="1403280" y="765000"/>
          <a:ext cx="659916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765000"/>
                    <a:ext cx="65991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Прямоугольник 3"/>
          <p:cNvSpPr/>
          <p:nvPr/>
        </p:nvSpPr>
        <p:spPr>
          <a:xfrm>
            <a:off x="1763640" y="4869000"/>
            <a:ext cx="648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Функціональна схема кабельного тестера на мікроконтролері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AT89C20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A69B-AFD7-4D67-9624-7CE15E486EB3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1763640" y="590076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Схема пасивної частини кабельного тес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Объект 5"/>
          <p:cNvGraphicFramePr/>
          <p:nvPr/>
        </p:nvGraphicFramePr>
        <p:xfrm>
          <a:off x="2484360" y="623880"/>
          <a:ext cx="45817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623880"/>
                    <a:ext cx="4581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1619280" y="549360"/>
            <a:ext cx="68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Georgia"/>
              </a:rPr>
              <a:t>Схема пробника для перевірки мережних кабелів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UTP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TP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D595-5274-4025-964F-2E54900CF90D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1652760" y="887400"/>
            <a:ext cx="620064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468360" y="5959440"/>
            <a:ext cx="43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</a:rPr>
              <a:t>Алгоритм роботи основної прогр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8A83-93EB-41C1-BC72-93D82B562999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Объект 2"/>
          <p:cNvGraphicFramePr/>
          <p:nvPr/>
        </p:nvGraphicFramePr>
        <p:xfrm>
          <a:off x="3780000" y="365040"/>
          <a:ext cx="3097080" cy="58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365040"/>
                    <a:ext cx="309708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2195640" y="5065560"/>
            <a:ext cx="484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Дослідження роботи мережного тестера в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Proteus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7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651E-E125-450C-BE62-2CAA209FC33E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"/>
          <p:cNvPicPr/>
          <p:nvPr/>
        </p:nvPicPr>
        <p:blipFill>
          <a:blip r:embed="rId1">
            <a:grayscl/>
            <a:lum contrast="30000"/>
          </a:blip>
          <a:srcRect l="0" t="0" r="0" b="5206"/>
          <a:stretch/>
        </p:blipFill>
        <p:spPr>
          <a:xfrm>
            <a:off x="1447920" y="523800"/>
            <a:ext cx="694044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D818-679E-48EF-AE63-2A9FFFC061AD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"/>
          <p:cNvSpPr/>
          <p:nvPr/>
        </p:nvSpPr>
        <p:spPr>
          <a:xfrm>
            <a:off x="1476360" y="4992840"/>
            <a:ext cx="68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боти схеми в режимі перевірк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h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"/>
          <p:cNvPicPr/>
          <p:nvPr/>
        </p:nvPicPr>
        <p:blipFill>
          <a:blip r:embed="rId1">
            <a:grayscl/>
            <a:lum contrast="30000"/>
          </a:blip>
          <a:stretch/>
        </p:blipFill>
        <p:spPr>
          <a:xfrm>
            <a:off x="1403280" y="836640"/>
            <a:ext cx="7129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6:25:00Z</dcterms:created>
  <dc:creator>sergik</dc:creator>
  <dc:description/>
  <dc:language>en-US</dc:language>
  <cp:lastModifiedBy>guivan</cp:lastModifiedBy>
  <dcterms:modified xsi:type="dcterms:W3CDTF">2015-06-18T23:13:09Z</dcterms:modified>
  <cp:revision>29</cp:revision>
  <dc:subject/>
  <dc:title>РОЗРОБКА СИСТЕМИ ЗАХИСТУ приміщення за допомогою кодового замка на основі мікроконтролера AT90S2313</dc:title>
</cp:coreProperties>
</file>