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313-718A-4CDB-9CEF-66749105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BAA-5CF1-4342-A18C-33B4659A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19C-3EAF-4B85-9EEA-6A092B01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FF7-B43D-417F-9240-03B68F18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A34-4664-4084-BAD8-6BE1AFCD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532-FB32-4BD9-B460-25610214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F11-C114-4AEE-95AD-1CF8281A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FE2-1583-4291-A565-A73BAE33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704-65D4-4E79-8049-E5AAE478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0FD-53D0-4C58-A37E-EC183501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26C-F483-461B-9CB3-04F3809B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261-4C94-4A54-AB94-782DD49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2C06-7B68-4E48-98D8-D3315357120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A75E-8A1F-443B-98DF-6AFC7F1D892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6D32-30B8-4156-960D-DA928153620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ТАТИЧНА ОПЕРАТИВНА ПАМ’ЯТЬ ДЛЯ МОБІЛЬНИХ ПРИСТРОЇВ ЗВ’ЯЗ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84360" y="4149720"/>
            <a:ext cx="80643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. гр. РЗ-14сп з/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цов В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к.т.н., доц. каф. ТКСТ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ць О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911E-1CCF-4A91-9C59-6482D102AA28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123840" y="195120"/>
            <a:ext cx="889632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30D4-45C2-4A91-87D4-B0BA1E5377F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F3D0-B7A4-4809-A0E5-E7DA717F5117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55DE-36E6-4514-816B-25D5F6404E7A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0018-2EF5-48A0-959A-BE1792E4A705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BDB8-B36C-4B12-A0C2-B9268BF396A6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5B9A-54E3-41EC-856A-2B5383D2CD3E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42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ttp://upload.wikimedia.org/wikipedia/commons/1/15/Hyundai_RAM_HY6116AP-10.jpg"/>
          <p:cNvPicPr/>
          <p:nvPr/>
        </p:nvPicPr>
        <p:blipFill>
          <a:blip r:embed="rId1"/>
          <a:stretch/>
        </p:blipFill>
        <p:spPr>
          <a:xfrm>
            <a:off x="3040200" y="2567160"/>
            <a:ext cx="3371760" cy="202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0:19:37Z</dcterms:created>
  <dc:creator>Admin</dc:creator>
  <dc:description/>
  <dc:language>en-US</dc:language>
  <cp:lastModifiedBy>Слободян</cp:lastModifiedBy>
  <dcterms:modified xsi:type="dcterms:W3CDTF">2015-06-11T21:29:50Z</dcterms:modified>
  <cp:revision>67</cp:revision>
  <dc:subject/>
  <dc:title>Бакалаврська дипломна робота  на тему:</dc:title>
</cp:coreProperties>
</file>