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F3C1-734E-430B-B4C5-4FE28A41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ECD2-D8E6-4854-85A8-F188F84C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558-05D1-4F29-804D-1B47F869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76C-FE06-4071-A104-60A2834D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92A-87F2-43EB-A905-F9638393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680-22A3-4873-A87E-228FAD52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224-C2C6-409B-B33D-254D7CF4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0289-D844-429A-9FFF-0CC9868E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64AD-4F80-4C67-AA76-37D5E24E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568-98D4-4429-B0A9-DBAD0C2C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5C4E-C39B-4C09-B010-91791051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69E-EB07-4A8C-B3CF-B12D9D81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02A1-DA09-45E4-8AF2-B8F79E57861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2C19-71F6-4F7E-81C3-EC54BBF57FB0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0380-6B26-48D4-8FC0-DD4129FE6B44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ний проект 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920" y="220500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ТАТИЧНА ОПЕРАТИВНА ПАМ’ЯТЬ ДЛЯ МОБІЛЬНИХ ПРИСТРОЇВ ЗВ’ЯЗ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684360" y="4149720"/>
            <a:ext cx="806436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в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. гр. РЗ-14сп з/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цов В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: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к.т.н., доц. каф. ТКСТ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ць О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0DBF-4DC9-4BC5-84DC-0B536E009130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123840" y="195120"/>
            <a:ext cx="889632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D3B4-C65B-4F0A-82AC-D05EC45A753F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201600"/>
            <a:ext cx="91440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876B-0E63-4810-9DAA-0D4838E7816C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E64A-3FA0-4790-9BAE-8DB5EBFFD967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223920"/>
            <a:ext cx="91440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9670-6219-4E43-AA7B-423B1D2E6411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233280"/>
            <a:ext cx="914400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C871-235A-4EBA-9662-E71E2FF6D69B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B181-AF39-4F6E-A5F3-1260C3C22F7F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42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http://upload.wikimedia.org/wikipedia/commons/1/15/Hyundai_RAM_HY6116AP-10.jpg"/>
          <p:cNvPicPr/>
          <p:nvPr/>
        </p:nvPicPr>
        <p:blipFill>
          <a:blip r:embed="rId1"/>
          <a:stretch/>
        </p:blipFill>
        <p:spPr>
          <a:xfrm>
            <a:off x="3040200" y="2567160"/>
            <a:ext cx="3371760" cy="2028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0:19:37Z</dcterms:created>
  <dc:creator>Admin</dc:creator>
  <dc:description/>
  <dc:language>en-US</dc:language>
  <cp:lastModifiedBy>Слободян</cp:lastModifiedBy>
  <dcterms:modified xsi:type="dcterms:W3CDTF">2015-06-11T21:29:50Z</dcterms:modified>
  <cp:revision>67</cp:revision>
  <dc:subject/>
  <dc:title>Бакалаврська дипломна робота  на тему:</dc:title>
</cp:coreProperties>
</file>