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DE5-678A-4A06-A9DC-254128CD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05B-1916-46A4-AB85-A8143760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1E9-B8D5-4EDA-A846-01C0D6E6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577-AFDC-4F05-A04B-84F5B274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949-B79C-43E3-9FC4-0D28EDB4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03C-5F05-4E72-BFFB-DDED2A6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1A8-8FD1-44D9-82C7-C088CC2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28C-066A-48F1-94E4-C51CBEE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48E-4077-4D3A-BA71-54BAB696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F1A-C34F-4C39-855A-1F49E47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A94-22F3-4946-8E09-A69D35E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B0A-CD3A-4270-A861-52C01BE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3EB6-208A-4147-820F-9493CA007B4C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14240" y="500040"/>
            <a:ext cx="77155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КОНСТРУКЦІЇ ПРИСТРОЮ ДЛЯ ШТУЧНОГО ДИХ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000760" y="39290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ла ст. гр. МА-14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іна П. 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асис. каф. ПМБА, к.т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ішин С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2920" y="239040"/>
            <a:ext cx="877896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42200" y="357120"/>
            <a:ext cx="8761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42920" y="287280"/>
            <a:ext cx="88088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2280" y="35712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19160" y="282600"/>
            <a:ext cx="881064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42920" y="216000"/>
            <a:ext cx="89056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85880" y="262728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15:21:20Z</dcterms:created>
  <dc:creator>Natali</dc:creator>
  <dc:description/>
  <dc:language>en-US</dc:language>
  <cp:lastModifiedBy>Natali</cp:lastModifiedBy>
  <dcterms:modified xsi:type="dcterms:W3CDTF">2015-06-15T16:59:04Z</dcterms:modified>
  <cp:revision>10</cp:revision>
  <dc:subject/>
  <dc:title>Слайд 1</dc:title>
</cp:coreProperties>
</file>