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FEA-A89C-46D2-B0B8-D6F3B991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E20-E9EE-4294-BDCC-3DAE54C3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7D7-2B0B-4E27-91BF-6839F36B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FCA-C48A-487C-A140-41DCC333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697-F208-4047-AD73-D68CCC7B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B31-252A-4F1B-9937-08340B6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44B-2999-4B54-8EF2-85E6FC9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4BF-3863-4F23-9CE9-24B53C3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C0C-D0DF-4821-9C00-F0B8F76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B91-DCF3-475E-8741-02D686BC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8AA-1FFA-4C5E-AA50-C2517B4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DE2-E51A-4D99-9F08-19F488CF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2F45-1A30-49A4-A8CB-61EB7D939D9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14240" y="500040"/>
            <a:ext cx="77155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КОНСТРУКЦІЇ ПРИСТРОЮ ДЛЯ ШТУЧНОГО ДИХ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000760" y="39290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ла ст. гр. МА-14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іна П. 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асис. каф. ПМБА, к.т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ішин С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2920" y="239040"/>
            <a:ext cx="87789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42200" y="357120"/>
            <a:ext cx="8761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42920" y="287280"/>
            <a:ext cx="88088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2280" y="357120"/>
            <a:ext cx="883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19160" y="282600"/>
            <a:ext cx="881064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216000"/>
            <a:ext cx="89056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85880" y="262728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15:21:20Z</dcterms:created>
  <dc:creator>Natali</dc:creator>
  <dc:description/>
  <dc:language>en-US</dc:language>
  <cp:lastModifiedBy>Natali</cp:lastModifiedBy>
  <dcterms:modified xsi:type="dcterms:W3CDTF">2015-06-15T16:59:04Z</dcterms:modified>
  <cp:revision>10</cp:revision>
  <dc:subject/>
  <dc:title>Слайд 1</dc:title>
</cp:coreProperties>
</file>