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3A8-D903-4535-8B19-D99C7A58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95B-FDDB-4D00-A722-75D36F60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5407D-AF7B-4C03-9EE5-5F0691C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3E9BE-FB3F-4722-BB5D-6C515EE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D9E1B-1B70-4D56-A854-22DA1F6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ECEAB-CC71-4207-BF2F-1085A38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72497-5AD4-4D1B-A13C-77CE213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DE013-951B-45D2-BDFC-66A3A252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B1B43-E8F4-4B78-A124-7E006230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F7B89-30D3-4C9C-8567-04291898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25AF7-B675-4336-8211-0D8DB3B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8BA2E-8B03-4CA9-BD42-1CEEB592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423-CA4D-4A10-A3F8-385447AC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EFF8-C9A7-492C-8FE1-F9A211C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4DF3-C435-4270-A778-36EF821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F609-5B1B-4158-87F0-857D854D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3B03-8782-41A2-851E-1AFC72E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ABDAC-E2EA-4BEF-B9E5-7472CE3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87010-62C7-4C54-9D2B-BC7D5B0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E1C91-B0A2-492F-804C-8CA52EF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A34D1-5CCE-46DE-90A9-76F2BF3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6972E-CC49-49BD-AF5B-26BC71D9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E209-A202-4FD1-B759-430D019A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09E-72BB-4DE6-94CA-C98F9509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E8897-D7AD-40BA-A044-995168AF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8180F-E52C-425A-AC15-8F61AA5E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4816A-0BCA-40BF-B06D-C6374A4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5698A-ADDA-49CA-B5D7-E1DAFCE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2EB9C-0A28-472E-908E-91063E90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294C-0389-461D-B0BD-B614BE3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FC2F4-0437-4A5A-8B41-4BCCDED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3B91A-A956-41A2-872A-114DAEA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A731B-B334-4014-AE1B-2FB85DD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2DC4-BFED-4E60-ACE7-C8B9243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2CC-CBEE-4F66-B5C4-DB0B1128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5B18D-CE65-4640-A074-883990CA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DB86C-71D9-4955-A6FF-AAF6E78D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E57C3-157A-4999-AE0B-5FDE4F59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84C38-3C8A-43DF-BC89-8A36096A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55342-3201-4F19-B02F-C919CE1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F2291-387B-4B97-9182-12E43C2E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1EBD6-2C6B-4B78-9A90-30D5492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660C6-2D34-4FED-AC07-4475303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5C845-524C-4232-81BF-FD3C063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31561-C3EC-4CF8-AE3D-A39408E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B0D9-3E17-4827-89A1-FE3FA005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69E0E-2EEC-48EB-956C-C36A6CD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B9F5A-A1EA-4079-8D23-CF30A631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5E4B1-B435-48CA-89A7-A2227557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676FE-A427-4EFB-AFEF-796DDA19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019F1-94AA-413B-AFC5-609476D9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AEB90-EEFE-4E84-BA2D-CD3A7469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B9234-4079-4136-80D5-50AA31CA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A017A-6F08-4DC0-A60D-10302A82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51EDC-5206-4DDD-BC8C-00CCC91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295F0-FE08-41B9-8443-54999FE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BF9-C77A-4A39-8AE4-8BFA1BC4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05EFF-032C-4DA7-8870-E5E0BFF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21EEE-FA9D-45FD-BF06-F1BE234A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4B94A-D233-4A33-B0E2-7B8BA36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1C1B4-9948-4DAA-A829-67B0CEC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5BD76-37D0-49AA-A883-067553CD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4B7AF-D03B-4594-B67C-ADABF458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53A8D-3CE3-4198-B9B4-D18EEA44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66A8-4151-477A-8C60-CA4EFC2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6A1-4DEC-47D1-A81A-8D007F0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1F73-D0FD-4A2C-AC22-701CC48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BF1-2B17-402F-B4FB-FD09BA6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BED-50A0-4018-A724-546D0E13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1C6E-33D8-43F2-B088-9216918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1760-8196-4F2E-880F-B278581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59E6-320F-4C16-B78D-92EE9D1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F009-D98C-43D8-9924-DF6875CE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9C1C-1C18-4DBF-BA8F-056831FB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3FC9-AF9D-45EE-AD05-F55413CD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13F6-F235-4AAE-A8D7-39BC62D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CD55-4BDC-4C0E-BB73-402D236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2437-DFB9-4C75-B2DD-75FA61DA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44B1-6CF9-4AFA-A69F-E917A10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7A7-0571-47D3-A63C-323E6E9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F3AB-D308-4803-AE41-DF6230C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2619-2635-433E-9EC0-5C788660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AEF7-A8B0-472E-9E1C-A1FD206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50C6F-06E3-46D1-9037-D64CAC2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71D1-88F0-4344-BD49-52CFC025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35BE-169C-435D-B364-2FD87459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4C73-1953-4185-8CFB-D7CAD2A0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46BA-F621-493C-B6A7-0E15BBBA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9EC1-B033-4010-BABE-F2A6988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DDF6-A258-4FA4-BBC5-DA72067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1B0-434C-4B5C-9674-72999C59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14E4-ABC5-45E2-AD9B-5BFE6C5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178C-9F15-44A4-BC8E-7A7ED2C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565D-09D9-4521-A6C7-F128BCA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6952-56B9-41AD-9B37-ABB7899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441F-61D5-47FE-9D37-E5C8BF4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9E019-E043-4684-9571-57123FB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646A-8804-4547-B14D-1EDA7502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EAF5-462A-4633-9656-89A32230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A08F-7727-4E0D-915C-242ADDE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35B7-7C1F-4427-80E4-6B3FA4EF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AF2-BB79-4595-B6A5-B018AE3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A597-9BE0-4E6A-9F49-62EADF0F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8E40-E483-4A4F-BF39-E91FC769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68C65-80D9-49EB-AD71-92F8829C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1E3A-9D54-4330-874B-D2D47DC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3CA7-BD1F-4713-AED7-F82AE0AF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8779-C50F-4118-98B0-2397D88A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C210-F35B-4AA4-9AE8-B1721DC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4948-BBC1-4CC1-A1D2-BF0F95C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4EFA-A9C5-4591-8794-E2BB263A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1A63-5679-4D6C-9D96-4D11054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EB7-15FE-48BA-A8F3-4F75CA51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FE47-D4F5-431E-9FEF-8FB2B72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12CD-865A-4F61-B695-DCE5248E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3293B-1891-40A0-AFC5-3002D75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48F0-F0E1-403A-ACEC-ABBAF445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7A12-F053-41E8-A397-335522B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E52F-4F5F-4BC8-AD95-152AC61C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CD78-3B5B-489D-8847-900076AF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AC5B-F686-43D0-9963-F6F8889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9659-D545-469D-8554-F4C426B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E3289-804B-4339-A79F-62D30C8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40E-219D-45FA-BE78-9C180B1B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0AA4-4F76-4B88-B07A-14B219A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0E4DB-7F50-41E4-B66A-43C7663D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65556-FFC3-49BF-8DD6-4A983F6D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DE89-1D5D-4F53-B2A3-E52A2D66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8A25-94E2-4AF8-B273-77D9D2BE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CB49-953D-4B52-B381-19716FD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F464B-4FC0-453D-891C-51E9441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20C4E-B30C-439D-A251-AA2573FA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13364-F506-4521-8B76-27900A1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120C-192D-47A7-8434-2A2357A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2A8-E020-41B1-B20A-E52C6AC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DD3AA-D63B-462D-9A06-6FFBEF0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BAEB-898F-4100-93E4-B405D53F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508F-B104-4475-840F-84ED0C36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A011-DB39-4E4F-854F-F0FE7BF7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D376-94F1-4353-930F-B6D3613B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A9E15-B933-4A8D-AF19-5DBF852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D9A3-882D-41BD-A252-EBBDE0DF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5DCAD-7287-40FF-BC52-24A0CA3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E1E0-D483-437B-ACFF-A161FF0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6C60-08F1-4119-AF26-F896D481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A76-B30E-46E5-811E-09B30F8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4D63-A886-40AD-B3A8-63E8401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B08A2-E07D-411E-9303-92FE529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720A3-381F-4D30-B4A7-5E9FD33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11F82-86B3-4035-9316-5B95F3C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ACA9-4582-4D5E-B04A-20F1ED96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492C-4244-494D-B2A3-1B1474CA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0CFB-C350-44B0-805A-91AA2D33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41AB4-53FA-45D9-A985-70133A28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2327-975F-4BE0-9084-475F026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6887-20D3-40E3-B549-17F06F50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7C4-5447-4A95-97A6-F6235F8A4C9A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82C0-A6A8-4F63-9964-656694B9CEFC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B8B-0E15-49BA-B2DA-DD3E11BA40D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CC4-5B36-4E6E-AB2B-F20CF2FF259E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186-7B6E-4B96-9A01-E1BD29ACA558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6894-D52A-44B6-81AF-CC71A3FA06DF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A5F-D423-4A98-B95D-EA8C5A8256C3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7958-A706-40E4-8F62-9891822FF2F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0AF-A942-4572-8F4C-66B2F48A9FD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0A0-0CEE-4FD1-B904-EBFA633D4EB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2980-77E5-4033-98A5-EF888B8963B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28C-6F32-491D-81FC-26055548ECC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9064-EC46-4C3E-A571-97AF8E93F49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357120" y="107964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3366"/>
                </a:solidFill>
                <a:uFillTx/>
                <a:latin typeface="Arial"/>
              </a:rPr>
              <a:t>«Розробка конструкції приладу для електроенцефалограми»</a:t>
            </a: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5479200" y="400860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озробив ст. гр. МА-14с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аламарчук М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398840" y="5375880"/>
            <a:ext cx="4059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Керівник дипломного проек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.т.н., доцент Коваль Л.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147600"/>
          <a:ext cx="8929800" cy="64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47600"/>
                    <a:ext cx="89298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5" name="Object 5"/>
          <p:cNvGraphicFramePr/>
          <p:nvPr/>
        </p:nvGraphicFramePr>
        <p:xfrm>
          <a:off x="0" y="214200"/>
          <a:ext cx="9272520" cy="63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2725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8" name="Object 1"/>
          <p:cNvGraphicFramePr/>
          <p:nvPr/>
        </p:nvGraphicFramePr>
        <p:xfrm>
          <a:off x="0" y="214200"/>
          <a:ext cx="9371160" cy="642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37116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1" name="Object 1"/>
          <p:cNvGraphicFramePr/>
          <p:nvPr/>
        </p:nvGraphicFramePr>
        <p:xfrm>
          <a:off x="0" y="142920"/>
          <a:ext cx="9371160" cy="64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920"/>
                    <a:ext cx="937116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4" name="Object 1"/>
          <p:cNvGraphicFramePr/>
          <p:nvPr/>
        </p:nvGraphicFramePr>
        <p:xfrm>
          <a:off x="0" y="142920"/>
          <a:ext cx="9358200" cy="64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920"/>
                    <a:ext cx="935820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01600" y="214200"/>
          <a:ext cx="88711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214200"/>
                    <a:ext cx="8871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38:35Z</dcterms:created>
  <dc:creator>sky</dc:creator>
  <dc:description/>
  <dc:language>en-US</dc:language>
  <cp:lastModifiedBy>sky</cp:lastModifiedBy>
  <dcterms:modified xsi:type="dcterms:W3CDTF">2015-06-15T13:51:47Z</dcterms:modified>
  <cp:revision>18</cp:revision>
  <dc:subject/>
  <dc:title>Слайд 1</dc:title>
</cp:coreProperties>
</file>