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43E-FA43-4E67-A3EF-AA345344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099-EA38-40BF-90AD-06ADB74C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A15A-295D-458A-ABB2-50B51E1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F68FA-B485-4CB4-A951-F0578E3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66E0F-E7E5-475A-AB9D-8E8058D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30A68-DA3F-44C8-BEE4-94A358C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E242-BBBD-44C2-BEF2-B34865D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DFE06-E218-4C46-848F-0A31209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39AA-3B7B-4E2E-879D-82EF37C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D3522-DAD9-4C7E-AB53-BDFFD244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0859F-CA87-4279-B34A-35192B06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C6278-73A6-4204-B0BE-C03C0EE8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791-4BD6-4996-926D-E5538FB4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418E2-DD0D-4C3C-A074-718741E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4959A-D54C-4C73-9337-60DAE843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D63C5-D5C8-47CF-ABC5-08CEEAF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2799C-975A-4900-8C54-FB8B4285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41764-EBA3-421B-98AD-CB52C30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C9064-4DB9-4E61-935E-6BC334B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7AF6A-B427-4198-8AA8-44F7B3E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0B4E0-D2A0-427E-B901-65D01C78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6E004-C030-4F7F-8E79-E609B68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B5974-2EDF-43E7-B6F8-0A104F40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D19-D046-4668-962D-FE9A11BA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A0DB2-E243-49AB-97A3-D331FF7D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F23A0-A4D2-4036-B7F1-792D1660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47B96-2D7D-4B70-A228-D4C04D0C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C855F-DD94-4168-9048-5E74C1C6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A1C4-2FB7-4F9E-8EF1-D0D4E4FA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C7506-36CB-4E70-B78D-91A9E96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FEE58-B3FC-4787-9424-D0D6BBB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484C5-BA84-4EEC-AFF7-6FEB62C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BE51B-C8F6-417F-9042-410CB74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3AF48-3C96-49F7-B406-0C4A4004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41B-7881-4A3C-9022-3EEBC42D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5206D-46D4-4255-8C44-6D16B0C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1AE24-D0DE-4F91-9873-64C117D0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72F7-5C4E-491B-ABFC-260A728F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2104-A0A0-402E-B0E8-12101EF1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817B2-351C-4C03-828A-95F8B3C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8B8E0-23F9-4DF4-96B9-3ACF693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02BB1-7716-4356-8AC7-58EB09B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5C250-6FA0-4F42-B137-B787AE37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BB3D4-278B-416F-95E4-229C256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05462-1A87-41B5-AC2F-E1E933C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081-D6D4-441E-B12D-5BA970B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6BE11-0524-452B-842A-5AD3F698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0F5AF-E0D8-41C6-9210-E39FB78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0E473-70B5-44E2-A045-F3E75B56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7D148-EB86-4FC4-9725-FAC1EEDF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4C7D3-0258-4A8A-BC09-2AA318BC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D8B2A-32DB-419B-80FF-32B88C10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ADA75-7A29-46E8-931D-D2AE0F0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1F1FD-78EB-4AF1-AE93-A0190A6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FB2AC-61EE-490B-A30A-939563A7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1A36A-7E98-42DF-A64C-96D33522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8D4-7360-4B09-AE34-E67DD9FD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60750-F903-4AA8-960A-CDBB78B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9E702-DAC6-4B4B-AAD9-BD5752D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CBC0D-242B-497D-B036-A7DA0EA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86A03-6D6A-48DB-9388-3517577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C0648-6859-4A7F-8122-E72AAEF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14BEB-E7B2-41B8-97C2-4A89520A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FF8EF-946B-4248-A83C-D604252B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196E-D14F-49BA-B4F7-B5FBE07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032-2301-4F40-9EE6-2E58BFD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8154-C55C-4EA0-8518-BBE18D8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FD61-3D36-47E7-B25B-7DDAF27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198-4D33-4057-B590-3DD806AF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6633-2BD4-4406-B466-0015D1E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E6B1-BA93-4033-A969-6FD2473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8253-610D-44A1-8882-0FC96EBB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99A8-AAF9-4C53-9CE4-FAAAC7C7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94A-6CD8-4AFE-9CCC-3BCC7477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2F42-D5BE-45C4-906C-FD3A7C54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10A9-CF20-4CF8-879B-A2CF71B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AAB8-9C61-4D6F-A788-5CC15951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C787-8F29-4627-A2BF-12D60DF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C776-DD81-47EB-AAC0-7AF5DACB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8A6-99A1-476E-BBC0-77C85E91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D610-EC1E-4D85-83F8-1B48B56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D4F5-28F4-4D08-9F29-15D18C97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A01F-DE20-4051-988E-B558797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D72B-BB91-4A66-9BD6-DAFAFB67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6155-7A76-4277-A69A-05653CA1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8C61-6390-4E28-8EA2-29C9C2D3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A226-3CEE-4CD6-831A-45763366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4487-456F-463F-AFE9-A0F68B9B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828E2-085A-4586-BC46-C9EB4003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478C-0A85-49C2-88D7-5DEDD5B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4EE-6BAD-4BBF-9CE0-FB7E1213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5E73-22BC-401E-894D-EFD18CD3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6CFEF-929C-452B-BCCE-849FC1EC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43E1-EA57-47D4-AF36-2F258F9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7ED0-CE28-4EF8-833A-6384A25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9550-C4C2-45A1-B5FE-89B41FF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2C06-E173-48D7-B4F9-18CB581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7AE7-9EE9-4562-9246-C64CA00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0B934-171F-4871-B0FA-1AC3DFF2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016C-A97A-4CE2-8593-C861C683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22DC-D92D-45B5-AD7C-E6C87305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160-4948-4509-A4BB-E9E786DD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C4B9-6375-4CC0-A121-1D5D824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4902-A524-4575-B9F5-8BD9BB7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3A9F-E949-415B-AF38-E9D28287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EAB7-D95E-4626-9D4E-B701628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CFF5-B234-47E4-A085-297B5A9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7308-056F-4DFC-B7D5-19BBA8B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87A0-2B2D-487A-9EAE-24D855B7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A0D43-6487-49FA-9298-58B3A4C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66AA-AC28-4D73-911E-2D7A9DBD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75D31-D4C9-4E8A-AD93-A16708F4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1A2-0A5D-41B6-94EA-D68D615A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E6F83-2039-472F-A1A7-2F21AE8D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FA2C2-01B1-416E-8499-724DCA43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6988-6883-45D3-985B-DC6C6B9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081E-ECBD-4EBE-AFDD-8A127C55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FD4F-3DC5-4877-9C38-6FC2E5B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FDFED-918A-4689-BA5D-9265DFA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F53DA-7A61-4377-B689-E96B2A7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C6317-32B3-44D1-BD8A-E43E422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1676-60FD-4DCD-8F4E-D7FDF40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FB0E8-A0BD-4855-9B91-626B7A6D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2AC-3670-44A1-A46B-5B3338C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E051-D093-4CC5-B7E7-C2039767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D354F-42DD-4E3D-A0ED-2CA50846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6854-BF59-435B-847E-9E54D225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1EE00-EB48-434F-9237-AE2308E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70837-4E4B-4E3D-8D66-E5ADB773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38A3-2799-439B-929A-A4F93E8E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A047-FB3F-4F26-8124-47C33987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D6CA8-0489-4715-9246-1928759D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4BE99-5918-4CEF-BED9-75AAB343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D7D0-F38D-479B-B8E2-DC0002C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573-E24B-407F-8CE9-649D8F63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3E31-53AB-4E0D-B31D-6713B8FE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54300-95EA-4DC7-AED8-AD01FCA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8180-F3E0-4B88-A0D1-33B9F506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BD14F-0E89-4655-98C1-40F88291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A2C69-812E-43D6-B41D-BF534522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6E882-DFF6-441C-8B46-D98F4B97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BEBAB-9CF0-4FDD-8FF4-2CC2A92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C18A8-3E73-40AC-BFE4-FAFDECB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B122-814B-4070-91BA-18380B9A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5056F-C54D-4E5A-B947-244AC52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F0B-1039-433B-8013-0EB7D3E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D845-071F-4362-98FC-DC6188AF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EA6E9-D28A-4028-9192-3596744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8C2C-58B5-4DBC-9E8E-8BF9E588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922A7-BA9F-4802-B500-4628D95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B294-195E-4497-89D4-5DFAEAD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4288D-B71F-4E49-8EFC-EF5A2946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0527-1E1C-488F-862C-72D18F10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B382D-9BC3-4696-B739-3100643E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1D1CD-686C-4132-B724-474A861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DDD3D-032A-4E62-8576-63415671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84D7-CC28-4867-ADF0-0D296E2A39F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E9D-1B4B-4B1B-82FD-8B900E06FE36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FFD-A0BE-4865-9C32-47DF6580895B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33CE-F2E7-4833-9673-5538C601701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46E-DBB5-44FC-A9EF-A1EEC4FB1E85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9E8-36A3-4C7B-8F3A-4FCE8B8A35EA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BCC6-7BFC-4CE5-8D66-2DD193FEEF5B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0D6A-D0D1-423F-8F4A-0BD1892BBB0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613E-C846-4C55-895E-BC928A7993D2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8FF-8361-4536-AB23-8AE2AB129F5B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9C7-1620-4D52-AB7D-1F98748AF652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FAE-DEFA-4C35-A776-2B3ACD6CF402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CA5-BF56-4B39-929E-0521FC4CA8E7}" type="slidenum"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357120" y="107964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3366"/>
                </a:solidFill>
                <a:uFillTx/>
                <a:latin typeface="Arial"/>
              </a:rPr>
              <a:t>«Розробка конструкції приладу для електроенцефалограми»</a:t>
            </a: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5479200" y="400860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озробив ст. гр. МА-14с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аламарчук М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398840" y="5375880"/>
            <a:ext cx="4059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Керівник дипломного проект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.т.н., доцент Коваль Л.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71280" y="147600"/>
          <a:ext cx="8929800" cy="64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47600"/>
                    <a:ext cx="89298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5" name="Object 5"/>
          <p:cNvGraphicFramePr/>
          <p:nvPr/>
        </p:nvGraphicFramePr>
        <p:xfrm>
          <a:off x="0" y="214200"/>
          <a:ext cx="9272520" cy="63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200"/>
                    <a:ext cx="92725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8" name="Object 1"/>
          <p:cNvGraphicFramePr/>
          <p:nvPr/>
        </p:nvGraphicFramePr>
        <p:xfrm>
          <a:off x="0" y="214200"/>
          <a:ext cx="9371160" cy="642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200"/>
                    <a:ext cx="937116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1" name="Object 1"/>
          <p:cNvGraphicFramePr/>
          <p:nvPr/>
        </p:nvGraphicFramePr>
        <p:xfrm>
          <a:off x="0" y="142920"/>
          <a:ext cx="9371160" cy="64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920"/>
                    <a:ext cx="937116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4" name="Object 1"/>
          <p:cNvGraphicFramePr/>
          <p:nvPr/>
        </p:nvGraphicFramePr>
        <p:xfrm>
          <a:off x="0" y="142920"/>
          <a:ext cx="9358200" cy="64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920"/>
                    <a:ext cx="935820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201600" y="214200"/>
          <a:ext cx="88711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214200"/>
                    <a:ext cx="8871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38:35Z</dcterms:created>
  <dc:creator>sky</dc:creator>
  <dc:description/>
  <dc:language>en-US</dc:language>
  <cp:lastModifiedBy>sky</cp:lastModifiedBy>
  <dcterms:modified xsi:type="dcterms:W3CDTF">2015-06-15T13:51:47Z</dcterms:modified>
  <cp:revision>18</cp:revision>
  <dc:subject/>
  <dc:title>Слайд 1</dc:title>
</cp:coreProperties>
</file>