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A6D1-A03B-4D02-8894-87E274C6F7A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2AE5-2FDE-44FA-8531-5034E1D4ACC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8BB4-5AC6-40F7-9984-E37677B1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D269-F2B3-4992-A260-D765265F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254C-91EA-4AE6-9F22-44F97FDBE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98E6-3658-4D58-88E9-E058863A2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6474-1B93-4307-9FE9-2EF60BAC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0D69-4886-4242-9C91-D6926718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398D-F447-493A-A396-8BA03A71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4FFB-4736-47AF-92AE-4CB9BBA2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F3BC-3102-4664-A164-1283A15B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153B-910A-49F4-890C-8EB312DF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C905-F4D6-4DBA-BE58-7C73F625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616A-E27C-4250-9083-2070CD34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EE16-2523-406F-B2CD-70DF7FE3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EDAB-C4DA-4C40-963C-6DAD839A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FE72-7686-496C-897F-21B5A970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61E6-8616-481F-809E-5DEE9947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9104-C902-48DC-9A7C-CDF0359E3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182A86-7A2A-481E-B9B3-D3D69B55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EFF374-32FA-49DF-BF89-C11B3BF6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290E18-887C-43A1-ACA8-41513D43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39B497-CBCC-4553-9B1F-53811697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FB057F-28CB-4EAE-B4D8-4D74641C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2874-FBA4-42DD-8D40-A8C95B79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61FF99-FB0D-4AD7-8A26-FC281097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8F2A19-74CA-42A4-852D-4C73EFCB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0EC8BF-E494-45C9-B46D-7834A0DC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B105EC-55D2-4525-90FB-B4CCFEBE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4AF236-A2E9-4703-9682-A3797624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C733D5-286F-43C9-A1C7-3DB1E4FE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07F4C3-F059-465B-83D6-6E2F0114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EAA81-4D26-42A7-89CB-68E312020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47B1A-F4F3-45D8-A92A-F814CE89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AD947-9E1B-4D5F-8DC0-FD1A8AB1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DB25-2D21-46F6-8F00-12956536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1E246-C0FE-4AC3-A669-19B8F582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924DE-3218-4EDC-B9CC-BE64F130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C3001-FF8A-4678-B706-7F05BEB4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5EA7F-BBED-4269-B320-CC5749D4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20720-F9AA-4975-BB23-1DC8274D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698C4-881E-4416-BB87-0D20025E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FC0FA-F517-4946-A24A-6B231EEB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8EBE2-4291-426F-B0F2-E4DA367C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1345D-4499-4BAC-87A0-4CD5BAC77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4FED-D228-45D7-A80B-06FD7265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5426-B512-42B0-8E77-02EFF5D3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F167-C733-47A3-B211-29687991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553E-4665-4CE6-A7E5-B0E279C7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8A4C-C73E-49C6-9DB6-CFCFE567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BBFB-26BC-423B-AE51-49F25C34C64B}" type="slidenum">
              <a:rPr b="0" lang="uk-UA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03B7-929B-409E-90F3-E216ACE9F2D0}" type="slidenum">
              <a:rPr b="0" lang="uk-UA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A3AB-5B52-448A-AEDC-65B647EEC8EC}" type="slidenum">
              <a:rPr b="0" lang="uk-UA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F6A1-1CE0-49CE-9633-F1FBD70F3C8A}" type="slidenum">
              <a:rPr b="0" lang="uk-UA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>
            <a:alpha val="4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623316"/>
                </a:solidFill>
                <a:latin typeface="Times New Roman"/>
                <a:ea typeface="Times New Roman"/>
              </a:rPr>
              <a:t>Дипломний проект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26064"/>
                </a:solidFill>
                <a:latin typeface="Times New Roman"/>
                <a:ea typeface="Miriam"/>
              </a:rPr>
              <a:t>РОЗРОБКА КОНСТРУКЦІЇ АПАРАТУ ДЛЯ ФРАНКЛІНІЗАЦІЇ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a5e48"/>
                </a:solidFill>
                <a:latin typeface="Times New Roman"/>
                <a:ea typeface="Times New Roman"/>
              </a:rPr>
              <a:t>розробив ст. гр. МА-14сп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a5e48"/>
                </a:solidFill>
                <a:latin typeface="Times New Roman"/>
                <a:ea typeface="Times New Roman"/>
              </a:rPr>
              <a:t>Романов В. С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a5e48"/>
                </a:solidFill>
                <a:latin typeface="Times New Roman"/>
                <a:ea typeface="Times New Roman"/>
              </a:rPr>
              <a:t>керівник к.т.н., асис. каф. ПМБА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a5e48"/>
                </a:solidFill>
                <a:latin typeface="Times New Roman"/>
                <a:ea typeface="Times New Roman"/>
              </a:rPr>
              <a:t>Костішин С. В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424456"/>
              </a:solidFill>
              <a:latin typeface="Georgia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131760" y="189000"/>
            <a:ext cx="89042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10620360" y="7643880"/>
            <a:ext cx="9801360" cy="7053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8928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108000" y="216000"/>
            <a:ext cx="89247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8924760" cy="666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24760" cy="65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1042920" y="-2700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eb0c1"/>
                </a:solidFill>
                <a:latin typeface="Georgia"/>
                <a:ea typeface="Times New Roman"/>
              </a:rPr>
              <a:t>Результати моделювання генератора імпульс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7"/>
          <p:cNvGraphicFramePr/>
          <p:nvPr/>
        </p:nvGraphicFramePr>
        <p:xfrm>
          <a:off x="324000" y="1855800"/>
          <a:ext cx="3817800" cy="26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55800"/>
                    <a:ext cx="3817800" cy="26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Прямоугольник 11"/>
          <p:cNvSpPr/>
          <p:nvPr/>
        </p:nvSpPr>
        <p:spPr>
          <a:xfrm>
            <a:off x="539640" y="4838760"/>
            <a:ext cx="4032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eorgia"/>
              </a:rPr>
              <a:t>Вихідний сигнал при U</a:t>
            </a:r>
            <a:r>
              <a:rPr b="0" lang="uk-UA" sz="1200" spc="-1" strike="noStrike" baseline="-25000">
                <a:solidFill>
                  <a:srgbClr val="000000"/>
                </a:solidFill>
                <a:latin typeface="Georgia"/>
              </a:rPr>
              <a:t>жив</a:t>
            </a:r>
            <a:r>
              <a:rPr b="0" lang="uk-UA" sz="1200" spc="-1" strike="noStrike">
                <a:solidFill>
                  <a:srgbClr val="000000"/>
                </a:solidFill>
                <a:latin typeface="Georgia"/>
              </a:rPr>
              <a:t>. генератора +6,3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Object 9"/>
          <p:cNvGraphicFramePr/>
          <p:nvPr/>
        </p:nvGraphicFramePr>
        <p:xfrm>
          <a:off x="4427640" y="1855800"/>
          <a:ext cx="4176720" cy="269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1855800"/>
                    <a:ext cx="417672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Прямоугольник 14"/>
          <p:cNvSpPr/>
          <p:nvPr/>
        </p:nvSpPr>
        <p:spPr>
          <a:xfrm>
            <a:off x="4859280" y="4838760"/>
            <a:ext cx="3745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eorgia"/>
              </a:rPr>
              <a:t>Вихідний сигнал при U</a:t>
            </a:r>
            <a:r>
              <a:rPr b="0" lang="uk-UA" sz="1200" spc="-1" strike="noStrike" baseline="-25000">
                <a:solidFill>
                  <a:srgbClr val="000000"/>
                </a:solidFill>
                <a:latin typeface="Georgia"/>
              </a:rPr>
              <a:t>жив</a:t>
            </a:r>
            <a:r>
              <a:rPr b="0" lang="uk-UA" sz="1200" spc="-1" strike="noStrike">
                <a:solidFill>
                  <a:srgbClr val="000000"/>
                </a:solidFill>
                <a:latin typeface="Georgia"/>
              </a:rPr>
              <a:t>. генератора +5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372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424456"/>
                </a:solidFill>
                <a:latin typeface="Trebuchet MS"/>
              </a:rPr>
              <a:t>Дякую за увагу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6T04:25:37Z</dcterms:created>
  <dc:creator>slava</dc:creator>
  <dc:description/>
  <dc:language>en-US</dc:language>
  <cp:lastModifiedBy>slava</cp:lastModifiedBy>
  <dcterms:modified xsi:type="dcterms:W3CDTF">2015-06-16T05:55:18Z</dcterms:modified>
  <cp:revision>18</cp:revision>
  <dc:subject/>
  <dc:title>Слайд 1</dc:title>
</cp:coreProperties>
</file>