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99E-B31E-46B9-BAD0-CCBD646B1DE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DF1E-8D31-4A92-B6BD-1E9037E481A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6A9-2903-411A-8949-4FF23D22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797-E41F-422B-9556-136793B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07A-ED86-4B01-9DE3-42A0A126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022-2160-441D-B6EF-C72F4516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32D3-8B11-47E3-BDDA-CB6CC58A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2DC2-AABA-47FF-B1A5-4A7B4DC2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7E95-09E7-427F-AA56-7AC95F13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C092-7C61-4D30-982F-40593103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EACB-5639-4D25-9324-BFEACE6C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79A-C6BD-41CF-9741-4D5EB702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6E4D-0EDD-4020-8BB4-193F1AC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481-52AC-41AA-91C8-C2D7B1E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0C40-ACED-441A-B775-E6881926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0437-51E1-4958-A81C-ADF21EC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1628-CACE-42C1-BB0C-EBBEE754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D216-9AD0-4624-B32F-F4CAF8CC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44C5-1A0B-498C-A3A8-C7024C5A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074DA-08ED-45DA-A180-D73B9269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73560-F9B0-4CF8-9D0D-A3C46EA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196C9-8ED7-492A-9525-8B7552D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8B9A8-5B7B-4539-AFE6-B26EC18C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E24D1-037D-4DB2-8B4D-92365EEE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5B5-6405-4698-B44A-7267EE1E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EDBBB-CA2C-4FBD-B8B2-184C0368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0A7B9-6432-4F59-BB07-A6073F54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55AA1-A602-4437-BAF0-94188BE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49125-63ED-495A-B41B-4A5E305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FD1DF-3D20-49B3-BB93-4DEF4ED3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D3053-1687-4CB2-82A0-5730FE79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A1F62-D910-4636-AF86-140F5787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0DE1-AC9F-4850-9E6A-B022D238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C070-009D-4252-A4D4-3A285BF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1F2D-A089-415C-86CB-143ECC25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9F0-D679-4186-B417-651AB11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67F5-2982-45DD-A008-F84095EC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C10A-7AB8-434B-A92F-87C469FF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F2EC8-E251-47EB-8B2B-3295BD4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A4DD-1C00-4C0D-A73F-756009A0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21C12-88A3-4252-A7F1-E320CBC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5C3F-B525-44AE-ADC0-9F057791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7631-B385-4E75-ACDE-745ED244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184F-B6B1-439B-AF51-DB8E248B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1D68-3C95-4B0D-B73B-8CB3CD35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8B3-DEBA-476E-8912-407BC404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E4D-04F7-4003-AD89-C1F0CD87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848-6F5C-4174-84B1-3457197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55D-3A30-428B-97C3-E087DD1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308-DE4D-4BCA-8EE4-01C4203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0C66-B646-48E6-9C19-C87BBEC194C5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DC4F-0CF7-4CA5-8AD4-893DF124862A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CEE-ED20-429E-9535-19871E54428B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0AAB-7338-4F30-893F-EB2C0FD2AE35}" type="slidenum">
              <a:rPr b="0" lang="uk-U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>
            <a:alpha val="4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Дипломний проект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26064"/>
                </a:solidFill>
                <a:latin typeface="Times New Roman"/>
                <a:ea typeface="Miriam"/>
              </a:rPr>
              <a:t>РОЗРОБКА КОНСТРУКЦІЇ АПАРАТУ ДЛЯ ФРАНКЛІНІЗАЦІЇ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розробив ст. гр. МА-14сп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Романов В.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керівник к.т.н., асис. каф. ПМБ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a5e48"/>
                </a:solidFill>
                <a:latin typeface="Times New Roman"/>
                <a:ea typeface="Times New Roman"/>
              </a:rPr>
              <a:t>Костішин С. 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31760" y="189000"/>
            <a:ext cx="89042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0620360" y="7643880"/>
            <a:ext cx="9801360" cy="705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928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08000" y="216000"/>
            <a:ext cx="8924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2476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476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1042920" y="-27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eb0c1"/>
                </a:solidFill>
                <a:latin typeface="Georgia"/>
                <a:ea typeface="Times New Roman"/>
              </a:rPr>
              <a:t>Результати моделювання генератора імпуль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7"/>
          <p:cNvGraphicFramePr/>
          <p:nvPr/>
        </p:nvGraphicFramePr>
        <p:xfrm>
          <a:off x="324000" y="1855800"/>
          <a:ext cx="3817800" cy="26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55800"/>
                    <a:ext cx="38178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Прямоугольник 11"/>
          <p:cNvSpPr/>
          <p:nvPr/>
        </p:nvSpPr>
        <p:spPr>
          <a:xfrm>
            <a:off x="539640" y="4838760"/>
            <a:ext cx="403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Вихідний сигнал при U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Georgia"/>
              </a:rPr>
              <a:t>жив</a:t>
            </a: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. генератора +6,3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9"/>
          <p:cNvGraphicFramePr/>
          <p:nvPr/>
        </p:nvGraphicFramePr>
        <p:xfrm>
          <a:off x="4427640" y="1855800"/>
          <a:ext cx="417672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855800"/>
                    <a:ext cx="4176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Прямоугольник 14"/>
          <p:cNvSpPr/>
          <p:nvPr/>
        </p:nvSpPr>
        <p:spPr>
          <a:xfrm>
            <a:off x="4859280" y="4838760"/>
            <a:ext cx="3745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Вихідний сигнал при U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Georgia"/>
              </a:rPr>
              <a:t>жив</a:t>
            </a:r>
            <a:r>
              <a:rPr b="0" lang="uk-UA" sz="1200" spc="-1" strike="noStrike">
                <a:solidFill>
                  <a:srgbClr val="000000"/>
                </a:solidFill>
                <a:latin typeface="Georgia"/>
              </a:rPr>
              <a:t>. генератора +5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24456"/>
                </a:solidFill>
                <a:latin typeface="Trebuchet MS"/>
              </a:rPr>
              <a:t>Дякую за увагу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04:25:37Z</dcterms:created>
  <dc:creator>slava</dc:creator>
  <dc:description/>
  <dc:language>en-US</dc:language>
  <cp:lastModifiedBy>slava</cp:lastModifiedBy>
  <dcterms:modified xsi:type="dcterms:W3CDTF">2015-06-16T05:55:18Z</dcterms:modified>
  <cp:revision>18</cp:revision>
  <dc:subject/>
  <dc:title>Слайд 1</dc:title>
</cp:coreProperties>
</file>