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268-C94C-44A7-9F41-74F8C362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D1D-FA1D-4203-8593-896E60D4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07A-9ABC-4C41-A6DD-F40DE724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854-8ED0-47FC-909C-B7D9078F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C84-8BAE-4D51-B527-2E5E39E4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4DB-2C95-4114-9C45-3933D958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AA4-17B7-467F-BD6C-04C2825A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C3F-8AF3-4BFB-A638-940793B4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F8D-B0C6-4E10-AB18-9654F3D0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E34-45A7-4E62-A9F2-78EF7D6E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53D-660F-4326-82AB-20A2F7A3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6BF-CD29-4DC8-AFCB-F6621E2F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0195-5077-4C73-A67B-142914846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5360" y="766440"/>
            <a:ext cx="81550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інницький національний технічний універс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ультет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радіотехніки, зв’язку та приладобуд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федра проектування медико-біологічної апарату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й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тему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КА КОНСТРУКЦІЇ АПАРАТ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ЛЬТРАЗВУКОВО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ТЕРАПІ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37162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: студент групи МА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 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інціцький І. 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ерівник: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оцент каф. ПМБА, к.т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имчик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79280" y="990720"/>
          <a:ext cx="885672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90720"/>
                    <a:ext cx="885672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000" y="770040"/>
          <a:ext cx="88930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70040"/>
                    <a:ext cx="88930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71640" y="34920"/>
          <a:ext cx="7921440" cy="677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4920"/>
                    <a:ext cx="7921440" cy="67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360" y="1258920"/>
          <a:ext cx="8964720" cy="43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258920"/>
                    <a:ext cx="896472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22320"/>
          <a:ext cx="8351640" cy="67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320"/>
                    <a:ext cx="835164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124000" y="189000"/>
            <a:ext cx="4864320" cy="168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72120" y="1988280"/>
            <a:ext cx="60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транзисторного підсилювача для моделюван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b"/>
          <p:cNvPicPr/>
          <p:nvPr/>
        </p:nvPicPr>
        <p:blipFill>
          <a:blip r:embed="rId2">
            <a:grayscl/>
          </a:blip>
          <a:stretch/>
        </p:blipFill>
        <p:spPr>
          <a:xfrm>
            <a:off x="179280" y="3332160"/>
            <a:ext cx="4321440" cy="225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4360" y="5554800"/>
            <a:ext cx="43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и моделювання за нормальних ум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0" y="3213000"/>
          <a:ext cx="4535640" cy="25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213000"/>
                    <a:ext cx="4535640" cy="25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788000" y="5643000"/>
            <a:ext cx="432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моделювання за трьох температурних режимів;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uk-UA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uk-UA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uk-UA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9:30:31Z</dcterms:created>
  <dc:creator>IRONMANN (AKA SHAMAN)</dc:creator>
  <dc:description/>
  <dc:language>en-US</dc:language>
  <cp:lastModifiedBy>Customer</cp:lastModifiedBy>
  <dcterms:modified xsi:type="dcterms:W3CDTF">2015-06-15T16:46:12Z</dcterms:modified>
  <cp:revision>6</cp:revision>
  <dc:subject/>
  <dc:title>Слайд 1</dc:title>
</cp:coreProperties>
</file>