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00C7-1266-482F-B219-72E8BC4F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0FA0-4A2E-4A68-B275-5F391BFD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D833-EF51-405D-8D3A-441EFCC8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763A-4A34-4707-A8B9-C0F35EAC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0412-0823-4B61-AA47-19EEFD48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C919-78DE-480E-9644-64997D29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8D63-3805-4071-8C02-1E98E888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AE81-9785-4A35-99FA-EC6DAD11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1152-E651-4D40-A553-2430F835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2C53-9E54-4462-BC1F-06C60CA3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861A-5EDD-4AD8-9033-98D2CFAD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422E-1C3E-4FCB-88B9-B738E29A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CFF3-2C8C-44C3-8C25-E6B4DF7634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95360" y="766440"/>
            <a:ext cx="815508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інницький національний технічний університ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культет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радіотехніки, зв’язку та приладобудув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афедра проектування медико-біологічної апарату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й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тему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КА КОНСТРУКЦІЇ АПАРАТ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ЛЬТРАЗВУКОВО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Ї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ТЕРАПІЇ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427640" y="37162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в: студент групи МА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 з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інціцький І. 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ерівник: 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оцент каф. ПМБА, к.т.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Times New Roman"/>
              </a:rPr>
              <a:t>Тимчик С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79280" y="990720"/>
          <a:ext cx="8856720" cy="35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90720"/>
                    <a:ext cx="8856720" cy="35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8000" y="770040"/>
          <a:ext cx="889308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770040"/>
                    <a:ext cx="889308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71640" y="34920"/>
          <a:ext cx="7921440" cy="677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4920"/>
                    <a:ext cx="7921440" cy="677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44360" y="1258920"/>
          <a:ext cx="8964720" cy="433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1258920"/>
                    <a:ext cx="896472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24000" y="22320"/>
          <a:ext cx="8351640" cy="679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2320"/>
                    <a:ext cx="8351640" cy="67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124000" y="189000"/>
            <a:ext cx="4864320" cy="1689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72120" y="1988280"/>
            <a:ext cx="606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хема транзисторного підсилювача для моделюван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2" descr="b"/>
          <p:cNvPicPr/>
          <p:nvPr/>
        </p:nvPicPr>
        <p:blipFill>
          <a:blip r:embed="rId2">
            <a:grayscl/>
          </a:blip>
          <a:stretch/>
        </p:blipFill>
        <p:spPr>
          <a:xfrm>
            <a:off x="179280" y="3332160"/>
            <a:ext cx="4321440" cy="2257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4360" y="5554800"/>
            <a:ext cx="435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и моделювання за нормальних ум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0" y="3213000"/>
          <a:ext cx="4535640" cy="258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3213000"/>
                    <a:ext cx="4535640" cy="25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788000" y="5643000"/>
            <a:ext cx="432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 моделювання за трьох температурних режимів;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uk-UA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uk-UA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uk-UA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0" lang="uk-UA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uk-UA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0" lang="uk-UA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9:30:31Z</dcterms:created>
  <dc:creator>IRONMANN (AKA SHAMAN)</dc:creator>
  <dc:description/>
  <dc:language>en-US</dc:language>
  <cp:lastModifiedBy>Customer</cp:lastModifiedBy>
  <dcterms:modified xsi:type="dcterms:W3CDTF">2015-06-15T16:46:12Z</dcterms:modified>
  <cp:revision>6</cp:revision>
  <dc:subject/>
  <dc:title>Слайд 1</dc:title>
</cp:coreProperties>
</file>