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64FA-3D6B-4D4B-980D-1985DCC8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5AA-E46B-4D8D-A9AE-1B94867F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DE8-DCDF-4F12-9F46-B28A0C2D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0BF0-0A01-487C-9622-C2E032E1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EC38-1EDA-42FC-AAE7-5BDD9E0B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4D7-A0E7-434F-90E5-6C158861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4F0-F4B8-4ADF-B8F6-5E1E5E63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2D86-C6D0-42F5-B22E-01E18E85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EB6C-6116-4761-9417-C323FA17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743A-604F-4E58-883A-1CAF2453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DCD-FAAC-4918-B7BA-25E06B7B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BA91-948A-4DD0-A518-7F373FF1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72BD-85AA-4C9E-9D38-2BF5E1DB1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30920"/>
            <a:ext cx="8569080" cy="60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Вінницький національний технічний універс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Факультет радіотехніки, зв’язку та приладобуд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афедра проектування медико-біологічної апарату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ломн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ий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КОНСТРУКЦІЇ АПАРАТУ ДЛЯ ІНВАЗИВНОГО ЛАЗЕРНОГО ОПРОМІНЕННЯ КРОВ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я ВНТУ 20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48360" y="3429000"/>
            <a:ext cx="388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Виконав: ст. 1с курсу, групи МА-14сп з/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спеціальності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7.05090204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Біотехнічні та медичні апарати і систе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Ферсович Ірина Вікторі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ерівник: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оцент каф. ПМБА, к.т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имчик Сергій Василь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8000" y="614520"/>
          <a:ext cx="8964720" cy="50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614520"/>
                    <a:ext cx="8964720" cy="50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000" y="479520"/>
          <a:ext cx="8964720" cy="59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479520"/>
                    <a:ext cx="8964720" cy="59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79280" y="1211400"/>
          <a:ext cx="8785440" cy="40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11400"/>
                    <a:ext cx="878544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8000" y="649440"/>
          <a:ext cx="896472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649440"/>
                    <a:ext cx="896472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44360" y="587520"/>
          <a:ext cx="9036000" cy="52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587520"/>
                    <a:ext cx="9036000" cy="52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322200" y="411120"/>
            <a:ext cx="4105440" cy="2657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24840" y="3091320"/>
            <a:ext cx="28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хідні характеристики кол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4033800" cy="2603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46160" y="3123000"/>
            <a:ext cx="45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хідні характеристики операційних підсилювачі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7" descr=""/>
          <p:cNvPicPr/>
          <p:nvPr/>
        </p:nvPicPr>
        <p:blipFill>
          <a:blip r:embed="rId3"/>
          <a:stretch/>
        </p:blipFill>
        <p:spPr>
          <a:xfrm>
            <a:off x="250920" y="3645000"/>
            <a:ext cx="4103640" cy="2674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49200" y="6236280"/>
            <a:ext cx="209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пературний аналіз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9" descr=""/>
          <p:cNvPicPr/>
          <p:nvPr/>
        </p:nvPicPr>
        <p:blipFill>
          <a:blip r:embed="rId4"/>
          <a:stretch/>
        </p:blipFill>
        <p:spPr>
          <a:xfrm>
            <a:off x="4789440" y="3675240"/>
            <a:ext cx="3959280" cy="2582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681160" y="6363360"/>
            <a:ext cx="267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метричний аналіз схе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9:30:31Z</dcterms:created>
  <dc:creator>IRONMANN (AKA SHAMAN)</dc:creator>
  <dc:description/>
  <dc:language>en-US</dc:language>
  <cp:lastModifiedBy>Customer</cp:lastModifiedBy>
  <dcterms:modified xsi:type="dcterms:W3CDTF">2015-06-14T12:55:31Z</dcterms:modified>
  <cp:revision>5</cp:revision>
  <dc:subject/>
  <dc:title>Слайд 1</dc:title>
</cp:coreProperties>
</file>