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817-8DD1-4400-A20D-84B41B51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951-63D8-4FF9-B5E3-40430221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4E1-A3ED-4A7C-A8CC-A9AA3956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BA6-981F-4E3B-B80B-42909667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8EE-C28E-401C-9B50-2619FB2A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C0F-B19A-461E-BBC6-9FBE6B8D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371-1C3C-4045-956E-A2186406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FB1-0396-43F0-B116-63E8BF0B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9EF-9459-43A9-B599-523568A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804-1179-4371-8A91-0CCE4995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536-7959-40A8-8808-7DF46E36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423-87DE-4376-AD02-3C6340F8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214E-2B49-4EE1-BD32-BB8B1332F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30920"/>
            <a:ext cx="856908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акультет радіотехніки, зв’язку та приладо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афедра проектування медико-біологічної апара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ломн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ий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КОНСТРУКЦІЇ АПАРАТУ ДЛЯ ІНВАЗИВНОГО ЛАЗЕРНОГО ОПРОМІНЕННЯ КР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ВНТУ 20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8360" y="3429000"/>
            <a:ext cx="388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иконав: ст. 1с курсу, групи МА-14сп з/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спеціальності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7.05090204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Біотехнічні та медичні апарати і сист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Ферсович Ірина Вікторі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івник: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оцент каф. ПМБА, к.т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имчик Сергій Василь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8000" y="614520"/>
          <a:ext cx="8964720" cy="50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14520"/>
                    <a:ext cx="8964720" cy="50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000" y="479520"/>
          <a:ext cx="8964720" cy="59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79520"/>
                    <a:ext cx="8964720" cy="59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9280" y="1211400"/>
          <a:ext cx="878544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11400"/>
                    <a:ext cx="878544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8000" y="649440"/>
          <a:ext cx="896472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49440"/>
                    <a:ext cx="896472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44360" y="587520"/>
          <a:ext cx="9036000" cy="52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587520"/>
                    <a:ext cx="903600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322200" y="411120"/>
            <a:ext cx="4105440" cy="2657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24840" y="3091320"/>
            <a:ext cx="28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ідні характеристики ко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033800" cy="2603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6160" y="3123000"/>
            <a:ext cx="45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ідні характеристики операційних підсилювач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4103640" cy="267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49200" y="6236280"/>
            <a:ext cx="209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ний аналі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9" descr=""/>
          <p:cNvPicPr/>
          <p:nvPr/>
        </p:nvPicPr>
        <p:blipFill>
          <a:blip r:embed="rId4"/>
          <a:stretch/>
        </p:blipFill>
        <p:spPr>
          <a:xfrm>
            <a:off x="4789440" y="3675240"/>
            <a:ext cx="3959280" cy="258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81160" y="6363360"/>
            <a:ext cx="267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ичний аналіз схе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9:30:31Z</dcterms:created>
  <dc:creator>IRONMANN (AKA SHAMAN)</dc:creator>
  <dc:description/>
  <dc:language>en-US</dc:language>
  <cp:lastModifiedBy>Customer</cp:lastModifiedBy>
  <dcterms:modified xsi:type="dcterms:W3CDTF">2015-06-14T12:55:31Z</dcterms:modified>
  <cp:revision>5</cp:revision>
  <dc:subject/>
  <dc:title>Слайд 1</dc:title>
</cp:coreProperties>
</file>