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79C-383D-4CC6-A2F7-EA092CB8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888-7FD4-4E79-85C4-0D284A0B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60005-BBA4-4793-BED8-2AA7A7D8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90835-A97D-4F69-8349-F88C4CF9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43DC3-2B77-4185-BA14-CDBF2FC8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6F975-61A2-4EB8-A550-A8829CBB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3F0AE-4EA2-4B46-9C29-7950ADF9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BD03C-27A5-4F30-B18D-C8949317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2D0B6-1940-49EC-A505-ED268D88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77718-E745-4AD2-97AE-F0FA06A3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78C48-3B92-4261-8163-75978466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404F0-3B5B-4BF9-98FE-D6CF0F05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2A6-8CDE-4C34-B694-F462646D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95C0C-4844-4327-823D-B27E9AC8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CA432-C8CA-4C01-82A9-8E55E7E0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2AC88-A3EE-443A-A89D-FD62A98A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CF1B5-DEC9-4529-BF5B-E685CDC0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C499E-0C53-4321-AA3F-C27792CD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2811E-2777-46D1-8B89-BA1F9774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2351C-F7BE-4107-9F4A-1315D0D7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6D20F-7091-431C-B59A-CE0C8C77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9BA58-758C-466B-93AF-F0658D03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26E5B-01EA-4075-B8A0-CA6EA07E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160-ECCE-4E88-8E2E-9DC5C0CC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7DF0C-8742-4911-8EC3-33EB4E25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DCE31-0C54-490D-B96F-CBEC3E04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470A5-1CE3-4D40-ADF5-7AF4BC6F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C7C5C-E03E-4E85-BB9E-AEAB3D64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5B9FF-A0D8-4DC2-9BEF-2841B978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53D25-244B-4973-95E4-26D628FB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99956-748C-45DA-9A6F-F6550143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FE9CB-7613-44BC-BBF4-5850C507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EE60E-FB16-49EE-82E0-BAC2D93C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A20B7-5220-44AE-9B4E-0DF706A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A342-E87D-42C4-9CF6-240E4843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851AF-6007-4D70-9F34-D5558D53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2F32D-F638-404A-98A5-DCE0D040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56794-4DBB-45AA-9435-FE6C284B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84CEA-0FCF-4AC6-8C38-9C372131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11DD7-A9DE-41D9-A5FF-BBE692B0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91C04-BAF0-4C40-99B3-15B29276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D064A-2469-4D30-BFDA-BF18B442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61B01-F7EB-4D14-9E58-423BEE75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B1989-D1EE-4CB6-B0E2-A020CC72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77C8B-D028-4628-8887-72B0E4DE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5D94-1504-4CB5-B2CE-A97A558F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4AB95-31E8-4C83-8041-A0E5824D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EE4BD-208C-4E39-940C-50CF6F44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46256-F529-44C7-BF72-9AA7FAF0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FB490-4008-44EF-9F0D-1A21623D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6C97E-18A3-47E4-A1B5-3EC3CFC4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6E086-7C2F-4C81-B8AF-2C7A9E1D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C94D9-287C-42FB-AB00-28191521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F7456-0CA1-4119-9FBF-56A598E8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C371D-0008-498E-BD86-B0807F29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04802-4E63-45E2-A3A0-F09356BC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75DA-9271-4ED3-86D5-B298D937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5C88F-E658-441F-A54F-8F538B2D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2AC26-1ECC-4C2F-A4A2-BC4BE0A0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35244-7A56-4618-9AB8-C8C460E6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CA3B6-496A-49CC-9653-DD48103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8D0B6-1F99-4785-94A9-33442BB1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7E8B1-372E-4605-917F-8B83C2BA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ADB09-E366-4A5D-B6B6-083553C2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45AC-26FB-418B-A328-EF3FC6C2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65CB-6B84-4ACB-AE1D-5AB86E9A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BA50-34F7-41E2-A65B-E1F00C78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652C-B09A-4BCE-98EB-A6CCEF15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054-F868-4D68-9C61-068E8877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5455-477E-4212-ACE2-F1DB8CD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583D-58CF-4CDD-A906-3DE3E34C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715C-5AE7-4F6C-B845-5709952A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25A0-85B5-4814-B4A7-67D4D452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64FB-4409-4B53-A175-26202C7F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55BEA-1253-4170-8A4E-7D9754CD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4A54-9520-4AFD-BD4F-5B858520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27EB5-B0EE-4B54-A6B3-B555AFE1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0F0C6-F812-496C-9C9E-5CCC2C05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8F97B-FA65-4ADB-924C-9A86095A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685-4479-4026-BFBD-6E517896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F6E16-104B-4A49-BE56-4D295353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CFA3-A7DF-4174-9AFB-E3176254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B242-C727-4EBB-AE8B-B14DC4AB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1420-8632-4A0A-905E-9301CABB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42198-9F4C-4DB2-BC57-656EC27B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23943-00AE-487D-AC6D-62A4659B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298D-0BFC-4E62-BA50-6B72659D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AAD99-F608-49FB-954B-78794F2F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5C382-4A7C-4FEA-A374-BA5985E6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B47C-DE16-4E9C-999F-6CF02FF5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0AA-62ED-4579-9035-85EF242D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300AB-1E4B-4F06-8797-0E60B62B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19FAE-F00B-49B7-9D19-B31FA8E8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65964-7FFB-45C7-B9FA-861599D3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04BF5-E6B0-4B4A-B965-1C403B9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CE842-C5BE-4975-BCBA-E0F2FF37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D288-CBA3-4EF6-A75A-86EA909F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D958F-0236-40A1-86B4-EB24318D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4BA24-B380-402E-995E-D6A6BAC9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0D91-D01E-494D-AC96-230C8842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80CC1-5443-439E-995C-8A11216E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8AB-AA65-4D50-A8E0-DB7BF6CB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975ED-2E09-433E-B032-2C82CFDD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4052B-2130-494D-A134-05EEC803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72D3D-EC66-451D-A3D2-C8130E6A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2732C-CBC7-4FB9-83B1-5260676F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38525-C5A8-424A-B038-9CD48ACA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5DE2F-F0E5-41A7-A5BA-B60B9650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42C66-31CE-4B9C-9242-4F259120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CCE8D-B038-4D72-8AC5-50BE906C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6A489-BCB9-4AD7-8574-2D079892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054B7-93A0-4B00-A269-A320B514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0E2-7CA1-4591-BF74-C8AEA37F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C0D75-3C26-481A-89A5-E2B48000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32B8F-6084-4209-9D64-4F1AA5FA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36961-6598-47FF-BC13-1A0362B1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A3F81-8A17-431C-85E4-2D8AA293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C76F4-9800-43E4-8C7E-72DA8CEA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CF0C6-3F2B-4B36-9C23-5D1F4EBA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2DEB7-B55C-4D89-BB2B-8C9D8A66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B767B-E779-4925-BDC8-25A7D0AA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4A878-B589-4492-B813-84B541E4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F33E6-3691-496B-9800-54BFF063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DD4-3F76-40FE-8479-BF490A0D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051B2-9E2D-4E83-8DE5-33E65521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E9F9D-4D53-4F18-A825-FF25980F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1614E-9963-4ED7-B09B-3062E3BA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0F28F-C0AE-45B7-9AAF-591BBAB2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2F50E-717E-4ECB-959E-E2E6EF7E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9B159-96E9-46B8-BC0F-003D448C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0AB18-F733-42BF-8B9D-A9720632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44086-7EAD-4481-8EC8-FE52A11F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6114A-4068-43A0-839B-B42D24EB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0AB63-2A89-46AA-A989-C1B82292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127-102D-426F-A2CB-850EB97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72489-4674-4E16-8AB0-B6C165D1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D5843-F941-431F-A755-076D540E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A1E49-4E87-4C49-ACC5-A8E678B4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B77EE-E3AD-443C-ABCA-789254A0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1092B-21F0-4BBB-9CEA-1C94BFF1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E0A0D-775D-4E50-AEAA-DED5C233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19786-CF0E-4D79-9467-0E1CDFEE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7E6DE-5EDC-4101-A7BB-C50AFB2B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8D7EB-61B8-44FF-8FA7-EC85CF03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DA271-ED60-4946-B996-EBBFFCC0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37D-225C-4B8D-B41A-4A90CCD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CE3E0-C36E-49AF-A3B1-38C5A988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555C2-AF49-490D-929E-165DEB30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7388F-CBCA-4E77-936D-9404EBC8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71F38-E68C-4D46-98D2-451EFB7C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484C4-C8CF-4A92-B835-B520206F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43D97-8248-49E7-A15F-1534054C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C1F49-5CB1-4D80-9CDA-C8A145E6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3946B-D5E9-47F3-97E2-87951D48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21D38-E413-4D85-A1EC-EE28F3AD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656C7-9443-4571-BD83-B90A4312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6338-B498-4D3C-A667-6B12A58815D7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2DE4-1EB1-4EBE-9DC4-D4D72C1F80E5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2368-5C0B-4870-8139-DEEA2BB9682B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B3E6-4445-4D1D-B83D-E690667B4F2C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D510-EAF3-4648-9298-EAD9BF283128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928E-1405-4E51-8DEC-AC4F0E65E4E3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99C4-70E1-4825-B297-8FE244E5554F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35C0-B717-4376-AD51-A20FA4539997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6C58-8B6F-4279-A3D1-A5CE0F792D95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92E5-8D51-4592-B919-0DE7F89E1CD6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4E44-6498-40B7-9614-CABD468B30A0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D89C-0B59-4507-B938-110D9714B3E3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14BC-015B-49DB-AFD5-BCE2D2AB40AF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"/>
          <p:cNvSpPr/>
          <p:nvPr/>
        </p:nvSpPr>
        <p:spPr>
          <a:xfrm>
            <a:off x="1637280" y="148860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РОЗРОБКА КОНСТРУКЦІЇ ПРИЛАД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ЛЯ ДІАГНОСТИКИ ТРОМБОФЛЕБІТ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5036040" y="4006800"/>
            <a:ext cx="34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Розробив ст. гр. МА-14сп з/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Чанкселіані В.І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398840" y="5375880"/>
            <a:ext cx="40593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Керівник дипломного проект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К.т.н., асистент Костішин С.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0" name="Object 1"/>
          <p:cNvGraphicFramePr/>
          <p:nvPr/>
        </p:nvGraphicFramePr>
        <p:xfrm>
          <a:off x="71280" y="357120"/>
          <a:ext cx="8883720" cy="628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57120"/>
                    <a:ext cx="88837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112680" y="285840"/>
          <a:ext cx="8859960" cy="62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285840"/>
                    <a:ext cx="8859960" cy="62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6" name="Object 3"/>
          <p:cNvGraphicFramePr/>
          <p:nvPr/>
        </p:nvGraphicFramePr>
        <p:xfrm>
          <a:off x="285840" y="480960"/>
          <a:ext cx="8715240" cy="616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480960"/>
                    <a:ext cx="8715240" cy="61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9" name="Object 3"/>
          <p:cNvGraphicFramePr/>
          <p:nvPr/>
        </p:nvGraphicFramePr>
        <p:xfrm>
          <a:off x="142920" y="285840"/>
          <a:ext cx="8877240" cy="62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285840"/>
                    <a:ext cx="887724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62" name="Object 3"/>
          <p:cNvGraphicFramePr/>
          <p:nvPr/>
        </p:nvGraphicFramePr>
        <p:xfrm>
          <a:off x="155520" y="382680"/>
          <a:ext cx="8845560" cy="62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382680"/>
                    <a:ext cx="8845560" cy="62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65" name="Object 4"/>
          <p:cNvGraphicFramePr/>
          <p:nvPr/>
        </p:nvGraphicFramePr>
        <p:xfrm>
          <a:off x="785880" y="66600"/>
          <a:ext cx="7810560" cy="666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66600"/>
                    <a:ext cx="7810560" cy="666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6:38:35Z</dcterms:created>
  <dc:creator/>
  <dc:description/>
  <dc:language>en-US</dc:language>
  <cp:lastModifiedBy>sky</cp:lastModifiedBy>
  <dcterms:modified xsi:type="dcterms:W3CDTF">2015-06-15T11:41:35Z</dcterms:modified>
  <cp:revision>16</cp:revision>
  <dc:subject/>
  <dc:title>Слайд 1</dc:title>
</cp:coreProperties>
</file>