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EF29-AD58-4687-8300-7F580B52E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7F89-34A1-4918-A0AB-FD26AAC70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852347-162F-4E40-A016-2C0533EE0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CEF00D-583D-4D9E-8D1F-B0A1D1E01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9020E1-289B-4B71-BEB8-D76D42F12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264D21-0A6A-468C-BB2D-6B900358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C3869B-C157-47AC-AE3B-289AB375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FB81DF-0C17-47B8-AF2F-E2131671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D4DDD6-62C9-49D8-9F41-52668A6D0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4AD0EB-E4CB-4367-8C94-49B204E62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BEC4DD-51DB-4E0A-B83D-E852F64C9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062B22-EFF1-4BBB-95BB-515B304F5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5630-2555-4926-A276-28CF1ADCF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6F5130-0545-4078-B449-6A89BD55C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057DC5-0F4F-40B6-9D71-17E2C11BF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5FD4D0-CA1B-4C41-AF54-FDC360ED9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1A1694-CB68-4183-8648-1B8C43FA3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A29C3D-386E-49CA-AE4B-E9B4DD08C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FB455B-8916-45C2-BB42-3D07DAB0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DCC93F-D860-4370-A820-3D93C457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BB129C-F040-4C1C-8CE3-5FA15FD7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2147E5-BF15-4BA3-A7E1-32674A620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2D04C9-3DA1-46AF-BEA8-537299565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6A01-D8C3-41ED-9253-795D7763D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151412-9ADB-4F8F-9943-11455006C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EA14B1-F694-44FA-BB50-82BB9257F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617FA6-5274-43E8-BDB5-8C421ABCE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A636CA-5E5B-4D3A-9708-19746368C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6FB111-41FF-400E-A552-6865955B7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2D887D-5089-4A27-AFC2-22BEBC82C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E57A31-72AF-4FB2-9722-034DCBFDF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B6F799-F81E-427B-A0B8-7AE56E10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989477-E319-463F-8C5D-1E6ADAC9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F9967C-0FE6-449B-B5C2-E3C33E8C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392DE-7ACE-4CA6-95A6-BC2BF76E9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A64477-CE49-453D-946E-2C1F98409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B79B11-B960-4BCF-BF39-1EA78DC3C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ADABB8-E4E1-4343-9525-AB5B0B374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727A48-E76F-4EF7-89E0-05D8D7A94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40679C-47F2-44E2-8602-4F5CF527A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42FC12-01E4-4C19-A191-066FFAD59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249943-7A48-4FA6-A0C4-716128765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344A5B-3F99-4E37-81CB-1433C431D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7EE48B-8BCE-47E4-8EBA-59C2F9AF0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1ACC52-54F6-453C-A5A9-1F54B60B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1EADD-5B86-48BA-84BC-E62CD3E56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6D52C8-0214-4E0D-889A-0FF29035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EB0497-04D5-4586-B68B-CC30B3E4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5CAA48-1D96-42F9-AB43-DAF33046F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834C3B-DBCC-4C61-8289-846FEB035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02FE53-7274-44CC-AD73-7A69E1BB2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01270A-8E8E-47AB-BD83-C57165155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0A361C-E4F9-4CA5-BDA9-BBA9AF76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334582-7AF6-4017-802A-4909973BF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9994B6-D7EE-4CEA-80AA-8805CE8DE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93C990-05AB-495C-9FAA-E793E4278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4ADA9-C69F-4D9E-806F-56EC04A09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9D5280-6D08-4F30-8413-0B4B14257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E8B53D-A80B-4D44-86EE-8E491DB1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F08D9D-2C61-40EF-B523-5E6F35F3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18B6E4-7EF3-46AE-A125-A42FBB7D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43A429-0813-4A00-BB46-B16A835A0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8C6C57-EC65-4D24-B33E-6BAA5D869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61668A-EFF7-4557-98BE-5127EF343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6D566-0963-4AE3-ADA1-C74766A62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4FF26-ED8D-4CC8-99AD-0ADAED466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F0C3D-7922-4E77-A6A0-54FE95D6E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67576-9700-4769-8A3A-6DE2FD13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ECB7-6BDA-4910-AB83-F86216CCA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EBA6C-F5C5-4632-889B-2F380680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8DF83-B74F-4E2B-A76F-F4B499C4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E5955-66A9-4A9E-880C-765AF5567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8118B-FDFF-41FF-AFF1-74DF46544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95841-5C7F-49E4-95CB-0BC8DBB38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CDD6D-E2F4-4380-B30B-E8D59F35B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887A8-1145-40E8-9089-C23DBE9DC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EA718-B45A-4532-A9DA-63922805F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A1FB3-2D09-4ECF-99A0-8772CFD0F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78FE5-9D2E-4E69-9D86-C5FE53A36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3961-EF42-4C3C-85F7-40062E75E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7BABE-3AE6-4006-A6DD-CAA5DBB06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CB30C-608C-4B6B-9484-99B41F0E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08A8D-BB7F-4A69-B74E-4443BC78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5A9F4-ED42-49C1-80C6-B998F3C1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BAA49-8CCF-452C-863A-C9F23A1AB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46F09-1BB0-412B-B816-BF9B2F57F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3E7A4-452F-4D5A-B38C-915414C67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79606-C48B-4CFA-8E9C-54B891734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F9D0F-D298-4BEF-9AF9-FA3B1D0B0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6B29F-1364-4494-A992-C6178DA46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3C00-055F-4839-8660-BFFCA960B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2A85C-7427-4C90-95C8-ACE44664F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F657B-C5FC-42AA-8C46-BF3CE469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A07BD-D68E-4F1B-843A-9C4245B5C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6311C-A5BD-4F5A-8140-EEEE6EA6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84CB1-A8E7-472D-B363-C39A31CC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1A94F-EE30-4E99-9631-36D90E00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C8D67-5BE9-4785-BC04-7393F7A49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04357-C725-41C0-A6E8-2BB65C908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B170F-2F30-4828-A73B-55C4A61B1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76673-9A7E-48DB-9F80-8419C49B1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6789-6FE8-4DC4-8C6A-4740422E2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6BA2B-5657-4B1B-9051-BE7D5380E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BDF6B-3A76-4023-8716-179121F15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050F2-97D7-4669-B1FA-B7FF96D07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02117-BC9C-4E37-B462-B3180FB65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20C40-CD4A-4D2A-8833-67008880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CB864-DC6C-47F1-A9AF-731D44E7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3E539-C92D-4D09-A81D-488AF304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7AB3B-87D1-4BB8-B202-57F1AD15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07384-AC9C-4309-86C8-5AF215A77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AA8FD-DFD9-4AA1-9C48-D23D6A256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DC40-B83F-4B92-AC2E-40B7D5A6B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AC531-3391-43E6-9BE2-51FBC7DB4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D3F750-6814-4B7E-9C10-A99B5751F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C918F8-9ACE-43D0-9E6F-CC572B3D9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40E2B-817B-41FE-88DB-3211001AC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03A2B-4AD2-435B-AB13-B642D0E8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D49F8-CD26-409D-9373-6B791A87F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89BB9-C967-4730-8BE5-220524FB7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1C35E5-2F3E-49D5-BF13-DE771F09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CB707-720D-4BDB-B790-BCD9AB29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F0959-A315-403B-A64D-6F1C34E2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11F8-7D71-4B5F-94A1-8C1E045A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A31EA-2083-48C3-9784-1FF755CE3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2D6A3-82DF-4259-B9F9-69058CE41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CC16D-09F5-427F-A818-92D9A9AC7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23179C-2595-496C-A0BC-F170614BE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7638C7-78C8-4E12-A48E-39F642A38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AFED7-91A2-4803-8E82-CF9906C4B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F5482-A140-4B00-9789-7D237CB5C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6273C-91FA-4092-86A3-9BEA4FA91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21EC6-7A4C-492D-866F-C457824D0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FFA95D-805D-48CF-9D2B-0594F37E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A784-F8A9-4D48-B3D5-9D15AEC4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6C8A7-0130-4960-9E56-7211B14F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951AC-EEDA-4980-8DE3-A8D60625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28646-A679-4319-994D-9B73BF221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F9801-71C3-4D3A-AC9B-4235123EE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75D51-C9DE-45F0-AA97-4C67D3A3F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87046D-C972-4334-BDF6-D3A444A90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34CA59-BDD2-414F-B9EE-600F0338B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2713FC-5484-4F61-BA02-086C26A85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0C6B6E-33AD-4EC5-8C0E-B142762B3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FC0CC6-D032-4A59-9A67-7A5181328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F21A-9BFF-482C-996D-583C0CD4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D23D10-E235-4B54-A48E-192FFA8B9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0A7413-D19F-46E5-B5F1-FB40E599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123C03-45F3-47BC-A9C4-C534FF2E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E95D43-995C-4550-80A1-14CA388C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E360CD-D6A3-4C6C-BBE8-F11296ECE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043232-9CE1-4D7A-A1DC-11C66991D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7F4755-EADD-44BA-B064-E81861CCD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611229-B333-47A1-96A5-BA3A3C74C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C92329-F9C3-4DD2-BD0D-234C2E888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792CA1-F66F-4FC6-9E0E-88A4D5B5C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722FF-21C4-4BB8-8847-253E36084677}" type="slidenum">
              <a:rPr b="1" lang="uk-U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8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9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30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48943-1DE7-4FF1-8FDD-D95DFA826422}" type="slidenum">
              <a:rPr b="1" lang="uk-U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3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3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52909-CF38-410A-BA14-D92A6C5D17FE}" type="slidenum">
              <a:rPr b="1" lang="uk-U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4D394-E2E0-4034-91A8-B6433E91ED53}" type="slidenum">
              <a:rPr b="1" lang="uk-U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9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5CD7F-049A-4BDD-8792-C11F18360A9F}" type="slidenum">
              <a:rPr b="1" lang="uk-U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6E6BC-57CC-4F88-A40C-8214D06CD71B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0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2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3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B7CF-F3AA-4A67-847A-76B4F013F047}" type="slidenum">
              <a:rPr b="1" lang="uk-U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90697-68F1-486C-A8F4-F037B6326C80}" type="slidenum">
              <a:rPr b="1" lang="uk-U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74F20-970D-40E9-8911-19BC0D0656D6}" type="slidenum">
              <a:rPr b="1" lang="uk-U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8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FE257-4271-4C7C-A6BC-E84F6EAC10DA}" type="slidenum">
              <a:rPr b="1" lang="uk-U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6DBEB-DFAD-4E19-A28B-079D1206ED1F}" type="slidenum">
              <a:rPr b="1" lang="uk-U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2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4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E9947-BC64-4DB1-A8B0-34716249F98C}" type="slidenum">
              <a:rPr b="1" lang="uk-U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5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7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66B1C-1088-4F6E-8ECD-F9B213D8AD77}" type="slidenum">
              <a:rPr b="1" lang="uk-U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4"/>
          <p:cNvSpPr/>
          <p:nvPr/>
        </p:nvSpPr>
        <p:spPr>
          <a:xfrm>
            <a:off x="1637280" y="1488600"/>
            <a:ext cx="596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66"/>
                </a:solidFill>
                <a:latin typeface="Arial"/>
              </a:rPr>
              <a:t>РОЗРОБКА КОНСТРУКЦІЇ ПРИЛАДУ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66"/>
                </a:solidFill>
                <a:latin typeface="Arial"/>
              </a:rPr>
              <a:t>ДЛЯ ДІАГНОСТИКИ ТРОМБОФЛЕБІТУ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7" name="Rectangle 6"/>
          <p:cNvSpPr/>
          <p:nvPr/>
        </p:nvSpPr>
        <p:spPr>
          <a:xfrm>
            <a:off x="5036040" y="4006800"/>
            <a:ext cx="347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Розробив ст. гр. МА-14сп з/ф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Чанкселіані В.І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8" name="Rectangle 10"/>
          <p:cNvSpPr/>
          <p:nvPr/>
        </p:nvSpPr>
        <p:spPr>
          <a:xfrm>
            <a:off x="4398840" y="5375880"/>
            <a:ext cx="405936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3366"/>
                </a:solidFill>
                <a:latin typeface="Arial"/>
                <a:ea typeface="Arial"/>
              </a:rPr>
              <a:t>Керівник дипломного проекту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К.т.н., асистент Костішин С.В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550" name="Object 1"/>
          <p:cNvGraphicFramePr/>
          <p:nvPr/>
        </p:nvGraphicFramePr>
        <p:xfrm>
          <a:off x="71280" y="357120"/>
          <a:ext cx="8883720" cy="628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" y="357120"/>
                    <a:ext cx="8883720" cy="628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553" name="Object 3"/>
          <p:cNvGraphicFramePr/>
          <p:nvPr/>
        </p:nvGraphicFramePr>
        <p:xfrm>
          <a:off x="112680" y="285840"/>
          <a:ext cx="8859960" cy="627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680" y="285840"/>
                    <a:ext cx="8859960" cy="627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556" name="Object 3"/>
          <p:cNvGraphicFramePr/>
          <p:nvPr/>
        </p:nvGraphicFramePr>
        <p:xfrm>
          <a:off x="285840" y="480960"/>
          <a:ext cx="8715240" cy="616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480960"/>
                    <a:ext cx="8715240" cy="616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559" name="Object 3"/>
          <p:cNvGraphicFramePr/>
          <p:nvPr/>
        </p:nvGraphicFramePr>
        <p:xfrm>
          <a:off x="142920" y="285840"/>
          <a:ext cx="8877240" cy="627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285840"/>
                    <a:ext cx="8877240" cy="627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562" name="Object 3"/>
          <p:cNvGraphicFramePr/>
          <p:nvPr/>
        </p:nvGraphicFramePr>
        <p:xfrm>
          <a:off x="155520" y="382680"/>
          <a:ext cx="8845560" cy="626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520" y="382680"/>
                    <a:ext cx="8845560" cy="626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565" name="Object 4"/>
          <p:cNvGraphicFramePr/>
          <p:nvPr/>
        </p:nvGraphicFramePr>
        <p:xfrm>
          <a:off x="785880" y="66600"/>
          <a:ext cx="7810560" cy="666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880" y="66600"/>
                    <a:ext cx="7810560" cy="666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4T16:38:35Z</dcterms:created>
  <dc:creator/>
  <dc:description/>
  <dc:language>en-US</dc:language>
  <cp:lastModifiedBy>sky</cp:lastModifiedBy>
  <dcterms:modified xsi:type="dcterms:W3CDTF">2015-06-15T11:41:35Z</dcterms:modified>
  <cp:revision>16</cp:revision>
  <dc:subject/>
  <dc:title>Слайд 1</dc:title>
</cp:coreProperties>
</file>