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C5A-9E27-4FF3-8697-854AFE49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4C2-453E-4A6E-8EDA-371D18A3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44F-059D-45AF-BF48-D338746F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01A-B8E5-497C-B096-21F40292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CE8-79E4-424A-A588-34371CA1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FDF6-1737-45E5-BF29-51E5DD91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3A18-F4C9-4A29-8D4C-4AB0DFEB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8D3D-240D-4CAF-857E-238FE95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92A-7F97-46EC-BD54-B897458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5BA-E891-4264-9F19-9C50CCFB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10E-3CA4-4D7B-972C-DD7CCD5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479-F56B-48E2-84F4-2C41E8D1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419-02C9-4DD4-97D7-8C78DA0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3D78-E903-4EA2-BFF5-376EF95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4444-F3E1-4521-B3CC-25FF935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9F0B-0343-4ECF-8FB1-E58DCD58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7FD-9648-42E1-B9EA-488D68ED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B5EE-B43A-424D-8C6B-6A37897D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2AE4-804B-4838-8784-2CAF1FFD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A2EF-20F7-43CA-B02A-63279DC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3597-4E03-4D90-8D34-9BA4E21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8C7F-D608-44E2-A8D8-805DCB2F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FE5-C988-42D6-BD68-9D943968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40A5-90C7-4523-A0A1-3D3E800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1B5F-222F-4D74-A830-75838050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C225-073B-4F33-8742-F84238E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AF41-E8C7-43E2-BBA0-F7B2164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5025-4370-427C-9A0A-F34980D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37CA-045C-4EA8-9976-EE91FAD2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1885-4DB7-47F1-90EB-82B25E00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EA450-7146-4DDF-B124-5BF50E34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FBDC-A5A6-4539-A499-7EA04C2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EAFC-3935-4C5D-91F4-DA97B33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A21-99A6-4401-B44F-5C5348CA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11D7-70FB-4D4E-9E2C-13D99884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842C1-1246-44B7-AFBC-14C1348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2AD0-3D5F-49F4-BC6F-95508661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4B65-8584-4B6D-83A3-EA75DEE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FFCA-2B88-43FD-BC08-D310D5E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2CBC-3A48-4EA7-A8C2-32883FA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25E1-077E-4602-8F17-04FD7693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DC8F-D555-4BE6-A901-6B861FE9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7464-B09D-4250-8F45-8FB65286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FA0-6B30-476D-B15C-F064A363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DF7-5947-4E03-8F6E-F6F7BC7B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0D7-59C9-4A43-AEF3-25552B7E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456-B1A9-46AA-B5BE-42782A2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CCA-48D5-4968-8C7C-B297678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5D0-570A-4DB5-9F6D-643EC67348B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CF0C-C975-4E1C-9C19-8C0B1737153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8D08-B45B-4301-9476-16C17BB0C6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40C-2463-4A11-91BA-AE4F9F1922F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7800" y="1517400"/>
            <a:ext cx="91710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90c226"/>
                </a:solidFill>
                <a:latin typeface="Trebuchet MS"/>
              </a:rPr>
              <a:t>Система широкосмугового доступу на базі ВОЛЗ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54040" y="576072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иконав: ст. гр. ТК-14сп Письменюк І. 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ерівник: к. т. н. доцент Барась С. 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ЕЛЕКТРООПТИЧНІ МОДУ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14745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Для модуляції світла широко використовують електрооптичний ефект Керра, який заключається у виникненні оптичної анізотропії під дією зовнішнього електричного поля в ізотропній речовині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4" descr="Работа оптических модуляторов"/>
          <p:cNvPicPr/>
          <p:nvPr/>
        </p:nvPicPr>
        <p:blipFill>
          <a:blip r:embed="rId1"/>
          <a:srcRect l="0" t="19697" r="42185" b="19746"/>
          <a:stretch/>
        </p:blipFill>
        <p:spPr>
          <a:xfrm>
            <a:off x="1285920" y="2414520"/>
            <a:ext cx="3430440" cy="16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4565520" y="2418840"/>
            <a:ext cx="531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– поляризатор, А – ана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, МС – моду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юче середовищ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Робота оптичних модуляторів на основі ефекту Керра;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677880" y="4068720"/>
            <a:ext cx="91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йшовши через осередок Keppa, світлова хвиля розпадається на дві лінійно поляризовані складові. Одна з них поляризована так, що її електричний вектор орієнтований перпендикулярно зовнішньому полю, а інша – паралель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МОДУЛЯЦІ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демодуляції використовується в основному два види прийому оптичних сигналів: некогерентний прийом, тобто безпосередній прийом фотодетектором і когерентний прийом, в якому застосовується гетеродинн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або гомодинн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еретворення частоти незалежно від виду демодуляції (синхронна або несинхронна), здійснюваної на проміжній частоті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7440" y="1598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СТРУКТУРНІ СХЕМИ ДЕМОДУЛЯЦІЇ ОПТИЧНИХ СИГНАЛ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8" descr=""/>
          <p:cNvPicPr/>
          <p:nvPr/>
        </p:nvPicPr>
        <p:blipFill>
          <a:blip r:embed="rId2"/>
          <a:srcRect l="0" t="0" r="33712" b="65995"/>
          <a:stretch/>
        </p:blipFill>
        <p:spPr>
          <a:xfrm>
            <a:off x="457200" y="1376280"/>
            <a:ext cx="5343480" cy="1952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4" descr="Структурная схема непосредственного приёма оптических сигналов"/>
          <p:cNvPicPr/>
          <p:nvPr/>
        </p:nvPicPr>
        <p:blipFill>
          <a:blip r:embed="rId3"/>
          <a:stretch/>
        </p:blipFill>
        <p:spPr>
          <a:xfrm>
            <a:off x="4975200" y="3419640"/>
            <a:ext cx="5391000" cy="809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5" descr=""/>
          <p:cNvPicPr/>
          <p:nvPr/>
        </p:nvPicPr>
        <p:blipFill>
          <a:blip r:embed="rId4"/>
          <a:stretch/>
        </p:blipFill>
        <p:spPr>
          <a:xfrm>
            <a:off x="814320" y="4713120"/>
            <a:ext cx="5715000" cy="15624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923800" y="1279080"/>
            <a:ext cx="403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труктурна схема прийому 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ного випромінювання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дульованого цифровим сигнал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7040" y="3246120"/>
            <a:ext cx="436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безпосереднь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ому оптичних сигналі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алоговою МІ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6527160" y="4542120"/>
            <a:ext cx="4138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руктурна схема гетеродинн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ворення часто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РИСТРОЇ ВВЕДЕННЯ ТА ВИВЕДЕНН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25240" y="1637280"/>
            <a:ext cx="79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з найбільш поширених пристроїв введення є коніч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45" descr="Способ  ввода излучения  в ВС с помощью оптического конуса"/>
          <p:cNvPicPr/>
          <p:nvPr/>
        </p:nvPicPr>
        <p:blipFill>
          <a:blip r:embed="rId1"/>
          <a:stretch/>
        </p:blipFill>
        <p:spPr>
          <a:xfrm>
            <a:off x="2857680" y="2185920"/>
            <a:ext cx="4954320" cy="2586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530000" y="4689720"/>
            <a:ext cx="71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рело випромінюва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одовий волоконний світло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на лін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4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ий кону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5 - серцевина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63160" y="97920"/>
            <a:ext cx="859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З’ЄДНУВ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6" name="Рисунок 51" descr="Способ соединение волокна с помощью трубки"/>
          <p:cNvPicPr/>
          <p:nvPr/>
        </p:nvPicPr>
        <p:blipFill>
          <a:blip r:embed="rId1"/>
          <a:stretch/>
        </p:blipFill>
        <p:spPr>
          <a:xfrm>
            <a:off x="285840" y="974880"/>
            <a:ext cx="4790880" cy="17809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0" descr="Способы соединения волокна с помощью пластин"/>
          <p:cNvPicPr/>
          <p:nvPr/>
        </p:nvPicPr>
        <p:blipFill>
          <a:blip r:embed="rId2"/>
          <a:stretch/>
        </p:blipFill>
        <p:spPr>
          <a:xfrm>
            <a:off x="285840" y="3944880"/>
            <a:ext cx="4057560" cy="18194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285840" y="105732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97000" y="2785320"/>
            <a:ext cx="4867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втулка; 2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ююч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аунд; 3,4-волокна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іб з’єднання волокон за допомогою труб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23720" y="5781960"/>
            <a:ext cx="51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волокно; 2-канавки; 3-пластина; 4-кр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’єднання волокна за допомогою пластин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руглою (а) і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ібною (б) канавк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05200" y="127080"/>
            <a:ext cx="85960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РОЗГАЛУЖУВ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Прямоугольник 3"/>
          <p:cNvSpPr/>
          <p:nvPr/>
        </p:nvSpPr>
        <p:spPr>
          <a:xfrm>
            <a:off x="262080" y="8715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і розгалужувачі підрозділяються на три категорії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вовидний розгалужувач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лужув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ркоподіб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галужувач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262080" y="202896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Рисунок 24" descr=""/>
          <p:cNvPicPr/>
          <p:nvPr/>
        </p:nvPicPr>
        <p:blipFill>
          <a:blip r:embed="rId1"/>
          <a:stretch/>
        </p:blipFill>
        <p:spPr>
          <a:xfrm>
            <a:off x="262080" y="2417760"/>
            <a:ext cx="4857480" cy="1504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687240" y="4127760"/>
            <a:ext cx="44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тичне зображення деревовидного розгалужувач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00120" y="39117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Рисунок 54" descr="Устройство биконического сварного ответвителя"/>
          <p:cNvPicPr/>
          <p:nvPr/>
        </p:nvPicPr>
        <p:blipFill>
          <a:blip r:embed="rId2"/>
          <a:stretch/>
        </p:blipFill>
        <p:spPr>
          <a:xfrm>
            <a:off x="600120" y="4368960"/>
            <a:ext cx="4181400" cy="1809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682560" y="6104160"/>
            <a:ext cx="518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а хід променів в біконічному зварному відгалужувачі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781520" y="166068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Рисунок 25" descr=""/>
          <p:cNvPicPr/>
          <p:nvPr/>
        </p:nvPicPr>
        <p:blipFill>
          <a:blip r:embed="rId3"/>
          <a:stretch/>
        </p:blipFill>
        <p:spPr>
          <a:xfrm>
            <a:off x="5119560" y="1622520"/>
            <a:ext cx="5238720" cy="1133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9"/>
          <p:cNvSpPr/>
          <p:nvPr/>
        </p:nvSpPr>
        <p:spPr>
          <a:xfrm>
            <a:off x="5740920" y="2810880"/>
            <a:ext cx="440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тичне зображення зіркоподібного разгалужувач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7520" y="137880"/>
            <a:ext cx="8596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АТЕНЮАТОРИ ТА ІЗО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677880" y="1190520"/>
            <a:ext cx="5667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енюатори забезпечують внесене згасання в прямому напрямку 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п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і працюють двонаправлено (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п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з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 Величина зниження рівня оптичної потужності може бути постійною (фіксовані атенюатори) або змінною (змінні атенюатори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2584440" y="3468600"/>
            <a:ext cx="668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олятори виключають вплив відбиття прямого випромінювання на частоту і амплітуду сигналів, що генеруються напівпровідниковими лазерами та іншими джерелами випромінюва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роботи оптичного ізолятора лежить магнітооптичний ефект Фарадея. Згідно з ним відбувається поворот площини поляризації випромінювання, що проходить через магнітооптичний матеріал, що знаходиться під дією зовнішнього магнітного пол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12348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УЛЬТИПЛЕКС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504720" y="1028880"/>
            <a:ext cx="53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б'єднання і розділення оптичних носійних можуть використовуватися різні мультиплексори, робота яких заснована на відомих явищах фізичної оптики: дисперсії, дифракції, інтерференції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185760" y="18921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Рисунок 83" descr="Схема разделения оптических несущих с помощью призмы"/>
          <p:cNvPicPr/>
          <p:nvPr/>
        </p:nvPicPr>
        <p:blipFill>
          <a:blip r:embed="rId1"/>
          <a:stretch/>
        </p:blipFill>
        <p:spPr>
          <a:xfrm>
            <a:off x="185760" y="2349360"/>
            <a:ext cx="5562720" cy="1257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682200" y="3467160"/>
            <a:ext cx="480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озділення оптичних носійних за допомогою призми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775480" y="37152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Рисунок 82" descr="Схема разделения оптических несущих с помощью дифракционной решётки"/>
          <p:cNvPicPr/>
          <p:nvPr/>
        </p:nvPicPr>
        <p:blipFill>
          <a:blip r:embed="rId2"/>
          <a:stretch/>
        </p:blipFill>
        <p:spPr>
          <a:xfrm>
            <a:off x="6237360" y="504720"/>
            <a:ext cx="5648400" cy="2524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7513560" y="3032280"/>
            <a:ext cx="30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озділення оптичних носійни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дифракційної ришітк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119320" y="37386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Рисунок 76" descr="Схема устройства пятиканального демультиплексора"/>
          <p:cNvPicPr/>
          <p:nvPr/>
        </p:nvPicPr>
        <p:blipFill>
          <a:blip r:embed="rId3"/>
          <a:stretch/>
        </p:blipFill>
        <p:spPr>
          <a:xfrm>
            <a:off x="2119320" y="4195800"/>
            <a:ext cx="6114960" cy="1819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2705400" y="5923800"/>
            <a:ext cx="613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вхідний ВС; 2–вихідні ВС; 3–об’єктив;4–дифракційна решітка;5–розріз А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’ятиканального демультиплексор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520" y="10116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РЕТРАНС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18960" y="8222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одом підсилення оптичного сигналу ретранслятори поділяються на дві категорії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ювачі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чні підсилювач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318960" y="14223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Рисунок 22" descr=""/>
          <p:cNvPicPr/>
          <p:nvPr/>
        </p:nvPicPr>
        <p:blipFill>
          <a:blip r:embed="rId1"/>
          <a:srcRect l="0" t="0" r="4011" b="0"/>
          <a:stretch/>
        </p:blipFill>
        <p:spPr>
          <a:xfrm>
            <a:off x="3952800" y="1263600"/>
            <a:ext cx="5857920" cy="2409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4760640" y="3659400"/>
            <a:ext cx="465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електронно-оптичного повторювача (а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форма оптичного і електричного сигналів (б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7091280" y="32004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Рисунок 26" descr=""/>
          <p:cNvPicPr/>
          <p:nvPr/>
        </p:nvPicPr>
        <p:blipFill>
          <a:blip r:embed="rId2"/>
          <a:stretch/>
        </p:blipFill>
        <p:spPr>
          <a:xfrm>
            <a:off x="488880" y="2398680"/>
            <a:ext cx="3295800" cy="1895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84200" y="429444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оптичного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илювач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2017800" y="418140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Рисунок 30" descr=""/>
          <p:cNvPicPr/>
          <p:nvPr/>
        </p:nvPicPr>
        <p:blipFill>
          <a:blip r:embed="rId3"/>
          <a:srcRect l="0" t="0" r="0" b="13871"/>
          <a:stretch/>
        </p:blipFill>
        <p:spPr>
          <a:xfrm>
            <a:off x="2017800" y="4638600"/>
            <a:ext cx="5933880" cy="1952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9"/>
          <p:cNvSpPr/>
          <p:nvPr/>
        </p:nvSpPr>
        <p:spPr>
          <a:xfrm>
            <a:off x="2620800" y="6483600"/>
            <a:ext cx="534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ого підсилювача на домішковому волокні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1600" y="1742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КОМУТА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406440" y="78408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Рисунок 31" descr=""/>
          <p:cNvPicPr/>
          <p:nvPr/>
        </p:nvPicPr>
        <p:blipFill>
          <a:blip r:embed="rId1"/>
          <a:srcRect l="0" t="0" r="17178" b="54961"/>
          <a:stretch/>
        </p:blipFill>
        <p:spPr>
          <a:xfrm>
            <a:off x="406440" y="1241280"/>
            <a:ext cx="5376960" cy="2082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625680" y="311004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двохплечового оптичного розгалужувача-комутатор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2349360" y="404496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роботи оптичного комутатора використовується лінійний електрооптичний ефект Поккельса, який полягає в зміні показника заломлення матеріалу пропорційно напруженості прикладеного електричного по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207720"/>
            <a:ext cx="88074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ОГЛЯД ТА ПОРІВНЯННЯ СИСТЕМ ШИРОКОСМУГОВОГО ДОСТУПУ НА БАЗІ ВОЛЗ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880" y="1444320"/>
            <a:ext cx="574992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Активна  оптична мереж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Рисунок 4" descr=""/>
          <p:cNvPicPr/>
          <p:nvPr/>
        </p:nvPicPr>
        <p:blipFill>
          <a:blip r:embed="rId1"/>
          <a:stretch/>
        </p:blipFill>
        <p:spPr>
          <a:xfrm>
            <a:off x="1332000" y="2178000"/>
            <a:ext cx="5943600" cy="1555920"/>
          </a:xfrm>
          <a:prstGeom prst="rect">
            <a:avLst/>
          </a:prstGeom>
          <a:ln w="0">
            <a:noFill/>
          </a:ln>
        </p:spPr>
      </p:pic>
      <p:sp>
        <p:nvSpPr>
          <p:cNvPr id="217" name="Объект 2"/>
          <p:cNvSpPr/>
          <p:nvPr/>
        </p:nvSpPr>
        <p:spPr>
          <a:xfrm>
            <a:off x="830160" y="4051440"/>
            <a:ext cx="5749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асивна оптична мереж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topol_tree"/>
          <p:cNvPicPr/>
          <p:nvPr/>
        </p:nvPicPr>
        <p:blipFill>
          <a:blip r:embed="rId2"/>
          <a:stretch/>
        </p:blipFill>
        <p:spPr>
          <a:xfrm>
            <a:off x="2027160" y="4605480"/>
            <a:ext cx="45529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6360" y="160200"/>
            <a:ext cx="859608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Хвильові конвертe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576360" y="855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вильовий конвертер здійснює оптичне перетворення довжини хвилі вхідного сигналу в іншу довжину хвил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770040" y="-158256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Рисунок 32" descr=""/>
          <p:cNvPicPr/>
          <p:nvPr/>
        </p:nvPicPr>
        <p:blipFill>
          <a:blip r:embed="rId1"/>
          <a:srcRect l="0" t="0" r="34190" b="50961"/>
          <a:stretch/>
        </p:blipFill>
        <p:spPr>
          <a:xfrm>
            <a:off x="576360" y="1552680"/>
            <a:ext cx="4867200" cy="2909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2321640" y="4597920"/>
            <a:ext cx="69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(а) та профілі потужності вхідного і вихідного сигналів хвилевого конвертера (б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Рисунок 7" descr=""/>
          <p:cNvPicPr/>
          <p:nvPr/>
        </p:nvPicPr>
        <p:blipFill>
          <a:blip r:embed="rId2"/>
          <a:srcRect l="5102" t="53364" r="34190" b="0"/>
          <a:stretch/>
        </p:blipFill>
        <p:spPr>
          <a:xfrm>
            <a:off x="5443560" y="1503360"/>
            <a:ext cx="44895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30560" y="2859120"/>
            <a:ext cx="859608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90c226"/>
                </a:solidFill>
                <a:latin typeface="Trebuchet MS"/>
              </a:rPr>
              <a:t>ДЯКУЮ ЗА УВАГУ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595440" y="563400"/>
          <a:ext cx="8916840" cy="4322880"/>
        </p:xfrm>
        <a:graphic>
          <a:graphicData uri="http://schemas.openxmlformats.org/drawingml/2006/table">
            <a:tbl>
              <a:tblPr/>
              <a:tblGrid>
                <a:gridCol w="4459320"/>
                <a:gridCol w="44575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івняння систем широкосмугового доступу на базі ВОЛ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ктивні оптичні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сивні оптичні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в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оненти активних мереж можуть самостійно вибирати обладнання, яке забезпечуватиме необхідну їм дальність передачі да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жне оптичне волокно кабелю пасивної мережі може обслуговувати одночасно до 32 користувач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жливість розширювати мережу без необхідності її реструктури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ільша економічність в установці і подольшому технічному обслуговува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ька імовірність поло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долі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обхідність установки комутаторів для кожних 48 абонентів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а дальність передач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268200"/>
            <a:ext cx="85964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ВИДИ МОДУЛЯЦІЇ СВІТЛ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78000" y="1774800"/>
            <a:ext cx="91375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модуляції оптичної носійної інформаційним сигналом можна використовувати такі види модуляції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 інтенсивності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(М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І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астотну (ЧМ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азову (ФМ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ляризац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ійну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(ПМ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 переважній більшості використовується модуляція за інтенсивністю оптичного випроміню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9280" y="623520"/>
            <a:ext cx="90518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ЕТОДИ МОДУЛЯЦІЇ ОПТИЧНОЇ НОСІЙНОЇ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безпосередня модуляція оптичної носійної лінійною кодовою послідовністю (ЛКП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носійної з використанням спеціального модулятора, сигнал якого видозмінюється за допомогою ЛКП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з використанням проміжної носійної, яка потім безпосередньо модулює оптичну носійн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з використанням підносійної і модулято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209160"/>
            <a:ext cx="9458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БЕЗПОСЕРЕДНЯ МОДУЛЯЦІЯ ОПТИЧНОЇ НОСІЙНОЇ ЛІНІЙНОЮ КОДОВОЮ ПОСЛІДОВНІСТЮ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49000" y="1530000"/>
            <a:ext cx="96375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Ця модуляція може бути здійснена, наприклад, шляхом безпосередньої модуляції струму накачування лазерного діода по типу "включено - виключено" відповідно до ЛКП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Така внутрішня модуляція інтенсивності випромінювання ЛД струмом накачування може проводитися з високою швидкіст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етод внутрішньої модуляції оптичної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осійної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ає ряд істотних недолікі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имагає електронних схем компенсації через нелінійність ват-амперної характеристики лаз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пливає на спектр випромінювання лазера і амплітуди окремих мод резонато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дозволяє повною мірою використовувати інші більш прогресивні методи кодування, засновані на модуляції амплітуди і фази, що застосовуються в спеціальних модулятор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зручний для систем з оптичним мультиплексуванням з поділом по довжинах хвиль, де кілька джерел, модулюючих сигналів використовуються одночасно для передачі інформації по одній носійні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880" y="394920"/>
            <a:ext cx="93297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ОДУЛЯЦІЯ З ВИКОРИСТАННЯМ ПРОМІЖНОЇ НОСІЙНОЇ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оловна відмінність цієї схеми модуляції від схеми прямої модуляції в тому, що при цьому можуть бути використані різні стандартні методи і пристрої модуляції: амплітудні, частотні, фазові і комбіновані, добре розроблені для діапазону радіочасто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rcRect l="0" t="0" r="19260" b="59014"/>
          <a:stretch/>
        </p:blipFill>
        <p:spPr>
          <a:xfrm>
            <a:off x="1265400" y="3513240"/>
            <a:ext cx="6149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ТИПИ ОПТИЧНИХ МОДУЛЯТОР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акустооптичні, що використовують закони акустоопт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електрооптичні, що використовують закони електроопт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електрооптичні, що використовують напівпровідникові підсилювачі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АКУСТООПТИЧНІ МОДУ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157464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нцип дії акустооптичного модулятора (АОМ) заснований на залежності показника заломлення оптично прозорих матеріалів (наприклад, ніобата літію LiNbO</a:t>
            </a:r>
            <a:r>
              <a:rPr b="0" lang="ru-RU" sz="18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від тис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2790720" y="2523960"/>
            <a:ext cx="4595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8:21:10Z</dcterms:created>
  <dc:creator>Іван Письменюк</dc:creator>
  <dc:description/>
  <dc:language>en-US</dc:language>
  <cp:lastModifiedBy>Іван Письменюк</cp:lastModifiedBy>
  <dcterms:modified xsi:type="dcterms:W3CDTF">2015-06-16T20:31:51Z</dcterms:modified>
  <cp:revision>15</cp:revision>
  <dc:subject/>
  <dc:title>Система широкосмугового доступу на базі ВОЛЗ</dc:title>
</cp:coreProperties>
</file>