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860-95F8-4BB4-A2B9-D84D1C77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ADD-EBBC-461F-B20F-8A832E50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D7D-4571-4C81-AE34-BFEC79AE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869-0CA9-478C-864E-8B9BAB3A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9E6C-69D0-4439-B760-1A832C08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7770-4551-4D64-A4F7-48530E85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F602-A38D-4BDC-81A9-A66866DE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567F-258C-4589-AE16-504EC302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FFE1-C4FE-4864-9154-AB20A929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91BC-CA2C-469F-9A73-FE26535A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4DE5-E686-457A-B8A8-0248FF20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448-FD86-4E3C-9A64-E1B3F8E4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F441-755A-49DB-9000-2A3A6874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8E59-64E0-4EF2-8484-D99DDB21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546C-BCB8-4898-9B2F-F1E79ACD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755E-DDBE-408E-80DA-DC550283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3CB4-F5B8-448A-9913-1161CD63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882F9-1EB0-49C2-89B9-D8E4F7BF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97C2E-DAFD-4770-AAF6-47D50370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7633F-ADEA-4361-BB4C-4371E7BF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8D929-5908-4E6D-963D-10045500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C477A-C632-499F-836A-1B7FCE54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F43-F6FF-4442-8B72-FAAA1AE0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E20C6-1B80-4F61-8D8A-217D7617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69F6-25D3-4324-81E7-311ABF8F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4396F-EB85-4CA6-92E1-3E5B0948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D5912-C3A1-4DE9-89EC-2EAB5B11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43927-D3B1-404E-B403-97594749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AB68F-6E0A-437C-ABE7-EE6A477C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381CA-F072-4BA2-BB1D-FC63BD05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79522-69EE-4BAD-9F70-008C87E7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14C4E-5C09-40CF-9C4A-BA4D19E3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D4497-CE90-41EB-B490-50E9C89D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4B0-0002-4C1E-BF2D-03C30ABC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FF9FD-241E-4CB2-80C4-5BF11BD6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0F622-9461-4386-A225-AF72CA82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23EAE-7646-4B73-835C-90CB3A85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88EC1-DA9D-4254-BB7C-854B07B5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B5B7E-CCC3-441E-9BBF-102839C8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785C1-63EB-4362-9051-DDC896EC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3A903-EBE1-4BD6-B696-E3EF801E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3FFAE-F918-4DC4-832D-642A13D0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AD6BA-1BE4-4726-8E78-BDCCE523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927C-ECAA-4162-A236-71AAD111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971-ECC3-4566-B4B6-F4C54671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977-4470-4AE1-B613-7EE3A110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FBC-05C3-4597-8561-DEBC2056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141-7A60-41D8-A63C-A50BBD12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B681-D6CC-449D-9B2A-32799BE9AFB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E588-D21F-47D2-8BD8-88EAC2323DF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04AC-49D1-4C96-AF86-A000231CD79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2EF7-97D2-4883-8F35-99092774715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7800" y="1517400"/>
            <a:ext cx="917100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5400" spc="-1" strike="noStrike">
                <a:solidFill>
                  <a:srgbClr val="90c226"/>
                </a:solidFill>
                <a:latin typeface="Trebuchet MS"/>
              </a:rPr>
              <a:t>Система широкосмугового доступу на базі ВОЛЗ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54040" y="576072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Виконав: ст. гр. ТК-14сп Письменюк І. 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Керівник: к. т. н. доцент Барась С. 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ЕЛЕКТРООПТИЧНІ МОДУЛЯТОР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520" y="14745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Для модуляції світла широко використовують електрооптичний ефект Керра, який заключається у виникненні оптичної анізотропії під дією зовнішнього електричного поля в ізотропній речовині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Рисунок 34" descr="Работа оптических модуляторов"/>
          <p:cNvPicPr/>
          <p:nvPr/>
        </p:nvPicPr>
        <p:blipFill>
          <a:blip r:embed="rId1"/>
          <a:srcRect l="0" t="19697" r="42185" b="19746"/>
          <a:stretch/>
        </p:blipFill>
        <p:spPr>
          <a:xfrm>
            <a:off x="1285920" y="2414520"/>
            <a:ext cx="3430440" cy="1685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4565520" y="2418840"/>
            <a:ext cx="531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– поляризатор, А – ана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р, МС – моду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юче середовищ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  <a:ea typeface="Calibri"/>
              </a:rPr>
              <a:t>Робота оптичних модуляторів на основі ефекту Керра;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Прямоугольник 5"/>
          <p:cNvSpPr/>
          <p:nvPr/>
        </p:nvSpPr>
        <p:spPr>
          <a:xfrm>
            <a:off x="677880" y="4068720"/>
            <a:ext cx="911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йшовши через осередок Keppa, світлова хвиля розпадається на дві лінійно поляризовані складові. Одна з них поляризована так, що її електричний вектор орієнтований перпендикулярно зовнішньому полю, а інша – паралельно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ДЕМОДУЛЯЦІ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демодуляції використовується в основному два види прийому оптичних сигналів: некогерентний прийом, тобто безпосередній прийом фотодетектором і когерентний прийом, в якому застосовується гетеродинн</a:t>
            </a: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або гомодинн</a:t>
            </a: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еретворення частоти незалежно від виду демодуляції (синхронна або несинхронна), здійснюваної на проміжній частоті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7440" y="15984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СТРУКТУРНІ СХЕМИ ДЕМОДУЛЯЦІЇ ОПТИЧНИХ СИГНАЛІВ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77520" y="2160360"/>
            <a:ext cx="8596440" cy="38811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48" descr=""/>
          <p:cNvPicPr/>
          <p:nvPr/>
        </p:nvPicPr>
        <p:blipFill>
          <a:blip r:embed="rId2"/>
          <a:srcRect l="0" t="0" r="33712" b="65995"/>
          <a:stretch/>
        </p:blipFill>
        <p:spPr>
          <a:xfrm>
            <a:off x="457200" y="1376280"/>
            <a:ext cx="5343480" cy="19526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64" descr="Структурная схема непосредственного приёма оптических сигналов"/>
          <p:cNvPicPr/>
          <p:nvPr/>
        </p:nvPicPr>
        <p:blipFill>
          <a:blip r:embed="rId3"/>
          <a:stretch/>
        </p:blipFill>
        <p:spPr>
          <a:xfrm>
            <a:off x="4975200" y="3419640"/>
            <a:ext cx="5391000" cy="8096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65" descr=""/>
          <p:cNvPicPr/>
          <p:nvPr/>
        </p:nvPicPr>
        <p:blipFill>
          <a:blip r:embed="rId4"/>
          <a:stretch/>
        </p:blipFill>
        <p:spPr>
          <a:xfrm>
            <a:off x="814320" y="4713120"/>
            <a:ext cx="5715000" cy="15624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5923800" y="1279080"/>
            <a:ext cx="403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труктурна схема прийому 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чного випромінювання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дульованого цифровим сигнало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257040" y="3246120"/>
            <a:ext cx="436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схема безпосереднього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йому оптичних сигналів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аналоговою МІ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6527160" y="4542120"/>
            <a:ext cx="41385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труктурна схема гетеродинного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творення частот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ПРИСТРОЇ ВВЕДЕННЯ ТА ВИВЕДЕНН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525240" y="1637280"/>
            <a:ext cx="79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з найбільш поширених пристроїв введення є коніч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стрі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Рисунок 45" descr="Способ  ввода излучения  в ВС с помощью оптического конуса"/>
          <p:cNvPicPr/>
          <p:nvPr/>
        </p:nvPicPr>
        <p:blipFill>
          <a:blip r:embed="rId1"/>
          <a:stretch/>
        </p:blipFill>
        <p:spPr>
          <a:xfrm>
            <a:off x="2857680" y="2185920"/>
            <a:ext cx="4954320" cy="25862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1530000" y="4689720"/>
            <a:ext cx="71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ерело випромінюван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2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модовий волоконний світлов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ична лінз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4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ний кону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5 - серцевина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63160" y="97920"/>
            <a:ext cx="8596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ОПТИЧНІ З’ЄДНУВАЧІ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6" name="Рисунок 51" descr="Способ соединение волокна с помощью трубки"/>
          <p:cNvPicPr/>
          <p:nvPr/>
        </p:nvPicPr>
        <p:blipFill>
          <a:blip r:embed="rId1"/>
          <a:stretch/>
        </p:blipFill>
        <p:spPr>
          <a:xfrm>
            <a:off x="285840" y="974880"/>
            <a:ext cx="4790880" cy="178092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50" descr="Способы соединения волокна с помощью пластин"/>
          <p:cNvPicPr/>
          <p:nvPr/>
        </p:nvPicPr>
        <p:blipFill>
          <a:blip r:embed="rId2"/>
          <a:stretch/>
        </p:blipFill>
        <p:spPr>
          <a:xfrm>
            <a:off x="285840" y="3944880"/>
            <a:ext cx="4057560" cy="18194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3"/>
          <p:cNvSpPr/>
          <p:nvPr/>
        </p:nvSpPr>
        <p:spPr>
          <a:xfrm>
            <a:off x="285840" y="1057320"/>
            <a:ext cx="1219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97000" y="2785320"/>
            <a:ext cx="4867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втулка; 2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еююч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аунд; 3,4-волокна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іб з’єднання волокон за допомогою трубк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423720" y="5781960"/>
            <a:ext cx="519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волокно; 2-канавки; 3-пластина; 4-кр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и з’єднання волокна за допомогою пластин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круглою (а) і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ібною (б) канавкам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05200" y="127080"/>
            <a:ext cx="85960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ОПТИЧНІ РОЗГАЛУЖУВАЧІ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Прямоугольник 3"/>
          <p:cNvSpPr/>
          <p:nvPr/>
        </p:nvSpPr>
        <p:spPr>
          <a:xfrm>
            <a:off x="262080" y="87156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ні розгалужувачі підрозділяються на три категорії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вовидний розгалужувач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галужувач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іркоподіб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згалужувач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262080" y="2028960"/>
            <a:ext cx="1219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Рисунок 24" descr=""/>
          <p:cNvPicPr/>
          <p:nvPr/>
        </p:nvPicPr>
        <p:blipFill>
          <a:blip r:embed="rId1"/>
          <a:stretch/>
        </p:blipFill>
        <p:spPr>
          <a:xfrm>
            <a:off x="262080" y="2417760"/>
            <a:ext cx="4857480" cy="15048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"/>
          <p:cNvSpPr/>
          <p:nvPr/>
        </p:nvSpPr>
        <p:spPr>
          <a:xfrm>
            <a:off x="687240" y="4127760"/>
            <a:ext cx="44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тичне зображення деревовидного розгалужувача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600120" y="391176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Рисунок 54" descr="Устройство биконического сварного ответвителя"/>
          <p:cNvPicPr/>
          <p:nvPr/>
        </p:nvPicPr>
        <p:blipFill>
          <a:blip r:embed="rId2"/>
          <a:stretch/>
        </p:blipFill>
        <p:spPr>
          <a:xfrm>
            <a:off x="600120" y="4368960"/>
            <a:ext cx="4181400" cy="18097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682560" y="6104160"/>
            <a:ext cx="518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а хід променів в біконічному зварному відгалужувачі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4781520" y="166068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Рисунок 25" descr=""/>
          <p:cNvPicPr/>
          <p:nvPr/>
        </p:nvPicPr>
        <p:blipFill>
          <a:blip r:embed="rId3"/>
          <a:stretch/>
        </p:blipFill>
        <p:spPr>
          <a:xfrm>
            <a:off x="5119560" y="1622520"/>
            <a:ext cx="5238720" cy="11332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9"/>
          <p:cNvSpPr/>
          <p:nvPr/>
        </p:nvSpPr>
        <p:spPr>
          <a:xfrm>
            <a:off x="5740920" y="2810880"/>
            <a:ext cx="440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тичне зображення зіркоподібного разгалужувач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7520" y="137880"/>
            <a:ext cx="85964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ОПТИЧНІ АТЕНЮАТОРИ ТА ІЗОЛЯТОР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677880" y="1190520"/>
            <a:ext cx="5667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тенюатори забезпечують внесене згасання в прямому напрямку L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п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і працюють двонаправлено (L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п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L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з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. Величина зниження рівня оптичної потужності може бути постійною (фіксовані атенюатори) або змінною (змінні атенюатори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Прямоугольник 4"/>
          <p:cNvSpPr/>
          <p:nvPr/>
        </p:nvSpPr>
        <p:spPr>
          <a:xfrm>
            <a:off x="2584440" y="3468600"/>
            <a:ext cx="6689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золятори виключають вплив відбиття прямого випромінювання на частоту і амплітуду сигналів, що генеруються напівпровідниковими лазерами та іншими джерелами випромінюванн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снові роботи оптичного ізолятора лежить магнітооптичний ефект Фарадея. Згідно з ним відбувається поворот площини поляризації випромінювання, що проходить через магнітооптичний матеріал, що знаходиться під дією зовнішнього магнітного пол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7520" y="12348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МУЛЬТИПЛЕКСОР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Прямоугольник 3"/>
          <p:cNvSpPr/>
          <p:nvPr/>
        </p:nvSpPr>
        <p:spPr>
          <a:xfrm>
            <a:off x="504720" y="1028880"/>
            <a:ext cx="53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об'єднання і розділення оптичних носійних можуть використовуватися різні мультиплексори, робота яких заснована на відомих явищах фізичної оптики: дисперсії, дифракції, інтерференції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185760" y="189216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Рисунок 83" descr="Схема разделения оптических несущих с помощью призмы"/>
          <p:cNvPicPr/>
          <p:nvPr/>
        </p:nvPicPr>
        <p:blipFill>
          <a:blip r:embed="rId1"/>
          <a:stretch/>
        </p:blipFill>
        <p:spPr>
          <a:xfrm>
            <a:off x="185760" y="2349360"/>
            <a:ext cx="5562720" cy="1257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3"/>
          <p:cNvSpPr/>
          <p:nvPr/>
        </p:nvSpPr>
        <p:spPr>
          <a:xfrm>
            <a:off x="682200" y="3467160"/>
            <a:ext cx="480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розділення оптичних носійних за допомогою призми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5775480" y="371520"/>
            <a:ext cx="1219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Рисунок 82" descr="Схема разделения оптических несущих с помощью дифракционной решётки"/>
          <p:cNvPicPr/>
          <p:nvPr/>
        </p:nvPicPr>
        <p:blipFill>
          <a:blip r:embed="rId2"/>
          <a:stretch/>
        </p:blipFill>
        <p:spPr>
          <a:xfrm>
            <a:off x="6237360" y="504720"/>
            <a:ext cx="5648400" cy="25243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7513560" y="3032280"/>
            <a:ext cx="309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розділення оптичних носійних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опомогою дифракційної ришітк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2119320" y="373860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4" name="Рисунок 76" descr="Схема устройства пятиканального демультиплексора"/>
          <p:cNvPicPr/>
          <p:nvPr/>
        </p:nvPicPr>
        <p:blipFill>
          <a:blip r:embed="rId3"/>
          <a:stretch/>
        </p:blipFill>
        <p:spPr>
          <a:xfrm>
            <a:off x="2119320" y="4195800"/>
            <a:ext cx="6114960" cy="18190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9"/>
          <p:cNvSpPr/>
          <p:nvPr/>
        </p:nvSpPr>
        <p:spPr>
          <a:xfrm>
            <a:off x="2705400" y="5923800"/>
            <a:ext cx="613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вхідний ВС; 2–вихідні ВС; 3–об’єктив;4–дифракційна решітка;5–розріз АА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п’ятиканального демультиплексор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7520" y="10116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РЕТРАНСЛЯТОР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318960" y="82224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етодом підсилення оптичного сигналу ретранслятори поділяються на дві категорії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торювачі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птичні підсилювачі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318960" y="142236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Рисунок 22" descr=""/>
          <p:cNvPicPr/>
          <p:nvPr/>
        </p:nvPicPr>
        <p:blipFill>
          <a:blip r:embed="rId1"/>
          <a:srcRect l="0" t="0" r="4011" b="0"/>
          <a:stretch/>
        </p:blipFill>
        <p:spPr>
          <a:xfrm>
            <a:off x="3952800" y="1263600"/>
            <a:ext cx="5857920" cy="24098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"/>
          <p:cNvSpPr/>
          <p:nvPr/>
        </p:nvSpPr>
        <p:spPr>
          <a:xfrm>
            <a:off x="4760640" y="3659400"/>
            <a:ext cx="465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схема електронно-оптичного повторювача (а)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форма оптичного і електричного сигналів (б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7091280" y="320040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2" name="Рисунок 26" descr=""/>
          <p:cNvPicPr/>
          <p:nvPr/>
        </p:nvPicPr>
        <p:blipFill>
          <a:blip r:embed="rId2"/>
          <a:stretch/>
        </p:blipFill>
        <p:spPr>
          <a:xfrm>
            <a:off x="488880" y="2398680"/>
            <a:ext cx="3295800" cy="18954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484200" y="4294440"/>
            <a:ext cx="34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схема оптичного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силювач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2017800" y="4181400"/>
            <a:ext cx="1219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5" name="Рисунок 30" descr=""/>
          <p:cNvPicPr/>
          <p:nvPr/>
        </p:nvPicPr>
        <p:blipFill>
          <a:blip r:embed="rId3"/>
          <a:srcRect l="0" t="0" r="0" b="13871"/>
          <a:stretch/>
        </p:blipFill>
        <p:spPr>
          <a:xfrm>
            <a:off x="2017800" y="4638600"/>
            <a:ext cx="5933880" cy="19526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9"/>
          <p:cNvSpPr/>
          <p:nvPr/>
        </p:nvSpPr>
        <p:spPr>
          <a:xfrm>
            <a:off x="2620800" y="6483600"/>
            <a:ext cx="534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схема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ного підсилювача на домішковому волокні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61600" y="17424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ОПТИЧНІ КОМУТАТОР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406440" y="78408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9" name="Рисунок 31" descr=""/>
          <p:cNvPicPr/>
          <p:nvPr/>
        </p:nvPicPr>
        <p:blipFill>
          <a:blip r:embed="rId1"/>
          <a:srcRect l="0" t="0" r="17178" b="54961"/>
          <a:stretch/>
        </p:blipFill>
        <p:spPr>
          <a:xfrm>
            <a:off x="406440" y="1241280"/>
            <a:ext cx="5376960" cy="20829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3"/>
          <p:cNvSpPr/>
          <p:nvPr/>
        </p:nvSpPr>
        <p:spPr>
          <a:xfrm>
            <a:off x="625680" y="3110040"/>
            <a:ext cx="47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двохплечового оптичного розгалужувача-комутатор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Прямоугольник 5"/>
          <p:cNvSpPr/>
          <p:nvPr/>
        </p:nvSpPr>
        <p:spPr>
          <a:xfrm>
            <a:off x="2349360" y="404496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снові роботи оптичного комутатора використовується лінійний електрооптичний ефект Поккельса, який полягає в зміні показника заломлення матеріалу пропорційно напруженості прикладеного електричного пол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207720"/>
            <a:ext cx="88074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90c226"/>
                </a:solidFill>
                <a:latin typeface="Trebuchet MS"/>
              </a:rPr>
              <a:t>ОГЛЯД ТА ПОРІВНЯННЯ СИСТЕМ ШИРОКОСМУГОВОГО ДОСТУПУ НА БАЗІ ВОЛЗ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880" y="1444320"/>
            <a:ext cx="5749920" cy="5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Активна  оптична мереж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Рисунок 4" descr=""/>
          <p:cNvPicPr/>
          <p:nvPr/>
        </p:nvPicPr>
        <p:blipFill>
          <a:blip r:embed="rId1"/>
          <a:stretch/>
        </p:blipFill>
        <p:spPr>
          <a:xfrm>
            <a:off x="1332000" y="2178000"/>
            <a:ext cx="5943600" cy="1555920"/>
          </a:xfrm>
          <a:prstGeom prst="rect">
            <a:avLst/>
          </a:prstGeom>
          <a:ln w="0">
            <a:noFill/>
          </a:ln>
        </p:spPr>
      </p:pic>
      <p:sp>
        <p:nvSpPr>
          <p:cNvPr id="217" name="Объект 2"/>
          <p:cNvSpPr/>
          <p:nvPr/>
        </p:nvSpPr>
        <p:spPr>
          <a:xfrm>
            <a:off x="830160" y="4051440"/>
            <a:ext cx="5749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асивна оптична мереж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2" descr="topol_tree"/>
          <p:cNvPicPr/>
          <p:nvPr/>
        </p:nvPicPr>
        <p:blipFill>
          <a:blip r:embed="rId2"/>
          <a:stretch/>
        </p:blipFill>
        <p:spPr>
          <a:xfrm>
            <a:off x="2027160" y="4605480"/>
            <a:ext cx="45529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6360" y="160200"/>
            <a:ext cx="859608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Хвильові конвертeр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3" name="Прямоугольник 3"/>
          <p:cNvSpPr/>
          <p:nvPr/>
        </p:nvSpPr>
        <p:spPr>
          <a:xfrm>
            <a:off x="576360" y="855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вильовий конвертер здійснює оптичне перетворення довжини хвилі вхідного сигналу в іншу довжину хвилі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770040" y="-1582560"/>
            <a:ext cx="1219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Рисунок 32" descr=""/>
          <p:cNvPicPr/>
          <p:nvPr/>
        </p:nvPicPr>
        <p:blipFill>
          <a:blip r:embed="rId1"/>
          <a:srcRect l="0" t="0" r="34190" b="50961"/>
          <a:stretch/>
        </p:blipFill>
        <p:spPr>
          <a:xfrm>
            <a:off x="576360" y="1552680"/>
            <a:ext cx="4867200" cy="290988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2321640" y="4597920"/>
            <a:ext cx="69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(а) та профілі потужності вхідного і вихідного сигналів хвилевого конвертера (б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7" name="Рисунок 7" descr=""/>
          <p:cNvPicPr/>
          <p:nvPr/>
        </p:nvPicPr>
        <p:blipFill>
          <a:blip r:embed="rId2"/>
          <a:srcRect l="5102" t="53364" r="34190" b="0"/>
          <a:stretch/>
        </p:blipFill>
        <p:spPr>
          <a:xfrm>
            <a:off x="5443560" y="1503360"/>
            <a:ext cx="44895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30560" y="2859120"/>
            <a:ext cx="8596080" cy="13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5400" spc="-1" strike="noStrike">
                <a:solidFill>
                  <a:srgbClr val="90c226"/>
                </a:solidFill>
                <a:latin typeface="Trebuchet MS"/>
              </a:rPr>
              <a:t>ДЯКУЮ ЗА УВАГУ!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595440" y="563400"/>
          <a:ext cx="8916840" cy="4322880"/>
        </p:xfrm>
        <a:graphic>
          <a:graphicData uri="http://schemas.openxmlformats.org/drawingml/2006/table">
            <a:tbl>
              <a:tblPr/>
              <a:tblGrid>
                <a:gridCol w="4459320"/>
                <a:gridCol w="445752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рівняння систем широкосмугового доступу на базі ВОЛ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ктивні оптичні мереж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асивні оптичні мереж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ев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боненти активних мереж можуть самостійно вибирати обладнання, яке забезпечуватиме необхідну їм дальність передачі да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жне оптичне волокно кабелю пасивної мережі може обслуговувати одночасно до 32 користувач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ожливість розширювати мережу без необхідності її реструктуризац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ільша економічність в установці і подольшому технічному обслуговуван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изька імовірність полом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долі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обхідність установки комутаторів для кожних 48 абонентів мереж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ла дальність передач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268200"/>
            <a:ext cx="8596440" cy="6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ВИДИ МОДУЛЯЦІЇ СВІТЛ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78000" y="1774800"/>
            <a:ext cx="91375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модуляції оптичної носійної інформаційним сигналом можна використовувати такі види модуляції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по інтенсивності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(М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І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частотну (ЧМ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фазову (ФМ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ляризац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ійну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(ПМ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 переважній більшості використовується модуляція за інтенсивністю оптичного випромінюванн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9280" y="623520"/>
            <a:ext cx="90518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МЕТОДИ МОДУЛЯЦІЇ ОПТИЧНОЇ НОСІЙНОЇ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безпосередня модуляція оптичної носійної лінійною кодовою послідовністю (ЛКП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модуляція носійної з використанням спеціального модулятора, сигнал якого видозмінюється за допомогою ЛКП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модуляція з використанням проміжної носійної, яка потім безпосередньо модулює оптичну носійн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модуляція з використанням підносійної і модулятор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209160"/>
            <a:ext cx="94582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90c226"/>
                </a:solidFill>
                <a:latin typeface="Trebuchet MS"/>
              </a:rPr>
              <a:t>БЕЗПОСЕРЕДНЯ МОДУЛЯЦІЯ ОПТИЧНОЇ НОСІЙНОЇ ЛІНІЙНОЮ КОДОВОЮ ПОСЛІДОВНІСТЮ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49000" y="1530000"/>
            <a:ext cx="963756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Ця модуляція може бути здійснена, наприклад, шляхом безпосередньої модуляції струму накачування лазерного діода по типу "включено - виключено" відповідно до ЛКП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Така внутрішня модуляція інтенсивності випромінювання ЛД струмом накачування може проводитися з високою швидкіст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етод внутрішньої модуляції оптичної </a:t>
            </a: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осійної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має ряд істотних недоліків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вимагає електронних схем компенсації через нелінійність ват-амперної характеристики лазер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впливає на спектр випромінювання лазера і амплітуди окремих мод резонатор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дозволяє повною мірою використовувати інші більш прогресивні методи кодування, засновані на модуляції амплітуди і фази, що застосовуються в спеціальних модулятора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зручний для систем з оптичним мультиплексуванням з поділом по довжинах хвиль, де кілька джерел, модулюючих сигналів використовуються одночасно для передачі інформації по одній носійні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880" y="394920"/>
            <a:ext cx="93297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МОДУЛЯЦІЯ З ВИКОРИСТАННЯМ ПРОМІЖНОЇ НОСІЙНОЇ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оловна відмінність цієї схеми модуляції від схеми прямої модуляції в тому, що при цьому можуть бути використані різні стандартні методи і пристрої модуляції: амплітудні, частотні, фазові і комбіновані, добре розроблені для діапазону радіочасто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Рисунок 3" descr=""/>
          <p:cNvPicPr/>
          <p:nvPr/>
        </p:nvPicPr>
        <p:blipFill>
          <a:blip r:embed="rId1"/>
          <a:srcRect l="0" t="0" r="19260" b="59014"/>
          <a:stretch/>
        </p:blipFill>
        <p:spPr>
          <a:xfrm>
            <a:off x="1265400" y="3513240"/>
            <a:ext cx="61498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ТИПИ ОПТИЧНИХ МОДУЛЯТОРІВ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rebuchet MS"/>
              </a:rPr>
              <a:t>акустооптичні, що використовують закони акустооптики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3200" spc="-1" strike="noStrike">
                <a:solidFill>
                  <a:srgbClr val="404040"/>
                </a:solidFill>
                <a:latin typeface="Trebuchet MS"/>
              </a:rPr>
              <a:t>електрооптичні, що використовують закони електрооптики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3200" spc="-1" strike="noStrike">
                <a:solidFill>
                  <a:srgbClr val="404040"/>
                </a:solidFill>
                <a:latin typeface="Trebuchet MS"/>
              </a:rPr>
              <a:t>електрооптичні, що використовують напівпровідникові підсилювачі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АКУСТООПТИЧНІ МОДУЛЯТОР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157464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нцип дії акустооптичного модулятора (АОМ) заснований на залежності показника заломлення оптично прозорих матеріалів (наприклад, ніобата літію LiNbO</a:t>
            </a:r>
            <a:r>
              <a:rPr b="0" lang="ru-RU" sz="1800" spc="-1" strike="noStrike" baseline="-25000">
                <a:solidFill>
                  <a:srgbClr val="404040"/>
                </a:solidFill>
                <a:latin typeface="Trebuchet MS"/>
              </a:rPr>
              <a:t>3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) від тиск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Рисунок 3" descr=""/>
          <p:cNvPicPr/>
          <p:nvPr/>
        </p:nvPicPr>
        <p:blipFill>
          <a:blip r:embed="rId1"/>
          <a:stretch/>
        </p:blipFill>
        <p:spPr>
          <a:xfrm>
            <a:off x="2790720" y="2523960"/>
            <a:ext cx="45957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6T18:21:10Z</dcterms:created>
  <dc:creator>Іван Письменюк</dc:creator>
  <dc:description/>
  <dc:language>en-US</dc:language>
  <cp:lastModifiedBy>Іван Письменюк</cp:lastModifiedBy>
  <dcterms:modified xsi:type="dcterms:W3CDTF">2015-06-16T20:31:51Z</dcterms:modified>
  <cp:revision>15</cp:revision>
  <dc:subject/>
  <dc:title>Система широкосмугового доступу на базі ВОЛЗ</dc:title>
</cp:coreProperties>
</file>