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960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EEC5-C041-403D-BC37-94DB69F91C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1E6D-462F-4566-9056-C338BE53AD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1BBB-97D1-4453-8EF7-0E43317186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2364-85D8-48E5-823F-E23222F0D7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2FF2-4432-4CA2-A43B-672C3F1B2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1231-1F1D-4CAE-8DE3-6E41E3CF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6AF9-236A-47FD-99A2-5C038F7B2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770E-1DDF-48AC-98FE-EB6573C42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B91D-BC8C-4A10-B42F-F662C3AF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B2AE-B200-4B60-9FED-51301961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3BDB-5028-44AE-8909-BA97BBA4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1346-2326-498B-A4FF-9799DF4D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541E-0671-4F8A-841B-7866F306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8360-23D2-4C53-A7BD-6093879C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7400-8B07-4870-B1C7-15044295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D794-F0A6-4DB8-8786-0196694B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660A-B06A-4944-A4B5-398D9B7BD24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AD27-B5E9-48EA-9AA9-DB26DEA142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18676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Міністерство освіти та науки України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Вінницький національний технічний університет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Інститут екологічн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ї безпеки та моніторингу довкілля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81867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Магістерська кваліфікаційна ро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на тем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Екологічн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безпека утилізації осадів стічних вод на ОСК м. Вінниці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Виконано на замовлення ОСК КП “Вінницяоблводоканал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d9d9d9"/>
                </a:solidFill>
                <a:latin typeface="Arial"/>
                <a:ea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Розробив: студент гр. ЕБ-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м Присняк Д. М.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Керівник  магістерської кваліфікаційної роботи: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к. т. н., доцент Васильківський І.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Вінниця - 20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ономічна цінність ОСВ, перегною і ТП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42960" y="785880"/>
          <a:ext cx="8072280" cy="5505480"/>
        </p:xfrm>
        <a:graphic>
          <a:graphicData uri="http://schemas.openxmlformats.org/drawingml/2006/table">
            <a:tbl>
              <a:tblPr/>
              <a:tblGrid>
                <a:gridCol w="2604960"/>
                <a:gridCol w="1094040"/>
                <a:gridCol w="1091880"/>
                <a:gridCol w="1094040"/>
                <a:gridCol w="1096920"/>
                <a:gridCol w="1090440"/>
              </a:tblGrid>
              <a:tr h="306360">
                <a:tc rowSpan="2">
                  <a:txBody>
                    <a:bodyPr lIns="23400" rIns="23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рив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23400" rIns="23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міст, % від маси сухої речовин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оту загальн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сфору загальн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і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ьці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гні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856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гній кінськ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гній коров'яч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П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рий осад з відстійникі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6360">
                <a:tc gridSpan="6"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ад сброджений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76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сля первинних відстійників і мулових плдощадо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28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 ж, разом з активним мул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76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сля механічного зневоднення і термічного сушінн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3400" rIns="23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Oval 3"/>
          <p:cNvSpPr/>
          <p:nvPr/>
        </p:nvSpPr>
        <p:spPr>
          <a:xfrm>
            <a:off x="71280" y="115920"/>
            <a:ext cx="71460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ічний цикл обробки осадів стічних 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10" descr="Безымянный.png"/>
          <p:cNvPicPr/>
          <p:nvPr/>
        </p:nvPicPr>
        <p:blipFill>
          <a:blip r:embed="rId2"/>
          <a:srcRect l="0" t="0" r="812" b="3612"/>
          <a:stretch/>
        </p:blipFill>
        <p:spPr>
          <a:xfrm>
            <a:off x="2127240" y="836640"/>
            <a:ext cx="5504040" cy="6021360"/>
          </a:xfrm>
          <a:prstGeom prst="rect">
            <a:avLst/>
          </a:prstGeom>
          <a:ln w="0">
            <a:noFill/>
          </a:ln>
        </p:spPr>
      </p:pic>
      <p:sp>
        <p:nvSpPr>
          <p:cNvPr id="78" name="Oval 3"/>
          <p:cNvSpPr/>
          <p:nvPr/>
        </p:nvSpPr>
        <p:spPr>
          <a:xfrm>
            <a:off x="71280" y="285840"/>
            <a:ext cx="71460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9064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обробки осадів стічних 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62" descr=""/>
          <p:cNvPicPr/>
          <p:nvPr/>
        </p:nvPicPr>
        <p:blipFill>
          <a:blip r:embed="rId2"/>
          <a:stretch/>
        </p:blipFill>
        <p:spPr>
          <a:xfrm>
            <a:off x="2247840" y="492120"/>
            <a:ext cx="4896000" cy="6365880"/>
          </a:xfrm>
          <a:prstGeom prst="rect">
            <a:avLst/>
          </a:prstGeom>
          <a:ln w="0">
            <a:noFill/>
          </a:ln>
        </p:spPr>
      </p:pic>
      <p:sp>
        <p:nvSpPr>
          <p:cNvPr id="81" name="Oval 3"/>
          <p:cNvSpPr/>
          <p:nvPr/>
        </p:nvSpPr>
        <p:spPr>
          <a:xfrm>
            <a:off x="71280" y="285840"/>
            <a:ext cx="71460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вакуум-фільтрації осаду з попередньою промивкою, ущільненням та реагентною підготовко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99" descr=""/>
          <p:cNvPicPr/>
          <p:nvPr/>
        </p:nvPicPr>
        <p:blipFill>
          <a:blip r:embed="rId2"/>
          <a:stretch/>
        </p:blipFill>
        <p:spPr>
          <a:xfrm>
            <a:off x="1285920" y="1071720"/>
            <a:ext cx="6786360" cy="354168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6"/>
          <p:cNvSpPr/>
          <p:nvPr/>
        </p:nvSpPr>
        <p:spPr>
          <a:xfrm>
            <a:off x="857160" y="4572000"/>
            <a:ext cx="7858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- промивна камера; 2 - ємність для зберігання хлорного заліза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- растворний бак вапна; 4,5 - розходні баки; 6 - мірник; 7 - розтворний бак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,9 - дозатори; 10 - змішувачі; 11 - ресивер; 12 - ловушка фільтрата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- вакуум-насос; 14 - воздуходувка; 15 - вакуум-фільтр; 16 - транспортери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- бункер для осаду; 18 - бак для фільтрату; 19 - растворний бак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- цистерна для зберігання інгибиторної сірчаної кислоти; в - вакуум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 - повітря стиснене; ік - інгибиторна кислота; к - кек з вакуум-фільтра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 -пісок;сл- зливна вода від муловплотнювача; со - зброджений осад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 - технічна вода; ф - фільтр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3"/>
          <p:cNvSpPr/>
          <p:nvPr/>
        </p:nvSpPr>
        <p:spPr>
          <a:xfrm>
            <a:off x="71280" y="285840"/>
            <a:ext cx="71460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560" y="189000"/>
            <a:ext cx="8137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ічна схема сушіння осадів в агрегаті вітамінного борошна (типу АВМ-0, 65 Ж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3"/>
          <p:cNvSpPr/>
          <p:nvPr/>
        </p:nvSpPr>
        <p:spPr>
          <a:xfrm>
            <a:off x="179280" y="333360"/>
            <a:ext cx="71460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120" descr=""/>
          <p:cNvPicPr/>
          <p:nvPr/>
        </p:nvPicPr>
        <p:blipFill>
          <a:blip r:embed="rId2"/>
          <a:srcRect l="987" t="271" r="4314" b="0"/>
          <a:stretch/>
        </p:blipFill>
        <p:spPr>
          <a:xfrm>
            <a:off x="395280" y="1052640"/>
            <a:ext cx="8245440" cy="4257720"/>
          </a:xfrm>
          <a:prstGeom prst="rect">
            <a:avLst/>
          </a:prstGeom>
          <a:ln w="0">
            <a:noFill/>
          </a:ln>
        </p:spPr>
      </p:pic>
      <p:sp>
        <p:nvSpPr>
          <p:cNvPr id="89" name="Заголовок 5"/>
          <p:cNvSpPr/>
          <p:nvPr/>
        </p:nvSpPr>
        <p:spPr>
          <a:xfrm>
            <a:off x="755640" y="5445000"/>
            <a:ext cx="8137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Заголовок 5"/>
          <p:cNvSpPr/>
          <p:nvPr/>
        </p:nvSpPr>
        <p:spPr>
          <a:xfrm>
            <a:off x="395280" y="5418000"/>
            <a:ext cx="8497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 - подача зневодненого осаду; 2 - лопастні вали; 3 - вінтовий конвеєр; 4 - стрічковий конвеєр; 5 - битор; 6 - розприскувач; 7 - топка; 8 - камера згоряння; 9 - форсунка; 10,13 - вентилятори; 11 - сушильний барабан; 12 - циклон; 14 - висушений ос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азки брикетів з мулів очисних спору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7" descr=""/>
          <p:cNvPicPr/>
          <p:nvPr/>
        </p:nvPicPr>
        <p:blipFill>
          <a:blip r:embed="rId2"/>
          <a:stretch/>
        </p:blipFill>
        <p:spPr>
          <a:xfrm>
            <a:off x="2124000" y="1916280"/>
            <a:ext cx="5184720" cy="3574800"/>
          </a:xfrm>
          <a:prstGeom prst="rect">
            <a:avLst/>
          </a:prstGeom>
          <a:ln w="0">
            <a:noFill/>
          </a:ln>
        </p:spPr>
      </p:pic>
      <p:sp>
        <p:nvSpPr>
          <p:cNvPr id="93" name="Oval 3"/>
          <p:cNvSpPr/>
          <p:nvPr/>
        </p:nvSpPr>
        <p:spPr>
          <a:xfrm>
            <a:off x="71280" y="285840"/>
            <a:ext cx="71460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утилізації мулового осаду стічних вод та вироблення електроенергії і теп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2" descr="Безымянный2.png"/>
          <p:cNvPicPr/>
          <p:nvPr/>
        </p:nvPicPr>
        <p:blipFill>
          <a:blip r:embed="rId2"/>
          <a:stretch/>
        </p:blipFill>
        <p:spPr>
          <a:xfrm>
            <a:off x="357120" y="1357200"/>
            <a:ext cx="8529840" cy="4071960"/>
          </a:xfrm>
          <a:prstGeom prst="rect">
            <a:avLst/>
          </a:prstGeom>
          <a:ln w="0">
            <a:noFill/>
          </a:ln>
        </p:spPr>
      </p:pic>
      <p:sp>
        <p:nvSpPr>
          <p:cNvPr id="96" name="Oval 3"/>
          <p:cNvSpPr/>
          <p:nvPr/>
        </p:nvSpPr>
        <p:spPr>
          <a:xfrm>
            <a:off x="71280" y="285840"/>
            <a:ext cx="71460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Основні технічні характеристики технологічного модуля електричною потужністю 1 МВ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68360" y="1341360"/>
          <a:ext cx="8229600" cy="5089680"/>
        </p:xfrm>
        <a:graphic>
          <a:graphicData uri="http://schemas.openxmlformats.org/drawingml/2006/table">
            <a:tbl>
              <a:tblPr/>
              <a:tblGrid>
                <a:gridCol w="3651120"/>
                <a:gridCol w="457848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ивн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 кг сировини за годину (до 1500 к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он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онтейн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ров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лові оса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фіцієнт конверсії вуглец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сировини на власне енергозабезпеч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тановленна потужн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 кВт/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огість сировин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6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ьність сирови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годин роботи в рі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0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85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ужість електрична (когенераці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 МВ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ужність теплова (когенераці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 МВ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 ділянки під розміщ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×10 метр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барити Д-В-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00×2500×7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га комплек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ше 60 тон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нфраструк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ча сировини і відвантаження продукц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и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а. Викидів в атмосферу на ґрунт або у воду нема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Oval 3"/>
          <p:cNvSpPr/>
          <p:nvPr/>
        </p:nvSpPr>
        <p:spPr>
          <a:xfrm>
            <a:off x="71280" y="285840"/>
            <a:ext cx="71460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4" descr=""/>
          <p:cNvPicPr/>
          <p:nvPr/>
        </p:nvPicPr>
        <p:blipFill>
          <a:blip r:embed="rId2"/>
          <a:srcRect l="1777" t="2937" r="7109" b="1958"/>
          <a:stretch/>
        </p:blipFill>
        <p:spPr>
          <a:xfrm>
            <a:off x="642960" y="1214280"/>
            <a:ext cx="7834320" cy="49294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установки для спалювання осадів стічних вод і твердих відходів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"/>
          <p:cNvSpPr/>
          <p:nvPr/>
        </p:nvSpPr>
        <p:spPr>
          <a:xfrm>
            <a:off x="71280" y="500040"/>
            <a:ext cx="71460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274160" cy="2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Багатоподова піч «Херешоф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3"/>
          <p:cNvSpPr/>
          <p:nvPr/>
        </p:nvSpPr>
        <p:spPr>
          <a:xfrm>
            <a:off x="179280" y="189000"/>
            <a:ext cx="71460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Заголовок 5"/>
          <p:cNvSpPr/>
          <p:nvPr/>
        </p:nvSpPr>
        <p:spPr>
          <a:xfrm>
            <a:off x="755640" y="692280"/>
            <a:ext cx="820908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Заголовок 5"/>
          <p:cNvSpPr/>
          <p:nvPr/>
        </p:nvSpPr>
        <p:spPr>
          <a:xfrm>
            <a:off x="0" y="530064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а – схема роботи; б – поперечний розріз; 1, 2- форсунки; 3- скрубер; 4- димар; 5 – топковий простір; 6 – труба для скидання відпрацьованого повітря; 7 – заслінка; 8- транспортер; 9 - рециркуляційна труба; 10 - вентилятор; 11 – бак з водою для золи; 12 – насос для золи; 13 – відвідний трубопровід для золи; 14 – трубопровід оборотної води; 15 – ізоляція; 16 – лопасть; 17 – верхня рама; 18 – труба для випуску надлишку холодного повітря в атмосферу; 19 – патрубок для повернення в топку гарячого повітря; 20 – затвор; 21 – завантажувальний люк; 22 – сталева оболонка; 23 і 24 – цегла відповідно ізоляційна і вогнетривка; 25 – демпфер; 26 – паливний пальник; 27 – штуцер для повернення гарячого повітря; 28 – патрубок для введення охолодного повітря у вісь і лопасті; 29 – труба для виходу зо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Заголовок 5"/>
          <p:cNvSpPr/>
          <p:nvPr/>
        </p:nvSpPr>
        <p:spPr>
          <a:xfrm>
            <a:off x="1332000" y="5877000"/>
            <a:ext cx="7273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25059" t="15363" r="19744" b="10324"/>
          <a:stretch/>
        </p:blipFill>
        <p:spPr>
          <a:xfrm>
            <a:off x="1619280" y="582480"/>
            <a:ext cx="6048360" cy="4579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val 3"/>
          <p:cNvSpPr/>
          <p:nvPr/>
        </p:nvSpPr>
        <p:spPr>
          <a:xfrm>
            <a:off x="71280" y="285840"/>
            <a:ext cx="71460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"/>
          <p:cNvSpPr/>
          <p:nvPr/>
        </p:nvSpPr>
        <p:spPr>
          <a:xfrm>
            <a:off x="324000" y="903240"/>
            <a:ext cx="8640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ість теми дослідження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мовлена тим щ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ади в необробленому вигляді протягом десятків  років  зливалися на переобтяжені  мулові площадки, у відвали, що призвело до порушення екологічної безпеки  й  умов  життя  населення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му  назріла нагальна   потреба  у  модернізації  наявних  способів  обробки  осадів  та  пошуку   і розробці нових технологій їх утилізації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ю роботи є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кове обгрунтування  рівня екологічно безпечної  утилізації осадів стічних  вод  на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К КП  «Вінницяоблводоканал»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Вінниці та розробка практичних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одів  і  рекомендації  щодо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ащення   технології  переробки  і  утилізації  осадів комунальних стічних вод.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’єктом досліджень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є процес переробки і утилізації осадів стічних вод на території ОСК КП «Вінницяоблводоканал» м. Вінниці, та його  вплив на динаміку забруднення навколишнього природного середовища</a:t>
            </a:r>
            <a:br>
              <a:rPr sz="1800"/>
            </a:b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ом  досліджень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є  фізико-хімічні   характеристики   осадів  стічних  вод,  які утворюються в технологічному  процесі  очищення стічних  вод  на очисних  спорудах каналізації (ОСК) м. Вінниці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хема спалювання осадів в печі киплячого ша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3"/>
          <p:cNvSpPr/>
          <p:nvPr/>
        </p:nvSpPr>
        <p:spPr>
          <a:xfrm>
            <a:off x="0" y="189000"/>
            <a:ext cx="71424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Заголовок 5"/>
          <p:cNvSpPr/>
          <p:nvPr/>
        </p:nvSpPr>
        <p:spPr>
          <a:xfrm>
            <a:off x="179280" y="5661000"/>
            <a:ext cx="89647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 - стрічковий транспортер; 2 - бункер загрузки осаду; 3 - шнековий живильник; 4 - піч; 5 - рекуператор; 6 - повітредувка; 7 - мокрий пиловловлювач; 8 - димосмок; 9 - димова труба; 10 - золова ємність; 11 - насос перекачки золової води; 12 - вентилятор; 13 - шлюзовий живильник; 14 - бункер для піску; 15 - заслонка; 16 - циклонний розвантажувач; 17 - бункер вивантаження золи; 18 - газова горілка; 19 - газорегулятор; 20 - бункер-дозатор; 21 - повіртепровід; 22 - трубопровід топкового газу; 23 - водопровід; 24 - золопровід; 25 - каналізаційний трубопрові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4509" t="2713" r="2387" b="1206"/>
          <a:stretch/>
        </p:blipFill>
        <p:spPr>
          <a:xfrm>
            <a:off x="1547640" y="333360"/>
            <a:ext cx="6553440" cy="5326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ливі напрямки утилізації осадів стічних вод (Європейський досвід: Германія, Франція, Голландія та інші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Содержимое 5" descr="dfsd.png"/>
          <p:cNvPicPr/>
          <p:nvPr/>
        </p:nvPicPr>
        <p:blipFill>
          <a:blip r:embed="rId2"/>
          <a:stretch/>
        </p:blipFill>
        <p:spPr>
          <a:xfrm>
            <a:off x="900000" y="1197000"/>
            <a:ext cx="7000920" cy="5295960"/>
          </a:xfrm>
          <a:prstGeom prst="rect">
            <a:avLst/>
          </a:prstGeom>
          <a:ln w="0">
            <a:noFill/>
          </a:ln>
        </p:spPr>
      </p:pic>
      <p:sp>
        <p:nvSpPr>
          <p:cNvPr id="116" name="Oval 3"/>
          <p:cNvSpPr/>
          <p:nvPr/>
        </p:nvSpPr>
        <p:spPr>
          <a:xfrm>
            <a:off x="71280" y="285840"/>
            <a:ext cx="71460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вження слайд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Содержимое 3" descr="ojkp.png"/>
          <p:cNvPicPr/>
          <p:nvPr/>
        </p:nvPicPr>
        <p:blipFill>
          <a:blip r:embed="rId2"/>
          <a:stretch/>
        </p:blipFill>
        <p:spPr>
          <a:xfrm>
            <a:off x="1116000" y="1052640"/>
            <a:ext cx="7286760" cy="5441760"/>
          </a:xfrm>
          <a:prstGeom prst="rect">
            <a:avLst/>
          </a:prstGeom>
          <a:ln w="0">
            <a:noFill/>
          </a:ln>
        </p:spPr>
      </p:pic>
      <p:sp>
        <p:nvSpPr>
          <p:cNvPr id="119" name="Oval 3"/>
          <p:cNvSpPr/>
          <p:nvPr/>
        </p:nvSpPr>
        <p:spPr>
          <a:xfrm>
            <a:off x="71280" y="285840"/>
            <a:ext cx="71460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740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Технологічна схема виробництва сухого добр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24000" y="4952880"/>
            <a:ext cx="9468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1 - вторинний відстійник; 2 - мулова насосна станція; 3 - подача активного мулові в ущільнювач; 4 - ущільнювач мулу; 5 - ємність для хлорного заліза; б - ємність для вапна; 7 - вакуум-фільтр, 8 - вакуум-насос, 9 - насос для відкачування фільтрату; 10 - компресор; 11, 12 - ресивери, 13 - ємність для соляної кислоти; 14 - насос для промивки фільтруючої тканини кислотою; 15 - транспортер; 16-19 - сушарка із зустрічними струменями; 20, 22 - подача сухого мулу в продуктовий бункер; 21 - надходження ретуру в приймальну камеру сушарки; 23 - продуктовий бункер; 24 - відвезення продукту; 25 - вода для скрубера; 26 - мокрий скрубер; 27 - вентилятор; 28 - видалення шла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rcRect l="7303" t="17568" r="12106" b="13018"/>
          <a:stretch/>
        </p:blipFill>
        <p:spPr>
          <a:xfrm>
            <a:off x="395280" y="768240"/>
            <a:ext cx="8748720" cy="4222800"/>
          </a:xfrm>
          <a:prstGeom prst="rect">
            <a:avLst/>
          </a:prstGeom>
          <a:ln w="0">
            <a:noFill/>
          </a:ln>
        </p:spPr>
      </p:pic>
      <p:sp>
        <p:nvSpPr>
          <p:cNvPr id="124" name="Oval 3"/>
          <p:cNvSpPr/>
          <p:nvPr/>
        </p:nvSpPr>
        <p:spPr>
          <a:xfrm>
            <a:off x="179280" y="189000"/>
            <a:ext cx="71460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Наукова новизн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становлено хімічний та гранулометричний склад осадів стічних вод КП «Вінницяоблводоканал» на різних стадіях технологічного процесу переробки, що дало можливість використовувати їх для виробництва добрив та виготовлення білково-вітамінних кормових продуктів для годівлі твар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2. Вдосконалено метод брикетування осадів стічних вод, що дозволило їх використовувати для виробленням електроенергії і тепла з допомогою термічної утилізаці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3"/>
          <p:cNvSpPr/>
          <p:nvPr/>
        </p:nvSpPr>
        <p:spPr>
          <a:xfrm>
            <a:off x="71280" y="285840"/>
            <a:ext cx="71460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новки та рекомендації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765000"/>
            <a:ext cx="8785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ліджено в спеціалізованій лабораторії КП «Вінницяоблводоканал» зразки осадів комунальних стічних вод на різних стадіях їх технологічної перероб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о хімічний та гранулометричний склад осадів стічних вод які утворюються та зберігаються на ОСК КП «Вінницяоблводоканал» м.Вінниц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глянуто технології переробки і утилізації осадів комунальних стічних вод які використовуються на ОСК КП «Вінницяоблводоканал» м.Вінниці та на території населених пунктів Вінницької області і Украї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глянуто і проаналізувано сучасні технології і обладнання для переробки і утилізації осадів стічних вод та технології виробництва товарної продукції із осадів стічних вод, які використовуються в країнах Є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і результатів аналізу хімічного та гранулометричного складу осадів стічних вод які утворюються та зберігаються на ОСК КП «Вінницяоблводоканал» м.Вінниці розроблено природоохоронні заходи і рекомендації спрямовані на покращення технології переробки і утилізації осадів стічних вод та виробництва товарної продукц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аналізовано умови охорони праці в приміщенні екологічного відді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о еколого-економічну оцінку технології переробки осадів стічних вод за допомогою вермикульту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3"/>
          <p:cNvSpPr/>
          <p:nvPr/>
        </p:nvSpPr>
        <p:spPr>
          <a:xfrm>
            <a:off x="71280" y="285840"/>
            <a:ext cx="714600" cy="622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вження (висновки і рекомендації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907920"/>
            <a:ext cx="843588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ше для ОСК КП «Вінницяоблводоканал» м. Вінниці запропонована структурна схема технологічної установки брикетування осадів стічних вод і подальшою схемою термічної утилізації із виробленням електроенергії і теп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ристання осадів за умови відповідності їх складу технічним вимогам має велике практичне народногосподарське значення, а са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ади містять основні живильні речовини, необхідні для добрива, поступаючись перегною лише по кількості калію, тому їх доцільно використовувати у сільському господарстві в якості органо-мінерального азотно-фосфорного добрива, що містить необхідні для розвитку рослин мікроелемен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ові осади стічних вод можна використовувати для вироблення електроенергії і теп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ристання осадів стічних вод в якості сировини для виготовлення різних видів товарної продукції дозволяє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еншити забруднення навколишнього природного середовищ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тити витрати хімікатів для добрив і води для поливу, знизити витрати на дорогі водоохоронні об'єк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вищити врожайність сількогосподарських культур, тощ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"/>
          <p:cNvSpPr/>
          <p:nvPr/>
        </p:nvSpPr>
        <p:spPr>
          <a:xfrm>
            <a:off x="71280" y="285840"/>
            <a:ext cx="71460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езультатами аналізу зразків осадів стічних вод в лабораторії ОСК м. Вінниці встановлено, що дані техногенні осади є приданими для виробництва добрив, кормів і 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них продук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ліджені ОСВ можуть використовуватися для поліпшення структури і родючості торф’яних і піщаних ґрунтів, а також для рекультивації зем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ий мул є цінним білково-вітамінним кормовим продук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ади стічних вод, які містять великий відсоток органічних речовин, можна використовувати для одержання пірокарбона, смоли, гасу, бензину, воску та інших продукт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258920" y="33336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вження (висновки і рекомендації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3"/>
          <p:cNvSpPr/>
          <p:nvPr/>
        </p:nvSpPr>
        <p:spPr>
          <a:xfrm>
            <a:off x="71280" y="285840"/>
            <a:ext cx="71460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Публікації за результатами МК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і результати магістерської кваліфікаційної роботи доповідались на науковій конференції: “V Всеукраїнський з’їзд екологів з міжнародною участю” (Екологія/Ecology-2015), (м.Вінниця, 2015), та щорічних науково-технічних конференціях ВН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Подя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Автор вдячний начальнику ОСК КП «Вінницяоблводоканал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рнятинськ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ому Олександру Дмитровичу за допомогу і підтримку у проведені експериментальних досліджень осадів стічних вод на ОСК КП «Вінницяоблводоканал» м. Вінниц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3"/>
          <p:cNvSpPr/>
          <p:nvPr/>
        </p:nvSpPr>
        <p:spPr>
          <a:xfrm>
            <a:off x="71280" y="285840"/>
            <a:ext cx="61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3"/>
          <p:cNvSpPr/>
          <p:nvPr/>
        </p:nvSpPr>
        <p:spPr>
          <a:xfrm>
            <a:off x="71280" y="285840"/>
            <a:ext cx="71460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Доповідь закінчена.</a:t>
            </a:r>
            <a:br>
              <a:rPr sz="5400"/>
            </a:br>
            <a:r>
              <a:rPr b="1" i="1" lang="uk-UA" sz="54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Дякую за увагу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ідповідно до мети дослідження основними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авданнями роботи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є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лідити в спеціалізованій лабораторії КП «Вінницяоблводоканал» зразки осадів комунальних стічних вод на різних стадіях їх технологічної переробки, які утворюються на ОСК КП «Вінницяоблводоканал» м.Вінниц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ити хімічний та гранулометричний склад осадів стічних вод які утворюються та зберігаються на ОСК КП «Вінницяоблводоканал» м.Вінниц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глянути технології переробки і утилізації осадів комунальних стічних 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глянути і проаналізувати сучасні технології і обладнання для переробки і утилізації осадів стічних вод та технології виробництва товарної продукції із осадів стічних вод, які використовуються в країнах Є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і результатів аналізу хімічного та гранулометричного складу осадів стічних вод які утворюються та зберігаються на ОСК КП «Вінницяоблводоканал» м.Вінниці розробити природоохоронні заходи і рекомендації спрямовані на покращення технології переробки і утилізації осадів стічних вод та виробництва товарної продукц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3"/>
          <p:cNvSpPr/>
          <p:nvPr/>
        </p:nvSpPr>
        <p:spPr>
          <a:xfrm>
            <a:off x="71280" y="285840"/>
            <a:ext cx="71460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75438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фікація осад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14200" y="604800"/>
          <a:ext cx="8472600" cy="6083280"/>
        </p:xfrm>
        <a:graphic>
          <a:graphicData uri="http://schemas.openxmlformats.org/drawingml/2006/table">
            <a:tbl>
              <a:tblPr/>
              <a:tblGrid>
                <a:gridCol w="1933560"/>
                <a:gridCol w="3714840"/>
                <a:gridCol w="2824200"/>
              </a:tblGrid>
              <a:tr h="82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а осадів аб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міш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ea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ифікація осад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ea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руди і устаткування, що затримують осади або їх оброблюю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eaf2"/>
                    </a:solidFill>
                  </a:tcPr>
                </a:tc>
              </a:tr>
              <a:tr h="2206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ади грубі (відходи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Ґрати, си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8584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ади важкі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сколов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620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ади плаваючі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рівки, відстій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5556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ади первинні, сирі, виділені зі стічної води в результаті, механічного очищення і не піддані обробці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стійники первинні, осветли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570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ади вторинні, сирі, виділені зі стічної води після біологічного і фізико-хімічного очищенн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стійники вторинні, флотато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5736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ади зброджені, що пройшли обробку в анаеробних перегнивачах або осади стабілізованих аеробних стабілізаторі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птики, двох'ярусні відстійники, освітлювачі, перегнивачі, метантенки, аеробні стабілізато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9460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ади ущільнені, піддані згущенню до границі текучості (до вологос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-85%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щільнювачі: гравітаційні, термогравітаційні, флотаційні, сепаратори, термофлотаційні, центрифуги-ущільнювачі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002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ади зневоднені, піддані згущенню до вологості 80-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мулові майданчики і площадки: високопродуктивні, вакуум-фільтри, центрифуги, фільтр-прес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7624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ади сухі, піддані термічному сушінню до вологості 5-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шарки: барабанні, вальцьові, з киплячим шаром, із зустрічними    струменя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57" name="Oval 3"/>
          <p:cNvSpPr/>
          <p:nvPr/>
        </p:nvSpPr>
        <p:spPr>
          <a:xfrm>
            <a:off x="71280" y="0"/>
            <a:ext cx="714600" cy="620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агальний хімічний склад осадів, % до абсолютно сухої речов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642160" cy="4143240"/>
          </a:xfrm>
          <a:prstGeom prst="rect">
            <a:avLst/>
          </a:prstGeom>
          <a:ln w="0">
            <a:noFill/>
          </a:ln>
        </p:spPr>
      </p:pic>
      <p:sp>
        <p:nvSpPr>
          <p:cNvPr id="60" name="Oval 3"/>
          <p:cNvSpPr/>
          <p:nvPr/>
        </p:nvSpPr>
        <p:spPr>
          <a:xfrm>
            <a:off x="71280" y="285840"/>
            <a:ext cx="71460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Хімічний склад мінеральної частини осадів, % до абсолютно сухої речов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610480" cy="4235760"/>
          </a:xfrm>
          <a:prstGeom prst="rect">
            <a:avLst/>
          </a:prstGeom>
          <a:ln w="0">
            <a:noFill/>
          </a:ln>
        </p:spPr>
      </p:pic>
      <p:sp>
        <p:nvSpPr>
          <p:cNvPr id="63" name="Oval 3"/>
          <p:cNvSpPr/>
          <p:nvPr/>
        </p:nvSpPr>
        <p:spPr>
          <a:xfrm>
            <a:off x="93600" y="155520"/>
            <a:ext cx="714600" cy="714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зультати досл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іджень ОСВ на ОСК КП «Вінницяоблводоканал» за 20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рі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"/>
          <p:cNvSpPr/>
          <p:nvPr/>
        </p:nvSpPr>
        <p:spPr>
          <a:xfrm>
            <a:off x="71280" y="285840"/>
            <a:ext cx="71460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18484" t="17113" r="19409" b="9799"/>
          <a:stretch/>
        </p:blipFill>
        <p:spPr>
          <a:xfrm>
            <a:off x="395280" y="1241280"/>
            <a:ext cx="8459640" cy="5616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 досліджень ОСВ на ОСК КП «Вінницяоблводоканал» за 2015 рі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"/>
          <p:cNvSpPr/>
          <p:nvPr/>
        </p:nvSpPr>
        <p:spPr>
          <a:xfrm>
            <a:off x="71280" y="285840"/>
            <a:ext cx="71460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9685" t="14733" r="9547" b="11409"/>
          <a:stretch/>
        </p:blipFill>
        <p:spPr>
          <a:xfrm>
            <a:off x="0" y="1557360"/>
            <a:ext cx="9144000" cy="4687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тивність осадів як добрива (ґрунт супіщан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000080" y="1500120"/>
          <a:ext cx="7358040" cy="4572000"/>
        </p:xfrm>
        <a:graphic>
          <a:graphicData uri="http://schemas.openxmlformats.org/drawingml/2006/table">
            <a:tbl>
              <a:tblPr/>
              <a:tblGrid>
                <a:gridCol w="3070440"/>
                <a:gridCol w="1071360"/>
                <a:gridCol w="1069920"/>
                <a:gridCol w="1073160"/>
                <a:gridCol w="1073160"/>
              </a:tblGrid>
              <a:tr h="507960">
                <a:tc rowSpan="2">
                  <a:txBody>
                    <a:bodyPr lIns="25560" rIns="255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р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жай капу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жай картопл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/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/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8320"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добрива (контрол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7960"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інеральне добр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7960"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гній – 30 т/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7960"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ади сирі – 30 т/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7960"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ади зброджені - 30 т/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7960"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 ж, плюс К</a:t>
                      </a:r>
                      <a:r>
                        <a:rPr b="0" lang="uk-UA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7960">
                <a:tc gridSpan="5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Калійне добриво – 60 кг/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2" name="Oval 3"/>
          <p:cNvSpPr/>
          <p:nvPr/>
        </p:nvSpPr>
        <p:spPr>
          <a:xfrm>
            <a:off x="71280" y="285840"/>
            <a:ext cx="61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1T10:54:31Z</dcterms:created>
  <dc:creator>Пользователь</dc:creator>
  <dc:description/>
  <dc:language>en-US</dc:language>
  <cp:lastModifiedBy>Admin</cp:lastModifiedBy>
  <dcterms:modified xsi:type="dcterms:W3CDTF">2015-11-18T07:13:17Z</dcterms:modified>
  <cp:revision>146</cp:revision>
  <dc:subject/>
  <dc:title>Слайд 1</dc:title>
</cp:coreProperties>
</file>