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CA49-63D2-40EA-B236-30A4CA33E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87BC-6CD4-4B5A-8301-E8ECCE91DC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33D-CA2A-4E2A-9D6B-DE91061971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3664-9E0D-4E4E-B557-8E25CC6B5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372-139A-4C2C-B45C-91E92F6B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EF7-F276-4862-AF28-8B20801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405-F763-4CAB-B170-8B7BA156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E03-5106-4DEE-9171-EDD12B9A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DB9-6B42-43E9-A065-770CC9EE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F5F-D627-4B6E-B7F2-5DC42CD1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EB8-B567-4558-A23A-27E095D7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842-55E4-496F-9BD7-F983B7DF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29B-4729-4825-8E5C-10CF4ADF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5A7-9559-49E0-B693-9A2C5903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A78-26DA-4279-B674-BC340EC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95B-7D40-4030-87A0-B5024BDF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696A-930B-4D78-85FC-9D90883A919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73F-0EE5-4FD7-B598-738D6DBBF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867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іністерство освіти та науки Україн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Інститут екологіч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ї безпеки та моніторингу довкілл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8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кологіч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безпека утилізації осадів стічних вод на ОСК м. Вінниц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Виконано на замовлення ОСК КП “Вінницяоблводоканал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d9d9d9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Розробив: студент гр. ЕБ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 Присняк Д. М.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  магістерської кваліфікаційної роботи: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. т. н., доцент Васильківський І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нниця - 2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номічна цінність ОСВ, перегною і ТП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42960" y="785880"/>
          <a:ext cx="8072280" cy="5505480"/>
        </p:xfrm>
        <a:graphic>
          <a:graphicData uri="http://schemas.openxmlformats.org/drawingml/2006/table">
            <a:tbl>
              <a:tblPr/>
              <a:tblGrid>
                <a:gridCol w="2604960"/>
                <a:gridCol w="1094040"/>
                <a:gridCol w="1091880"/>
                <a:gridCol w="1094040"/>
                <a:gridCol w="1096920"/>
                <a:gridCol w="1090440"/>
              </a:tblGrid>
              <a:tr h="306360">
                <a:tc rowSpan="2"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и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іст, % від маси сухої речов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у заг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у заг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856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ній кінсь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ній коров'яч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ий осад з відстійник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gridSpan="6"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 сброджений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ля первинних відстійників і мулових плдощад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 ж, разом з активним мул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7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ля механічного зневоднення і термічного суші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Oval 3"/>
          <p:cNvSpPr/>
          <p:nvPr/>
        </p:nvSpPr>
        <p:spPr>
          <a:xfrm>
            <a:off x="71280" y="11592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ічний цикл обробки осадів стічн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0" descr="Безымянный.png"/>
          <p:cNvPicPr/>
          <p:nvPr/>
        </p:nvPicPr>
        <p:blipFill>
          <a:blip r:embed="rId2"/>
          <a:srcRect l="0" t="0" r="812" b="3612"/>
          <a:stretch/>
        </p:blipFill>
        <p:spPr>
          <a:xfrm>
            <a:off x="2127240" y="836640"/>
            <a:ext cx="5504040" cy="602136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06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обробки осадів стічни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2" descr=""/>
          <p:cNvPicPr/>
          <p:nvPr/>
        </p:nvPicPr>
        <p:blipFill>
          <a:blip r:embed="rId2"/>
          <a:stretch/>
        </p:blipFill>
        <p:spPr>
          <a:xfrm>
            <a:off x="2247840" y="492120"/>
            <a:ext cx="4896000" cy="6365880"/>
          </a:xfrm>
          <a:prstGeom prst="rect">
            <a:avLst/>
          </a:prstGeom>
          <a:ln w="0">
            <a:noFill/>
          </a:ln>
        </p:spPr>
      </p:pic>
      <p:sp>
        <p:nvSpPr>
          <p:cNvPr id="81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вакуум-фільтрації осаду з попередньою промивкою, ущільненням та реагентною підготов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99" descr=""/>
          <p:cNvPicPr/>
          <p:nvPr/>
        </p:nvPicPr>
        <p:blipFill>
          <a:blip r:embed="rId2"/>
          <a:stretch/>
        </p:blipFill>
        <p:spPr>
          <a:xfrm>
            <a:off x="1285920" y="1071720"/>
            <a:ext cx="6786360" cy="3541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857160" y="4572000"/>
            <a:ext cx="7858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промивна камера; 2 - ємність для зберігання хлорного заліз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растворний бак вапна; 4,5 - розходні баки; 6 - мірник; 7 - розтворний бак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9 - дозатори; 10 - змішувачі; 11 - ресивер; 12 - ловушка фільтрат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вакуум-насос; 14 - воздуходувка; 15 - вакуум-фільтр; 16 - транспортер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- бункер для осаду; 18 - бак для фільтрату; 19 - растворний бак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- цистерна для зберігання інгибиторної сірчаної кислоти; в - вакуум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 - повітря стиснене; ік - інгибиторна кислота; к - кек з вакуум-фільтр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-пісок;сл- зливна вода від муловплотнювача; со - зброджений осад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- технічна вода; ф - фільт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813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ічна схема сушіння осадів в агрегаті вітамінного борошна (типу АВМ-0, 65 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179280" y="33336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20" descr=""/>
          <p:cNvPicPr/>
          <p:nvPr/>
        </p:nvPicPr>
        <p:blipFill>
          <a:blip r:embed="rId2"/>
          <a:srcRect l="987" t="271" r="4314" b="0"/>
          <a:stretch/>
        </p:blipFill>
        <p:spPr>
          <a:xfrm>
            <a:off x="395280" y="1052640"/>
            <a:ext cx="8245440" cy="425772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5"/>
          <p:cNvSpPr/>
          <p:nvPr/>
        </p:nvSpPr>
        <p:spPr>
          <a:xfrm>
            <a:off x="755640" y="5445000"/>
            <a:ext cx="813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5"/>
          <p:cNvSpPr/>
          <p:nvPr/>
        </p:nvSpPr>
        <p:spPr>
          <a:xfrm>
            <a:off x="395280" y="5418000"/>
            <a:ext cx="8497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подача зневодненого осаду; 2 - лопастні вали; 3 - вінтовий конвеєр; 4 - стрічковий конвеєр; 5 - битор; 6 - розприскувач; 7 - топка; 8 - камера згоряння; 9 - форсунка; 10,13 - вентилятори; 11 - сушильний барабан; 12 - циклон; 14 - висушений 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зки брикетів з мулів очисних спо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5184720" cy="357480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утилізації мулового осаду стічних вод та вироблення електроенергії і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Безымянный2.png"/>
          <p:cNvPicPr/>
          <p:nvPr/>
        </p:nvPicPr>
        <p:blipFill>
          <a:blip r:embed="rId2"/>
          <a:stretch/>
        </p:blipFill>
        <p:spPr>
          <a:xfrm>
            <a:off x="357120" y="1357200"/>
            <a:ext cx="852984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новні технічні характеристики технологічного модуля електричною потужністю 1 МВ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341360"/>
          <a:ext cx="8229600" cy="5089680"/>
        </p:xfrm>
        <a:graphic>
          <a:graphicData uri="http://schemas.openxmlformats.org/drawingml/2006/table">
            <a:tbl>
              <a:tblPr/>
              <a:tblGrid>
                <a:gridCol w="3651120"/>
                <a:gridCol w="457848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кг сировини за годину (до 1500 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онтейн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ові ос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конверсії вуглец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сировини на власне енергозабезпе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енна потуж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кВт/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гість сирови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ьність сиров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годин роботи в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ість електрична (когенер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теплова (когенер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 ділянки під розміщ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×10 ме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рити Д-В-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×2500×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 компл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60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сировини і відвантаження проду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и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а. Викидів в атмосферу на ґрунт або у воду 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"/>
          <p:cNvPicPr/>
          <p:nvPr/>
        </p:nvPicPr>
        <p:blipFill>
          <a:blip r:embed="rId2"/>
          <a:srcRect l="1777" t="2937" r="7109" b="1958"/>
          <a:stretch/>
        </p:blipFill>
        <p:spPr>
          <a:xfrm>
            <a:off x="642960" y="1214280"/>
            <a:ext cx="7834320" cy="4929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установки для спалювання осадів стічних вод і твердих відход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71280" y="5000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2741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агатоподова піч «Херешо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179280" y="18900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5"/>
          <p:cNvSpPr/>
          <p:nvPr/>
        </p:nvSpPr>
        <p:spPr>
          <a:xfrm>
            <a:off x="755640" y="692280"/>
            <a:ext cx="82090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5"/>
          <p:cNvSpPr/>
          <p:nvPr/>
        </p:nvSpPr>
        <p:spPr>
          <a:xfrm>
            <a:off x="0" y="5300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 – схема роботи; б – поперечний розріз; 1, 2- форсунки; 3- скрубер; 4- димар; 5 – топковий простір; 6 – труба для скидання відпрацьованого повітря; 7 – заслінка; 8- транспортер; 9 - рециркуляційна труба; 10 - вентилятор; 11 – бак з водою для золи; 12 – насос для золи; 13 – відвідний трубопровід для золи; 14 – трубопровід оборотної води; 15 – ізоляція; 16 – лопасть; 17 – верхня рама; 18 – труба для випуску надлишку холодного повітря в атмосферу; 19 – патрубок для повернення в топку гарячого повітря; 20 – затвор; 21 – завантажувальний люк; 22 – сталева оболонка; 23 і 24 – цегла відповідно ізоляційна і вогнетривка; 25 – демпфер; 26 – паливний пальник; 27 – штуцер для повернення гарячого повітря; 28 – патрубок для введення охолодного повітря у вісь і лопасті; 29 – труба для виходу зо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5"/>
          <p:cNvSpPr/>
          <p:nvPr/>
        </p:nvSpPr>
        <p:spPr>
          <a:xfrm>
            <a:off x="1332000" y="5877000"/>
            <a:ext cx="727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5059" t="15363" r="19744" b="10324"/>
          <a:stretch/>
        </p:blipFill>
        <p:spPr>
          <a:xfrm>
            <a:off x="1619280" y="582480"/>
            <a:ext cx="6048360" cy="4579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324000" y="90324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теми дослідже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мовлена тим щ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и в необробленому вигляді протягом десятків  років  зливалися на переобтяжені  мулові площадки, у відвали, що призвело до порушення екологічної безпеки  й  умов  життя  населе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му  назріла нагальна   потреба  у  модернізації  наявних  способів  обробки  осадів  та  пошуку   і розробці нових технологій їх утиліз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роботи є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ове обгрунтування  рівня екологічно безпечної  утилізації осадів стічних  вод  на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 КП  «Вінницяоблводоканал»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інниці та розробка практичних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ів  і  рекомендації  щодо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щення   технології  переробки  і  утилізації  осадів комунальних стічних вод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ом дослідже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процес переробки і утилізації осадів стічних вод на території ОСК КП «Вінницяоблводоканал» м. Вінниці, та його  вплив на динаміку забруднення навколишнього природного середовища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м  дослідже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є  фізико-хімічні   характеристики   осадів  стічних  вод,  які утворюються в технологічному  процесі  очищення стічних  вод  на очисних  спорудах каналізації (ОСК) м. Вінниці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а спалювання осадів в печі киплячого ш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0" y="189000"/>
            <a:ext cx="71424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5"/>
          <p:cNvSpPr/>
          <p:nvPr/>
        </p:nvSpPr>
        <p:spPr>
          <a:xfrm>
            <a:off x="179280" y="5661000"/>
            <a:ext cx="89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- стрічковий транспортер; 2 - бункер загрузки осаду; 3 - шнековий живильник; 4 - піч; 5 - рекуператор; 6 - повітредувка; 7 - мокрий пиловловлювач; 8 - димосмок; 9 - димова труба; 10 - золова ємність; 11 - насос перекачки золової води; 12 - вентилятор; 13 - шлюзовий живильник; 14 - бункер для піску; 15 - заслонка; 16 - циклонний розвантажувач; 17 - бункер вивантаження золи; 18 - газова горілка; 19 - газорегулятор; 20 - бункер-дозатор; 21 - повіртепровід; 22 - трубопровід топкового газу; 23 - водопровід; 24 - золопровід; 25 - каналізаційний трубопрові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509" t="2713" r="2387" b="1206"/>
          <a:stretch/>
        </p:blipFill>
        <p:spPr>
          <a:xfrm>
            <a:off x="1547640" y="333360"/>
            <a:ext cx="6553440" cy="532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і напрямки утилізації осадів стічних вод (Європейський досвід: Германія, Франція, Голландія та інш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5" descr="dfsd.png"/>
          <p:cNvPicPr/>
          <p:nvPr/>
        </p:nvPicPr>
        <p:blipFill>
          <a:blip r:embed="rId2"/>
          <a:stretch/>
        </p:blipFill>
        <p:spPr>
          <a:xfrm>
            <a:off x="900000" y="1197000"/>
            <a:ext cx="7000920" cy="5295960"/>
          </a:xfrm>
          <a:prstGeom prst="rect">
            <a:avLst/>
          </a:prstGeom>
          <a:ln w="0">
            <a:noFill/>
          </a:ln>
        </p:spPr>
      </p:pic>
      <p:sp>
        <p:nvSpPr>
          <p:cNvPr id="116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ення слай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ojkp.png"/>
          <p:cNvPicPr/>
          <p:nvPr/>
        </p:nvPicPr>
        <p:blipFill>
          <a:blip r:embed="rId2"/>
          <a:stretch/>
        </p:blipFill>
        <p:spPr>
          <a:xfrm>
            <a:off x="1116000" y="1052640"/>
            <a:ext cx="7286760" cy="5441760"/>
          </a:xfrm>
          <a:prstGeom prst="rect">
            <a:avLst/>
          </a:prstGeom>
          <a:ln w="0">
            <a:noFill/>
          </a:ln>
        </p:spPr>
      </p:pic>
      <p:sp>
        <p:nvSpPr>
          <p:cNvPr id="119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7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ехнологічна схема виробництва сухого доб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24000" y="4952880"/>
            <a:ext cx="946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 - вторинний відстійник; 2 - мулова насосна станція; 3 - подача активного мулові в ущільнювач; 4 - ущільнювач мулу; 5 - ємність для хлорного заліза; б - ємність для вапна; 7 - вакуум-фільтр, 8 - вакуум-насос, 9 - насос для відкачування фільтрату; 10 - компресор; 11, 12 - ресивери, 13 - ємність для соляної кислоти; 14 - насос для промивки фільтруючої тканини кислотою; 15 - транспортер; 16-19 - сушарка із зустрічними струменями; 20, 22 - подача сухого мулу в продуктовий бункер; 21 - надходження ретуру в приймальну камеру сушарки; 23 - продуктовий бункер; 24 - відвезення продукту; 25 - вода для скрубера; 26 - мокрий скрубер; 27 - вентилятор; 28 - видалення шл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7303" t="17568" r="12106" b="13018"/>
          <a:stretch/>
        </p:blipFill>
        <p:spPr>
          <a:xfrm>
            <a:off x="395280" y="768240"/>
            <a:ext cx="8748720" cy="4222800"/>
          </a:xfrm>
          <a:prstGeom prst="rect">
            <a:avLst/>
          </a:prstGeom>
          <a:ln w="0">
            <a:noFill/>
          </a:ln>
        </p:spPr>
      </p:pic>
      <p:sp>
        <p:nvSpPr>
          <p:cNvPr id="124" name="Oval 3"/>
          <p:cNvSpPr/>
          <p:nvPr/>
        </p:nvSpPr>
        <p:spPr>
          <a:xfrm>
            <a:off x="179280" y="18900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аукова новиз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становлено хімічний та гранулометричний склад осадів стічних вод КП «Вінницяоблводоканал» на різних стадіях технологічного процесу переробки, що дало можливість використовувати їх для виробництва добрив та виготовлення білково-вітамінних кормових продуктів для годівлі тв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Вдосконалено метод брикетування осадів стічних вод, що дозволило їх використовувати для виробленням електроенергії і тепла з допомогою термічної утиліз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 та рекомендації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765000"/>
            <a:ext cx="8785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о в спеціалізованій лабораторії КП «Вінницяоблводоканал» зразки осадів комунальних стічних вод на різних стадіях їх технологічної перер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о хімічний та гранулометричний склад осадів стічних вод які утворюються та зберігаються на ОСК КП «Вінницяоблводоканал» м.Вінни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о технології переробки і утилізації осадів комунальних стічних вод які використовуються на ОСК КП «Вінницяоблводоканал» м.Вінниці та на території населених пунктів Вінницької області і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о і проаналізувано сучасні технології і обладнання для переробки і утилізації осадів стічних вод та технології виробництва товарної продукції із осадів стічних вод, які використовуються в країнах Є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результатів аналізу хімічного та гранулометричного складу осадів стічних вод які утворюються та зберігаються на ОСК КП «Вінницяоблводоканал» м.Вінниці розроблено природоохоронні заходи і рекомендації спрямовані на покращення технології переробки і утилізації осадів стічних вод та виробництва товарної продук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аналізовано умови охорони праці в приміщенні екологічного відді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еколого-економічну оцінку технології переробки осадів стічних вод за допомогою вермикульту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71280" y="285840"/>
            <a:ext cx="714600" cy="62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ення (висновки і рекоменда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907920"/>
            <a:ext cx="84358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ше для ОСК КП «Вінницяоблводоканал» м. Вінниці запропонована структурна схема технологічної установки брикетування осадів стічних вод і подальшою схемою термічної утилізації із виробленням електроенергії і 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садів за умови відповідності їх складу технічним вимогам має велике практичне народногосподарське значення, а са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и містять основні живильні речовини, необхідні для добрива, поступаючись перегною лише по кількості калію, тому їх доцільно використовувати у сільському господарстві в якості органо-мінерального азотно-фосфорного добрива, що містить необхідні для розвитку рослин мікроеле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ові осади стічних вод можна використовувати для вироблення електроенергії і 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садів стічних вод в якості сировини для виготовлення різних видів товарної продукції дозволя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и забруднення навколишнього природного середовищ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тити витрати хімікатів для добрив і води для поливу, знизити витрати на дорогі водоохоронні об'єк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ити врожайність сількогосподарських культур,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ьтатами аналізу зразків осадів стічних вод в лабораторії ОСК м. Вінниці встановлено, що дані техногенні осади є приданими для виробництва добрив, кормів і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них проду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і ОСВ можуть використовуватися для поліпшення структури і родючості торф’яних і піщаних ґрунтів, а також для рекультивації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й мул є цінним білково-вітамінним кормовим проду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и стічних вод, які містять великий відсоток органічних речовин, можна використовувати для одержання пірокарбона, смоли, гасу, бензину, воску та інших продук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258920" y="333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ення (висновки і рекоменда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ублікації за результатами МК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і результати магістерської кваліфікаційної роботи доповідались на науковій конференції: “V Всеукраїнський з’їзд екологів з міжнародною участю” (Екологія/Ecology-2015), (м.Вінниця, 2015), та щорічних науково-технічних конференціях В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одя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втор вдячний начальнику ОСК КП «Вінницяоблводоканал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ятинсь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му Олександру Дмитровичу за допомогу і підтримку у проведені експериментальних досліджень осадів стічних вод на ОСК КП «Вінницяоблводоканал» м. Вінн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71280" y="285840"/>
            <a:ext cx="61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Доповідь закінчена.</a:t>
            </a:r>
            <a:br>
              <a:rPr sz="5400"/>
            </a:br>
            <a:r>
              <a:rPr b="1" i="1" lang="uk-UA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повідно до мети дослідження основним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вданнями робот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ити в спеціалізованій лабораторії КП «Вінницяоблводоканал» зразки осадів комунальних стічних вод на різних стадіях їх технологічної переробки, які утворюються на ОСК КП «Вінницяоблводоканал» м.Він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хімічний та гранулометричний склад осадів стічних вод які утворюються та зберігаються на ОСК КП «Вінницяоблводоканал» м.Вінн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и технології переробки і утилізації осадів комунальних стічних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и і проаналізувати сучасні технології і обладнання для переробки і утилізації осадів стічних вод та технології виробництва товарної продукції із осадів стічних вод, які використовуються в країнах Є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результатів аналізу хімічного та гранулометричного складу осадів стічних вод які утворюються та зберігаються на ОСК КП «Вінницяоблводоканал» м.Вінниці розробити природоохоронні заходи і рекомендації спрямовані на покращення технології переробки і утилізації осадів стічних вод та виробництва товарної проду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543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оса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604800"/>
          <a:ext cx="8472600" cy="6083280"/>
        </p:xfrm>
        <a:graphic>
          <a:graphicData uri="http://schemas.openxmlformats.org/drawingml/2006/table">
            <a:tbl>
              <a:tblPr/>
              <a:tblGrid>
                <a:gridCol w="1933560"/>
                <a:gridCol w="3714840"/>
                <a:gridCol w="282420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 осадів аб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і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ифікація оса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уди і устаткування, що затримують осади або їх оброблюю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206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грубі (відход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Ґрати, с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858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важк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кол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20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плаваюч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івки, відстій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555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первинні, сирі, виділені зі стічної води в результаті, механічного очищення і не піддані обробц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тійники первинні, осветл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570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вторинні, сирі, виділені зі стічної води після біологічного і фізико-хімічного очище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тійники вторинні, флот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57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зброджені, що пройшли обробку в анаеробних перегнивачах або осади стабілізованих аеробних стабілізаторі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тики, двох'ярусні відстійники, освітлювачі, перегнивачі, метантенки, аеробні стабіліз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460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ущільнені, піддані згущенню до границі текучості (до волог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85%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щільнювачі: гравітаційні, термогравітаційні, флотаційні, сепаратори, термофлотаційні, центрифуги-ущільнювачі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0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зневоднені, піддані згущенню до вологості 80-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улові майданчики і площадки: високопродуктивні, вакуум-фільтри, центрифуги, фільтр-прес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6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сухі, піддані термічному сушінню до вологості 5-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рки: барабанні, вальцьові, з киплячим шаром, із зустрічними    струмен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57" name="Oval 3"/>
          <p:cNvSpPr/>
          <p:nvPr/>
        </p:nvSpPr>
        <p:spPr>
          <a:xfrm>
            <a:off x="71280" y="0"/>
            <a:ext cx="714600" cy="62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гальний хімічний склад осадів, % до абсолютно сухої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414324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імічний склад мінеральної частини осадів, % до абсолютно сухої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610480" cy="4235760"/>
          </a:xfrm>
          <a:prstGeom prst="rect">
            <a:avLst/>
          </a:prstGeom>
          <a:ln w="0">
            <a:noFill/>
          </a:ln>
        </p:spPr>
      </p:pic>
      <p:sp>
        <p:nvSpPr>
          <p:cNvPr id="63" name="Oval 3"/>
          <p:cNvSpPr/>
          <p:nvPr/>
        </p:nvSpPr>
        <p:spPr>
          <a:xfrm>
            <a:off x="93600" y="155520"/>
            <a:ext cx="714600" cy="7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и досл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джень ОСВ на ОСК КП «Вінницяоблводоканал» за 2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рі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8484" t="17113" r="19409" b="9799"/>
          <a:stretch/>
        </p:blipFill>
        <p:spPr>
          <a:xfrm>
            <a:off x="395280" y="1241280"/>
            <a:ext cx="845964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ь ОСВ на ОСК КП «Вінницяоблводоканал» за 2015 рі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9685" t="14733" r="9547" b="11409"/>
          <a:stretch/>
        </p:blipFill>
        <p:spPr>
          <a:xfrm>
            <a:off x="0" y="1557360"/>
            <a:ext cx="9144000" cy="4687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ість осадів як добрива (ґрунт супіщ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00080" y="1500120"/>
          <a:ext cx="7358040" cy="4572000"/>
        </p:xfrm>
        <a:graphic>
          <a:graphicData uri="http://schemas.openxmlformats.org/drawingml/2006/table">
            <a:tbl>
              <a:tblPr/>
              <a:tblGrid>
                <a:gridCol w="3070440"/>
                <a:gridCol w="1071360"/>
                <a:gridCol w="1069920"/>
                <a:gridCol w="1073160"/>
                <a:gridCol w="1073160"/>
              </a:tblGrid>
              <a:tr h="50796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жай капу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жай картопл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83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обрива (контро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неральне добр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ній – 3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сирі – 3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зброджені - 3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 ж, плюс К</a:t>
                      </a:r>
                      <a:r>
                        <a:rPr b="0" lang="uk-UA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алійне добриво – 60 кг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Oval 3"/>
          <p:cNvSpPr/>
          <p:nvPr/>
        </p:nvSpPr>
        <p:spPr>
          <a:xfrm>
            <a:off x="71280" y="285840"/>
            <a:ext cx="61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0:54:31Z</dcterms:created>
  <dc:creator>Пользователь</dc:creator>
  <dc:description/>
  <dc:language>en-US</dc:language>
  <cp:lastModifiedBy>Admin</cp:lastModifiedBy>
  <dcterms:modified xsi:type="dcterms:W3CDTF">2015-11-18T07:13:17Z</dcterms:modified>
  <cp:revision>146</cp:revision>
  <dc:subject/>
  <dc:title>Слайд 1</dc:title>
</cp:coreProperties>
</file>