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DC20D-5DF0-4937-92B2-3D712DECC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6B8B8-3755-4BC6-A02D-08944F3E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B993C-2E42-462A-BFC7-4B58A54B5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8AD76-6623-41BB-B1B8-404685F37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25C9-88CC-4605-BF1F-D8EA2382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BAF36-24B7-4CE1-A6AF-72E5EB8AB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BD53F-BD63-4DFE-92F4-209F7B200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851EB-9D86-4E77-9041-B5323F16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38B5A-0FEC-40ED-BC35-E0CD726B6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84DB-253F-4752-88DB-5C98AA87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AA74-7ACC-4A1E-BE24-D7EAAC332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C52A-DC3A-4D61-8B5B-351EA4A34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Click to edit the title text format</a:t>
            </a:r>
            <a:endParaRPr b="0" lang="en-US" sz="4400" spc="-1" strike="noStrike">
              <a:solidFill>
                <a:srgbClr val="1f497d"/>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310B-A7C2-4775-BDF7-59E141521035}" type="datetime">
              <a:rPr b="0" lang="ru-RU"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2BFB-C128-4A8E-BB0B-0F41D21032C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mriya_46.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Вінницький національний технічний університет </a:t>
            </a:r>
            <a:br>
              <a:rPr sz="2400"/>
            </a:br>
            <a:r>
              <a:rPr b="0" lang="uk-UA" sz="2400" spc="-1" strike="noStrike">
                <a:solidFill>
                  <a:srgbClr val="ffffff"/>
                </a:solidFill>
                <a:latin typeface="Times New Roman"/>
              </a:rPr>
              <a:t>Інститут екологічної безпеки та моніторингу довкілля </a:t>
            </a:r>
            <a:br>
              <a:rPr sz="2400"/>
            </a:br>
            <a:r>
              <a:rPr b="0" lang="uk-UA" sz="2400" spc="-1" strike="noStrike">
                <a:solidFill>
                  <a:srgbClr val="ffffff"/>
                </a:solidFill>
                <a:latin typeface="Times New Roman"/>
              </a:rPr>
              <a:t>Кафедра екології та екологічної безпеки</a:t>
            </a:r>
            <a:endParaRPr b="0" lang="en-US" sz="2400" spc="-1" strike="noStrike">
              <a:solidFill>
                <a:srgbClr val="1f497d"/>
              </a:solidFill>
              <a:latin typeface="Times New Roman"/>
            </a:endParaRPr>
          </a:p>
        </p:txBody>
      </p:sp>
      <p:sp>
        <p:nvSpPr>
          <p:cNvPr id="43" name="PlaceHolder 2"/>
          <p:cNvSpPr>
            <a:spLocks noGrp="1"/>
          </p:cNvSpPr>
          <p:nvPr>
            <p:ph type="subTitle"/>
          </p:nvPr>
        </p:nvSpPr>
        <p:spPr>
          <a:xfrm>
            <a:off x="395280" y="1341360"/>
            <a:ext cx="8353440" cy="55166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ac090"/>
                </a:solidFill>
                <a:latin typeface="Times New Roman"/>
              </a:rPr>
              <a:t>Тема: Екологічна безпека авіаційної промисловості </a:t>
            </a:r>
            <a:endParaRPr b="0" lang="en-US" sz="4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898989"/>
                </a:solidFill>
                <a:latin typeface="Times New Roman"/>
              </a:rPr>
              <a:t>	</a:t>
            </a:r>
            <a:r>
              <a:rPr b="0" lang="uk-UA" sz="2200" spc="-1" strike="noStrike">
                <a:solidFill>
                  <a:srgbClr val="898989"/>
                </a:solidFill>
                <a:latin typeface="Times New Roman"/>
              </a:rPr>
              <a:t>	</a:t>
            </a:r>
            <a:r>
              <a:rPr b="0" lang="uk-UA" sz="2200" spc="-1" strike="noStrike">
                <a:solidFill>
                  <a:srgbClr val="898989"/>
                </a:solidFill>
                <a:latin typeface="Times New Roman"/>
              </a:rPr>
              <a:t>	</a:t>
            </a:r>
            <a:r>
              <a:rPr b="0" lang="uk-UA" sz="2200" spc="-1" strike="noStrike">
                <a:solidFill>
                  <a:srgbClr val="898989"/>
                </a:solidFill>
                <a:latin typeface="Times New Roman"/>
              </a:rPr>
              <a:t>	</a:t>
            </a:r>
            <a:r>
              <a:rPr b="0" lang="uk-UA" sz="2200" spc="-1" strike="noStrike">
                <a:solidFill>
                  <a:srgbClr val="898989"/>
                </a:solidFill>
                <a:latin typeface="Times New Roman"/>
              </a:rPr>
              <a:t>	</a:t>
            </a:r>
            <a:endParaRPr b="0"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rPr>
              <a:t>	</a:t>
            </a:r>
            <a:r>
              <a:rPr b="0" lang="uk-UA" sz="2200" spc="-1" strike="noStrike">
                <a:solidFill>
                  <a:srgbClr val="ffffff"/>
                </a:solidFill>
                <a:latin typeface="Times New Roman"/>
              </a:rPr>
              <a:t>	</a:t>
            </a:r>
            <a:r>
              <a:rPr b="0" lang="uk-UA" sz="2200" spc="-1" strike="noStrike">
                <a:solidFill>
                  <a:srgbClr val="ffffff"/>
                </a:solidFill>
                <a:latin typeface="Times New Roman"/>
              </a:rPr>
              <a:t>	</a:t>
            </a:r>
            <a:r>
              <a:rPr b="0" lang="uk-UA" sz="2200" spc="-1" strike="noStrike">
                <a:solidFill>
                  <a:srgbClr val="ffffff"/>
                </a:solidFill>
                <a:latin typeface="Times New Roman"/>
              </a:rPr>
              <a:t>	</a:t>
            </a:r>
            <a:r>
              <a:rPr b="0" lang="uk-UA" sz="2200" spc="-1" strike="noStrike">
                <a:solidFill>
                  <a:srgbClr val="ffffff"/>
                </a:solidFill>
                <a:latin typeface="Times New Roman"/>
              </a:rPr>
              <a:t>	</a:t>
            </a:r>
            <a:r>
              <a:rPr b="1" lang="uk-UA" sz="2000" spc="-1" strike="noStrike">
                <a:solidFill>
                  <a:srgbClr val="ffffff"/>
                </a:solidFill>
                <a:latin typeface="Times New Roman"/>
              </a:rPr>
              <a:t>Підготувала: ст. гр. ЕБ-14м</a:t>
            </a:r>
            <a:br>
              <a:rPr sz="2000"/>
            </a:b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Суздалевич І. Ю.</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Науковий керівник: к.т.н., доц.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Петрук Р. В.</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Склад стічних вод </a:t>
            </a:r>
            <a:endParaRPr b="0" lang="en-US" sz="4000" spc="-1" strike="noStrike">
              <a:solidFill>
                <a:srgbClr val="1f497d"/>
              </a:solidFill>
              <a:latin typeface="Times New Roman"/>
            </a:endParaRPr>
          </a:p>
        </p:txBody>
      </p:sp>
      <p:sp>
        <p:nvSpPr>
          <p:cNvPr id="6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9DF8-D7F1-49CB-998E-0B1337A761F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70" name="Таблица 5" descr=""/>
          <p:cNvPicPr/>
          <p:nvPr/>
        </p:nvPicPr>
        <p:blipFill>
          <a:blip r:embed="rId1"/>
          <a:stretch/>
        </p:blipFill>
        <p:spPr>
          <a:xfrm>
            <a:off x="176040" y="622440"/>
            <a:ext cx="8791920" cy="593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f497d"/>
                </a:solidFill>
                <a:latin typeface="Times New Roman"/>
              </a:rPr>
              <a:t>МЕХАНІЗМ ТА ІНСТРУМЕНТИ ЗАБЕЗПЕЧЕННЯ ЕКОЛОГІЧНОЇ БЕЗПЕКИ АВІАЦІЙНОЇ ПРОМИСЛОВОСТІ</a:t>
            </a:r>
            <a:endParaRPr b="0" lang="en-US" sz="2000" spc="-1" strike="noStrike">
              <a:solidFill>
                <a:srgbClr val="1f497d"/>
              </a:solidFill>
              <a:latin typeface="Times New Roman"/>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кологізація повинна здійснюватись на основ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організаційно-технічних рішен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раціонального природокористуванн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застосування нових технологі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прогресивної організації маловідходних та безвідходних виробницт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нергозберігаючих заході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Удосконалення виробничих потужносте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Заміни або модернізації очисного обладнанн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2081-FBAA-478E-91F1-EBC096E2C74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692280"/>
            <a:ext cx="8229600" cy="5433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rPr>
              <a:t>Напрямки екологізації авіаційної промисловості:</a:t>
            </a:r>
            <a:endParaRPr b="0" lang="en-US" sz="28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збереження та відновлення екологічних систем;</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впровадження прогресивних технологій видобутку природної сировини;</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раціональне використання матеріальних ресурсів;</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створення і впровадження маловідходних і безвідходних виробництв;</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екологічно прийнятне розміщення і територіальна організація виробництва;</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скорочення та ліквідація забруднення навколишнього природного середовища.</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AF8D-4C41-4EDE-A1E1-2F7536519D7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f497d"/>
                </a:solidFill>
                <a:latin typeface="Times New Roman"/>
              </a:rPr>
              <a:t>Основні умови забезпечення екологічної безпеки та екологічного розвитку</a:t>
            </a:r>
            <a:endParaRPr b="0" lang="en-US" sz="2400" spc="-1" strike="noStrike">
              <a:solidFill>
                <a:srgbClr val="1f497d"/>
              </a:solidFill>
              <a:latin typeface="Times New Roman"/>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наявність глибоко проробленої єдиної державної екологічної</a:t>
            </a:r>
            <a:r>
              <a:rPr b="0" lang="ru-RU" sz="1900" spc="-1" strike="noStrike">
                <a:solidFill>
                  <a:srgbClr val="000000"/>
                </a:solidFill>
                <a:latin typeface="Times New Roman"/>
              </a:rPr>
              <a:t> </a:t>
            </a:r>
            <a:r>
              <a:rPr b="0" lang="uk-UA" sz="1900" spc="-1" strike="noStrike">
                <a:solidFill>
                  <a:srgbClr val="000000"/>
                </a:solidFill>
                <a:latin typeface="Times New Roman"/>
              </a:rPr>
              <a:t>політики підкріпленої системою законів та довгостроковою стратегічною програмою;</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наявність глибоко проробленого законодавства у галузі природокористування і охорони навколишнього середовища;</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перебудова методології та практики експлуатації природних ресурсів;</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достатнє фінансове та матеріальне забезпечення;</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участь населення в процесі вироблення і прийняття рішень по найбільш важливим практичним завданням екорозвитку;</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науково-методична, інформаційна та нормативна забезпеченість територіальних еколого-економічних програм;</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правильна кадрова політика, при якій доступ до влади і управління природокористуванням визначається професіоналізмом і компетентністю;</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міжнародне співробітництво та підтримка.</a:t>
            </a: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7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3E0B-F8F0-41CC-B45C-8A32AACD5FB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1f497d"/>
                </a:solidFill>
                <a:latin typeface="Times New Roman"/>
              </a:rPr>
              <a:t>Принципи маловідходних технологій </a:t>
            </a:r>
            <a:endParaRPr b="0" lang="en-US" sz="2900" spc="-1" strike="noStrike">
              <a:solidFill>
                <a:srgbClr val="1f497d"/>
              </a:solidFill>
              <a:latin typeface="Times New Roman"/>
            </a:endParaRPr>
          </a:p>
        </p:txBody>
      </p:sp>
      <p:pic>
        <p:nvPicPr>
          <p:cNvPr id="80" name="Picture 5" descr=""/>
          <p:cNvPicPr/>
          <p:nvPr/>
        </p:nvPicPr>
        <p:blipFill>
          <a:blip r:embed="rId1"/>
          <a:stretch/>
        </p:blipFill>
        <p:spPr>
          <a:xfrm>
            <a:off x="468360" y="1052640"/>
            <a:ext cx="5616360" cy="5522760"/>
          </a:xfrm>
          <a:prstGeom prst="rect">
            <a:avLst/>
          </a:prstGeom>
          <a:ln w="0">
            <a:noFill/>
          </a:ln>
        </p:spPr>
      </p:pic>
      <p:sp>
        <p:nvSpPr>
          <p:cNvPr id="81" name=""/>
          <p:cNvSpPr txBox="1"/>
          <p:nvPr/>
        </p:nvSpPr>
        <p:spPr>
          <a:xfrm>
            <a:off x="6587640" y="836280"/>
            <a:ext cx="2305080" cy="5761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ринципи:</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 –системності;</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б – комлекстності;</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 –циклічності.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997A-9F94-48B1-A7C2-CFD563D3085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1f497d"/>
                </a:solidFill>
                <a:latin typeface="Times New Roman"/>
              </a:rPr>
              <a:t>ЗАХОДИ ЗАБЕЗПЕЧЕННЯ ЕКОЛОГІЧНОЇ БЕЗПЕКИ В АВІАЦІЙНІЙ ПРОМИСЛОВОСТІ</a:t>
            </a:r>
            <a:endParaRPr b="0" lang="en-US" sz="2800" spc="-1" strike="noStrike">
              <a:solidFill>
                <a:srgbClr val="1f497d"/>
              </a:solidFill>
              <a:latin typeface="Times New Roman"/>
            </a:endParaRPr>
          </a:p>
        </p:txBody>
      </p:sp>
      <p:sp>
        <p:nvSpPr>
          <p:cNvPr id="84" name="PlaceHolder 2"/>
          <p:cNvSpPr>
            <a:spLocks noGrp="1"/>
          </p:cNvSpPr>
          <p:nvPr>
            <p:ph/>
          </p:nvPr>
        </p:nvSpPr>
        <p:spPr>
          <a:xfrm>
            <a:off x="395280" y="1125000"/>
            <a:ext cx="8362800" cy="15829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Екологічна безпека навколишнього середовища, мінімізація викидів забруднюючих речовин може бути забезпечена застосуванням методів знешкодження (видалення) забруднювачів або використанням безвідходних технологій. До цих методів відносять наступні (в залежності від середовища або комбінації середовищ): </a:t>
            </a:r>
            <a:endParaRPr b="0" lang="en-US" sz="1800" spc="-1" strike="noStrike">
              <a:solidFill>
                <a:srgbClr val="000000"/>
              </a:solidFill>
              <a:latin typeface="Times New Roman"/>
            </a:endParaRPr>
          </a:p>
        </p:txBody>
      </p:sp>
      <p:sp>
        <p:nvSpPr>
          <p:cNvPr id="85" name=""/>
          <p:cNvSpPr txBox="1"/>
          <p:nvPr/>
        </p:nvSpPr>
        <p:spPr>
          <a:xfrm>
            <a:off x="250920" y="2708280"/>
            <a:ext cx="4039920" cy="3951360"/>
          </a:xfrm>
          <a:prstGeom prst="rect">
            <a:avLst/>
          </a:prstGeom>
          <a:noFill/>
          <a:ln w="0">
            <a:noFill/>
          </a:ln>
        </p:spPr>
        <p:txBody>
          <a:bodyPr anchor="t">
            <a:normAutofit/>
          </a:bodyPr>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Відстоюва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Коагуля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Фільтрува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Магнітний метод;</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Ультразвуковий метод;</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Адсорб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Нейтраліза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Відновле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Флота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Екстракція; </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txBox="1"/>
          <p:nvPr/>
        </p:nvSpPr>
        <p:spPr>
          <a:xfrm>
            <a:off x="4067280" y="2636640"/>
            <a:ext cx="4897440" cy="3951000"/>
          </a:xfrm>
          <a:prstGeom prst="rect">
            <a:avLst/>
          </a:prstGeom>
          <a:noFill/>
          <a:ln w="0">
            <a:noFill/>
          </a:ln>
        </p:spPr>
        <p:txBody>
          <a:bodyPr anchor="t">
            <a:normAutofit/>
          </a:bodyPr>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Зворотний осмос;</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Ультрафільтрува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Іонний обмін;</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есорб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Перегонка та ректифіка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Концентрування;</a:t>
            </a:r>
            <a:endParaRPr b="0" lang="en-US" sz="2400" spc="-1" strike="noStrike">
              <a:solidFill>
                <a:srgbClr val="000000"/>
              </a:solidFill>
              <a:latin typeface="Times New Roman"/>
            </a:endParaRPr>
          </a:p>
          <a:p>
            <a:pPr marL="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Окислення хімічними реагентами;</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Електрохімічна очистка.</a:t>
            </a:r>
            <a:endParaRPr b="0" lang="en-US" sz="2400" spc="-1" strike="noStrike">
              <a:solidFill>
                <a:srgbClr val="000000"/>
              </a:solidFill>
              <a:latin typeface="Times New Roman"/>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B03F-E486-4C4D-BEE8-959EA5569B4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1f497d"/>
                </a:solidFill>
                <a:latin typeface="Times New Roman"/>
              </a:rPr>
              <a:t>Схема очищення стічних вод</a:t>
            </a:r>
            <a:endParaRPr b="0" lang="en-US" sz="2800" spc="-1" strike="noStrike">
              <a:solidFill>
                <a:srgbClr val="1f497d"/>
              </a:solidFill>
              <a:latin typeface="Times New Roman"/>
            </a:endParaRPr>
          </a:p>
        </p:txBody>
      </p:sp>
      <p:sp>
        <p:nvSpPr>
          <p:cNvPr id="89" name="PlaceHolder 2"/>
          <p:cNvSpPr>
            <a:spLocks noGrp="1"/>
          </p:cNvSpPr>
          <p:nvPr>
            <p:ph/>
          </p:nvPr>
        </p:nvSpPr>
        <p:spPr>
          <a:xfrm>
            <a:off x="394920" y="4941720"/>
            <a:ext cx="8280360" cy="1484640"/>
          </a:xfrm>
          <a:prstGeom prst="rect">
            <a:avLst/>
          </a:prstGeom>
          <a:noFill/>
          <a:ln w="0">
            <a:noFill/>
          </a:ln>
        </p:spPr>
        <p:txBody>
          <a:bodyPr anchor="b">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1 – усереднювач; 2 – пісколовки; 3 – установка електрокоагуляції; 4 – установка реагентної напірної флотації; 5 – установка реагентної коагуляції; 6 – маслозбірник; 7 – установка зневоднення масел; 8 – відстійники; 9 – фільтри доочистки; 10 – резервуари очищеної води; 11 – піскові площадки; 12 – ущільнювачі осаду; 13 – установка зневоднення осаду; 14 – установка стабілізаційної обробки води; І – стічні води; II – очищена вода; III – осад; IV – масла; V – фільтрат; VI – регенерація фільтрів.</a:t>
            </a:r>
            <a:endParaRPr b="0" lang="en-US" sz="1600" spc="-1" strike="noStrike">
              <a:solidFill>
                <a:srgbClr val="000000"/>
              </a:solidFill>
              <a:latin typeface="Times New Roman"/>
            </a:endParaRPr>
          </a:p>
        </p:txBody>
      </p:sp>
      <p:pic>
        <p:nvPicPr>
          <p:cNvPr id="90" name="Picture 4" descr=""/>
          <p:cNvPicPr/>
          <p:nvPr/>
        </p:nvPicPr>
        <p:blipFill>
          <a:blip r:embed="rId1"/>
          <a:stretch/>
        </p:blipFill>
        <p:spPr>
          <a:xfrm>
            <a:off x="395280" y="765000"/>
            <a:ext cx="8298000" cy="3959280"/>
          </a:xfrm>
          <a:prstGeom prst="rect">
            <a:avLst/>
          </a:prstGeom>
          <a:ln w="0">
            <a:noFill/>
          </a:ln>
        </p:spPr>
      </p:pic>
      <p:sp>
        <p:nvSpPr>
          <p:cNvPr id="91" name="Номер слайда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BE04-817F-4E28-8022-7EF430057B7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f497d"/>
                </a:solidFill>
                <a:latin typeface="Times New Roman"/>
              </a:rPr>
              <a:t>Система зворотного водопостачання підприємства з гальванічним цехом</a:t>
            </a:r>
            <a:endParaRPr b="0" lang="en-US" sz="3200" spc="-1" strike="noStrike">
              <a:solidFill>
                <a:srgbClr val="1f497d"/>
              </a:solidFill>
              <a:latin typeface="Times New Roman"/>
            </a:endParaRPr>
          </a:p>
        </p:txBody>
      </p:sp>
      <p:pic>
        <p:nvPicPr>
          <p:cNvPr id="93" name="Picture 2" descr=""/>
          <p:cNvPicPr/>
          <p:nvPr/>
        </p:nvPicPr>
        <p:blipFill>
          <a:blip r:embed="rId1"/>
          <a:stretch/>
        </p:blipFill>
        <p:spPr>
          <a:xfrm>
            <a:off x="1403280" y="1844640"/>
            <a:ext cx="6264360" cy="3808440"/>
          </a:xfrm>
          <a:prstGeom prst="rect">
            <a:avLst/>
          </a:prstGeom>
          <a:ln w="0">
            <a:noFill/>
          </a:ln>
        </p:spPr>
      </p:pic>
      <p:sp>
        <p:nvSpPr>
          <p:cNvPr id="9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FE7D-0B32-4D23-B04C-D5A80764A2D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f497d"/>
                </a:solidFill>
                <a:latin typeface="Times New Roman"/>
              </a:rPr>
              <a:t>Схема очищення стічних промислових вод </a:t>
            </a:r>
            <a:endParaRPr b="0" lang="en-US" sz="2200" spc="-1" strike="noStrike">
              <a:solidFill>
                <a:srgbClr val="1f497d"/>
              </a:solidFill>
              <a:latin typeface="Times New Roman"/>
            </a:endParaRPr>
          </a:p>
        </p:txBody>
      </p:sp>
      <p:pic>
        <p:nvPicPr>
          <p:cNvPr id="96" name="Picture 2" descr=""/>
          <p:cNvPicPr/>
          <p:nvPr/>
        </p:nvPicPr>
        <p:blipFill>
          <a:blip r:embed="rId1"/>
          <a:stretch/>
        </p:blipFill>
        <p:spPr>
          <a:xfrm>
            <a:off x="1979640" y="692280"/>
            <a:ext cx="5256360" cy="5889600"/>
          </a:xfrm>
          <a:prstGeom prst="rect">
            <a:avLst/>
          </a:prstGeom>
          <a:ln w="0">
            <a:noFill/>
          </a:ln>
        </p:spPr>
      </p:pic>
      <p:sp>
        <p:nvSpPr>
          <p:cNvPr id="9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D370-6620-4A2E-A339-8E989B28D93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f497d"/>
                </a:solidFill>
                <a:latin typeface="Times New Roman"/>
              </a:rPr>
              <a:t>Показники збитків від впливу авіатранспортних процесів на навколишнє середовище в Україні</a:t>
            </a:r>
            <a:endParaRPr b="0" lang="en-US" sz="2000" spc="-1" strike="noStrike">
              <a:solidFill>
                <a:srgbClr val="1f497d"/>
              </a:solidFill>
              <a:latin typeface="Times New Roman"/>
            </a:endParaRPr>
          </a:p>
        </p:txBody>
      </p:sp>
      <p:graphicFrame>
        <p:nvGraphicFramePr>
          <p:cNvPr id="99" name=""/>
          <p:cNvGraphicFramePr/>
          <p:nvPr/>
        </p:nvGraphicFramePr>
        <p:xfrm>
          <a:off x="468360" y="1197000"/>
          <a:ext cx="8229600" cy="5029200"/>
        </p:xfrm>
        <a:graphic>
          <a:graphicData uri="http://schemas.openxmlformats.org/drawingml/2006/table">
            <a:tbl>
              <a:tblPr/>
              <a:tblGrid>
                <a:gridCol w="1028520"/>
                <a:gridCol w="1028880"/>
                <a:gridCol w="1028520"/>
                <a:gridCol w="1028880"/>
                <a:gridCol w="1028520"/>
                <a:gridCol w="1028880"/>
                <a:gridCol w="1028520"/>
                <a:gridCol w="1028880"/>
              </a:tblGrid>
              <a:tr h="447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Фактор впливу</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Маршрут</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Викиди, т/рік</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битки</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Питома вага,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CH</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CO</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NOx</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ис.</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грн</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ис.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місія при прольоті території</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анзит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0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04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405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75636,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28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60,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іжнарод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8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62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4124,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612,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нутрішні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9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02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895,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72,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0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71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869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065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6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місія в зоні аеропорту</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іжнарод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9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1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5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864,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нутрішні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9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1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876,2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0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741,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75,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Шум</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іжнарод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1937,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38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8,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нутрішні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3090,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43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65028,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82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9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15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899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67252,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725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0CDD-052F-495F-9153-DEE430955D8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uk-UA" sz="4000" spc="-1" strike="noStrike">
                <a:solidFill>
                  <a:srgbClr val="1f497d"/>
                </a:solidFill>
                <a:latin typeface="Times New Roman"/>
              </a:rPr>
              <a:t>Актуальність</a:t>
            </a:r>
            <a:br>
              <a:rPr sz="4000"/>
            </a:br>
            <a:br>
              <a:rPr sz="2500"/>
            </a:br>
            <a:br>
              <a:rPr sz="4000"/>
            </a:br>
            <a:endParaRPr b="0" lang="en-US" sz="4000" spc="-1" strike="noStrike">
              <a:solidFill>
                <a:srgbClr val="1f497d"/>
              </a:solidFill>
              <a:latin typeface="Times New Roman"/>
            </a:endParaRPr>
          </a:p>
        </p:txBody>
      </p:sp>
      <p:sp>
        <p:nvSpPr>
          <p:cNvPr id="45" name=""/>
          <p:cNvSpPr txBox="1"/>
          <p:nvPr/>
        </p:nvSpPr>
        <p:spPr>
          <a:xfrm>
            <a:off x="324000" y="1052280"/>
            <a:ext cx="8229600" cy="5329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днією  з найважливіших галузей машинобудування є авіаційна промисловість, яка виробляє літальні апарати для забезпечення потреб населення, народного господарства і оборони держави в повітряних перевезеннях і авіаційних роботах. Успішний розвиток цієї галузі в значній мірі визначається науковою, виробничо-технічною, економічною та фінансовою діяльністю підприємств, які до неї входять.    </a:t>
            </a:r>
            <a:endParaRPr b="0" lang="en-US" sz="1600" spc="-1" strike="noStrike">
              <a:solidFill>
                <a:srgbClr val="000000"/>
              </a:solidFill>
              <a:latin typeface="Times New Roman"/>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Україна входить до семи провідних авіаційних держав світу, які мають замкнутий (повний) цикл виготовлення літаків – від їх проектування до запуску в серійне виробництво. Сучасний стан авіаційної галузі досить складний. Чимало з підприємств галузі зупинили виробництво і продаж літаків, мають кредиторську заборгованість. Суттєво зношенні виробничі фонди підприємств, більшість з яких опинились у тому критичному стані, коли без фінансового оздоровлення їх діяльність неможлива.  Тому внаслідок цього суттєво загострилась проблема впливу авіаційної промисловості на навколишнє природне середовище. Але й крім цього на підприємствах авіаційної промисловості є велика кількість небезпечних ділянок, які чинять негативний вплив довкілля та населення. До найбільш небезпечних ділянок належать гальванічні, термічні цехи, цехи механічної обробки металів, ділянки фарбування та приладобудівні підприємства, котрі забезпечують авіаційну промисловість навігаційними, радіолокаційними та інформаційними комплексами. </a:t>
            </a:r>
            <a:endParaRPr b="0" lang="en-US" sz="1600" spc="-1" strike="noStrike">
              <a:solidFill>
                <a:srgbClr val="000000"/>
              </a:solidFill>
              <a:latin typeface="Times New Roman"/>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ому на даний час актуальним є питання вивчення оцінки впливу на навколишнє середовище авіаційної промисловості. </a:t>
            </a:r>
            <a:endParaRPr b="0" lang="en-US" sz="1600" spc="-1" strike="noStrike">
              <a:solidFill>
                <a:srgbClr val="000000"/>
              </a:solidFill>
              <a:latin typeface="Times New Roman"/>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CC47-4B79-4024-A934-D7BCD02D057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54900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f497d"/>
                </a:solidFill>
                <a:latin typeface="Times New Roman"/>
              </a:rPr>
              <a:t>Показники ефективності природоохоронних заходів в авіації </a:t>
            </a:r>
            <a:br>
              <a:rPr sz="4000"/>
            </a:br>
            <a:endParaRPr b="0" lang="en-US" sz="2200" spc="-1" strike="noStrike">
              <a:solidFill>
                <a:srgbClr val="1f497d"/>
              </a:solidFill>
              <a:latin typeface="Times New Roman"/>
            </a:endParaRPr>
          </a:p>
        </p:txBody>
      </p:sp>
      <p:graphicFrame>
        <p:nvGraphicFramePr>
          <p:cNvPr id="102" name=""/>
          <p:cNvGraphicFramePr/>
          <p:nvPr/>
        </p:nvGraphicFramePr>
        <p:xfrm>
          <a:off x="457200" y="1600200"/>
          <a:ext cx="8229600" cy="3941640"/>
        </p:xfrm>
        <a:graphic>
          <a:graphicData uri="http://schemas.openxmlformats.org/drawingml/2006/table">
            <a:tbl>
              <a:tblPr/>
              <a:tblGrid>
                <a:gridCol w="1371600"/>
                <a:gridCol w="1371600"/>
                <a:gridCol w="1371600"/>
                <a:gridCol w="1371600"/>
                <a:gridCol w="1371600"/>
                <a:gridCol w="1371600"/>
              </a:tblGrid>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Заход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Фактор вплив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Економічний ефект, тис.гр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Економічна ефектив-ність,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ціальний ефек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тис.гр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Примітк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дернізація двигу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місі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2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75,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7,2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дин двигу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30К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24,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81,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5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мбі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5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дернізація планер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2834,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4,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65,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дин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у-154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ксплуатаційні заход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місі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7,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9,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8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9,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07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9,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7,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4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4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мбі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9,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9,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4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49,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51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рганізаційні заход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9,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7,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4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4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967F-B591-4565-83DE-1A3C31A2C42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1f497d"/>
                </a:solidFill>
                <a:latin typeface="Times New Roman"/>
              </a:rPr>
              <a:t>Наукова новизна</a:t>
            </a:r>
            <a:endParaRPr b="0" lang="en-US" sz="4400" spc="-1" strike="noStrike">
              <a:solidFill>
                <a:srgbClr val="1f497d"/>
              </a:solidFill>
              <a:latin typeface="Times New Roman"/>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rPr>
              <a:t>Практичне значення. </a:t>
            </a:r>
            <a:r>
              <a:rPr b="0" lang="uk-UA" sz="1700" spc="-1" strike="noStrike">
                <a:solidFill>
                  <a:srgbClr val="000000"/>
                </a:solidFill>
                <a:latin typeface="Times New Roman"/>
              </a:rPr>
              <a:t>Результати проведених досліджень доцільно використовувати в практиці при плануванні та експлуатації об’єктів авіаційної промисловості для мінімізації небезпечних впливів на навколишнє природне середовище.</a:t>
            </a:r>
            <a:r>
              <a:rPr b="1" lang="uk-UA" sz="1700" spc="-1" strike="noStrike">
                <a:solidFill>
                  <a:srgbClr val="000000"/>
                </a:solidFill>
                <a:latin typeface="Times New Roman"/>
              </a:rPr>
              <a:t> </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Розроблені природоохоронні та планово-технічні заходи і рекомендації спрямовані на підвищення рівня екологічної безпеки при експлуатації об’єктів авіаційної промисловості.</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Розроблені природоохоронні та ресурсозберігаючі заходи і рекомендації спрямованні на енергоефективне використання енергоносіїв об’єктами авіаційної промисловості.</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rPr>
              <a:t>Наукова новизна. </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Набуло подальшого вдосконалення обґрунтування рівня екологічних ризиків використання об’єктів авіаційної промисловості, що дозволило мінімізувати вплив на довкілля та здоров’я людей.</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Дістало подальшого розвитку дослідження впливів гальванічних цехів авіаційних виробництв, що дозволило зменшити вплив важких металів та мінімізувати витрати електролітів і технологічних вод.   </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0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AF22-0FD9-4FFD-BEFE-0C48C4355805}" type="slidenum">
              <a:rPr b="0" lang="ru-RU" sz="1800" spc="-1" strike="noStrike">
                <a:solidFill>
                  <a:srgbClr val="898989"/>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Висновки</a:t>
            </a:r>
            <a:endParaRPr b="0" lang="en-US" sz="4000" spc="-1" strike="noStrike">
              <a:solidFill>
                <a:srgbClr val="1f497d"/>
              </a:solidFill>
              <a:latin typeface="Times New Roman"/>
            </a:endParaRPr>
          </a:p>
        </p:txBody>
      </p:sp>
      <p:sp>
        <p:nvSpPr>
          <p:cNvPr id="108" name=""/>
          <p:cNvSpPr txBox="1"/>
          <p:nvPr/>
        </p:nvSpPr>
        <p:spPr>
          <a:xfrm>
            <a:off x="250920" y="980640"/>
            <a:ext cx="8642160" cy="5543640"/>
          </a:xfrm>
          <a:prstGeom prst="rect">
            <a:avLst/>
          </a:prstGeom>
          <a:noFill/>
          <a:ln w="0">
            <a:noFill/>
          </a:ln>
        </p:spPr>
        <p:txBody>
          <a:bodyPr anchor="t">
            <a:normAutofit fontScale="98000"/>
          </a:bodyPr>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 даній роботі було здійснено наступне.</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Дана загальна характеристика авіаційній промисловості України. Описано основні етапи створення літальних апаратів. Розглянуто технологічні ділянки підприємств авіаційної промисловості, а також основні виробництва. </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r>
              <a:rPr b="0" lang="uk-UA" sz="1200" spc="-1" strike="noStrike">
                <a:solidFill>
                  <a:srgbClr val="000000"/>
                </a:solidFill>
                <a:latin typeface="Times New Roman"/>
              </a:rPr>
              <a:t>2. Досліджено екологічний вплив авіаційної промисловості на довкілля. При виробництві авіаційної техніки на підприємствах авіаційної промисловості відбувається забруднення таких складових довкілля як: атмосферне повітря,  ґрунти, наземні  та підземні води. В атмосферне повітря потрапляють шкідливі речовини, а саме: ароматичні вуглеводні, аерозолі, промисловий пил, оксид вуглецю та оксид азоту; тверді часточки. Ґрунти забруднюються рідкими відходами (паливно-мастильні матеріали, акумуляторними рідинами) та твердими відходами у вигляді металевого брухту, стружки, лому та рештками композитних та пластмасових матеріалів. Водне середовище забруднюється внаслідок технологічних процесів підприємств авіаційної промисловості. Найбільш небезпечними ділянками підприємств є гальванічні, термічні цехи та ділянки зберігання паливно-пастильних матеріалів, а також ділянки безпосереднього фарбування літальних апаратів.</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изначивши основні забруднюючі речовини, що утворюються при різних виробничих процесах авіаційної галузі, можна зробити висновок про те, що кількості їх надходження потрібно регулювати застосовуючи природоохоронні заходи та  дотримуватись нормативно-регламентуючих документів. Зменшити утворення цих речовин можливо за рахунок заміни технологій виробництв на більш сучасні, впровадження мало- та безвідходних технологій, застосовування очисних споруд, та розробки методів утилізації та переробки відходів виробництв авіаційної промисловості.  </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 Досліджено що із застосуванням напрямків та шляхів екологізації можна значно зменшити негативні впливи виробництва на навколишнє природне середовище. Впровадження мало- та безвідходних технологій дозволить не витрачати додаткові кошти на утилізацію та переробку відходів. Очисне обладнання допоможе зменшити кількість домішок та шкідливих речовин у промислових стоках та у пило-газових сумішах, уловлюючи їх за допомогою фільтрів та абсорберів. Передача відходів підприємства у суміжні галузі, дозволить зменшити об’єми видобутку нової природної сировини та зменшити рівні витрат на їх видобуток. Використання альтернативних джерел енергії забезпечить збереження викопних паливних ресурсів (газу, нафти, вугілля), та зменшить обсяги виділення оксидів сірки, азоту, карбону, важких металів, продуктів неповного згоряння палива у атмосферне повітря. Таким чином, процеси екологізації авіаційної промисловості є важливими для покращення стану навколишнього природного середовища та ресурсозбереження.      4. Було запропоновано заходи із забезпечення екологічної безпеки авіаційної промисловості, які охоплюють водне та повітряне середовище. Розглянуті методи утилізації та переробки твердих відходів авіаційної промисловості. </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 Обраховано фінансовий ефект від впровадження природоохоронних заходів в авіації; еколого-економічні збитки від забруднення навколишнього середовища при авіатранспортних процесах.</a:t>
            </a:r>
            <a:endParaRPr b="0" lang="en-US" sz="1200" spc="-1" strike="noStrike">
              <a:solidFill>
                <a:srgbClr val="000000"/>
              </a:solidFill>
              <a:latin typeface="Times New Roman"/>
            </a:endParaRPr>
          </a:p>
        </p:txBody>
      </p:sp>
      <p:sp>
        <p:nvSpPr>
          <p:cNvPr id="10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C47E-4503-450D-BBA3-8DDB846BC14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Рисунок 4" descr="mriya_53.jpg"/>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39528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imes New Roman"/>
              </a:rPr>
              <a:t>Дякую за увагу!</a:t>
            </a:r>
            <a:br>
              <a:rPr sz="4000"/>
            </a:br>
            <a:endParaRPr b="0" lang="en-US" sz="4000" spc="-1" strike="noStrike">
              <a:solidFill>
                <a:srgbClr val="1f497d"/>
              </a:solidFill>
              <a:latin typeface="Times New Roman"/>
            </a:endParaRPr>
          </a:p>
        </p:txBody>
      </p:sp>
      <p:sp>
        <p:nvSpPr>
          <p:cNvPr id="11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F802-1424-4B72-954B-ADE287B0325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95280" y="1197000"/>
            <a:ext cx="8229600" cy="4525920"/>
          </a:xfrm>
          <a:prstGeom prst="rect">
            <a:avLst/>
          </a:prstGeom>
          <a:noFill/>
          <a:ln w="0">
            <a:noFill/>
          </a:ln>
        </p:spPr>
        <p:txBody>
          <a:bodyPr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Метою роботи </a:t>
            </a:r>
            <a:r>
              <a:rPr b="0" lang="uk-UA" sz="2000" spc="-1" strike="noStrike">
                <a:solidFill>
                  <a:srgbClr val="000000"/>
                </a:solidFill>
                <a:latin typeface="Times New Roman"/>
              </a:rPr>
              <a:t>є підвищення екологічної безпеки авіаційної промисловості.</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дачі дослідження: </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слідити екологічний вплив авіаційної промисловості.</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роаналізувати напрямки та шляхи забезпечення екологічної безпеки авіаційної промисловості.</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ідвищити екологічну безпеку підприємств авіаційної промисловості.</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Розрахувати економічний ефект від впровадження природоохоронних заходів та еколого-економічні збитки від забруднення навколишнього середовища. </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Об’єкт дослідження – </a:t>
            </a:r>
            <a:r>
              <a:rPr b="0" lang="uk-UA" sz="2000" spc="-1" strike="noStrike">
                <a:solidFill>
                  <a:srgbClr val="000000"/>
                </a:solidFill>
                <a:latin typeface="Times New Roman"/>
              </a:rPr>
              <a:t> технологічні процеси авіаційної промисловості.</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редмет дослідження – </a:t>
            </a:r>
            <a:r>
              <a:rPr b="0" lang="uk-UA" sz="2000" spc="-1" strike="noStrike">
                <a:solidFill>
                  <a:srgbClr val="000000"/>
                </a:solidFill>
                <a:latin typeface="Times New Roman"/>
              </a:rPr>
              <a:t>Підприємства авіабудівного концерну “Авіація України”</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EEA1-399F-4D90-B88A-8FDB3C0AB3E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Підприємства авіабудівного концерну “Авіація України”</a:t>
            </a:r>
            <a:endParaRPr b="0" lang="en-US" sz="4000" spc="-1" strike="noStrike">
              <a:solidFill>
                <a:srgbClr val="1f497d"/>
              </a:solidFill>
              <a:latin typeface="Times New Roman"/>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Авіаційний науково-технічний комплекс ім. Антонов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Київський авіаційний завод «Авіан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Завод №410 цивільної авіації;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Харківське державне авіаційне виробниче підприємство;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НДІ «Буран»;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Харківське агрегатне конструкторське бюро»;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Харківський машинобудівний завод «ФЕД»;</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Запорізьке машинобудівне КБ «Прогрес» ім. академіка Івченка»;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Новатор»;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Радіовимірювач».</a:t>
            </a:r>
            <a:endParaRPr b="0" lang="en-US" sz="2400" spc="-1" strike="noStrike">
              <a:solidFill>
                <a:srgbClr val="000000"/>
              </a:solidFill>
              <a:latin typeface="Times New Roman"/>
            </a:endParaRPr>
          </a:p>
        </p:txBody>
      </p:sp>
      <p:sp>
        <p:nvSpPr>
          <p:cNvPr id="5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D690-E9CE-4D75-8D71-182DA184FF8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f497d"/>
                </a:solidFill>
                <a:latin typeface="Times New Roman"/>
              </a:rPr>
              <a:t>Виробництва авіаційної промисловості</a:t>
            </a:r>
            <a:endParaRPr b="0" lang="en-US" sz="3600" spc="-1" strike="noStrike">
              <a:solidFill>
                <a:srgbClr val="1f497d"/>
              </a:solidFill>
              <a:latin typeface="Times New Roman"/>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Заготовче виробництво;</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Термічна обробка;</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Гальванічне виробництво;</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Полімерно-композиційне виробництво;</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Виробництво неметалевих матеріалів.</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D683-AB26-4CFF-9B21-5809F702D4D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f497d"/>
                </a:solidFill>
                <a:latin typeface="Times New Roman"/>
              </a:rPr>
              <a:t>Принципова схема перетворення вихідних матеріалів в планер літака</a:t>
            </a:r>
            <a:endParaRPr b="0" lang="en-US" sz="2200" spc="-1" strike="noStrike">
              <a:solidFill>
                <a:srgbClr val="1f497d"/>
              </a:solidFill>
              <a:latin typeface="Times New Roman"/>
            </a:endParaRPr>
          </a:p>
        </p:txBody>
      </p:sp>
      <p:pic>
        <p:nvPicPr>
          <p:cNvPr id="56" name="Picture 2" descr=""/>
          <p:cNvPicPr/>
          <p:nvPr/>
        </p:nvPicPr>
        <p:blipFill>
          <a:blip r:embed="rId1"/>
          <a:stretch/>
        </p:blipFill>
        <p:spPr>
          <a:xfrm>
            <a:off x="2076480" y="1600200"/>
            <a:ext cx="4991040" cy="4525920"/>
          </a:xfrm>
          <a:prstGeom prst="rect">
            <a:avLst/>
          </a:prstGeom>
          <a:ln w="0">
            <a:noFill/>
          </a:ln>
        </p:spPr>
      </p:pic>
      <p:sp>
        <p:nvSpPr>
          <p:cNvPr id="57"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06CA-FED1-4DE8-8C3C-1AD9BD20739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Схема кооперування підприємств при виробництві літальних апаратів</a:t>
            </a:r>
            <a:endParaRPr b="0" lang="en-US" sz="4000" spc="-1" strike="noStrike">
              <a:solidFill>
                <a:srgbClr val="1f497d"/>
              </a:solidFill>
              <a:latin typeface="Times New Roman"/>
            </a:endParaRPr>
          </a:p>
        </p:txBody>
      </p:sp>
      <p:pic>
        <p:nvPicPr>
          <p:cNvPr id="59" name="Picture 2" descr="C:\Users\User\Desktop\на диплом\6f6c447353.jpg"/>
          <p:cNvPicPr/>
          <p:nvPr/>
        </p:nvPicPr>
        <p:blipFill>
          <a:blip r:embed="rId1"/>
          <a:stretch/>
        </p:blipFill>
        <p:spPr>
          <a:xfrm>
            <a:off x="468360" y="1708200"/>
            <a:ext cx="8077320" cy="4241880"/>
          </a:xfrm>
          <a:prstGeom prst="rect">
            <a:avLst/>
          </a:prstGeom>
          <a:ln w="0">
            <a:noFill/>
          </a:ln>
        </p:spPr>
      </p:pic>
      <p:sp>
        <p:nvSpPr>
          <p:cNvPr id="6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4570-B3B3-4B61-8ADC-95A01E5DEF0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880"/>
            <a:ext cx="8362800" cy="56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f497d"/>
                </a:solidFill>
                <a:latin typeface="Times New Roman"/>
              </a:rPr>
              <a:t>Схема інфраструктури авіабудівного підприємства </a:t>
            </a:r>
            <a:endParaRPr b="0" lang="en-US" sz="2000" spc="-1" strike="noStrike">
              <a:solidFill>
                <a:srgbClr val="1f497d"/>
              </a:solidFill>
              <a:latin typeface="Times New Roman"/>
            </a:endParaRPr>
          </a:p>
        </p:txBody>
      </p:sp>
      <p:pic>
        <p:nvPicPr>
          <p:cNvPr id="62" name="Picture 4" descr=""/>
          <p:cNvPicPr/>
          <p:nvPr/>
        </p:nvPicPr>
        <p:blipFill>
          <a:blip r:embed="rId1"/>
          <a:stretch/>
        </p:blipFill>
        <p:spPr>
          <a:xfrm>
            <a:off x="3835440" y="1084320"/>
            <a:ext cx="4591080" cy="4228920"/>
          </a:xfrm>
          <a:prstGeom prst="rect">
            <a:avLst/>
          </a:prstGeom>
          <a:ln w="0">
            <a:noFill/>
          </a:ln>
        </p:spPr>
      </p:pic>
      <p:sp>
        <p:nvSpPr>
          <p:cNvPr id="63"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ЗПС – злітно-посадкова смуга;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Д – рубіжна доріжка;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ЗП – зона пропуску;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З – завод;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ПП – передзаводна площа;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КДП – командно-диспетчерський пункт;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К – котельня;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ТО – зона технічного обслуговування;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МС – місце стоянки літаків;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САТ – база спецавтотранспорту; ПММ – склад паливно-мастильних матеріалів;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ЖМ – житловий масив;  </a:t>
            </a:r>
            <a:endParaRPr b="0" lang="en-US" sz="1500" spc="-1" strike="noStrike">
              <a:solidFill>
                <a:srgbClr val="000000"/>
              </a:solidFill>
              <a:latin typeface="Times New Roman"/>
            </a:endParaRPr>
          </a:p>
          <a:p>
            <a:pPr>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об’єкти, що випромінюють електромагнітну енергію;   </a:t>
            </a:r>
            <a:endParaRPr b="0" lang="en-US" sz="1500" spc="-1" strike="noStrike">
              <a:solidFill>
                <a:srgbClr val="000000"/>
              </a:solidFill>
              <a:latin typeface="Times New Roman"/>
            </a:endParaRPr>
          </a:p>
          <a:p>
            <a:pPr>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літаки.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EF32-4E85-411F-9EAD-FEAB9223B1A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f497d"/>
                </a:solidFill>
                <a:latin typeface="Times New Roman"/>
              </a:rPr>
              <a:t>Екологічний вплив авіаційної промисловості </a:t>
            </a:r>
            <a:endParaRPr b="0" lang="en-US" sz="3200" spc="-1" strike="noStrike">
              <a:solidFill>
                <a:srgbClr val="1f497d"/>
              </a:solidFill>
              <a:latin typeface="Times New Roman"/>
            </a:endParaRPr>
          </a:p>
        </p:txBody>
      </p:sp>
      <p:sp>
        <p:nvSpPr>
          <p:cNvPr id="66" name=""/>
          <p:cNvSpPr txBox="1"/>
          <p:nvPr/>
        </p:nvSpPr>
        <p:spPr>
          <a:xfrm>
            <a:off x="457200" y="981000"/>
            <a:ext cx="8229600" cy="5145120"/>
          </a:xfrm>
          <a:prstGeom prst="rect">
            <a:avLst/>
          </a:prstGeom>
          <a:no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Забруднення повітря стаціонарними та нестаціонарними джерелами;</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Забруднення водоймищ та ґрунтів стічними водами підприємств;</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Забруднення твердими відходами;</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Акустичне навантаження (авіаційний шум);</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Електромагнітне випромінювання.</a:t>
            </a:r>
            <a:endParaRPr b="0" lang="en-US" sz="3200" spc="-1" strike="noStrike">
              <a:solidFill>
                <a:srgbClr val="000000"/>
              </a:solidFill>
              <a:latin typeface="Times New Roman"/>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A837-E3F5-479F-82F6-F4CC441BD01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8T10:43:25Z</dcterms:created>
  <dc:creator>User</dc:creator>
  <dc:description/>
  <dc:language>en-US</dc:language>
  <cp:lastModifiedBy>User</cp:lastModifiedBy>
  <dcterms:modified xsi:type="dcterms:W3CDTF">2015-11-19T05:38:25Z</dcterms:modified>
  <cp:revision>106</cp:revision>
  <dc:subject/>
  <dc:title>Слайд 1</dc:title>
</cp:coreProperties>
</file>