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4.wmf" ContentType="image/x-wmf"/>
  <Override PartName="/ppt/media/image25.wmf" ContentType="image/x-wmf"/>
  <Override PartName="/ppt/media/image23.jpeg" ContentType="image/jpeg"/>
  <Override PartName="/ppt/media/image2.jpeg" ContentType="image/jpeg"/>
  <Override PartName="/ppt/media/image3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1AD-F8D1-46F9-9588-2A5DA4C9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37D-D7B8-4D2E-A2F8-37511C4D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826-7278-4059-88EC-3FC13950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919-A254-482D-86DD-20D42BA5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7DD-D3CD-4A90-B47B-757A413A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A04-0C00-4FBF-BB61-072D5741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269-915F-489A-ABC0-565DD20F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EF2-A331-4F52-9F1E-760994A1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7D1-0DD2-4495-A531-067F8FC8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962-2153-441D-9631-19F49F19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809-062D-491D-B68B-51648F2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776-D741-47AF-AE9B-DF114E57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B058-BE84-4A0B-9F0B-AC65E569E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2276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оделювання теплових та динамічних процесів вібраційної установки для сушіння сипучих органічних матеріалів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892600" y="4846680"/>
            <a:ext cx="564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Розробив: магістрант. гр. ТГ-14мн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Кутняк М.М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Науковий керівник: к.т.н.,проф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Коц І. 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036800" y="14842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Тема магістерської кваліфікаційної роботи:</a:t>
            </a:r>
            <a:br>
              <a:rPr sz="2000"/>
            </a:b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1403280" y="535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озподіл вологовмісту і температури матеріалу в процесі сушіння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684360" y="1159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процесі сушіння (неізотермічне перенесення) волога переміщується не тільки під впливом градієнта вологості, але і завдяки градієнту температури (явище термовологопровідності). Це явище виявлено та експериментально доведено А.В. Ликовим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E:\навчання\2015 диплом\градієнти.png"/>
          <p:cNvPicPr/>
          <p:nvPr/>
        </p:nvPicPr>
        <p:blipFill>
          <a:blip r:embed="rId1"/>
          <a:stretch/>
        </p:blipFill>
        <p:spPr>
          <a:xfrm>
            <a:off x="1770120" y="1317600"/>
            <a:ext cx="6056280" cy="40370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 flipV="1" rot="10800000">
            <a:off x="5401800" y="606240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градієнт концентрації вологи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Объект 30"/>
          <p:cNvGraphicFramePr/>
          <p:nvPr/>
        </p:nvGraphicFramePr>
        <p:xfrm>
          <a:off x="4808520" y="5892840"/>
          <a:ext cx="393840" cy="70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Объект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8520" y="5892840"/>
                    <a:ext cx="3938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Объект 36864"/>
          <p:cNvGraphicFramePr/>
          <p:nvPr/>
        </p:nvGraphicFramePr>
        <p:xfrm>
          <a:off x="684360" y="5931000"/>
          <a:ext cx="434880" cy="63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Объект 3686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5931000"/>
                    <a:ext cx="4348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Прямоугольник 36867"/>
          <p:cNvSpPr/>
          <p:nvPr/>
        </p:nvSpPr>
        <p:spPr>
          <a:xfrm>
            <a:off x="1121760" y="606276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    температурний градієнт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826920" y="189000"/>
            <a:ext cx="80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На основі експериментальних досліджень Смольского при безперервному сушінні в киплячому шарі зерна, були побудовані криві зміни вологості та нагріву зерна при наступних початкових умовах: початкова температура зерна - 8ºС, температура агента сушіння - 60ºС, початкова вологість зерна 25%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5" descr="E:\навчання\2015 диплом\Матер1али диплома\Рис. 2.2. .jpg"/>
          <p:cNvPicPr/>
          <p:nvPr/>
        </p:nvPicPr>
        <p:blipFill>
          <a:blip r:embed="rId1"/>
          <a:stretch/>
        </p:blipFill>
        <p:spPr>
          <a:xfrm>
            <a:off x="1825560" y="1389240"/>
            <a:ext cx="5486400" cy="35398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900000" y="4929120"/>
            <a:ext cx="7632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лежності вологовмісту (u) і температури зерна (t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З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) при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безперервному сушінні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900000" y="5805360"/>
            <a:ext cx="798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 графіка видно, що при безперервному сушінні в псевдозрідженому шарі протягом 5 хв вологість зерна знижується з 25% до 21,3%, а зерно при цьому нагрівається вище гранично допустимої температури, що не допустимо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E:\навчання\2015 диплом\Матер1али диплома\Креслення - перем суш.jpg"/>
          <p:cNvPicPr/>
          <p:nvPr/>
        </p:nvPicPr>
        <p:blipFill>
          <a:blip r:embed="rId1"/>
          <a:stretch/>
        </p:blipFill>
        <p:spPr>
          <a:xfrm>
            <a:off x="289080" y="250920"/>
            <a:ext cx="8569080" cy="3240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289080" y="400536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нструктивно-технологічна схема сушарки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 - основа; 2 - вентилятор; 3 - теплогенератор; 4 - напірна камера;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 - газорозподільний механізм; 6 - секції газорозподільного механізму; 7 - заслінки;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8 - газорозподільна решітка; 9 - камера сушки; 10 - бункер для вологого матеріалу; 11 - випускне вікно; 12 - ланцюговий привід; 13 – виступи на ланцюзі;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4 – пневматичний вібратор;15 - витяжний канал (до теплообмінника)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6 - теплообмінник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1"/>
          <p:cNvSpPr/>
          <p:nvPr/>
        </p:nvSpPr>
        <p:spPr>
          <a:xfrm>
            <a:off x="1187280" y="2646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і теплового і матеріального балансів зерна і сушильного агенту, запропонована математична модель конвективного сушіння зерна у псевдозрідженому шарі у вигляді системи диференціальних рівнянь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Объект 43"/>
          <p:cNvGraphicFramePr/>
          <p:nvPr/>
        </p:nvGraphicFramePr>
        <p:xfrm>
          <a:off x="1835280" y="1700280"/>
          <a:ext cx="587844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Объект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700280"/>
                    <a:ext cx="58784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Объект 45"/>
          <p:cNvGraphicFramePr/>
          <p:nvPr/>
        </p:nvGraphicFramePr>
        <p:xfrm>
          <a:off x="3203640" y="3068640"/>
          <a:ext cx="3255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Объект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068640"/>
                    <a:ext cx="3255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Объект 47"/>
          <p:cNvGraphicFramePr/>
          <p:nvPr/>
        </p:nvGraphicFramePr>
        <p:xfrm>
          <a:off x="2195640" y="4365720"/>
          <a:ext cx="518004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Объект 4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4365720"/>
                    <a:ext cx="518004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Объект 49"/>
          <p:cNvGraphicFramePr/>
          <p:nvPr/>
        </p:nvGraphicFramePr>
        <p:xfrm>
          <a:off x="3780000" y="5732640"/>
          <a:ext cx="2106360" cy="64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Объект 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5732640"/>
                    <a:ext cx="210636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Прямоугольник 50"/>
          <p:cNvSpPr/>
          <p:nvPr/>
        </p:nvSpPr>
        <p:spPr>
          <a:xfrm>
            <a:off x="8327520" y="1844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51"/>
          <p:cNvSpPr/>
          <p:nvPr/>
        </p:nvSpPr>
        <p:spPr>
          <a:xfrm>
            <a:off x="8327520" y="3284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52"/>
          <p:cNvSpPr/>
          <p:nvPr/>
        </p:nvSpPr>
        <p:spPr>
          <a:xfrm>
            <a:off x="8274240" y="458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53"/>
          <p:cNvSpPr/>
          <p:nvPr/>
        </p:nvSpPr>
        <p:spPr>
          <a:xfrm>
            <a:off x="827424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6"/>
          <p:cNvSpPr/>
          <p:nvPr/>
        </p:nvSpPr>
        <p:spPr>
          <a:xfrm>
            <a:off x="541440" y="4437000"/>
            <a:ext cx="41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міна вологості зерна уздовж камери сушіння при температурі сушильного агента 60 ºС залежно від тривалості продування однієї секці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4865760" y="4489560"/>
            <a:ext cx="39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міна температури зерна уздовж камери сушіння при температурі сушильного агента 60 ºС залежно від тривалості продування однієї секції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E:\навчання\2015 диплом\2,10.png"/>
          <p:cNvPicPr/>
          <p:nvPr/>
        </p:nvPicPr>
        <p:blipFill>
          <a:blip r:embed="rId1"/>
          <a:stretch/>
        </p:blipFill>
        <p:spPr>
          <a:xfrm>
            <a:off x="442800" y="343080"/>
            <a:ext cx="4319640" cy="30859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E:\навчання\2015 диплом\2,11.png"/>
          <p:cNvPicPr/>
          <p:nvPr/>
        </p:nvPicPr>
        <p:blipFill>
          <a:blip r:embed="rId2"/>
          <a:stretch/>
        </p:blipFill>
        <p:spPr>
          <a:xfrm>
            <a:off x="4754520" y="360360"/>
            <a:ext cx="41702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469800" y="4508640"/>
            <a:ext cx="428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міна температури сушильного агента на виході з зернового шару уздовж камери сушіння при температурі сушильного агента 60 ºС залежно від тривалості продування однієї секції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5191200" y="4508640"/>
            <a:ext cx="370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міна вологовмісту сушильного агента на виході з зернового шару уздовж камери сушіння при температурі сушильного агента 60 ºС залежно від тривалості продування однієї секції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Рисунок 5" descr="E:\навчання\2015 диплом\2,12.png"/>
          <p:cNvPicPr/>
          <p:nvPr/>
        </p:nvPicPr>
        <p:blipFill>
          <a:blip r:embed="rId1"/>
          <a:stretch/>
        </p:blipFill>
        <p:spPr>
          <a:xfrm>
            <a:off x="469800" y="318960"/>
            <a:ext cx="4030920" cy="3038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E:\навчання\2015 диплом\2,13.png"/>
          <p:cNvPicPr/>
          <p:nvPr/>
        </p:nvPicPr>
        <p:blipFill>
          <a:blip r:embed="rId2"/>
          <a:stretch/>
        </p:blipFill>
        <p:spPr>
          <a:xfrm>
            <a:off x="4759200" y="318960"/>
            <a:ext cx="413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:\навчання\2015 диплом\Матер1али диплома\МКР 2015  - Кутняк М.М\Додатки\Додаток В- графічний матеріал\12 комплект.jpg"/>
          <p:cNvPicPr/>
          <p:nvPr/>
        </p:nvPicPr>
        <p:blipFill>
          <a:blip r:embed="rId1"/>
          <a:stretch/>
        </p:blipFill>
        <p:spPr>
          <a:xfrm>
            <a:off x="179280" y="333360"/>
            <a:ext cx="88934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E:\навчання\2015 диплом\Матер1али диплома\МКР 2015  - Кутняк М.М\Додатки\Додаток В- графічний матеріал\11 теплообмінник.jpg"/>
          <p:cNvPicPr/>
          <p:nvPr/>
        </p:nvPicPr>
        <p:blipFill>
          <a:blip r:embed="rId1"/>
          <a:stretch/>
        </p:blipFill>
        <p:spPr>
          <a:xfrm>
            <a:off x="208080" y="260280"/>
            <a:ext cx="89359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:\навчання\2015 диплом\Матер1али диплома\МКР 2015  - Кутняк М.М\Додатки\Додаток В- графічний матеріал\12 рух теплоносія.jpg"/>
          <p:cNvPicPr/>
          <p:nvPr/>
        </p:nvPicPr>
        <p:blipFill>
          <a:blip r:embed="rId1"/>
          <a:stretch/>
        </p:blipFill>
        <p:spPr>
          <a:xfrm>
            <a:off x="324000" y="260280"/>
            <a:ext cx="91310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E:\навчання\2015 диплом\Матер1али диплома\МКР 2015  - Кутняк М.М\Додатки\Додаток В- графічний матеріал\15 теплоутил.jpg"/>
          <p:cNvPicPr/>
          <p:nvPr/>
        </p:nvPicPr>
        <p:blipFill>
          <a:blip r:embed="rId1"/>
          <a:stretch/>
        </p:blipFill>
        <p:spPr>
          <a:xfrm>
            <a:off x="2340000" y="0"/>
            <a:ext cx="484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630360" y="58464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Актуальність даної роботи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полягає у підвищенні ефективності сушіння сипучих органічних матеріалів шляхом подальшого розвитку і вдосконалення конструктивних рішень складових вузлів сушильних агрегатів, вибору та обґрунтування раціональних режимів їх роботи, що сприятиме отриманню якісної вихідної продукції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ета роботи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полягає в підвищенні ефективності процесу сушіння  сипучих матеріалів органічного походження, шляхом розробки конструкції сушарки та вибору раціональних режимів здійснення тепломасообмінних процесів при сушінні сировини з врахуванням впливу вібраційних коливань і потоку повітря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E:\навчання\2015 диплом\Матер1али диплома\МКР 2015  - Кутняк М.М\Додатки\Додаток В- графічний матеріал\16 Календарний план.jpg"/>
          <p:cNvPicPr/>
          <p:nvPr/>
        </p:nvPicPr>
        <p:blipFill>
          <a:blip r:embed="rId1"/>
          <a:stretch/>
        </p:blipFill>
        <p:spPr>
          <a:xfrm>
            <a:off x="254160" y="260280"/>
            <a:ext cx="88898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438200" y="836640"/>
            <a:ext cx="6248520" cy="37558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"/>
          <p:cNvSpPr/>
          <p:nvPr/>
        </p:nvSpPr>
        <p:spPr>
          <a:xfrm>
            <a:off x="2486160" y="33804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изначення економічних показників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4"/>
          <p:cNvSpPr/>
          <p:nvPr/>
        </p:nvSpPr>
        <p:spPr>
          <a:xfrm>
            <a:off x="7686720" y="836640"/>
            <a:ext cx="0" cy="353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611280" y="4592520"/>
            <a:ext cx="81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Визначено, що використання у виробництві розробленої зерносушарки в порівнянні з існуючими шахтними має економічний ефект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 відношенню до шахтної зерносушарки ДСП-32ОТ річний економічний ефект склав 12818 грн або 24,65 грн. на 1 тонну зерна, а по відношенню до шахтної зерносушарки ЗСПЖ-8 відповідно 11616,4 грн на рік або 22,32 грн на 1 тонну зерна. При цьому термін окупності від впровадження розробленої зерносушарки у виробництво складаємо відповідно 2,15 і 2,38 року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438200" y="19162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ая соединительная линия 11"/>
          <p:cNvSpPr/>
          <p:nvPr/>
        </p:nvSpPr>
        <p:spPr>
          <a:xfrm>
            <a:off x="1438200" y="2603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2703960" y="2876400"/>
            <a:ext cx="38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Times New Roman"/>
              </a:rPr>
              <a:t>Дякую за увагу!!!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68360" y="476280"/>
            <a:ext cx="8523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Задачі роботи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6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провести аналіз існуючих способів і засобів сушіння зернових культур і класифікувати їх, обґрунтувати перспективну конструктивно-технологічну схему зерносушарки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6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теоретично обґрунтувати раціональні параметри процесу сушіння в псевдозрідженому шарі і синтезувати нове конструктивне рішення сушильного устаткування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6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виконати математичне моделювання робочих процесів у запропонованій сушильній установці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6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розробити методику інженерного розрахунку зерносушарки з псевдозрідженим шаром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6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довести економічну доцільність використання у виробництві розробленої зерносушарки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6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б’єкт дослідженн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тепло- і масообмінні процеси в сушильному устаткуванні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дмет дослідженн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полягає у встановленні закономірностей в технологічному процесі сушіння зернових культур, теоретичному обґрунтуванні раціональних параметрів сушарки з псевдозрідженим шаром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826920" y="260280"/>
            <a:ext cx="813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Наукова новизна одержаних результатів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теоретично обґрунтовано перспективну конструктивно-технологічну схему зерносушарки та раціональні параметри процесу сушіння в псевдозрідженому шарі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удосконалена математична модель та розрахунковий алгоритм процесу сушіння, що дозволяє визначити раціональні конструкторські та технологічні параметри нової зерносушарки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удосконалена методика проектного розрахунку зерносушарки з псевдозрідженим шаром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ублікації.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За матеріалами роботи опубліковані тези доповідей на науково-технічних конференціях, 3 статті у журналах наукових праць (дві з них – у виданнях ВАК) та отримано патент на корисну модель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E:\навчання\2015 диплом\Матер1али диплома\МКР 2015  - Кутняк М.М\Додатки\Додаток В- графічний матеріал\плакат 4.jpg"/>
          <p:cNvPicPr/>
          <p:nvPr/>
        </p:nvPicPr>
        <p:blipFill>
          <a:blip r:embed="rId1"/>
          <a:stretch/>
        </p:blipFill>
        <p:spPr>
          <a:xfrm>
            <a:off x="173160" y="260280"/>
            <a:ext cx="88628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Зерносушилки"/>
          <p:cNvPicPr/>
          <p:nvPr/>
        </p:nvPicPr>
        <p:blipFill>
          <a:blip r:embed="rId1">
            <a:grayscl/>
          </a:blip>
          <a:stretch/>
        </p:blipFill>
        <p:spPr>
          <a:xfrm>
            <a:off x="260280" y="1052640"/>
            <a:ext cx="4160880" cy="306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http://www.eximagro.com/1/Image48.gif"/>
          <p:cNvPicPr/>
          <p:nvPr/>
        </p:nvPicPr>
        <p:blipFill>
          <a:blip r:embed="rId2">
            <a:grayscl/>
          </a:blip>
          <a:stretch/>
        </p:blipFill>
        <p:spPr>
          <a:xfrm>
            <a:off x="4788000" y="1052640"/>
            <a:ext cx="4087800" cy="3081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437360" y="2265840"/>
            <a:ext cx="26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60280" y="4631040"/>
            <a:ext cx="8782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б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072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.1 - Загальний вигляд зерносушарки типу ДСП (а) і зерносушарки фірми "Джевіч" серії СП-100 (б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437360" y="2265840"/>
            <a:ext cx="26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http://www.eximagro.com/1/Image49.gif"/>
          <p:cNvPicPr/>
          <p:nvPr/>
        </p:nvPicPr>
        <p:blipFill>
          <a:blip r:embed="rId1">
            <a:grayscl/>
          </a:blip>
          <a:stretch/>
        </p:blipFill>
        <p:spPr>
          <a:xfrm>
            <a:off x="179280" y="1123920"/>
            <a:ext cx="2460600" cy="3272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http://www.eximagro.com/1/Image53.gif"/>
          <p:cNvPicPr/>
          <p:nvPr/>
        </p:nvPicPr>
        <p:blipFill>
          <a:blip r:embed="rId2">
            <a:grayscl/>
          </a:blip>
          <a:stretch/>
        </p:blipFill>
        <p:spPr>
          <a:xfrm>
            <a:off x="3348000" y="1125360"/>
            <a:ext cx="5461200" cy="3270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459320" y="2228040"/>
            <a:ext cx="225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95280" y="4935600"/>
            <a:ext cx="8010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.2 - Зерносушарки фірми "Джевіч": а - М-810; б - М-85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468360" y="429480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Встановлено, що найбільш ефективним та економічно доцільним методом сушіння сипучих матеріалів є сушіння у віброкиплячому шарі, адже він інтенсифікує процес сушіння при різних методах підведення тепла та створює умови, при яких значна поверхня частинок безперервно обдувається теплоносієм і відбувається інтенсивне видалення вологи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11280" y="1052640"/>
          <a:ext cx="8353440" cy="2773080"/>
        </p:xfrm>
        <a:graphic>
          <a:graphicData uri="http://schemas.openxmlformats.org/drawingml/2006/table">
            <a:tbl>
              <a:tblPr/>
              <a:tblGrid>
                <a:gridCol w="1546200"/>
                <a:gridCol w="839880"/>
                <a:gridCol w="1349280"/>
                <a:gridCol w="1522440"/>
                <a:gridCol w="1373040"/>
                <a:gridCol w="1722600"/>
              </a:tblGrid>
              <a:tr h="1387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 сушарок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 сушін-ня, хв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на енергі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/кг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ома витрата тепл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∙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ома випарову-ваність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/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омий об'єм сушильної камери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3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г висушеного матеріалу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банні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∙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хтні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∙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бінні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6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∙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браційні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6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∙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6"/>
          <p:cNvSpPr/>
          <p:nvPr/>
        </p:nvSpPr>
        <p:spPr>
          <a:xfrm>
            <a:off x="2927520" y="611640"/>
            <a:ext cx="3160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льні дані різних видів сушарок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схеиа сушарки + рекуператор v5 A4"/>
          <p:cNvPicPr/>
          <p:nvPr/>
        </p:nvPicPr>
        <p:blipFill>
          <a:blip r:embed="rId1"/>
          <a:stretch/>
        </p:blipFill>
        <p:spPr>
          <a:xfrm>
            <a:off x="4140360" y="49320"/>
            <a:ext cx="5003640" cy="64753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790560" y="429264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Принципова схема устаткування з вібраційним приводом для сушіння сипучих матеріалів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1- генератор тепла;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2- теплообмінник;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3 – сушильне устаткування; </a:t>
            </a:r>
            <a:br>
              <a:rPr sz="1800"/>
            </a:b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4 – система утилізації тепла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5:07:28Z</dcterms:created>
  <dc:creator>Пользователь</dc:creator>
  <dc:description/>
  <dc:language>en-US</dc:language>
  <cp:lastModifiedBy>Николай</cp:lastModifiedBy>
  <dcterms:modified xsi:type="dcterms:W3CDTF">2015-11-23T06:33:49Z</dcterms:modified>
  <cp:revision>89</cp:revision>
  <dc:subject/>
  <dc:title>Тема магістерської кваліфікаційної роботи: “Створення ефективної технології утилізації твердих побутових відходів на основі піролізу</dc:title>
</cp:coreProperties>
</file>