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8E8-CA0E-41E6-9985-52204423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D98-6A6B-4955-90E3-480A8935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68E-955C-4CDF-A507-3CEE206F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849-116A-4921-918A-FE5BD469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059-CE2B-4B85-82B0-1C3957E8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9F8-E8D4-4CB6-8C4A-EF95DFC3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C07-DA73-4DF1-B854-BF3D416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8F8-BD4C-4F7A-AD55-AC94B25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107-57B3-41EF-869D-ACCBEA2E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216-426C-4FBC-988D-7E4F78FB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091-4B11-4875-862F-E2272566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D75-B50D-4A11-8A22-EB3A1FD4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7E6-2048-4602-A601-CB209C640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ерсь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іфікаційна робота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ення ефективності систем повітряного опалення громадських будівель</a:t>
            </a:r>
            <a:br>
              <a:rPr sz="3600"/>
            </a:br>
            <a:br>
              <a:rPr sz="3600"/>
            </a:b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-12.МКР.404.00.000 ПЗ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рант: Сімакова О.Я.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Джеджула В.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О-ТЕХНОЛОГІЧНА ЧА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5280" y="1125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аному розроблено пропозиції щодо технічного монтажу систем вентиляції і кондиціювання 4-х поверхової торгово-офісної будівлі в м. Вінниця. Визначено загальну масу вентиляційного обладнання, яка склала 2993 т, масу матеріалі – 0,89 т, потребу в допоміжних матеріалах, необхідні інструменти, визначено склад ланок та розряд робітникі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о розрахунок техніко-економічних показників, в якому визначено загальну трудомісткість виконання робіт яка склала 569 люд/дні і тривалість виконання монтажних робіт систем вентиляції і кондиціювання, яка 44,5 склала дн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зультатами виконаних розрахунків розроблено календарний план виконання монтажних робіт і монтажні кресленн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РОНА ПРАЦІ ТА БЕЗПЕКА В НАДЗВИЧАЙНИХ СИТУАЦІЯХ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691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ому розділі розробляються заходи з охорони праці та пожежної безпеки при виконанні монтажу систем опалення та вентиляці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о наведено допустимі параметри мікроклімату на непостійних робочих місцях. Вказано ГДК шкідливих речовин при електрозварювальних роботах. В результаті запропоновано рішення щодо дотримання заданих мікрокліматичних параметрів та розбавлення вмісту шкідливих речовин до допустимих параметр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о розраховано штучне освітлення для виконання монтажних робіт в приміщенні. В результаті підібрано світильники з ламп ЛБ для комбінованого освітл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о допустимі рівні шуму та вібрації, порівняно їх з дійсними рівнями для обладнання. В результаті виявлено, що локальна вібрація перфоратора перевищує допустимі значення на 6,24 дБ. Наведено організаційні та індивідуальні методи захисту працююч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итаннях з пожежної безпеки було визначено клас будівлі та ступені вогнестійкості, вказані системи запобігання пожеж та протипожежного захисту, підібрано вогнегасники ВВП-6 та ВВК-3,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иться розрахунок занулення електродвигуна, підбирається переріз фазного та нульового пров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508920" y="-2952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14187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ій магістерській кваліфікаційній роботі було проведено модернізацію систем повітряного опалення для забезпечення нормального мікроклімату приміщень громадської на прикладі 4-х поверхової торгово - офісної  будівл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ю задачею при проектуванні систем повітряного опалення, вентиляції та кондиціювання являються рішення по енергозбереженню. В даній системі вентиляції енергозбереження досягається за рахунок додаткового вентиляційного обладнан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стемі вентиляції використовується приточно-витяжна установка та додатково встановлений рекуператор тепла. В якості рекуператора використовується виносні гліколеві рекуператор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СУЧАСНОГО СТАНУ ДОСЛІДЖЕНЬ ПРОБЛЕМ ЗАБЕЗПЕЧЕННЯ МІКРОКЛІМАТУ ГРОМАДСЬКИХ БУДІВ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проектування, будівництва і експлуатації систем вентиляції та кондиціонування повітря приміщень громадських будівель, які призначені для постійного або тимчасового перебування людей, зазначаються у нормах, правилах і стандартах України.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дміністративних будівлях з періодичним режимом експлуатації є додаткове рішення, що сприяє економії тепла, - зниження подачі тепла в систему опалення в неробочий ча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ОЗБЕРЕЖЕННЯ В СИСТЕМАХ ПОВІТРЯНОГО ОПАЛ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основні групи заходів енергозбереження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ення витрати енергоресурсів при виконанні технологічного процесу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я енергоресурсів, які витрачаються в житлово-комунальній сфері, громадських будівлях, а також при забезпеченні умов для виконання цих процесів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з напрямків економії енергоресурсів являється реалізація енергозберігаючих заходів при роботі системи повітряного опалення, а саме використання вторинної енергії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а схема підключення гліколевого рекуператора в систему повітряного опал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5" descr="рекуператор.jpg"/>
          <p:cNvPicPr/>
          <p:nvPr/>
        </p:nvPicPr>
        <p:blipFill>
          <a:blip r:embed="rId1"/>
          <a:stretch/>
        </p:blipFill>
        <p:spPr>
          <a:xfrm>
            <a:off x="493560" y="2109960"/>
            <a:ext cx="844884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ІКО-ЕКОНОМІЧНЕ ОБГРУНТ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0756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ємо порівняння системи повітряного опалення з рекуперацією тепла з системою без рекуперації тепла. В першому випадку рекуперація тепла відбувається в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іколе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уператор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, в другому випадку повітрообмін забезпечується припливно-витяжною установкою без рециркуляції теп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рівняння взято дві приточно-витяжні установки з однаковими параметрами робо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рата повітря складає 84075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тиску в вентиляційній установці дорівнює 400 П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роботи приточно-витяжної установки в зимовий період складає 1600 год/рі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1 кВт*год електроенергії складає – 0,46 гр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1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родного газу складає – 7,2 г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488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ІЧНА ЧА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ому розділі визначили  тепло надходження в приміщення, а сам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овнішні огороджен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 персоналу та відвідувачів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 обладнан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 штучного освітле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визначили волого надходження від людей, що знаходяться в приміщення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ектували дві припливні та дві витяжні системи, а також вентиляційні канали. Загальна продуктивність системи П1 складає 22373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ою П2 – 61702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повітря, яку необхідну видалити з приміщення системо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1 складає 20711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; системою В2 - 61702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ЧА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620280"/>
            <a:ext cx="8964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помогою і-д діаграми було визначено параметри витяжного повітря. За допомогою яких було найде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еплоносія – антифризу після нагріву в теплопоглинаючому теплообміннику дорівнює 4С Температура теплоносія – антифризу після охолодження в тепловіддаючому теплообміннику -2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им розрахунку вираховуємо поверхні теплообмінник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пловіддаючого теплообмінник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2(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плопогдинаючого теплообмінник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,025(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УТИЛІЗАЦІЇ ТЕПЛОТИ ВИТЯЖНОГО ПОВІТРЯ МАЄ НАСТУПНІ ПЕРЕВАГИ: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ОБМІННИКИ МОЖУТЬ БУТИ ВСТАНОВЛЕНІ В БУДЬ – ЯКОМУ МІСЦІ БУДІВЛІ І З’ЄДНАНІ МІЖ СОБОЮ СИСТЕМОЮ ПОВІТРОПРОВОДІ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ГРУП ТЕПЛООБМІННИКІВ В ПРИПЛИВНІЙ І ВИТЯЖНІЙ СИСТЕМАХ МОЖЕ БУТИ РІЗНИМ І ЛЕГКО ПРИСТОСОВУЄТЬСЯ К ОСОБЛИВОСТЯМ ОРГАНІЗАЦІЇ ПОВІТРЯНОГО РЕЖИМУ В БУДІВЛІ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ЛИВЕ ОБ’ЄДНАННЯ ПОВІТРОПРОВОДАМИ ТЕПЛООБМІННИКІВ ВІД ВИТЯЖНОЇ СИСТЕМИ С РІЗНИМИ ШКІДЛИВИМИ ВИКИДАМИ, ТАК ЯК ПОВНІСТЮ ВИКЛЮЧАЄТЬСЯ КОНТАКТ ВИДАЛЕНИХ ШКІДЛИВОСТЕЙ З ПРИПЛИВНИМ ПОВІТРЯ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ІСТЮ ВІДСУТНЯ НЕБЕЗПЕКА ЗМІШУВАННЯ ПРИПЛИВНОГО І ВИДАЛЕНОГО ПОВІТРЯ В СИСТЕМІ УТИЛІЗАЦІЇ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ТА АВТОМАТИЗАЦІЇ І КОНТРОЛЮ ЗА РОБОТОЮ СИСТЕ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ПЛИЙ ПЕРІОД РОКУ ТЕПЛООБМІННИКИ МОЖУТЬ ВИКОРИСТОВУВАТИСЯ ДЛЯ ОХОЛОДЖЕННЯ ПРИПЛИВНОГО ПОВІТР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00:27:02Z</dcterms:created>
  <dc:creator>USER</dc:creator>
  <dc:description/>
  <dc:language>en-US</dc:language>
  <cp:lastModifiedBy>USER</cp:lastModifiedBy>
  <dcterms:modified xsi:type="dcterms:W3CDTF">2015-11-23T00:13:51Z</dcterms:modified>
  <cp:revision>10</cp:revision>
  <dc:subject/>
  <dc:title>Магістерська кваліфікаційна робота: Підвищення ефективності систем повітряного опалення громадських будівель   08-12.МКР.404.00.000 ПЗ   Магістрант: Сімакова О.Я.  Керівник: Джеджула В.В.</dc:title>
</cp:coreProperties>
</file>