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EDBD-DE8C-47C9-9C8F-E7BBE0F2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AD3D-E87B-497F-BCBC-7DA4427A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F7CA-DF32-4767-966F-35C3EEC0B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A99B-EF86-424D-8568-813DC5274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8F1A-0CA9-45E0-8B42-C94DA95C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F2BF-D86B-4E12-8100-E4FD5270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DC7C-5FC9-425C-AADA-2C0BB8D5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FE69-65B1-4F5B-9993-397F815C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C2C4-2151-49AF-86F9-83E8383E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1D4D-2DA6-41CA-92AC-9D57208B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BB97-9A19-4E6C-B7A5-68495E01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B291-4C80-4895-BBA2-B8D48350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4A4D-9005-4CED-A2D4-7117A8A8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54B0-F6DA-4B91-B99D-F2DB9C56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9128-BE10-4F86-B92C-E995639A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AABA-FE0F-467A-A00E-A11D86629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4DCF-740B-4E8A-9CB3-9D13041C1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18DE-6A88-49E6-B7B0-155DF0A3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30D5-288A-4BDB-843D-DC7676B1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0D1A-CAE6-418D-874E-F46F9005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02CA-99E8-4B7A-9551-CA0CCDCA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07C3-CFCB-4711-802C-E2CB0FD5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8A5A-748E-4912-B52F-4AD61B45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3BAD-FCB3-4022-A4C4-A5AD5527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da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2BB4-321C-436E-9FFC-76C9E6BCD9D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ED17-6703-47A8-9748-F2F09D44060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7344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dae4"/>
                </a:solidFill>
                <a:latin typeface="Harlow Solid Italic"/>
              </a:rPr>
              <a:t>Вінницький національний технічний університет</a:t>
            </a: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92929"/>
                </a:solidFill>
                <a:latin typeface="Book Antiqua"/>
              </a:rPr>
              <a:t>Керівник: д.е.н., проф. Зянько В.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92929"/>
                </a:solidFill>
                <a:latin typeface="Book Antiqua"/>
              </a:rPr>
              <a:t>Виконав студент: гр. </a:t>
            </a:r>
            <a:r>
              <a:rPr b="1" lang="uk-UA" sz="2400" spc="-1" strike="noStrike">
                <a:solidFill>
                  <a:srgbClr val="000000"/>
                </a:solidFill>
                <a:latin typeface="Book Antiqua"/>
              </a:rPr>
              <a:t>МФКз-14м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92929"/>
                </a:solidFill>
                <a:latin typeface="Book Antiqua"/>
              </a:rPr>
              <a:t>                                  </a:t>
            </a:r>
            <a:r>
              <a:rPr b="1" lang="uk-UA" sz="2400" spc="-1" strike="noStrike">
                <a:solidFill>
                  <a:srgbClr val="000000"/>
                </a:solidFill>
                <a:latin typeface="Book Antiqua"/>
              </a:rPr>
              <a:t>Симоненко А. В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000000"/>
                </a:solidFill>
                <a:latin typeface="Century"/>
              </a:rPr>
              <a:t>«УПРАВЛІННЯ ІНВЕСТИЦІЙНОЮ         ДІЯЛЬНІСТЮ СТРАХОВИХ                      КОМПАНІЙ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000000"/>
                </a:solidFill>
                <a:latin typeface="Century"/>
              </a:rPr>
              <a:t>(НА ПРИКЛАДІ СК «АРСЕНАЛ СТРАХУВАННЯ»)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92929"/>
                </a:solidFill>
                <a:latin typeface="Century"/>
              </a:rPr>
              <a:t>Вінниця 20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46920" y="907920"/>
            <a:ext cx="3097080" cy="3384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8317080" y="6031080"/>
            <a:ext cx="826920" cy="82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317080" y="603108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-118440" y="-360"/>
            <a:ext cx="91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"/>
              </a:rPr>
              <a:t>Таблиця 2.7 – Структура розміщення активів для представлення резерв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"/>
              </a:rPr>
              <a:t>ВАТ «СК «Арсенал страхування» у 2012-2014 р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50920" y="981000"/>
          <a:ext cx="8713800" cy="5037120"/>
        </p:xfrm>
        <a:graphic>
          <a:graphicData uri="http://schemas.openxmlformats.org/drawingml/2006/table">
            <a:tbl>
              <a:tblPr/>
              <a:tblGrid>
                <a:gridCol w="2192400"/>
                <a:gridCol w="1288800"/>
                <a:gridCol w="897120"/>
                <a:gridCol w="1200240"/>
                <a:gridCol w="1056960"/>
                <a:gridCol w="1200240"/>
                <a:gridCol w="87804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Показ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012 рі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013 рі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014 рі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Резерви зі страхування життя, тис. 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Частка активів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Резерви зі страхування життя, тис. 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Частка активів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Резерви зі страхування життя, тис. 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Частка активів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Усь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538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92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733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грошові кошти на поточних рахунк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5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0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5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0,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7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0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банківські вклади (депози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027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66,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492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77,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516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55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- у тому числі в іноземній валю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635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0,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нерухоме май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2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8,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85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9,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61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5,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акц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640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0,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67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8,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85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6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облігац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556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3,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76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3,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864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31,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права вимоги до перестраховик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5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0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0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кредити страхувальни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0,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0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317080" y="603108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68360" y="2599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"/>
              </a:rPr>
              <a:t>Таблиця 2.8 – Динаміка дохідності фінансових інструмент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"/>
              </a:rPr>
              <a:t>та кількісні характеристики можливих інвестиці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50920" y="896760"/>
          <a:ext cx="8713800" cy="5961240"/>
        </p:xfrm>
        <a:graphic>
          <a:graphicData uri="http://schemas.openxmlformats.org/drawingml/2006/table">
            <a:tbl>
              <a:tblPr/>
              <a:tblGrid>
                <a:gridCol w="1836720"/>
                <a:gridCol w="1046160"/>
                <a:gridCol w="1141200"/>
                <a:gridCol w="1141560"/>
                <a:gridCol w="1155600"/>
                <a:gridCol w="1224000"/>
                <a:gridCol w="116856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Дохідність 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012 роц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Дохідність 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013 роц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Дохідність 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014 роц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Середн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дохідність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Стандартн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відхилення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Коефіціє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варіації (C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Інструмен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грошового ринку (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3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Інструмен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страхового ринку (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,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0,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Інструмен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валютного ринку 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3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0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Інструменти ринк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позичкови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капіталів (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3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0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Портфел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50%+50% (А+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5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3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0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Портфел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50%+50% (А+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0,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Портфел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50%+50% (B+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3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0,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0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Портфел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50%+50% (B+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,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671920" y="1042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016840" y="5835600"/>
            <a:ext cx="1127160" cy="1022400"/>
          </a:xfrm>
          <a:prstGeom prst="rect">
            <a:avLst/>
          </a:prstGeom>
          <a:ln w="0">
            <a:noFill/>
          </a:ln>
        </p:spPr>
      </p:pic>
      <p:grpSp>
        <p:nvGrpSpPr>
          <p:cNvPr id="158" name=""/>
          <p:cNvGrpSpPr/>
          <p:nvPr/>
        </p:nvGrpSpPr>
        <p:grpSpPr>
          <a:xfrm>
            <a:off x="900000" y="1125360"/>
            <a:ext cx="7704000" cy="3382920"/>
            <a:chOff x="900000" y="1125360"/>
            <a:chExt cx="7704000" cy="3382920"/>
          </a:xfrm>
        </p:grpSpPr>
        <p:sp>
          <p:nvSpPr>
            <p:cNvPr id="159" name=""/>
            <p:cNvSpPr/>
            <p:nvPr/>
          </p:nvSpPr>
          <p:spPr>
            <a:xfrm>
              <a:off x="6178680" y="1254600"/>
              <a:ext cx="2425320" cy="7747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Блок моделювання і прогнозу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78680" y="2441880"/>
              <a:ext cx="2425320" cy="69948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Експертно-рекомендаційний бл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82760" y="1651680"/>
              <a:ext cx="2425320" cy="73548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Оцінно-аналітичний бл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82760" y="2799720"/>
              <a:ext cx="2282760" cy="7347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Блок управління та коригу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00000" y="1781280"/>
              <a:ext cx="1711800" cy="7369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Методологічний бл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13160" y="1125360"/>
              <a:ext cx="0" cy="64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13160" y="1125360"/>
              <a:ext cx="998640" cy="3873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Вхі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27680" y="2532960"/>
              <a:ext cx="285120" cy="646560"/>
            </a:xfrm>
            <a:prstGeom prst="upArrow">
              <a:avLst>
                <a:gd name="adj1" fmla="val 50000"/>
                <a:gd name="adj2" fmla="val 56692"/>
              </a:avLst>
            </a:prstGeom>
            <a:solidFill>
              <a:srgbClr val="ffffff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13160" y="3202200"/>
              <a:ext cx="156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13160" y="3071160"/>
              <a:ext cx="156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09440" y="2401920"/>
              <a:ext cx="285120" cy="387360"/>
            </a:xfrm>
            <a:prstGeom prst="upArrow">
              <a:avLst>
                <a:gd name="adj1" fmla="val 50000"/>
                <a:gd name="adj2" fmla="val 33965"/>
              </a:avLst>
            </a:prstGeom>
            <a:solidFill>
              <a:srgbClr val="ffffff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95920" y="2401920"/>
              <a:ext cx="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48280" y="3141720"/>
              <a:ext cx="285120" cy="387720"/>
            </a:xfrm>
            <a:prstGeom prst="upArrow">
              <a:avLst>
                <a:gd name="adj1" fmla="val 50000"/>
                <a:gd name="adj2" fmla="val 33996"/>
              </a:avLst>
            </a:prstGeom>
            <a:solidFill>
              <a:srgbClr val="ffffff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65520" y="3534480"/>
              <a:ext cx="242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5465160" y="3272760"/>
              <a:ext cx="156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890840" y="2044800"/>
              <a:ext cx="285120" cy="387360"/>
            </a:xfrm>
            <a:prstGeom prst="upArrow">
              <a:avLst>
                <a:gd name="adj1" fmla="val 50000"/>
                <a:gd name="adj2" fmla="val 33965"/>
              </a:avLst>
            </a:prstGeom>
            <a:solidFill>
              <a:srgbClr val="ffffff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035120" y="2044800"/>
              <a:ext cx="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10800" y="1254600"/>
              <a:ext cx="256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609440" y="1308600"/>
              <a:ext cx="285120" cy="338040"/>
            </a:xfrm>
            <a:prstGeom prst="downArrow">
              <a:avLst>
                <a:gd name="adj1" fmla="val 50000"/>
                <a:gd name="adj2" fmla="val 29640"/>
              </a:avLst>
            </a:prstGeom>
            <a:solidFill>
              <a:srgbClr val="ffffff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10800" y="1254600"/>
              <a:ext cx="0" cy="38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94920" y="1439280"/>
              <a:ext cx="128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98640" y="4058280"/>
              <a:ext cx="4993560" cy="45000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Варіанти рішень на період, що прогнозуєтьс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11800" y="228744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23960" y="3534480"/>
              <a:ext cx="0" cy="52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7035120" y="3141360"/>
              <a:ext cx="0" cy="13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65520" y="3403800"/>
              <a:ext cx="242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52000" y="1308600"/>
              <a:ext cx="142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611280" y="47970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"/>
              </a:rPr>
              <a:t>Рисунок 3.2 – Блок-схема системно-функціонального прийняття інвестиційного рішення в процесі діяльності страхової компан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87280" y="12682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4d4d4d"/>
                </a:solidFill>
                <a:latin typeface="Century"/>
              </a:rPr>
              <a:t>Дякую за уваг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898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99"/>
                </a:solidFill>
                <a:latin typeface="Century"/>
              </a:rPr>
              <a:t>«УПРАВЛІННЯ ІНВЕСТИЦІЙНОЮ ДІЯЛЬНІСТЮ СТРАХОВИХ КОМПАНІЙ </a:t>
            </a:r>
            <a:br>
              <a:rPr sz="2400"/>
            </a:br>
            <a:r>
              <a:rPr b="0" i="1" lang="uk-UA" sz="2400" spc="-1" strike="noStrike">
                <a:solidFill>
                  <a:srgbClr val="000099"/>
                </a:solidFill>
                <a:latin typeface="Century"/>
              </a:rPr>
              <a:t>(НА ПРИКЛАДІ СК «АРСЕНАЛ СТРАХУВАННЯ»)</a:t>
            </a:r>
            <a:r>
              <a:rPr b="1" lang="ru-RU" sz="2400" spc="-1" strike="noStrike">
                <a:solidFill>
                  <a:srgbClr val="000099"/>
                </a:solidFill>
                <a:latin typeface="Century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28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059280" y="1981080"/>
            <a:ext cx="60847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Century"/>
              </a:rPr>
              <a:t>розробка напрямів поліпшення процесу інвестування, націлених на підвищення ефективності функціонування страхових компаній в Україні на основі дослідження теоретико-методологічних засад управління інвестиційною діяльністю страхових компаній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"/>
              </a:rPr>
              <a:t>процес управління інвестиційною діяльністю страхових компаній в Україні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entury"/>
              </a:rPr>
              <a:t>теоретичні, методичні і практичні аспекти управління інвестиційною діяльністю страхових компаній з метою забезпечення їх ефективного розвитку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2276640"/>
            <a:ext cx="2097000" cy="1150920"/>
          </a:xfrm>
          <a:custGeom>
            <a:avLst/>
            <a:gdLst>
              <a:gd name="textAreaLeft" fmla="*/ 0 w 2097000"/>
              <a:gd name="textAreaRight" fmla="*/ 2097000 w 209700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fde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476360" y="2565360"/>
            <a:ext cx="103968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ета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2920" y="4005360"/>
            <a:ext cx="2097000" cy="934920"/>
          </a:xfrm>
          <a:custGeom>
            <a:avLst/>
            <a:gdLst>
              <a:gd name="textAreaLeft" fmla="*/ 0 w 2097000"/>
              <a:gd name="textAreaRight" fmla="*/ 2097000 w 20970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03280" y="4221000"/>
            <a:ext cx="1040040" cy="4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'єкт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42920" y="5373720"/>
            <a:ext cx="2097000" cy="934920"/>
          </a:xfrm>
          <a:custGeom>
            <a:avLst/>
            <a:gdLst>
              <a:gd name="textAreaLeft" fmla="*/ 0 w 2097000"/>
              <a:gd name="textAreaRight" fmla="*/ 2097000 w 20970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332000" y="5589720"/>
            <a:ext cx="129528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едмет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317080" y="6031080"/>
            <a:ext cx="82692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71640" y="2241360"/>
            <a:ext cx="7897680" cy="46162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entury"/>
              </a:rPr>
              <a:t>визначити економічну сутність інвестиційної діяльності страхової компанії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entury"/>
              </a:rPr>
              <a:t>дослідити структуризацію інвестиційних ризиків страхової компанії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entury"/>
              </a:rPr>
              <a:t>проаналізувати державне регулювання інвестиційної діяльності страхової компанії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entury"/>
              </a:rPr>
              <a:t>провести аналіз існуючих методик і підходів до формування оптимального інвестиційного портфелю та оцінки ефективності управління інвестиційним портфеле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entury"/>
              </a:rPr>
              <a:t>проаналізувати інвестиційну діяльність СК «Арсенал страхування»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entury"/>
              </a:rPr>
              <a:t>визначити основні </a:t>
            </a:r>
            <a:r>
              <a:rPr b="1" lang="ru-RU" sz="1800" spc="-1" strike="noStrike">
                <a:solidFill>
                  <a:srgbClr val="000000"/>
                </a:solidFill>
                <a:latin typeface="Century"/>
              </a:rPr>
              <a:t>проблеми, що стримують розвиток </a:t>
            </a:r>
            <a:r>
              <a:rPr b="1" lang="uk-UA" sz="1800" spc="-1" strike="noStrike">
                <a:solidFill>
                  <a:srgbClr val="000000"/>
                </a:solidFill>
                <a:latin typeface="Century"/>
              </a:rPr>
              <a:t>вітчизняного </a:t>
            </a:r>
            <a:r>
              <a:rPr b="1" lang="ru-RU" sz="1800" spc="-1" strike="noStrike">
                <a:solidFill>
                  <a:srgbClr val="000000"/>
                </a:solidFill>
                <a:latin typeface="Century"/>
              </a:rPr>
              <a:t>страхового ринку</a:t>
            </a:r>
            <a:r>
              <a:rPr b="1" lang="uk-UA" sz="1800" spc="-1" strike="noStrike">
                <a:solidFill>
                  <a:srgbClr val="000000"/>
                </a:solidFill>
                <a:latin typeface="Century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entury"/>
              </a:rPr>
              <a:t>розробити пропозиції щодо вдосконалення страхової        діяльності СК «Арсенал страхування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58920" y="1700280"/>
            <a:ext cx="2592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Завдання МДР</a:t>
            </a:r>
            <a:endParaRPr b="0" lang="en-US" sz="20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46320" y="260280"/>
            <a:ext cx="78976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99"/>
                </a:solidFill>
                <a:latin typeface="Century"/>
              </a:rPr>
              <a:t>«УПРАВЛІННЯ ІНВЕСТИЦІЙНОЮ ДІЯЛЬНІСТЮ СТРАХОВИХ КОМПАНІЙ </a:t>
            </a:r>
            <a:br>
              <a:rPr sz="2400"/>
            </a:br>
            <a:r>
              <a:rPr b="0" i="1" lang="uk-UA" sz="2400" spc="-1" strike="noStrike">
                <a:solidFill>
                  <a:srgbClr val="000099"/>
                </a:solidFill>
                <a:latin typeface="Century"/>
              </a:rPr>
              <a:t>(НА ПРИКЛАДІ СК «АРСЕНАЛ СТРАХУВАННЯ»)</a:t>
            </a:r>
            <a:r>
              <a:rPr b="1" lang="ru-RU" sz="2400" spc="-1" strike="noStrike">
                <a:solidFill>
                  <a:srgbClr val="000099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317080" y="6031080"/>
            <a:ext cx="82692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6920" y="25992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"/>
              </a:rPr>
              <a:t>Таблиця 1.1 – Визначення поняття «інвестиційна діяльність» в нормативно-правових актах Украї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24000" y="1052640"/>
          <a:ext cx="8640720" cy="5806800"/>
        </p:xfrm>
        <a:graphic>
          <a:graphicData uri="http://schemas.openxmlformats.org/drawingml/2006/table">
            <a:tbl>
              <a:tblPr/>
              <a:tblGrid>
                <a:gridCol w="3044520"/>
                <a:gridCol w="5596200"/>
              </a:tblGrid>
              <a:tr h="550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Назва нормативно-правового акт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Визначенн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. Закон України «Про інвестиційну діяльність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Інвестиційна діяльність – сукупність практичних дій громадян, юридичних осіб і держави щодо реалізації інвестицій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. Національне положення (стандарт) бухгалтерського обліку № 1 «Загальні вимоги до фінансової звітності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Інвестиційна діяльність – придбання та реалізація тих необоротних активів, а також тих фінансових інвестицій, які не є складовою частиною еквівалентів грошових коштів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00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3. Міжнародний стандарт бухгалтерського обліку № 7 «Звіт про рух грошових коштів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Інвестиційна діяльність – це придбання і продаж довгострокових активів, а також інших інвестицій, які не є еквівалентами грошових коштів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46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4. Дуфенюк О.М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Інвестиційна діяльність – практичні кроки з реалізації інвестицій, що включають вибір форм, видів і об’єктів інвестування, формування ресурсів та трансформація їх в інвестиції для отримання прибутку чи іншого ефекту, залежно від цілей суб’єктів інвестиційної діяльності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00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5. Великий економічний словни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Інвестиційна діяльність – вкладення коштів,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інвестування; діяльність по вкладенню коштів та інших цінностей в проекти, а також забезпечення віддачі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вкладень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2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317080" y="6031080"/>
            <a:ext cx="82692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-428760" y="13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11280" y="6353280"/>
            <a:ext cx="7705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"/>
              </a:rPr>
              <a:t>Рисунок 1.1 – Структура інвестиційних ризиків страхових компані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8317080" y="6031080"/>
            <a:ext cx="82692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317080" y="6031080"/>
            <a:ext cx="826920" cy="82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468360" y="692280"/>
          <a:ext cx="8351640" cy="6118200"/>
        </p:xfrm>
        <a:graphic>
          <a:graphicData uri="http://schemas.openxmlformats.org/drawingml/2006/table">
            <a:tbl>
              <a:tblPr/>
              <a:tblGrid>
                <a:gridCol w="2558880"/>
                <a:gridCol w="857520"/>
                <a:gridCol w="923760"/>
                <a:gridCol w="927000"/>
                <a:gridCol w="771480"/>
                <a:gridCol w="865440"/>
                <a:gridCol w="676080"/>
                <a:gridCol w="771480"/>
              </a:tblGrid>
              <a:tr h="733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Показ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012 р. тис. 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013 р. тис. 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014 р. тис. 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Абсолютне відхилення, тис.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Темп приросту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013р. 2012 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014р., 2012 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012р 2013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012 р.  2014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Чистий дохід від реалізації продукції, тис.гр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4084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445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3259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370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-825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9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-20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Собівартість реалізованої продукції,тис.гр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03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13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81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-819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-850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-7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-82,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Валовий прибуток, тис.гр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3052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3073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803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1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-1248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0,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-40,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Чистий прибуток,тис.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404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97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74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-107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-130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-2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-32,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Активи,тис.гр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293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3232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4063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939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769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40,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77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Середня величина необоротніх активів,тис.гр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8141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034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180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20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3667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7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45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Середня величина оборотних активів, тис.гр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479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198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882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718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40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48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94,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Середня величина власного капіталу, тис.гр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945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227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504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81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559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9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59,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Середня величина залученого капіталу, тис. гр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348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005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558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657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21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48,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89,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395280" y="122400"/>
            <a:ext cx="83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"/>
              </a:rPr>
              <a:t>Таблиця 2.1 – Аналіз фінансового стану 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ВАТ «СК «</a:t>
            </a:r>
            <a:r>
              <a:rPr b="1" lang="en-US" sz="1800" spc="-1" strike="noStrike">
                <a:solidFill>
                  <a:srgbClr val="000000"/>
                </a:solidFill>
                <a:latin typeface="Century"/>
              </a:rPr>
              <a:t>Арсенал страхування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76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317080" y="6031080"/>
            <a:ext cx="826920" cy="82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250920" y="1197000"/>
          <a:ext cx="8713800" cy="5218200"/>
        </p:xfrm>
        <a:graphic>
          <a:graphicData uri="http://schemas.openxmlformats.org/drawingml/2006/table">
            <a:tbl>
              <a:tblPr/>
              <a:tblGrid>
                <a:gridCol w="2670120"/>
                <a:gridCol w="893880"/>
                <a:gridCol w="965160"/>
                <a:gridCol w="966600"/>
                <a:gridCol w="804960"/>
                <a:gridCol w="901800"/>
                <a:gridCol w="706320"/>
                <a:gridCol w="804960"/>
              </a:tblGrid>
              <a:tr h="733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 р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 р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р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олютне відхилення, тис.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приросту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р.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 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р.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 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 р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тий доход від реалізації продукції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84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5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59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25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івартість реалізованої продукції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19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50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2,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овий прибу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52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73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3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48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,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нші операційні дохо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7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7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іністративні витра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4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5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5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19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2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рати на збу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6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5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1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4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нші операційні витра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9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39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18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6,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нансові результати від операційної діяльнос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7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9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96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3,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нші дохо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0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6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78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73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98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,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нші витра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6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88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86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4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6,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тий прибуто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4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7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4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7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30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2,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1688760" y="196200"/>
            <a:ext cx="59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"/>
              </a:rPr>
              <a:t>Таблиця 2.3 – Динаміка доходів і витра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"/>
              </a:rPr>
              <a:t>ВАТ «СК «Арсенал страхування» за 2012-2014 р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-77616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76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317080" y="603108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11280" y="33300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"/>
              </a:rPr>
              <a:t>Таблиця 2.4 – Динаміка показників рентабельност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"/>
              </a:rPr>
              <a:t>ВАТ «СК «Арсенал страхування» за 2012-2014 р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68360" y="1125360"/>
          <a:ext cx="8424720" cy="5078520"/>
        </p:xfrm>
        <a:graphic>
          <a:graphicData uri="http://schemas.openxmlformats.org/drawingml/2006/table">
            <a:tbl>
              <a:tblPr/>
              <a:tblGrid>
                <a:gridCol w="2582640"/>
                <a:gridCol w="863640"/>
                <a:gridCol w="933480"/>
                <a:gridCol w="933480"/>
                <a:gridCol w="779400"/>
                <a:gridCol w="871560"/>
                <a:gridCol w="682920"/>
                <a:gridCol w="777600"/>
              </a:tblGrid>
              <a:tr h="733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 р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 р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р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олютне відхилення, тис.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приросту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 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 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 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ходження страхових платежів, тис. 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84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5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59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25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ові страхові премії, тис. 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31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6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69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3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8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хові виплати, тис. грн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8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9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18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6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нансовий результат від страхової діяльності, тис. грн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26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47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9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1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06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4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абельність діяльності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тий прибуток, тис. грн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4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7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4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7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30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2,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ний капітал, тис. грн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5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7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4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1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9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абельність страхової організації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8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виплат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317080" y="603108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547640" y="620640"/>
            <a:ext cx="6048720" cy="34624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81280" y="4519080"/>
            <a:ext cx="738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Times New Roman"/>
              </a:rPr>
              <a:t>Рисунок 2.3 – Динаміка страхових платежів та страхових випл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Times New Roman"/>
              </a:rPr>
              <a:t>СК «Арсенал страхування» протягом 2012-2014 р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09:50:22Z</dcterms:created>
  <dc:creator>AComp</dc:creator>
  <dc:description/>
  <dc:language>en-US</dc:language>
  <cp:lastModifiedBy>Админ</cp:lastModifiedBy>
  <dcterms:modified xsi:type="dcterms:W3CDTF">2015-11-09T17:19:33Z</dcterms:modified>
  <cp:revision>84</cp:revision>
  <dc:subject/>
  <dc:title>Слайд 1</dc:title>
</cp:coreProperties>
</file>