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950-BC07-41C5-8097-C532C302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0F7-7CEA-4730-A87B-F452AD26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441-C7B3-4132-8903-38719027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33A-0EE8-41F2-873C-ED4F08A0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1410-1B59-44E9-946C-C01BCA91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44B-8700-417E-8793-48A109A1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FC3E-23C8-4221-8338-8D10F86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1110-92C1-412A-994A-8811AAE3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95DF-A81A-444B-BD85-8D195DB4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F4B5-E9F8-45F3-A871-8FCC7BF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89E-11CC-4CEF-9C22-C107A282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4BF-DF44-4264-8AE0-77ED80F7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B08F-90F2-4815-BF2D-70F53ED8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2680-F42D-491D-BA12-D996C2B0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153-8144-431E-A9AB-4DA3BFC5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C10-7651-4804-BEB4-25297B80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7308-2D68-41F9-96F7-6EF739F0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2B1-93EB-45AA-8C73-CBC789F4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77C-5E2E-4590-9A99-7C36F8C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BBC-48D1-4AB9-96B5-8BD877AD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1BB-EAAD-43E2-80AB-756828E4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70E-0C65-41DB-9850-A95B34F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6A3-C0B2-4963-85AA-EEDB675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623-1FB0-4ADA-AF88-07FA38F6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C91-DE79-4824-AEE0-72D2B29BAA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7CD-6028-434B-8A33-7AF4C3BABA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3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ae4"/>
                </a:solidFill>
                <a:latin typeface="Harlow Solid Italic"/>
              </a:rPr>
              <a:t>Вінницький національний технічний університет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Book Antiqua"/>
              </a:rPr>
              <a:t>Керівник: д.е.н., проф. Зянько В.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Book Antiqua"/>
              </a:rPr>
              <a:t>Виконав студент: гр. </a:t>
            </a: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МФКз-14м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92929"/>
                </a:solidFill>
                <a:latin typeface="Book Antiqua"/>
              </a:rPr>
              <a:t>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Симоненко А. В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entury"/>
              </a:rPr>
              <a:t>«УПРАВЛІННЯ ІНВЕСТИЦІЙНОЮ         ДІЯЛЬНІСТЮ СТРАХОВИХ                      КОМПАНІЙ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entury"/>
              </a:rPr>
              <a:t>(НА ПРИКЛАДІ СК «АРСЕНАЛ СТРАХУВАННЯ»)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92929"/>
                </a:solidFill>
                <a:latin typeface="Century"/>
              </a:rPr>
              <a:t>Вінниця 2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46920" y="907920"/>
            <a:ext cx="3097080" cy="338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18440" y="-360"/>
            <a:ext cx="91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7 – Структура розміщення активів для представлення резерв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ВАТ «СК «Арсенал страхування» у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981000"/>
          <a:ext cx="8713800" cy="5037120"/>
        </p:xfrm>
        <a:graphic>
          <a:graphicData uri="http://schemas.openxmlformats.org/drawingml/2006/table">
            <a:tbl>
              <a:tblPr/>
              <a:tblGrid>
                <a:gridCol w="2192400"/>
                <a:gridCol w="1288800"/>
                <a:gridCol w="897120"/>
                <a:gridCol w="1200240"/>
                <a:gridCol w="1056960"/>
                <a:gridCol w="1200240"/>
                <a:gridCol w="8780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ерви зі страхування житт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астка активі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ерви зі страхування житт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астка активі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Резерви зі страхування життя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астка активів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Усь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3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92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3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грошові кошти на поточних рахун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банківські вклади (депози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2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66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9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7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1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5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 у тому числі в іноземній валю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3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ерухоме май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а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40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6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6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обліг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5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6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1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рава вимоги до перестрахови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кредити страхувальни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259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8 – Динаміка дохідності фінансових інструмент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 кількісні характеристики можливих інвести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896760"/>
          <a:ext cx="8713800" cy="5961240"/>
        </p:xfrm>
        <a:graphic>
          <a:graphicData uri="http://schemas.openxmlformats.org/drawingml/2006/table">
            <a:tbl>
              <a:tblPr/>
              <a:tblGrid>
                <a:gridCol w="1836720"/>
                <a:gridCol w="1046160"/>
                <a:gridCol w="1141200"/>
                <a:gridCol w="1141560"/>
                <a:gridCol w="1155600"/>
                <a:gridCol w="1224000"/>
                <a:gridCol w="116856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 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о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 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 ро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 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 ро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дохідність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тандарт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ідхилення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Коефіціє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аріації (C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грошового ринку (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трахового ринку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алютного ринку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струменти рин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зичков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капіталів 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А+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А+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B+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рт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0%+50% (B+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71920" y="1042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016840" y="5835600"/>
            <a:ext cx="1127160" cy="10224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900000" y="1125360"/>
            <a:ext cx="7704000" cy="3382920"/>
            <a:chOff x="900000" y="1125360"/>
            <a:chExt cx="7704000" cy="3382920"/>
          </a:xfrm>
        </p:grpSpPr>
        <p:sp>
          <p:nvSpPr>
            <p:cNvPr id="159" name=""/>
            <p:cNvSpPr/>
            <p:nvPr/>
          </p:nvSpPr>
          <p:spPr>
            <a:xfrm>
              <a:off x="6178680" y="1254600"/>
              <a:ext cx="2425320" cy="774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Блок моделювання і прогноз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8680" y="2441880"/>
              <a:ext cx="2425320" cy="6994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Експертно-рекомендаційний б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2760" y="1651680"/>
              <a:ext cx="2425320" cy="7354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Оцінно-аналітичний б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2760" y="2799720"/>
              <a:ext cx="2282760" cy="7347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Блок управління та кориг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0000" y="1781280"/>
              <a:ext cx="1711800" cy="73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Методологічний бл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13160" y="1125360"/>
              <a:ext cx="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3160" y="1125360"/>
              <a:ext cx="998640" cy="387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Вх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27680" y="2532960"/>
              <a:ext cx="285120" cy="646560"/>
            </a:xfrm>
            <a:prstGeom prst="upArrow">
              <a:avLst>
                <a:gd name="adj1" fmla="val 50000"/>
                <a:gd name="adj2" fmla="val 56692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3160" y="3202200"/>
              <a:ext cx="15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3160" y="3071160"/>
              <a:ext cx="15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09440" y="2401920"/>
              <a:ext cx="285120" cy="387360"/>
            </a:xfrm>
            <a:prstGeom prst="upArrow">
              <a:avLst>
                <a:gd name="adj1" fmla="val 50000"/>
                <a:gd name="adj2" fmla="val 33965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5920" y="240192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48280" y="3141720"/>
              <a:ext cx="285120" cy="387720"/>
            </a:xfrm>
            <a:prstGeom prst="upArrow">
              <a:avLst>
                <a:gd name="adj1" fmla="val 50000"/>
                <a:gd name="adj2" fmla="val 33996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65520" y="3534480"/>
              <a:ext cx="24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465160" y="3272760"/>
              <a:ext cx="15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90840" y="2044800"/>
              <a:ext cx="285120" cy="387360"/>
            </a:xfrm>
            <a:prstGeom prst="upArrow">
              <a:avLst>
                <a:gd name="adj1" fmla="val 50000"/>
                <a:gd name="adj2" fmla="val 33965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35120" y="20448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0800" y="1254600"/>
              <a:ext cx="256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09440" y="1308600"/>
              <a:ext cx="285120" cy="338040"/>
            </a:xfrm>
            <a:prstGeom prst="downArrow">
              <a:avLst>
                <a:gd name="adj1" fmla="val 50000"/>
                <a:gd name="adj2" fmla="val 29640"/>
              </a:avLst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0800" y="125460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94920" y="1439280"/>
              <a:ext cx="12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8640" y="4058280"/>
              <a:ext cx="4993560" cy="45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Варіанти рішень на період, що прогнозуєть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11800" y="228744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23960" y="3534480"/>
              <a:ext cx="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035120" y="3141360"/>
              <a:ext cx="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65520" y="3403800"/>
              <a:ext cx="24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52000" y="1308600"/>
              <a:ext cx="14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1280" y="4797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Рисунок 3.2 – Блок-схема системно-функціонального прийняття інвестиційного рішення в процесі діяльності страхової компан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87280" y="12682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4d4d4d"/>
                </a:solidFill>
                <a:latin typeface="Century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898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«УПРАВЛІННЯ ІНВЕСТИЦІЙНОЮ ДІЯЛЬНІСТЮ СТРАХОВИХ КОМПАНІЙ </a:t>
            </a:r>
            <a:br>
              <a:rPr sz="2400"/>
            </a:b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(НА ПРИКЛАДІ СК «АРСЕНАЛ СТРАХУВАННЯ»)</a:t>
            </a:r>
            <a:r>
              <a:rPr b="1" lang="ru-RU" sz="2400" spc="-1" strike="noStrike">
                <a:solidFill>
                  <a:srgbClr val="000099"/>
                </a:solidFill>
                <a:latin typeface="Century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28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59280" y="1981080"/>
            <a:ext cx="6084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розробка напрямів поліпшення процесу інвестування, націлених на підвищення ефективності функціонування страхових компаній в Україні на основі дослідження теоретико-методологічних засад управління інвестиційною діяльністю страхових компані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процес управління інвестиційною діяльністю страхових компаній в Україні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entury"/>
              </a:rPr>
              <a:t>теоретичні, методичні і практичні аспекти управління інвестиційною діяльністю страхових компаній з метою забезпечення їх ефективного розвитку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276640"/>
            <a:ext cx="2097000" cy="115092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fde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76360" y="2565360"/>
            <a:ext cx="10396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05360"/>
            <a:ext cx="2097000" cy="93492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4221000"/>
            <a:ext cx="10400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'єкт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373720"/>
            <a:ext cx="2097000" cy="93492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32000" y="5589720"/>
            <a:ext cx="12952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2241360"/>
            <a:ext cx="7897680" cy="4616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визначити економічну сутність інвестиційної діяльності страхової компан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дослідити структуризацію інвестиційних ризиків страхової компан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проаналізувати державне регулювання інвестиційної діяльності страхової компані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провести аналіз існуючих методик і підходів до формування оптимального інвестиційного портфелю та оцінки ефективності управління інвестиційним портфеле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проаналізувати інвестиційну діяльність СК «Арсенал страхування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визначити основні 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проблеми, що стримують розвиток </a:t>
            </a: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вітчизняного 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</a:rPr>
              <a:t>страхового ринку</a:t>
            </a: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"/>
              </a:rPr>
              <a:t>розробити пропозиції щодо вдосконалення страхової        діяльності СК «Арсенал страхування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8920" y="1700280"/>
            <a:ext cx="25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вдання МДР</a:t>
            </a:r>
            <a:endParaRPr b="0" lang="en-US" sz="20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46320" y="260280"/>
            <a:ext cx="7897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«УПРАВЛІННЯ ІНВЕСТИЦІЙНОЮ ДІЯЛЬНІСТЮ СТРАХОВИХ КОМПАНІЙ </a:t>
            </a:r>
            <a:br>
              <a:rPr sz="2400"/>
            </a:br>
            <a:r>
              <a:rPr b="0" i="1" lang="uk-UA" sz="2400" spc="-1" strike="noStrike">
                <a:solidFill>
                  <a:srgbClr val="000099"/>
                </a:solidFill>
                <a:latin typeface="Century"/>
              </a:rPr>
              <a:t>(НА ПРИКЛАДІ СК «АРСЕНАЛ СТРАХУВАННЯ»)</a:t>
            </a:r>
            <a:r>
              <a:rPr b="1" lang="ru-RU" sz="2400" spc="-1" strike="noStrike">
                <a:solidFill>
                  <a:srgbClr val="000099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2599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"/>
              </a:rPr>
              <a:t>Таблиця 1.1 – Визначення поняття «інвестиційна діяльність» в нормативно-правових актах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052640"/>
          <a:ext cx="8640720" cy="5806800"/>
        </p:xfrm>
        <a:graphic>
          <a:graphicData uri="http://schemas.openxmlformats.org/drawingml/2006/table">
            <a:tbl>
              <a:tblPr/>
              <a:tblGrid>
                <a:gridCol w="3044520"/>
                <a:gridCol w="559620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Назва нормативно-правового акт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изначенн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. Закон України «Про інвестиційну діяльність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сукупність практичних дій громадян, юридичних осіб і держави щодо реалізації інвестиці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. Національне положення (стандарт) бухгалтерського обліку № 1 «Загальні вимоги до фінансової звітності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придбання та реалізація тих необоротних активів, а також тих фінансових інвестицій, які не є складовою частиною еквівалентів грошових кошт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. Міжнародний стандарт бухгалтерського обліку № 7 «Звіт про рух грошових коштів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це придбання і продаж довгострокових активів, а також інших інвестицій, які не є еквівалентами грошових кошті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. Дуфенюк О.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практичні кроки з реалізації інвестицій, що включають вибір форм, видів і об’єктів інвестування, формування ресурсів та трансформація їх в інвестиції для отримання прибутку чи іншого ефекту, залежно від цілей суб’єктів інвестиційної діяльності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. Великий економічний словни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иційна діяльність – вкладення коштів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інвестування; діяльність по вкладенню коштів та інших цінностей в проекти, а також забезпечення віддачі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кладен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2876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6353280"/>
            <a:ext cx="770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Рисунок 1.1 – Структура інвестиційних ризиків страхових компа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468360" y="692280"/>
          <a:ext cx="8351640" cy="6118200"/>
        </p:xfrm>
        <a:graphic>
          <a:graphicData uri="http://schemas.openxmlformats.org/drawingml/2006/table">
            <a:tbl>
              <a:tblPr/>
              <a:tblGrid>
                <a:gridCol w="2558880"/>
                <a:gridCol w="857520"/>
                <a:gridCol w="923760"/>
                <a:gridCol w="927000"/>
                <a:gridCol w="771480"/>
                <a:gridCol w="865440"/>
                <a:gridCol w="676080"/>
                <a:gridCol w="77148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.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 р.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 р.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Абсолютне відхилення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3р. 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4р., 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р 2013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12 р.  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истий дохід від реалізації продукції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8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4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25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7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2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2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обівартість реалізованої продукції,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3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1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5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Валовий прибуток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05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07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80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124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40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Чистий прибуток,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9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10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13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-3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Активи,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29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23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6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3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76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7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необоротніх активів,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14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03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18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2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3667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7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5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оборотних активів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7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19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88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71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40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8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4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власного капіталу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94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2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50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8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5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9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59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Середня величина залученого капіталу, тис.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348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00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255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65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121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48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8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95280" y="12240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1 – Аналіз фінансового стану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ВАТ «СК «</a:t>
            </a: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Арсенал страхування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50920" y="1197000"/>
          <a:ext cx="8713800" cy="5218200"/>
        </p:xfrm>
        <a:graphic>
          <a:graphicData uri="http://schemas.openxmlformats.org/drawingml/2006/table">
            <a:tbl>
              <a:tblPr/>
              <a:tblGrid>
                <a:gridCol w="2670120"/>
                <a:gridCol w="893880"/>
                <a:gridCol w="965160"/>
                <a:gridCol w="966600"/>
                <a:gridCol w="804960"/>
                <a:gridCol w="901800"/>
                <a:gridCol w="706320"/>
                <a:gridCol w="8049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 відхилення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доход від реалізації продукц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2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івартість реалізованої продукц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19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5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ий прибу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5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4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пераційні до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іністративні 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2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зб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операційні 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1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6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і результати від операційної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3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до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 витр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6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688760" y="19620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3 – Динаміка доходів і вит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ВАТ «СК «Арсенал страхування» за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7761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33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Таблиця 2.4 – Динаміка показників рентабель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ВАТ «СК «Арсенал страхування» за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125360"/>
          <a:ext cx="8424720" cy="5078520"/>
        </p:xfrm>
        <a:graphic>
          <a:graphicData uri="http://schemas.openxmlformats.org/drawingml/2006/table">
            <a:tbl>
              <a:tblPr/>
              <a:tblGrid>
                <a:gridCol w="2582640"/>
                <a:gridCol w="863640"/>
                <a:gridCol w="933480"/>
                <a:gridCol w="933480"/>
                <a:gridCol w="779400"/>
                <a:gridCol w="871560"/>
                <a:gridCol w="682920"/>
                <a:gridCol w="7776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е відхилення, тис.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ходження страхових платежів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2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ові страхові премії, 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хові виплати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нансовий результат від страхової діяльності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бельність діяльності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ий прибуток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ий капітал, тис. грн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бельність страхової організації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8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виплат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47640" y="620640"/>
            <a:ext cx="6048720" cy="3462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1280" y="4519080"/>
            <a:ext cx="73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Рисунок 2.3 – Динаміка страхових платежів та страхових випл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СК «Арсенал страхування» протягом 2012-2014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9:50:22Z</dcterms:created>
  <dc:creator>AComp</dc:creator>
  <dc:description/>
  <dc:language>en-US</dc:language>
  <cp:lastModifiedBy>Админ</cp:lastModifiedBy>
  <dcterms:modified xsi:type="dcterms:W3CDTF">2015-11-09T17:19:33Z</dcterms:modified>
  <cp:revision>84</cp:revision>
  <dc:subject/>
  <dc:title>Слайд 1</dc:title>
</cp:coreProperties>
</file>