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7B6-3BD5-4BAE-9A16-38B0EC5FD4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Верхний колонтитул 4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8077-3D4F-4ACA-8545-2337E5DC6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068-CE4B-4FF5-B666-A254D91C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BBF-60CF-4758-BDBB-F8C29CF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E4E-C93F-4BCD-B6BE-E84C14D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789-655B-4895-8853-B519830B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774-A2B4-4427-AC66-EAE0BA71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3FA-D573-41AD-AB2C-06D0518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0F5-A5AC-4146-93B1-910E0699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111-E11F-4933-895D-D8B282F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9E6-2CAC-4239-97EC-5439B5C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CF7-F803-49F5-8106-45B58E8B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625-0287-4CF7-976C-96116DA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11D-C969-4172-819A-48FC99D3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A3AA-1E1C-4F6D-917B-709E8D4B4194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FF1-25D6-4685-BFCB-56BD02578B5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008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СОНЯЧНИХ ЕЛЕКТРИЧНИХ СТАНЦІЙ, МАЛИХ ГЕС ТА БІОГАЗОВИХ УСТАНОВОК В СИСТЕМ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85840" y="5785920"/>
            <a:ext cx="4357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гр. 1Ес-14м Бартецька І.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д.т.н., проф. Лежнюк П. 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сес.jpg"/>
          <p:cNvPicPr/>
          <p:nvPr/>
        </p:nvPicPr>
        <p:blipFill>
          <a:blip r:embed="rId1"/>
          <a:stretch/>
        </p:blipFill>
        <p:spPr>
          <a:xfrm>
            <a:off x="0" y="3286080"/>
            <a:ext cx="3108240" cy="20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8643960" y="21420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433840" y="3286080"/>
            <a:ext cx="3710160" cy="1820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гес.jpg"/>
          <p:cNvPicPr/>
          <p:nvPr/>
        </p:nvPicPr>
        <p:blipFill>
          <a:blip r:embed="rId3"/>
          <a:stretch/>
        </p:blipFill>
        <p:spPr>
          <a:xfrm>
            <a:off x="2714760" y="3714840"/>
            <a:ext cx="3214440" cy="215244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571680" y="0"/>
            <a:ext cx="81435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ичних станцій та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і оптимізації функціонування локальних електричних систем (ЛЕС) з Р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42920" y="1428840"/>
            <a:ext cx="900108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оптимізації добових режимів  керованих джерел енергії (наприклад МГЕС) з урахуванням режимів умовно-керованих джерел для забезпечення максимальних надходжень від реалізації їх електроенергії за умов багатоступеневого тарифу енергоринку  та технічних обмежень з боку окремих Р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оптимізації режиму РДЕ з метою зменшення залежності локальної електричної системи з сукупним навантаженням від централізованого енергопостачання, тобто мінімізації навантаження локальної системи на основний центр живл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ізація режимів РДЕ з метою мінімізації відхилень від заданого централізовано графіка сукупного генерування Р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Д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за заданих обмежень на первинні енергоресурси та характеристик Р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3500280" y="2643120"/>
                <a:ext cx="1648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r>
                          <m:t xml:space="preserve">ц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3643200" y="4357800"/>
                <a:ext cx="13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ЦЖ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3611520" y="5965920"/>
                <a:ext cx="2052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ДЕ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Box 9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135-5330-4AA2-A382-3C84F1647BC2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56764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945800" y="21420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різних типів ВДЕ в систе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366840" y="1643040"/>
            <a:ext cx="84103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386-7C5C-43A9-847B-3E88572DE84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-15840" y="357120"/>
          <a:ext cx="358776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40" y="357120"/>
                    <a:ext cx="358776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71920" y="285840"/>
          <a:ext cx="5286240" cy="1439640"/>
        </p:xfrm>
        <a:graphic>
          <a:graphicData uri="http://schemas.openxmlformats.org/drawingml/2006/table">
            <a:tbl>
              <a:tblPr/>
              <a:tblGrid>
                <a:gridCol w="1579680"/>
                <a:gridCol w="1063440"/>
                <a:gridCol w="1825560"/>
                <a:gridCol w="817560"/>
              </a:tblGrid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електроенерг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*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3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04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ережа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ережа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592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3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3"/>
          <p:cNvSpPr/>
          <p:nvPr/>
        </p:nvSpPr>
        <p:spPr>
          <a:xfrm>
            <a:off x="3643200" y="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1 – Розрахунок усталеного режиму середніх навантаж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3571920" y="1623240"/>
            <a:ext cx="557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2 – Результати аналізу ефективності приєднання РДЕ на початку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43200" y="2000160"/>
          <a:ext cx="5214960" cy="1109880"/>
        </p:xfrm>
        <a:graphic>
          <a:graphicData uri="http://schemas.openxmlformats.org/drawingml/2006/table">
            <a:tbl>
              <a:tblPr/>
              <a:tblGrid>
                <a:gridCol w="2124360"/>
                <a:gridCol w="1438200"/>
                <a:gridCol w="1652400"/>
              </a:tblGrid>
              <a:tr h="21132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4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60"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2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14840" y="3429000"/>
          <a:ext cx="5143320" cy="1060560"/>
        </p:xfrm>
        <a:graphic>
          <a:graphicData uri="http://schemas.openxmlformats.org/drawingml/2006/table">
            <a:tbl>
              <a:tblPr/>
              <a:tblGrid>
                <a:gridCol w="1817640"/>
                <a:gridCol w="1454040"/>
                <a:gridCol w="187164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49"/>
          <p:cNvSpPr/>
          <p:nvPr/>
        </p:nvSpPr>
        <p:spPr>
          <a:xfrm>
            <a:off x="3429000" y="32191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3 – Результати аналізу ефективності приєднання РДЕ в середині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86120" y="5072040"/>
          <a:ext cx="5214960" cy="1440000"/>
        </p:xfrm>
        <a:graphic>
          <a:graphicData uri="http://schemas.openxmlformats.org/drawingml/2006/table">
            <a:tbl>
              <a:tblPr/>
              <a:tblGrid>
                <a:gridCol w="2206800"/>
                <a:gridCol w="1536480"/>
                <a:gridCol w="1471680"/>
              </a:tblGrid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рати потуж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врахування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врахуванням РДЕ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лініях 10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3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трансформ. 10(6)/0,4 к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вантажувальн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робочого х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ініях 0,4 к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рні втра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10394964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4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50"/>
          <p:cNvSpPr/>
          <p:nvPr/>
        </p:nvSpPr>
        <p:spPr>
          <a:xfrm>
            <a:off x="3361320" y="4786200"/>
            <a:ext cx="530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94784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.4 – Результати аналізу ефективності приєднання РДЕ в кінці фід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8623080" y="-142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714240" y="192888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логічно безпечні у своєму використанн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ють тривалий термін експлуата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дійні під час експлуат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лі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ість СЕС від кліматичних у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лика потуж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бують великих площ для побудо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 акумуляції електроенергії на СЕС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ільність сонячних, вітрових станцій та в певній мірі малих гідроелектростанцій може бути скомпенсована за рахунок біогазових установок як накопичувача 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B66-1719-4F2C-9A76-24B7777562B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642960" y="4287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новизн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ено спосіб формування графіків сумісної роботи різнотипних РДЕ в електричних мережах, що дозволяє компенсувати негативний вплив нестабільності генерування умовно-керованих джерел енергії на ефективність функціонування локальних електрични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86040" y="274320"/>
            <a:ext cx="3643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400" y="92844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Лежнюк П. Д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існа робота сонячних електричних станцій та малих ГЕС/ П. Д. Лежнюк , І. А. Співак/ Тези доповіде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LI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іональної  науково-технічної конференції професорсько-викладацького складу, співробітників і студентів ВНТУ м. Вінниця, 2014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ежнюк П. Д. Сумісна робота сонячних електричних станцій, малих гідроелектростанцій та біогазових установок/ П. Д. Лежнюк, І. А. Співак/ Тези доповіде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LII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регіональної  науково-технічної конференції професорсько-викладацького складу, співробітників і студентів ВНТУ м. Вінниця, 2014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івак І. А. Робота сонячних електричних станцій, малих ГЕС та біогазових установок в електричній мережі/ І. А. Співак/ Матеріали доповідей І всеукраїнського наукового семінару «Моніторинг енерго- та ресурсовикористання в складних виробничих системах НТУ м. Луцьк, 2015 р., с 13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ежнюк П. Д. Сумісна робота сонячних електричних станцій, малих гідроелектростанцій та біогазових установок/ П. Д. Лежнюк, І. А. Співак/ Тези доповідей Міжнародної конференції «Молодь в технічних науках: дослідження, проблеми, перспективи (МТН-2015)» ВНТУ м. Вінниця, 2015 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жнюк П. Д. Сумісна робота сонячних електричних станцій та малих гідроелектростанцій/ П. Д. Лежнюк, І. А. Співак/ Матеріали першої всеукраїнської науково-технічної конференції «Електротехнічні системи, електрифікація й автоматизація в агропромисловому комплексі» ВНАУ м. Вінниця, 2014р., с 1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требський В. В. Комплексна оптимізація режимів роботи джерел електроенергії в енергосистемі/ Нетребський В. В., Остра Н. В., Співак І. А./ Тези доповідей ІІ Міжнародної науково-технічної конференції «Оптимальне керування електроустановками» ВНТУ м. Вінниця, 2013 р., с 7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івак І. А. Біогазові установки в енергетичній системі/ Співак І. А./ Матеріали доповідей V Всеукраїнського  наукового семінару «Проблеми і перспективи енергозбереження в комунальному господарстві та на промислових підприємствах» Луцький НТУ м Луцьк, 2015 р., с 7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атент України № 93971 (51) МПК G07С 3/10 (2006.01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ТРІЙ ДЛЯ КОНТРОЛЮ РЕСУРСУ ГРУПИ КОМУТАЦІЙНИХ АПАРАТІВ Грабко В. В., Грабко В. В., Бартецький А. А., Співак І. А. Заявлено 28.04.2014, опубліковано 27.10.2014, бюл.№20/201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982-F989-4A82-9603-17D2DA54D111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8575560" y="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1214280" y="20718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якую за увагу</a:t>
            </a:r>
            <a:r>
              <a:rPr b="0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E49-3516-4C3A-BA03-CC1477F0546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285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ість теми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ня розвитку відновлюваної енергетики в світі та в Україні є надзвичайно актуальним. Такі відновлювальні джерела енергії як сонячні, вітрові електростанції та малі гідроелектростанції мають значний потенціал для свого розвитку, але в силу своїх природних можливостей є нестабільними.  Ця нестабільність може бути скомпенсована за рахунок біогазових установок як накопичувача енерг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CF4-B8F1-4CE9-9B44-4B2EDC7CCEF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2286000" y="3000240"/>
          <a:ext cx="520056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00240"/>
                    <a:ext cx="520056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Box 6"/>
          <p:cNvSpPr/>
          <p:nvPr/>
        </p:nvSpPr>
        <p:spPr>
          <a:xfrm>
            <a:off x="8759880" y="0"/>
            <a:ext cx="3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6429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ефективності функціонування розосереджених джерел енергії за рахунок використання біогазових устано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дач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розосереджених джерел енергії, їх будова та властивост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ювання режимів роботи відновлюваних джерел енергії у розподільних електричних мереж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ідження впливу сумісної роботи сонячних електричних станцій, малих гідроелектростанцій та біогазових установок на роботу розподільних електричних мереж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ом дослідже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і режими електричних мереж з відновлювальними джерелами енергі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D3F-6465-4D1F-927B-774EC5A0BCE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8715240" y="-7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8E45-D8A8-4A5A-A887-202D0FBBC2D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428760" y="5716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КАЗНИКИ РОЗВИТКУ ВІДНОВЛЮВАНОЇ ЕНЕРГЕТИКИ В СВІ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8715240" y="-126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3" descr=""/>
          <p:cNvPicPr/>
          <p:nvPr/>
        </p:nvPicPr>
        <p:blipFill>
          <a:blip r:embed="rId1"/>
          <a:stretch/>
        </p:blipFill>
        <p:spPr>
          <a:xfrm>
            <a:off x="528480" y="1081080"/>
            <a:ext cx="80870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cilodobova-sonjachna-elektrostancija_1"/>
          <p:cNvPicPr/>
          <p:nvPr/>
        </p:nvPicPr>
        <p:blipFill>
          <a:blip r:embed="rId1"/>
          <a:stretch/>
        </p:blipFill>
        <p:spPr>
          <a:xfrm>
            <a:off x="357120" y="714240"/>
            <a:ext cx="264312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460600" y="21420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 сонячних електричних стан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8760" y="278604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 баштового ти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rc_mi" descr="file1_html_16aa689b"/>
          <p:cNvPicPr/>
          <p:nvPr/>
        </p:nvPicPr>
        <p:blipFill>
          <a:blip r:embed="rId2"/>
          <a:stretch/>
        </p:blipFill>
        <p:spPr>
          <a:xfrm>
            <a:off x="3071880" y="714240"/>
            <a:ext cx="3071880" cy="214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500280" y="292896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 тарілчатого ти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rc_mi" descr="4186"/>
          <p:cNvPicPr/>
          <p:nvPr/>
        </p:nvPicPr>
        <p:blipFill>
          <a:blip r:embed="rId3"/>
          <a:stretch/>
        </p:blipFill>
        <p:spPr>
          <a:xfrm>
            <a:off x="6215040" y="785880"/>
            <a:ext cx="2786040" cy="1843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5"/>
          <p:cNvSpPr/>
          <p:nvPr/>
        </p:nvSpPr>
        <p:spPr>
          <a:xfrm>
            <a:off x="6215040" y="27147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, що використовують фото батаре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rc_mi" descr="thumbnail"/>
          <p:cNvPicPr/>
          <p:nvPr/>
        </p:nvPicPr>
        <p:blipFill>
          <a:blip r:embed="rId4"/>
          <a:stretch/>
        </p:blipFill>
        <p:spPr>
          <a:xfrm>
            <a:off x="285840" y="335772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17"/>
          <p:cNvSpPr/>
          <p:nvPr/>
        </p:nvSpPr>
        <p:spPr>
          <a:xfrm>
            <a:off x="214200" y="564372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, що використовують параболічні концентр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8" descr="Image_037"/>
          <p:cNvPicPr/>
          <p:nvPr/>
        </p:nvPicPr>
        <p:blipFill>
          <a:blip r:embed="rId5"/>
          <a:stretch/>
        </p:blipFill>
        <p:spPr>
          <a:xfrm>
            <a:off x="3786120" y="3571920"/>
            <a:ext cx="1317600" cy="2251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9"/>
          <p:cNvSpPr/>
          <p:nvPr/>
        </p:nvSpPr>
        <p:spPr>
          <a:xfrm>
            <a:off x="3214800" y="57862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статна сонячна електрост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0" descr="Image_039"/>
          <p:cNvPicPr/>
          <p:nvPr/>
        </p:nvPicPr>
        <p:blipFill>
          <a:blip r:embed="rId6"/>
          <a:stretch/>
        </p:blipFill>
        <p:spPr>
          <a:xfrm>
            <a:off x="5556240" y="3429000"/>
            <a:ext cx="3522600" cy="2428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1"/>
          <p:cNvSpPr/>
          <p:nvPr/>
        </p:nvSpPr>
        <p:spPr>
          <a:xfrm>
            <a:off x="5429160" y="5857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італьні електростанції з використанням сонячних бата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8572680" y="1429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673720" y="2142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 малих гідроелектростан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363240" y="321480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ребельно-руслова схема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296320" y="3429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ГЕС з напірною дерив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214720" y="3714840"/>
            <a:ext cx="4357440" cy="2496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9"/>
          <p:cNvSpPr/>
          <p:nvPr/>
        </p:nvSpPr>
        <p:spPr>
          <a:xfrm>
            <a:off x="2276280" y="628668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шана (гребельно-дериваційна) схема Г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10F-4E83-406D-9E8F-43F195CA3A2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Угличська ГЕС. Загальний вигляд "/>
          <p:cNvPicPr/>
          <p:nvPr/>
        </p:nvPicPr>
        <p:blipFill>
          <a:blip r:embed="rId2"/>
          <a:stretch/>
        </p:blipFill>
        <p:spPr>
          <a:xfrm>
            <a:off x="357120" y="928800"/>
            <a:ext cx="3714840" cy="22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energetika.in.ua/images/Kniga_3/Image_340.jpg"/>
          <p:cNvPicPr/>
          <p:nvPr/>
        </p:nvPicPr>
        <p:blipFill>
          <a:blip r:embed="rId3"/>
          <a:stretch/>
        </p:blipFill>
        <p:spPr>
          <a:xfrm>
            <a:off x="5214960" y="785880"/>
            <a:ext cx="32860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C52-E27C-478A-BE29-35ED58DD260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конструкції біогазові установки бувають наступних типі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ігріву і без перемішування сировини в реакторі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ігріву, але з перемішуванням органічної мас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бігрівом і перемішування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обігрівом, з перемішуванням і з приладами, що дозволяють контролювати і управляти процесом ферментації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3857760" cy="24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57840" y="1785960"/>
            <a:ext cx="3071880" cy="2314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571680" y="4449600"/>
            <a:ext cx="3643200" cy="233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4857840" y="4149720"/>
            <a:ext cx="3571920" cy="2494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Копия 3284164189.jpg"/>
          <p:cNvPicPr/>
          <p:nvPr/>
        </p:nvPicPr>
        <p:blipFill>
          <a:blip r:embed="rId1"/>
          <a:stretch/>
        </p:blipFill>
        <p:spPr>
          <a:xfrm>
            <a:off x="281160" y="1268280"/>
            <a:ext cx="886284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1716840" y="62064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а схема двостадійної  біогазової у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B59-B4A2-4B9C-8E43-66057DB93B2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520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28840" y="285840"/>
            <a:ext cx="66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и використання біогазу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847800" y="1500120"/>
            <a:ext cx="77248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8:32:51Z</dcterms:created>
  <dc:creator>Іринка</dc:creator>
  <dc:description/>
  <dc:language>en-US</dc:language>
  <cp:lastModifiedBy>Ірина</cp:lastModifiedBy>
  <dcterms:modified xsi:type="dcterms:W3CDTF">2015-11-18T18:23:21Z</dcterms:modified>
  <cp:revision>165</cp:revision>
  <dc:subject/>
  <dc:title>СУМІСНА РОБОТА СОНЯЧНИХ ЕЛЕКТРИЧНИХ СТАНЦІЙ ТА МАЛИХ ГІДРОЕЛЕКТРОСТАНЦІЙ</dc:title>
</cp:coreProperties>
</file>