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2.wmf" ContentType="image/x-wmf"/>
  <Override PartName="/ppt/media/image21.png" ContentType="image/png"/>
  <Override PartName="/ppt/media/image19.jpeg" ContentType="image/jpeg"/>
  <Override PartName="/ppt/media/image4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C21B-6D92-4D1C-AB18-2A749A22E2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Верхний колонтитул 4"/>
          <p:cNvSpPr/>
          <p:nvPr/>
        </p:nvSpPr>
        <p:spPr>
          <a:xfrm>
            <a:off x="0" y="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5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A4A5-4489-4CAA-8B84-D28A8ECC4D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41D-6CB7-405F-8C30-1C896480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27E-EFAA-424B-8EAC-31FA28D6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247-22ED-4077-BCB3-39ADFBE5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181-09B6-444D-B3AA-CBBFDF38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CFE-D2D3-43A9-B03D-D24CE8B1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FF7-07B3-4CA3-8AAF-4131BAB7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44D-9E39-4280-B243-950AB1A3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434-80C3-47ED-84A8-D9AFE943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4FBB-AA11-4239-988D-8CD4D106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CA4-D347-4EC2-B13E-C2A0946B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A00-40AB-457E-8A3D-866A033D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FF9-E904-49F1-BCC0-70CB3039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3CB4-BB35-4A07-966A-4A0D3401C043}" type="datetime">
              <a:rPr b="0" lang="uk-UA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B80F-9287-4276-813A-35DAC96DE68D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00080" y="1857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ІСНА РОБОТА СОНЯЧНИХ ЕЛЕКТРИЧНИХ СТАНЦІЙ, МАЛИХ ГЕС ТА БІОГАЗОВИХ УСТАНОВОК В СИСТЕМ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85840" y="5785920"/>
            <a:ext cx="4357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ка гр. 1Ес-14м Бартецька І. 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д.т.н., проф. Лежнюк П. 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6" descr="сес.jpg"/>
          <p:cNvPicPr/>
          <p:nvPr/>
        </p:nvPicPr>
        <p:blipFill>
          <a:blip r:embed="rId1"/>
          <a:stretch/>
        </p:blipFill>
        <p:spPr>
          <a:xfrm>
            <a:off x="0" y="3286080"/>
            <a:ext cx="3108240" cy="2071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8643960" y="214200"/>
            <a:ext cx="3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5433840" y="3286080"/>
            <a:ext cx="3710160" cy="18208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гес.jpg"/>
          <p:cNvPicPr/>
          <p:nvPr/>
        </p:nvPicPr>
        <p:blipFill>
          <a:blip r:embed="rId3"/>
          <a:stretch/>
        </p:blipFill>
        <p:spPr>
          <a:xfrm>
            <a:off x="2714760" y="3714840"/>
            <a:ext cx="3214440" cy="215244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571680" y="0"/>
            <a:ext cx="81435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ький національний технічний універс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електричних станцій та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і оптимізації функціонування локальних електричних систем (ЛЕС) з РД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142920" y="1428840"/>
            <a:ext cx="900108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оптимізації добових режимів  керованих джерел енергії (наприклад МГЕС) з урахуванням режимів умовно-керованих джерел для забезпечення максимальних надходжень від реалізації їх електроенергії за умов багатоступеневого тарифу енергоринку  та технічних обмежень з боку окремих Р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оптимізації режиму РДЕ з метою зменшення залежності локальної електричної системи з сукупним навантаженням від централізованого енергопостачання, тобто мінімізації навантаження локальної системи на основний центр живле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ізація режимів РДЕ з метою мінімізації відхилень від заданого централізовано графіка сукупного генерування Р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ДЕ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 за заданих обмежень на первинні енергоресурси та характеристик Р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5"/>
              <p:cNvSpPr txBox="1"/>
              <p:nvPr/>
            </p:nvSpPr>
            <p:spPr>
              <a:xfrm>
                <a:off x="3500280" y="2643120"/>
                <a:ext cx="1648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r>
                          <m:t xml:space="preserve">ц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7"/>
              <p:cNvSpPr txBox="1"/>
              <p:nvPr/>
            </p:nvSpPr>
            <p:spPr>
              <a:xfrm>
                <a:off x="3643200" y="4357800"/>
                <a:ext cx="1333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ЦЖ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9"/>
              <p:cNvSpPr txBox="1"/>
              <p:nvPr/>
            </p:nvSpPr>
            <p:spPr>
              <a:xfrm>
                <a:off x="3611520" y="5965920"/>
                <a:ext cx="20527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ДЕ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TextBox 9"/>
          <p:cNvSpPr/>
          <p:nvPr/>
        </p:nvSpPr>
        <p:spPr>
          <a:xfrm>
            <a:off x="8575560" y="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B2D5-E5C6-4B4D-9C67-6CBCF18917A2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8567640" y="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1945800" y="21420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існа робота різних типів ВДЕ в систем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366840" y="1643040"/>
            <a:ext cx="84103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2DA3-FD72-4481-9167-08D79F69C6BB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1"/>
          <p:cNvGraphicFramePr/>
          <p:nvPr/>
        </p:nvGraphicFramePr>
        <p:xfrm>
          <a:off x="-15840" y="357120"/>
          <a:ext cx="3587760" cy="595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840" y="357120"/>
                    <a:ext cx="358776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571920" y="285840"/>
          <a:ext cx="5286240" cy="1439640"/>
        </p:xfrm>
        <a:graphic>
          <a:graphicData uri="http://schemas.openxmlformats.org/drawingml/2006/table">
            <a:tbl>
              <a:tblPr/>
              <a:tblGrid>
                <a:gridCol w="1579680"/>
                <a:gridCol w="1063440"/>
                <a:gridCol w="1825560"/>
                <a:gridCol w="817560"/>
              </a:tblGrid>
              <a:tr h="20592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рати потуж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рати електроенерг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т*г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592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лініях 10 к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лініях 10 к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531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592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трансформ. 10(6)/0,4 кВ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трансформ. 10(6)/0,4 кВ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04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592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вантажувальн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вантажувальн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04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592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еробочого х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еробочого х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0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592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мережах 0,4 к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мережах 0,4 к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592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рні втра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рні втра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335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25" name="Rectangle 3"/>
          <p:cNvSpPr/>
          <p:nvPr/>
        </p:nvSpPr>
        <p:spPr>
          <a:xfrm>
            <a:off x="3643200" y="0"/>
            <a:ext cx="55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9478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3.1 – Розрахунок усталеного режиму середніх навантаж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8"/>
          <p:cNvSpPr/>
          <p:nvPr/>
        </p:nvSpPr>
        <p:spPr>
          <a:xfrm>
            <a:off x="3571920" y="1623240"/>
            <a:ext cx="557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9478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3.2 – Результати аналізу ефективності приєднання РДЕ на початку фід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643200" y="2000160"/>
          <a:ext cx="5214960" cy="1109880"/>
        </p:xfrm>
        <a:graphic>
          <a:graphicData uri="http://schemas.openxmlformats.org/drawingml/2006/table">
            <a:tbl>
              <a:tblPr/>
              <a:tblGrid>
                <a:gridCol w="2124360"/>
                <a:gridCol w="1438200"/>
                <a:gridCol w="1652400"/>
              </a:tblGrid>
              <a:tr h="21132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рати потуж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з врахування РДЕ, кВ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 врахуванням РДЕ, кВ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76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лініях 10 к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4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76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трансформ. 10(6)/0,4 кВ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76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навантажувальн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76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неробочого х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76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лініях 0,4 к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76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арні втра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714840" y="3429000"/>
          <a:ext cx="5143320" cy="1060560"/>
        </p:xfrm>
        <a:graphic>
          <a:graphicData uri="http://schemas.openxmlformats.org/drawingml/2006/table">
            <a:tbl>
              <a:tblPr/>
              <a:tblGrid>
                <a:gridCol w="1817640"/>
                <a:gridCol w="1454040"/>
                <a:gridCol w="187164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рати потуж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врахування РДЕ, кВ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врахуванням РДЕ, кВ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лініях 10 к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3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трансформ. 10(6)/0,4 кВ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вантажувальн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еробочого х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ініях 0,4 к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рні втра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4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49"/>
          <p:cNvSpPr/>
          <p:nvPr/>
        </p:nvSpPr>
        <p:spPr>
          <a:xfrm>
            <a:off x="3429000" y="321912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9478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3.3 – Результати аналізу ефективності приєднання РДЕ в середині фід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786120" y="5072040"/>
          <a:ext cx="5214960" cy="1440000"/>
        </p:xfrm>
        <a:graphic>
          <a:graphicData uri="http://schemas.openxmlformats.org/drawingml/2006/table">
            <a:tbl>
              <a:tblPr/>
              <a:tblGrid>
                <a:gridCol w="2206800"/>
                <a:gridCol w="1536480"/>
                <a:gridCol w="1471680"/>
              </a:tblGrid>
              <a:tr h="20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рати потуж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врахування РДЕ, кВ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врахуванням РДЕ, кВ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лініях 10 к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3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трансформ. 10(6)/0,4 кВ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вантажувальн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еробочого х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ініях 0,4 к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рні втра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4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50"/>
          <p:cNvSpPr/>
          <p:nvPr/>
        </p:nvSpPr>
        <p:spPr>
          <a:xfrm>
            <a:off x="3361320" y="4786200"/>
            <a:ext cx="530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9478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3.4 – Результати аналізу ефективності приєднання РДЕ в кінці фід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8623080" y="-1429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714240" y="1928880"/>
            <a:ext cx="7500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кологічно безпечні у своєму використанн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ють тривалий термін експлуатації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дійні під час експлуат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лі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СЕС від кліматичних у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лика потужні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требують великих площ для побудов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ість акумуляції електроенергії на СЕС.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ільність сонячних, вітрових станцій та в певній мірі малих гідроелектростанцій може бути скомпенсована за рахунок біогазових установок як накопичувача енерг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5270-3E14-4F6E-947A-19756E24338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8575560" y="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642960" y="428760"/>
            <a:ext cx="785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а новизн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лено спосіб формування графіків сумісної роботи різнотипних РДЕ в електричних мережах, що дозволяє компенсувати негативний вплив нестабільності генерування умовно-керованих джерел енергії на ефективність функціонування локальних електричних сис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86040" y="274320"/>
            <a:ext cx="36432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обаці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400" y="928440"/>
            <a:ext cx="87152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Лежнюк П. Д.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існа робота сонячних електричних станцій та малих ГЕС/ П. Д. Лежнюк , І. А. Співак/ Тези доповідей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LII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гіональної  науково-технічної конференції професорсько-викладацького складу, співробітників і студентів ВНТУ м. Вінниця, 2014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ежнюк П. Д. Сумісна робота сонячних електричних станцій, малих гідроелектростанцій та біогазових установок/ П. Д. Лежнюк, І. А. Співак/ Тези доповідей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LII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регіональної  науково-технічної конференції професорсько-викладацького складу, співробітників і студентів ВНТУ м. Вінниця, 2014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півак І. А. Робота сонячних електричних станцій, малих ГЕС та біогазових установок в електричній мережі/ І. А. Співак/ Матеріали доповідей І всеукраїнського наукового семінару «Моніторинг енерго- та ресурсовикористання в складних виробничих системах НТУ м. Луцьк, 2015 р., с 13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Лежнюк П. Д. Сумісна робота сонячних електричних станцій, малих гідроелектростанцій та біогазових установок/ П. Д. Лежнюк, І. А. Співак/ Тези доповідей Міжнародної конференції «Молодь в технічних науках: дослідження, проблеми, перспективи (МТН-2015)» ВНТУ м. Вінниця, 2015 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Лежнюк П. Д. Сумісна робота сонячних електричних станцій та малих гідроелектростанцій/ П. Д. Лежнюк, І. А. Співак/ Матеріали першої всеукраїнської науково-технічної конференції «Електротехнічні системи, електрифікація й автоматизація в агропромисловому комплексі» ВНАУ м. Вінниця, 2014р., с 1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етребський В. В. Комплексна оптимізація режимів роботи джерел електроенергії в енергосистемі/ Нетребський В. В., Остра Н. В., Співак І. А./ Тези доповідей ІІ Міжнародної науково-технічної конференції «Оптимальне керування електроустановками» ВНТУ м. Вінниця, 2013 р., с 7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півак І. А. Біогазові установки в енергетичній системі/ Співак І. А./ Матеріали доповідей V Всеукраїнського  наукового семінару «Проблеми і перспективи енергозбереження в комунальному господарстві та на промислових підприємствах» Луцький НТУ м Луцьк, 2015 р., с 7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атент України № 93971 (51) МПК G07С 3/10 (2006.01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СТРІЙ ДЛЯ КОНТРОЛЮ РЕСУРСУ ГРУПИ КОМУТАЦІЙНИХ АПАРАТІВ Грабко В. В., Грабко В. В., Бартецький А. А., Співак І. А. Заявлено 28.04.2014, опубліковано 27.10.2014, бюл.№20/201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0010-F659-46F8-A1C6-DE93FEC4C6B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8575560" y="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1214280" y="207180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якую за увагу</a:t>
            </a:r>
            <a:r>
              <a:rPr b="0" lang="en-US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D504-EF73-4BCC-AC99-632F4CC10BE4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00040" y="28548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ість теми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ння розвитку відновлюваної енергетики в світі та в Україні є надзвичайно актуальним. Такі відновлювальні джерела енергії як сонячні, вітрові електростанції та малі гідроелектростанції мають значний потенціал для свого розвитку, але в силу своїх природних можливостей є нестабільними.  Ця нестабільність може бути скомпенсована за рахунок біогазових установок як накопичувача енергії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BB22-AB8E-4BFF-8617-3287EDCBA84A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2286000" y="3000240"/>
          <a:ext cx="520056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000240"/>
                    <a:ext cx="520056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Box 6"/>
          <p:cNvSpPr/>
          <p:nvPr/>
        </p:nvSpPr>
        <p:spPr>
          <a:xfrm>
            <a:off x="8759880" y="0"/>
            <a:ext cx="3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00040" y="6429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роботи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вищення ефективності функціонування розосереджених джерел енергії за рахунок використання біогазових установ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задачі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розосереджених джерел енергії, їх будова та властивост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ювання режимів роботи відновлюваних джерел енергії у розподільних електричних мереж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ідження впливу сумісної роботи сонячних електричних станцій, малих гідроелектростанцій та біогазових установок на роботу розподільних електричних мереж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’єктом дослідження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і режими електричних мереж з відновлювальними джерелами енергії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C7E7-6332-4541-923C-28695FEC97CF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8715240" y="-712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4872-1991-42FC-B6F7-F7BB13E60C58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428760" y="57168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КАЗНИКИ РОЗВИТКУ ВІДНОВЛЮВАНОЇ ЕНЕРГЕТИКИ В СВІ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8715240" y="-126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3" descr=""/>
          <p:cNvPicPr/>
          <p:nvPr/>
        </p:nvPicPr>
        <p:blipFill>
          <a:blip r:embed="rId1"/>
          <a:stretch/>
        </p:blipFill>
        <p:spPr>
          <a:xfrm>
            <a:off x="528480" y="1081080"/>
            <a:ext cx="80870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5" descr="cilodobova-sonjachna-elektrostancija_1"/>
          <p:cNvPicPr/>
          <p:nvPr/>
        </p:nvPicPr>
        <p:blipFill>
          <a:blip r:embed="rId1"/>
          <a:stretch/>
        </p:blipFill>
        <p:spPr>
          <a:xfrm>
            <a:off x="357120" y="714240"/>
            <a:ext cx="2643120" cy="1928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2460600" y="214200"/>
            <a:ext cx="52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 сонячних електричних станц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28760" y="278604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 баштового ти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rc_mi" descr="file1_html_16aa689b"/>
          <p:cNvPicPr/>
          <p:nvPr/>
        </p:nvPicPr>
        <p:blipFill>
          <a:blip r:embed="rId2"/>
          <a:stretch/>
        </p:blipFill>
        <p:spPr>
          <a:xfrm>
            <a:off x="3071880" y="714240"/>
            <a:ext cx="3071880" cy="2143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3500280" y="292896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 тарілчатого ти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rc_mi" descr="4186"/>
          <p:cNvPicPr/>
          <p:nvPr/>
        </p:nvPicPr>
        <p:blipFill>
          <a:blip r:embed="rId3"/>
          <a:stretch/>
        </p:blipFill>
        <p:spPr>
          <a:xfrm>
            <a:off x="6215040" y="785880"/>
            <a:ext cx="2786040" cy="18432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5"/>
          <p:cNvSpPr/>
          <p:nvPr/>
        </p:nvSpPr>
        <p:spPr>
          <a:xfrm>
            <a:off x="6215040" y="27147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, що використовують фото батаре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rc_mi" descr="thumbnail"/>
          <p:cNvPicPr/>
          <p:nvPr/>
        </p:nvPicPr>
        <p:blipFill>
          <a:blip r:embed="rId4"/>
          <a:stretch/>
        </p:blipFill>
        <p:spPr>
          <a:xfrm>
            <a:off x="285840" y="3357720"/>
            <a:ext cx="2786040" cy="2214360"/>
          </a:xfrm>
          <a:prstGeom prst="rect">
            <a:avLst/>
          </a:prstGeom>
          <a:ln w="0">
            <a:noFill/>
          </a:ln>
        </p:spPr>
      </p:pic>
      <p:sp>
        <p:nvSpPr>
          <p:cNvPr id="76" name="TextBox 17"/>
          <p:cNvSpPr/>
          <p:nvPr/>
        </p:nvSpPr>
        <p:spPr>
          <a:xfrm>
            <a:off x="214200" y="564372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, що використовують параболічні концентра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8" descr="Image_037"/>
          <p:cNvPicPr/>
          <p:nvPr/>
        </p:nvPicPr>
        <p:blipFill>
          <a:blip r:embed="rId5"/>
          <a:stretch/>
        </p:blipFill>
        <p:spPr>
          <a:xfrm>
            <a:off x="3786120" y="3571920"/>
            <a:ext cx="1317600" cy="22510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9"/>
          <p:cNvSpPr/>
          <p:nvPr/>
        </p:nvSpPr>
        <p:spPr>
          <a:xfrm>
            <a:off x="3214800" y="57862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статна сонячна електростан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0" descr="Image_039"/>
          <p:cNvPicPr/>
          <p:nvPr/>
        </p:nvPicPr>
        <p:blipFill>
          <a:blip r:embed="rId6"/>
          <a:stretch/>
        </p:blipFill>
        <p:spPr>
          <a:xfrm>
            <a:off x="5556240" y="3429000"/>
            <a:ext cx="3522600" cy="242892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1"/>
          <p:cNvSpPr/>
          <p:nvPr/>
        </p:nvSpPr>
        <p:spPr>
          <a:xfrm>
            <a:off x="5429160" y="585792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бітальні електростанції з використанням сонячних бата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5"/>
          <p:cNvSpPr/>
          <p:nvPr/>
        </p:nvSpPr>
        <p:spPr>
          <a:xfrm>
            <a:off x="8572680" y="14292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673720" y="214200"/>
            <a:ext cx="44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и малих гідроелектростанц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363240" y="321480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ребельно-руслова схема Г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5296320" y="342900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ГЕС з напірною дерива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8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214720" y="3714840"/>
            <a:ext cx="4357440" cy="24969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9"/>
          <p:cNvSpPr/>
          <p:nvPr/>
        </p:nvSpPr>
        <p:spPr>
          <a:xfrm>
            <a:off x="2276280" y="628668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шана (гребельно-дериваційна) схема Г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F8B4-7756-4E2D-8BC4-5A5EDAFF1EC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8575200" y="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Угличська ГЕС. Загальний вигляд "/>
          <p:cNvPicPr/>
          <p:nvPr/>
        </p:nvPicPr>
        <p:blipFill>
          <a:blip r:embed="rId2"/>
          <a:stretch/>
        </p:blipFill>
        <p:spPr>
          <a:xfrm>
            <a:off x="357120" y="928800"/>
            <a:ext cx="3714840" cy="2271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http://energetika.in.ua/images/Kniga_3/Image_340.jpg"/>
          <p:cNvPicPr/>
          <p:nvPr/>
        </p:nvPicPr>
        <p:blipFill>
          <a:blip r:embed="rId3"/>
          <a:stretch/>
        </p:blipFill>
        <p:spPr>
          <a:xfrm>
            <a:off x="5214960" y="785880"/>
            <a:ext cx="32860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A116-2093-4BFE-87FF-FC786343232E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21384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ипом конструкції біогазові установки бувають наступних типі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бігріву і без перемішування сировини в реакторі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бігріву, але з перемішуванням органічної мас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обігрівом і перемішування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обігрівом, з перемішуванням і з приладами, що дозволяють контролювати і управляти процесом ферментації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3857760" cy="2405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4857840" y="1785960"/>
            <a:ext cx="3071880" cy="2314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571680" y="4449600"/>
            <a:ext cx="3643200" cy="2337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4"/>
          <a:stretch/>
        </p:blipFill>
        <p:spPr>
          <a:xfrm>
            <a:off x="4857840" y="4149720"/>
            <a:ext cx="3571920" cy="2494080"/>
          </a:xfrm>
          <a:prstGeom prst="rect">
            <a:avLst/>
          </a:prstGeom>
          <a:ln w="0">
            <a:noFill/>
          </a:ln>
        </p:spPr>
      </p:pic>
      <p:sp>
        <p:nvSpPr>
          <p:cNvPr id="97" name="TextBox 9"/>
          <p:cNvSpPr/>
          <p:nvPr/>
        </p:nvSpPr>
        <p:spPr>
          <a:xfrm>
            <a:off x="8575200" y="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8575200" y="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0" descr="Копия 3284164189.jpg"/>
          <p:cNvPicPr/>
          <p:nvPr/>
        </p:nvPicPr>
        <p:blipFill>
          <a:blip r:embed="rId1"/>
          <a:stretch/>
        </p:blipFill>
        <p:spPr>
          <a:xfrm>
            <a:off x="281160" y="1268280"/>
            <a:ext cx="8862840" cy="5040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1"/>
          <p:cNvSpPr/>
          <p:nvPr/>
        </p:nvSpPr>
        <p:spPr>
          <a:xfrm>
            <a:off x="1716840" y="620640"/>
            <a:ext cx="60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а схема двостадійної  біогазової устан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CA77-1E05-4B70-B692-10B9C66C2716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8575200" y="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28840" y="285840"/>
            <a:ext cx="66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и використання біогазу в Украї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847800" y="1500120"/>
            <a:ext cx="77248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18:32:51Z</dcterms:created>
  <dc:creator>Іринка</dc:creator>
  <dc:description/>
  <dc:language>en-US</dc:language>
  <cp:lastModifiedBy>Ірина</cp:lastModifiedBy>
  <dcterms:modified xsi:type="dcterms:W3CDTF">2015-11-18T18:23:21Z</dcterms:modified>
  <cp:revision>165</cp:revision>
  <dc:subject/>
  <dc:title>СУМІСНА РОБОТА СОНЯЧНИХ ЕЛЕКТРИЧНИХ СТАНЦІЙ ТА МАЛИХ ГІДРОЕЛЕКТРОСТАНЦІЙ</dc:title>
</cp:coreProperties>
</file>