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531F-77BB-4E2F-A6F0-12B536E88BC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CB48-2216-44F2-86AB-3E4069E057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9818F-38B4-4336-9F0B-00D5EDF5D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D4D4-346E-45C8-AE6A-A2BB5651C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E4E23-4E50-42AD-B9AD-FDDD4B892A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984EA-E017-4531-ADDB-9D2099E76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1153D-1847-414E-94C0-0DF08BCA1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E0F31-416A-4F26-A6C8-237EBD91B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482F0E-30A8-407B-AC1F-A112E9E71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A64D9-7F12-4BC2-81EF-2CDBC7872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9A8F13-8258-4787-A00F-AD28326D5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987E28-C6CB-4681-93B1-7B9397C47F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E9D2CF-679F-4C6F-B374-39CD5FC8E7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56CA3C-733D-4181-B540-1D7845C8E6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17BD8-084F-4B28-9EBA-AA8F5E9A4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FDA64E-8F71-4C35-94F1-7C0AFDA9A8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7CD954-74B1-4B9E-9D44-E4AFDC27CA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232D08-610C-45B7-A98A-99287EF49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AD6AED-79C3-4A34-A56F-1F4E744F0E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D45627-99B7-4B99-B58F-489D2C9E7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795AB3-4722-4945-BD99-9C9E0E1CC0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BFE240-2F17-4913-AEC3-AB6B221DEE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59F862-68C9-4E86-A610-F48A8218A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299588-BE7F-4AE9-B645-BC1D3D7C13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888F05-7FDC-41ED-B944-F502EFFB70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A655E-5D1F-4009-A496-376371059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E6EA06-EE0A-46F5-8BDB-19A0CAC972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81E95C-146C-477B-AC99-A7C3F3A5B0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28EB94-27A0-40B9-AF8C-8E739F99BC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B8AD7E-41F5-4047-84EA-65BC5553F3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E5973F-BF48-408F-8C76-FD2160955A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E6DF71-89C6-476F-A923-5D5812272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CB87D4-FD1D-47E9-B0DC-4BB560ECA3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AF3A32-781D-4EDF-BFD7-0802975DA7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9E0B1C-94A1-4808-AB34-F827FE27D1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40360-81F0-4741-8E0B-34C233D6B9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2B53D-D921-46E9-9FC7-D19E71DD5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4D294D-7C8B-40EE-85A9-3199F0DB18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666E06-1599-45F2-B4F5-626043FE95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C1BD48-3580-4859-9C30-5E6BD1A174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47BC32-7F10-42A0-9842-07C29B396B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52C85C-1BA1-45B0-BF50-D350D252CA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1F673F-A642-4DCF-9C52-74F928FF10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CA635A-80BB-4F25-AA7E-585DE790E4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0B5ECD-B51F-438A-BAD5-DBD276EDE0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67E0DB-DD86-4F8F-8987-DA53FD0353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74FFDF-7234-4C0E-B0B5-F8C5B74C54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A9DB9-3166-4B08-9814-9E86A0745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EB52DC-5042-4EC6-ADDC-1FE1037EB3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8C5775-5DA2-4A96-BC21-760EDA1109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A038E9-5823-4F24-9DF7-37FDD6F391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451004-48E8-4B24-8A6F-7EE0F03C25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373B3B-1FDC-4BB3-9C92-67D868622C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BAC98-C03F-4F75-A4E5-6666276E7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3599B-687B-4B06-B88B-F7688B687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A1FF6-07AD-4780-AB9E-B484DE9C6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E1AE5-6BD0-484C-8A70-FEBD54FAF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63592-40EF-4956-B930-655E8264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04A1-94FF-4492-A1A9-D1B988D8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79F9D-2ACD-438B-9F6B-87184E569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4318-7994-4A12-9706-AFD92911F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E4D32-E32D-4253-8811-94362D768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BA50A-7058-45D4-A2E9-C6190776C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23067-73FE-4686-9FC1-AE41FE4B9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0FCAF-B330-4894-B9AB-DD9D4C4E1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42E4B-97BB-40BA-ACCA-128D09E98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D3FAE-6BF1-43CE-BEF9-D155A7BEB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1294F-B78F-4A34-AA2C-778C5E05D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DF77A-2736-4535-A08F-3E6AA4358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55C4-B699-4D31-A707-425860EDE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BA3AE-7433-4ECD-976E-712A9BDC5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D2C35-2D6A-4D79-B12E-E8C93E875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D9C85-FC41-4764-9815-2AEDA8EB0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0EB20-3D53-4790-A906-18192CF16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6065E-4F5E-4A82-89BC-BBBA3D9D7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F95A3-8974-4940-90EB-FF407E739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155FDA-6BBE-4855-ABCF-8896784170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52B6ED-7788-46F8-BF0D-E465B052D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5BAF23-1FF2-4065-A89A-E278A195A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B9FA1-A321-4AC2-AFC6-D303EC1F9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6B004-9C4F-4869-851B-85E61814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AB657-BFCD-4FED-A6EB-D0017675D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14AF2-0839-4A4E-8960-3256014F3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261CDA-55BD-4555-89CC-E27330734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79A2A-EB93-4072-BA0F-3D0F2F770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FF59C-692C-4A57-9377-063961547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D0E23-702E-4FC1-847B-E7625DD6F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49F6E-4F77-42C8-8860-C906EF4F0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ED8EA9-FED2-4455-AE58-6D5BDC0480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131573-8B44-4CDE-96E8-5C913F28ED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AD35AF-CBF7-4A9C-8C5A-A04B3F942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D7F0F-D03F-420D-81F0-A9BDE01B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B0DF5-92C6-4A9B-9A01-CCC716C57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3408B-643A-4686-BD4B-BC27EBFD3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33F52-4A03-44D1-8EB9-BDB020184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FBBAC-B2F8-4081-AB6E-E41B6AD498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88F6A-7ABB-43F6-B288-7EC96B4FB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F3545-900E-4AB7-B2C5-DBB95271D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2C092-B4FD-4F79-8878-6EDD802B5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520AE-54B8-4C68-883A-CA3A63B91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8864B4-995C-406E-9804-9189F3C10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F0EC5A-7E07-4D41-8F1A-08950D1F77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58CE-DBA6-4CC6-AE62-D0187FAA1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3CF8C-037D-4D4A-A923-9BF76087A7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CCE6F-14F1-4ED2-9F31-87C0C4F600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606C8-1D3F-401F-BA19-18C2BDFB5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1353B-8CDF-441B-8541-67BB58374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1217B-B5F9-4C19-884F-FAAAF392E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7A67C-714E-438D-93E8-5C9B3E116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2DC39-CC59-4A9E-896A-C3C4FFF40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1ADC1-953E-4A3A-A847-281E38419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D3EDF-DDEB-4C91-B272-8CD8E191E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000E2-3990-409C-A34F-44972AF49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6C05-1AC2-47FA-9DC4-E80B513A3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723A0-76E3-465D-9D15-96CCE21ED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CC2983-B523-463E-B1CF-536476001A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FB8503-C73D-4552-BA30-F4538F49CE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616E40-EE90-4C2B-BD5E-E32ECDCA40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73B01-2FAA-436F-82A6-719AC973C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FAA12-E1D9-40ED-A85D-6EEE1A6F2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A3D79D-9877-493A-9401-DDFFACE05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D2BFD-28C4-4BC2-A309-DAF9DC606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ADE06B-941D-4FFF-BA44-5C8746807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26E2D-1246-40E3-9F1C-906A9A12A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1E84-E0C0-4DDC-B4E5-231971D4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21E92-0563-4D4F-8C9E-164A5E72F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17AB7-F5B3-4AE5-8CB2-03F250F3F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7BE34-E69F-41A8-AE5C-03B790BA6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850A6-F7F4-4706-A1BB-6077E9219A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5101F-E7B9-405C-838F-ABB5F99A6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B5365-BFFD-4B7A-A210-1BF487589F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507B9-ECCA-401D-95C8-C3634872A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8FA59-9499-4492-97C0-3E968FDC26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19D0F-8E8B-4599-80B9-3F5DD3D06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B9699-5CEA-40A1-B00B-8D39C653F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025F-F2D2-4F98-8897-A914AE4C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C237A-5993-45AC-9599-B322A4535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72A94-090C-4487-B637-C3AF849A8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D48643-ACF7-4BCB-9D23-8EF42E203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577D1-8807-4A47-A4CC-C4ECF12B5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A97BC-B5EA-44EF-AE4C-7B2F646AF2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6C754-C134-450F-A455-0BF109A405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6A7543-94CA-4E3E-8E0B-C6923D0BCA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CE8B0-B7E1-4A9F-A8C3-26E435E032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9262F-EBDE-457D-A3BF-6C6677504E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E33B2C-09A4-4B2E-9173-BC23A3D767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2"/>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8C6C-B365-4FED-AB27-AA67644EF961}"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4F53-FF45-4409-8BA3-8FED0D4723D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Прямоугольник 12"/>
          <p:cNvGrpSpPr/>
          <p:nvPr/>
        </p:nvGrpSpPr>
        <p:grpSpPr>
          <a:xfrm>
            <a:off x="652320" y="974880"/>
            <a:ext cx="4797720" cy="4797360"/>
            <a:chOff x="652320" y="974880"/>
            <a:chExt cx="4797720" cy="4797360"/>
          </a:xfrm>
        </p:grpSpPr>
        <p:pic>
          <p:nvPicPr>
            <p:cNvPr id="389" name="Прямоугольник 12" descr=""/>
            <p:cNvPicPr/>
            <p:nvPr/>
          </p:nvPicPr>
          <p:blipFill>
            <a:blip r:embed="rId2"/>
            <a:stretch/>
          </p:blipFill>
          <p:spPr>
            <a:xfrm>
              <a:off x="652320" y="974880"/>
              <a:ext cx="4797720" cy="4797360"/>
            </a:xfrm>
            <a:prstGeom prst="rect">
              <a:avLst/>
            </a:prstGeom>
            <a:ln w="0">
              <a:noFill/>
            </a:ln>
          </p:spPr>
        </p:pic>
        <p:sp>
          <p:nvSpPr>
            <p:cNvPr id="39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9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7140-4B37-413A-AA75-248244547B7E}"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9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95A4-8CBC-4D51-9679-C5593E304082}"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4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36"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A510-1C9F-4789-B009-D40E3491FE5E}"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437"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3080-7005-4E41-A515-4F43E98145B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77"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1C58-D39D-4840-9BAE-8916807B1995}"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81EF-17C8-46FC-8051-F16807E7D7B4}"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Овал 12"/>
          <p:cNvGrpSpPr/>
          <p:nvPr/>
        </p:nvGrpSpPr>
        <p:grpSpPr>
          <a:xfrm>
            <a:off x="920880" y="1414440"/>
            <a:ext cx="218880" cy="212760"/>
            <a:chOff x="920880" y="1414440"/>
            <a:chExt cx="218880" cy="212760"/>
          </a:xfrm>
        </p:grpSpPr>
        <p:pic>
          <p:nvPicPr>
            <p:cNvPr id="49" name="Овал 12" descr=""/>
            <p:cNvPicPr/>
            <p:nvPr/>
          </p:nvPicPr>
          <p:blipFill>
            <a:blip r:embed="rId2"/>
            <a:stretch/>
          </p:blipFill>
          <p:spPr>
            <a:xfrm>
              <a:off x="920880" y="1414440"/>
              <a:ext cx="218880" cy="21276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D289-FFA1-4E9D-931A-0056D2C23AF1}"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E15D-BFF3-4BD2-876A-24A1367E870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5A49-1354-44F4-8534-BA077391CF30}"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D10D-478F-4F36-8CFF-A5A0C5A3610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Овал 15"/>
          <p:cNvGrpSpPr/>
          <p:nvPr/>
        </p:nvGrpSpPr>
        <p:grpSpPr>
          <a:xfrm>
            <a:off x="2170080" y="2816280"/>
            <a:ext cx="219240" cy="212760"/>
            <a:chOff x="2170080" y="2816280"/>
            <a:chExt cx="219240" cy="212760"/>
          </a:xfrm>
        </p:grpSpPr>
        <p:pic>
          <p:nvPicPr>
            <p:cNvPr id="137" name="Овал 15" descr=""/>
            <p:cNvPicPr/>
            <p:nvPr/>
          </p:nvPicPr>
          <p:blipFill>
            <a:blip r:embed="rId2"/>
            <a:stretch/>
          </p:blipFill>
          <p:spPr>
            <a:xfrm>
              <a:off x="2170080" y="2816280"/>
              <a:ext cx="219240" cy="212760"/>
            </a:xfrm>
            <a:prstGeom prst="rect">
              <a:avLst/>
            </a:prstGeom>
            <a:ln w="0">
              <a:noFill/>
            </a:ln>
          </p:spPr>
        </p:pic>
        <p:sp>
          <p:nvSpPr>
            <p:cNvPr id="13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A6E3-38A4-450C-A601-D9C775DD322C}"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1520-EA95-4AE1-AF12-86CB01217FF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3"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D399-5452-4A1E-8D96-0380020ED7C8}"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184"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1B62-4EB3-4C0A-BCC5-A7C3E2FDD15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E852-8055-4751-BB56-E39E341C8E69}"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5297-650C-4F9D-AA0F-EC31609F927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5"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8E69-67DF-494C-AF03-27663A3972F1}"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38D9-1ACA-438A-B134-87AE25116508}"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8"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097E-22C3-4FF5-9E0F-D4CE0461CD20}"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EA2B-B381-4069-BBE7-E7994B60164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49"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F711-5FD6-4498-A67D-8004CEB228A1}"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50"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7261-60F3-4003-A86E-2AAAA1E2783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360" y="4581000"/>
            <a:ext cx="3490920" cy="20718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Науковий керівник</a:t>
            </a:r>
            <a:br>
              <a:rPr sz="1600"/>
            </a:br>
            <a:r>
              <a:rPr b="0" lang="uk-UA" sz="1600" spc="-1" strike="noStrike">
                <a:solidFill>
                  <a:srgbClr val="000000"/>
                </a:solidFill>
                <a:latin typeface="Times New Roman"/>
                <a:ea typeface="Times New Roman"/>
              </a:rPr>
              <a:t>кандидат технічних наук</a:t>
            </a:r>
            <a:br>
              <a:rPr sz="1600"/>
            </a:br>
            <a:r>
              <a:rPr b="0" lang="uk-UA" sz="1600" spc="-1" strike="noStrike">
                <a:solidFill>
                  <a:srgbClr val="000000"/>
                </a:solidFill>
                <a:latin typeface="Times New Roman"/>
                <a:ea typeface="Times New Roman"/>
              </a:rPr>
              <a:t>Тептя Віра Володимирівна</a:t>
            </a:r>
            <a:endParaRPr b="0" lang="en-US" sz="1600" spc="-1" strike="noStrike">
              <a:solidFill>
                <a:srgbClr val="572314"/>
              </a:solidFill>
              <a:latin typeface="Corbel"/>
            </a:endParaRPr>
          </a:p>
        </p:txBody>
      </p:sp>
      <p:sp>
        <p:nvSpPr>
          <p:cNvPr id="524" name=""/>
          <p:cNvSpPr txBox="1"/>
          <p:nvPr/>
        </p:nvSpPr>
        <p:spPr>
          <a:xfrm>
            <a:off x="468360" y="333360"/>
            <a:ext cx="8143920" cy="3959280"/>
          </a:xfrm>
          <a:prstGeom prst="rect">
            <a:avLst/>
          </a:prstGeom>
          <a:noFill/>
          <a:ln w="0">
            <a:noFill/>
          </a:ln>
        </p:spPr>
        <p:txBody>
          <a:bodyPr anchor="t">
            <a:normAutofit/>
          </a:bodyPr>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конав: студент</a:t>
            </a:r>
            <a:r>
              <a:rPr b="0" lang="en-US" sz="1600" spc="-1" strike="noStrike">
                <a:solidFill>
                  <a:srgbClr val="000000"/>
                </a:solidFill>
                <a:latin typeface="Times New Roman"/>
                <a:ea typeface="Times New Roman"/>
              </a:rPr>
              <a:t> 2</a:t>
            </a:r>
            <a:r>
              <a:rPr b="0" lang="uk-UA" sz="1600" spc="-1" strike="noStrike">
                <a:solidFill>
                  <a:srgbClr val="000000"/>
                </a:solidFill>
                <a:latin typeface="Times New Roman"/>
                <a:ea typeface="Times New Roman"/>
              </a:rPr>
              <a:t> курсу ОПП магістр,</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рупи ЕС-14м</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пеціальності 8.05070101 – «Електричні станції»</a:t>
            </a:r>
            <a:br>
              <a:rPr sz="1600"/>
            </a:br>
            <a:r>
              <a:rPr b="0" lang="uk-UA" sz="1600" spc="-1" strike="noStrike">
                <a:solidFill>
                  <a:srgbClr val="000000"/>
                </a:solidFill>
                <a:latin typeface="Times New Roman"/>
                <a:ea typeface="Times New Roman"/>
              </a:rPr>
              <a:t>Таті Філіпе ду Нашсіменту Бікангу</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агістерська кваліфікаційна робота на тему:</a:t>
            </a:r>
            <a:endParaRPr b="0" lang="en-US" sz="1600" spc="-1" strike="noStrike">
              <a:solidFill>
                <a:srgbClr val="000000"/>
              </a:solidFill>
              <a:latin typeface="Corbel"/>
            </a:endParaRPr>
          </a:p>
          <a:p>
            <a:pPr marL="365040" indent="-2826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5040" indent="-2826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ВИКОРИСТАННЯ МАЛИХ ГІДРОЕЛЕКТРОСТАНЦІЙ ДЛЯ АВТОНОМНОГО ЖИВЛЕННЯ ЛОКАЛЬНОЇ МЕРЕЖІ</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00000" y="0"/>
            <a:ext cx="749952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ВИСНОВКИ</a:t>
            </a:r>
            <a:endParaRPr b="0" lang="en-US" sz="1800" spc="-1" strike="noStrike">
              <a:solidFill>
                <a:srgbClr val="572314"/>
              </a:solidFill>
              <a:latin typeface="Corbel"/>
            </a:endParaRPr>
          </a:p>
        </p:txBody>
      </p:sp>
      <p:sp>
        <p:nvSpPr>
          <p:cNvPr id="55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A10A-40B1-4E77-9080-E6BF6869F98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54" name=""/>
          <p:cNvSpPr txBox="1"/>
          <p:nvPr/>
        </p:nvSpPr>
        <p:spPr>
          <a:xfrm>
            <a:off x="179280" y="620640"/>
            <a:ext cx="8778960" cy="6237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В магістерській кваліфікаційній роботі було отримано вирішення актуального завдання проектування електричної частини електростанції та дослідження використання малих ГЕС в локальних електричних мережах, як одного із перспективних видів відновлювальних джерел енергії.  </a:t>
            </a:r>
            <a:endParaRPr b="0" lang="en-US" sz="1800" spc="-1" strike="noStrike">
              <a:solidFill>
                <a:srgbClr val="000000"/>
              </a:solidFill>
              <a:latin typeface="Corbe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Відповідно до мети в роботі розв’язано такі основні задачі:</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Розроблено техніко-економічне обґрунтування проектування ГЕС. Показано, що використання відновлюваних джерел енергії, а саме, малих ГЕС, є актуальним питанням в сучасних умовах функціонування енергетики. </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проектовано електричну частину ГЕС потужністю 9 МВт, яка має зв’язок з системою на напрузі 10 кВ.</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Обрано схему власних потреб електростанції. Основні споживачі системи ВП отримують живлення на напрузі 0,4 кВ від головного трансформатора власних потреб. Резервне живлення механізмів ВП забезпечується від найближчої підстанції району.</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 результатами розрахунків струмів КЗ обрано комутаційну апаратуру, струмоведучі частини, вимірювальні трансформатори, акумуляторну батарею. Розраховано грозозахист та заземлення ВРУ 10 кВ.</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Для виконання практичних розрахунків з дослідження впливу МГЕС на режими роботи локальних електричних мереж використано програмний комплекс «Втрати 10 кВ». Проаналізовано вплив генерування РДЕ на режими електромережі 10 кВ. Показано, що встановлення нових розосереджених джерел може мати як позитивний так і негативний вплив на мережі 10 кВ. Тому важливо на стадії передпроектиних розрахунків оцінювати вплив РДЕ на ефективність електропостачання і уточнювати, на цій підставі, доцільні потужності та місця їх приєднання.  </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Виконано розрахунок основних техніко-економічних показників ГЕС. Собівартість виробленої на станції електроенергії становить 21,48 коп/кВт×год., що не виходить за межі середніх значень собівартості електроенергії на ГЕС.</a:t>
            </a:r>
            <a:endParaRPr b="0" lang="en-US" sz="1400" spc="-1" strike="noStrike">
              <a:solidFill>
                <a:srgbClr val="000000"/>
              </a:solidFill>
              <a:latin typeface="Corbel"/>
            </a:endParaRPr>
          </a:p>
        </p:txBody>
      </p:sp>
      <p:sp>
        <p:nvSpPr>
          <p:cNvPr id="555" name="Номер слайда 3"/>
          <p:cNvSpPr/>
          <p:nvPr/>
        </p:nvSpPr>
        <p:spPr>
          <a:xfrm>
            <a:off x="8459640" y="142920"/>
            <a:ext cx="49860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79280" y="692280"/>
            <a:ext cx="8755200" cy="5556240"/>
          </a:xfrm>
          <a:prstGeom prst="rect">
            <a:avLst/>
          </a:prstGeom>
          <a:noFill/>
          <a:ln w="0">
            <a:noFill/>
          </a:ln>
        </p:spPr>
        <p:txBody>
          <a:bodyPr anchor="t">
            <a:normAutofit fontScale="91000"/>
          </a:bodyPr>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аслідок скорочення власних традиційних енергетичних ресурсів для України вкрай необхідно вирішення важливої стратегічної задачі – підвищення ефективності виробництва, перетворення та використання всіх видів енергії.</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ідновлювальна енергетика в України отримала визнання на державному рівні і знайшла підтримку в ряді державних програм, основною метою яких є побудова стабільної енергетичної бази.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сновною перевагою використання відновлювальних джерел енергії є їх невичерпність та екологічна чистота, що безумовно сприяє покращенню екологічного стану і не призводить до зміни енергетичного балансу на планеті.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скільки електричні мережі енергосистем проектувалися і споруджувалися за умов централізованого електропостачання, то розбудова в них розосереджених джерел призводить до зміни процесів в мережі. Вони зумовлені, в першу чергу, нестабільністю генерування ВДЕ через природній фактор, який відіграє головну роль.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тже, дослідження методів проектування та аналіз впливу малих ГЕС на втрати потужності в електромережах є актуальною науково-прикладною задачею.</a:t>
            </a:r>
            <a:endParaRPr b="0" lang="en-US" sz="2000" spc="-1" strike="noStrike">
              <a:solidFill>
                <a:srgbClr val="000000"/>
              </a:solidFill>
              <a:latin typeface="Corbel"/>
            </a:endParaRPr>
          </a:p>
        </p:txBody>
      </p:sp>
      <p:sp>
        <p:nvSpPr>
          <p:cNvPr id="52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AF42-2155-41D3-94DD-026D349EA73F}"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684000" y="0"/>
            <a:ext cx="7499160" cy="89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Актуальність теми</a:t>
            </a:r>
            <a:endParaRPr b="0" lang="en-US" sz="1800" spc="-1" strike="noStrike">
              <a:solidFill>
                <a:srgbClr val="572314"/>
              </a:solidFill>
              <a:latin typeface="Corbel"/>
            </a:endParaRPr>
          </a:p>
        </p:txBody>
      </p:sp>
      <p:sp>
        <p:nvSpPr>
          <p:cNvPr id="528"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26920" y="260280"/>
            <a:ext cx="749952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ИКОРИСТАННЯ МАЛИХ ГІДРОЕЛЕКТРОСТАНЦІЙ ДЛЯ АВТОНОМНОГО ЖИВЛЕННЯ ЛОКАЛЬНОЇ МЕРЕЖІ</a:t>
            </a:r>
            <a:endParaRPr b="0" lang="en-US" sz="2000" spc="-1" strike="noStrike">
              <a:solidFill>
                <a:srgbClr val="572314"/>
              </a:solidFill>
              <a:latin typeface="Corbel"/>
            </a:endParaRPr>
          </a:p>
        </p:txBody>
      </p:sp>
      <p:sp>
        <p:nvSpPr>
          <p:cNvPr id="530" name=""/>
          <p:cNvSpPr txBox="1"/>
          <p:nvPr/>
        </p:nvSpPr>
        <p:spPr>
          <a:xfrm>
            <a:off x="108000" y="1197000"/>
            <a:ext cx="8826480" cy="5616720"/>
          </a:xfrm>
          <a:prstGeom prst="rect">
            <a:avLst/>
          </a:prstGeom>
          <a:noFill/>
          <a:ln w="0">
            <a:noFill/>
          </a:ln>
        </p:spPr>
        <p:txBody>
          <a:bodyPr anchor="t">
            <a:normAutofit/>
          </a:bodyPr>
          <a:p>
            <a:pPr marL="82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	</a:t>
            </a:r>
            <a:r>
              <a:rPr b="1" lang="uk-UA" sz="2000" spc="-1" strike="noStrike">
                <a:solidFill>
                  <a:srgbClr val="000000"/>
                </a:solidFill>
                <a:latin typeface="Arial"/>
                <a:ea typeface="Arial"/>
              </a:rPr>
              <a:t>Метою</a:t>
            </a:r>
            <a:r>
              <a:rPr b="0" lang="uk-UA" sz="2000" spc="-1" strike="noStrike">
                <a:solidFill>
                  <a:srgbClr val="000000"/>
                </a:solidFill>
                <a:latin typeface="Arial"/>
                <a:ea typeface="Arial"/>
              </a:rPr>
              <a:t> магістерської роботи є проектування малої гідроелектростанції потужністю 9 МВт та дослідження впливу розосереджених джерел енергії на роботу локальних електричних мереж.</a:t>
            </a:r>
            <a:endParaRPr b="0" lang="en-US" sz="2000" spc="-1" strike="noStrike">
              <a:solidFill>
                <a:srgbClr val="000000"/>
              </a:solidFill>
              <a:latin typeface="Corbel"/>
            </a:endParaRPr>
          </a:p>
          <a:p>
            <a:pPr marL="82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но до вказаної мети в роботі розв’язуються такі основні задачі</a:t>
            </a:r>
            <a:r>
              <a:rPr b="0" lang="uk-UA" sz="2000" spc="-1" strike="noStrike">
                <a:solidFill>
                  <a:srgbClr val="000000"/>
                </a:solidFill>
                <a:latin typeface="Arial"/>
                <a:ea typeface="Arial"/>
              </a:rPr>
              <a:t>:</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техніко-економічне обґрунтування проектування ГЕС;</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оектування головної схеми електричних з’єднань ГЕС;</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бір схеми власних потреб електростанції;</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бір комутаційної апаратури, струмоведучих частин, вимірювальних трансформаторів, акумуляторної батареї, розрахунок грозозахисту та заземлення ВРУ високої напруги;</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дослідження впливу розосередженого генерування на роботу локальних електричних мереж;</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розрахунок основних техніко-економічних показників ГЕС.</a:t>
            </a:r>
            <a:endParaRPr b="0" lang="en-US" sz="2000" spc="-1" strike="noStrike">
              <a:solidFill>
                <a:srgbClr val="000000"/>
              </a:solidFill>
              <a:latin typeface="Corbe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53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1B3F-4A85-409D-9C5D-939A7187001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32"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Box 7"/>
          <p:cNvSpPr/>
          <p:nvPr/>
        </p:nvSpPr>
        <p:spPr>
          <a:xfrm>
            <a:off x="1357200" y="214200"/>
            <a:ext cx="650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хема електричних з</a:t>
            </a:r>
            <a:r>
              <a:rPr b="1" lang="uk-UA" sz="1800" spc="-1" strike="noStrike">
                <a:solidFill>
                  <a:srgbClr val="000000"/>
                </a:solidFill>
                <a:latin typeface="Times New Roman"/>
                <a:ea typeface="Times New Roman"/>
              </a:rPr>
              <a:t>'</a:t>
            </a:r>
            <a:r>
              <a:rPr b="1" lang="uk-UA" sz="1800" spc="-1" strike="noStrike">
                <a:solidFill>
                  <a:srgbClr val="000000"/>
                </a:solidFill>
                <a:latin typeface="Arial"/>
              </a:rPr>
              <a:t>єднань головна</a:t>
            </a:r>
            <a:endParaRPr b="0" lang="en-US" sz="1800" spc="-1" strike="noStrike">
              <a:solidFill>
                <a:srgbClr val="000000"/>
              </a:solidFill>
              <a:latin typeface="Arial"/>
            </a:endParaRPr>
          </a:p>
        </p:txBody>
      </p:sp>
      <p:sp>
        <p:nvSpPr>
          <p:cNvPr id="534"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p:txBody>
      </p:sp>
      <p:pic>
        <p:nvPicPr>
          <p:cNvPr id="535" name="Рисунок 1" descr=""/>
          <p:cNvPicPr/>
          <p:nvPr/>
        </p:nvPicPr>
        <p:blipFill>
          <a:blip r:embed="rId1"/>
          <a:srcRect l="3652" t="3144" r="34287" b="13022"/>
          <a:stretch/>
        </p:blipFill>
        <p:spPr>
          <a:xfrm>
            <a:off x="1908000" y="785880"/>
            <a:ext cx="6158160" cy="588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sp>
        <p:nvSpPr>
          <p:cNvPr id="537" name="TextBox 7"/>
          <p:cNvSpPr/>
          <p:nvPr/>
        </p:nvSpPr>
        <p:spPr>
          <a:xfrm>
            <a:off x="1576440" y="214200"/>
            <a:ext cx="621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перечний</a:t>
            </a:r>
            <a:r>
              <a:rPr b="1" lang="en-US" sz="1800" spc="-1" strike="noStrike">
                <a:solidFill>
                  <a:srgbClr val="000000"/>
                </a:solidFill>
                <a:latin typeface="Arial"/>
              </a:rPr>
              <a:t> </a:t>
            </a:r>
            <a:r>
              <a:rPr b="1" lang="uk-UA" sz="1800" spc="-1" strike="noStrike">
                <a:solidFill>
                  <a:srgbClr val="000000"/>
                </a:solidFill>
                <a:latin typeface="Arial"/>
              </a:rPr>
              <a:t>розріз головної будівлі станції</a:t>
            </a:r>
            <a:endParaRPr b="0" lang="en-US" sz="1800" spc="-1" strike="noStrike">
              <a:solidFill>
                <a:srgbClr val="000000"/>
              </a:solidFill>
              <a:latin typeface="Arial"/>
            </a:endParaRPr>
          </a:p>
        </p:txBody>
      </p:sp>
      <p:pic>
        <p:nvPicPr>
          <p:cNvPr id="538" name="Объект 2" descr=""/>
          <p:cNvPicPr/>
          <p:nvPr/>
        </p:nvPicPr>
        <p:blipFill>
          <a:blip r:embed="rId1"/>
          <a:srcRect l="2470" t="7177" r="9695" b="13266"/>
          <a:stretch/>
        </p:blipFill>
        <p:spPr>
          <a:xfrm>
            <a:off x="324000" y="1052640"/>
            <a:ext cx="8472240" cy="54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600" y="0"/>
            <a:ext cx="62802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План та поперечний розріз ВРУ-10 кВ</a:t>
            </a:r>
            <a:endParaRPr b="0" lang="en-US" sz="1800" spc="-1" strike="noStrike">
              <a:solidFill>
                <a:srgbClr val="572314"/>
              </a:solidFill>
              <a:latin typeface="Corbel"/>
            </a:endParaRPr>
          </a:p>
        </p:txBody>
      </p:sp>
      <p:sp>
        <p:nvSpPr>
          <p:cNvPr id="540" name="Номер слайда 3"/>
          <p:cNvSpPr/>
          <p:nvPr/>
        </p:nvSpPr>
        <p:spPr>
          <a:xfrm>
            <a:off x="8643960" y="192240"/>
            <a:ext cx="314280" cy="428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a:t>
            </a:r>
            <a:endParaRPr b="0" lang="en-US" sz="1800" spc="-1" strike="noStrike">
              <a:solidFill>
                <a:srgbClr val="000000"/>
              </a:solidFill>
              <a:latin typeface="Arial"/>
            </a:endParaRPr>
          </a:p>
        </p:txBody>
      </p:sp>
      <p:pic>
        <p:nvPicPr>
          <p:cNvPr id="541" name="Объект 3" descr=""/>
          <p:cNvPicPr/>
          <p:nvPr/>
        </p:nvPicPr>
        <p:blipFill>
          <a:blip r:embed="rId1"/>
          <a:srcRect l="5481" t="8241" r="22040" b="6802"/>
          <a:stretch/>
        </p:blipFill>
        <p:spPr>
          <a:xfrm>
            <a:off x="1193760" y="765000"/>
            <a:ext cx="6907320" cy="572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a:t>
            </a:r>
            <a:endParaRPr b="0" lang="en-US" sz="1800" spc="-1" strike="noStrike">
              <a:solidFill>
                <a:srgbClr val="000000"/>
              </a:solidFill>
              <a:latin typeface="Arial"/>
            </a:endParaRPr>
          </a:p>
        </p:txBody>
      </p:sp>
      <p:sp>
        <p:nvSpPr>
          <p:cNvPr id="543" name="PlaceHolder 1"/>
          <p:cNvSpPr>
            <a:spLocks noGrp="1"/>
          </p:cNvSpPr>
          <p:nvPr>
            <p:ph type="title"/>
          </p:nvPr>
        </p:nvSpPr>
        <p:spPr>
          <a:xfrm>
            <a:off x="1285560" y="0"/>
            <a:ext cx="6786360" cy="642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Розрахунок блискавкозахисту ВРУ-10 кВ</a:t>
            </a:r>
            <a:endParaRPr b="0" lang="en-US" sz="1800" spc="-1" strike="noStrike">
              <a:solidFill>
                <a:srgbClr val="572314"/>
              </a:solidFill>
              <a:latin typeface="Corbel"/>
            </a:endParaRPr>
          </a:p>
        </p:txBody>
      </p:sp>
      <p:pic>
        <p:nvPicPr>
          <p:cNvPr id="544" name="Рисунок 2" descr=""/>
          <p:cNvPicPr/>
          <p:nvPr/>
        </p:nvPicPr>
        <p:blipFill>
          <a:blip r:embed="rId1"/>
          <a:srcRect l="17291" t="10525" r="19480" b="2717"/>
          <a:stretch/>
        </p:blipFill>
        <p:spPr>
          <a:xfrm>
            <a:off x="1476360" y="765000"/>
            <a:ext cx="5969160" cy="579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Номер слайда 3"/>
          <p:cNvSpPr/>
          <p:nvPr/>
        </p:nvSpPr>
        <p:spPr>
          <a:xfrm>
            <a:off x="8572680" y="142920"/>
            <a:ext cx="38556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a:t>
            </a:r>
            <a:endParaRPr b="0" lang="en-US" sz="1800" spc="-1" strike="noStrike">
              <a:solidFill>
                <a:srgbClr val="000000"/>
              </a:solidFill>
              <a:latin typeface="Arial"/>
            </a:endParaRPr>
          </a:p>
        </p:txBody>
      </p:sp>
      <p:pic>
        <p:nvPicPr>
          <p:cNvPr id="546" name="Объект 1" descr=""/>
          <p:cNvPicPr/>
          <p:nvPr/>
        </p:nvPicPr>
        <p:blipFill>
          <a:blip r:embed="rId1"/>
          <a:srcRect l="42674" t="2561" r="8286" b="13895"/>
          <a:stretch/>
        </p:blipFill>
        <p:spPr>
          <a:xfrm>
            <a:off x="4003560" y="765000"/>
            <a:ext cx="4876920" cy="5873760"/>
          </a:xfrm>
          <a:prstGeom prst="rect">
            <a:avLst/>
          </a:prstGeom>
          <a:ln w="0">
            <a:noFill/>
          </a:ln>
        </p:spPr>
      </p:pic>
      <p:sp>
        <p:nvSpPr>
          <p:cNvPr id="547" name="PlaceHolder 1"/>
          <p:cNvSpPr>
            <a:spLocks noGrp="1"/>
          </p:cNvSpPr>
          <p:nvPr>
            <p:ph type="title"/>
          </p:nvPr>
        </p:nvSpPr>
        <p:spPr>
          <a:xfrm>
            <a:off x="1434600" y="0"/>
            <a:ext cx="62802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Дослідження впливу РДЕ на електромережі 10 кВ</a:t>
            </a:r>
            <a:endParaRPr b="0" lang="en-US" sz="1800" spc="-1" strike="noStrike">
              <a:solidFill>
                <a:srgbClr val="572314"/>
              </a:solidFill>
              <a:latin typeface="Corbel"/>
            </a:endParaRPr>
          </a:p>
        </p:txBody>
      </p:sp>
      <p:pic>
        <p:nvPicPr>
          <p:cNvPr id="548" name="Рисунок 1" descr=""/>
          <p:cNvPicPr/>
          <p:nvPr/>
        </p:nvPicPr>
        <p:blipFill>
          <a:blip r:embed="rId2"/>
          <a:srcRect l="20741" t="8639" r="12132" b="18584"/>
          <a:stretch/>
        </p:blipFill>
        <p:spPr>
          <a:xfrm>
            <a:off x="246240" y="833400"/>
            <a:ext cx="3757320" cy="57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a:t>
            </a:r>
            <a:endParaRPr b="0" lang="en-US" sz="1800" spc="-1" strike="noStrike">
              <a:solidFill>
                <a:srgbClr val="000000"/>
              </a:solidFill>
              <a:latin typeface="Arial"/>
            </a:endParaRPr>
          </a:p>
        </p:txBody>
      </p:sp>
      <p:sp>
        <p:nvSpPr>
          <p:cNvPr id="550" name="TextBox 7"/>
          <p:cNvSpPr/>
          <p:nvPr/>
        </p:nvSpPr>
        <p:spPr>
          <a:xfrm>
            <a:off x="770040" y="142920"/>
            <a:ext cx="764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ехніко-економічні показники станції</a:t>
            </a:r>
            <a:endParaRPr b="0" lang="en-US" sz="1800" spc="-1" strike="noStrike">
              <a:solidFill>
                <a:srgbClr val="000000"/>
              </a:solidFill>
              <a:latin typeface="Arial"/>
            </a:endParaRPr>
          </a:p>
        </p:txBody>
      </p:sp>
      <p:pic>
        <p:nvPicPr>
          <p:cNvPr id="551" name="Рисунок 1" descr=""/>
          <p:cNvPicPr/>
          <p:nvPr/>
        </p:nvPicPr>
        <p:blipFill>
          <a:blip r:embed="rId1"/>
          <a:srcRect l="3751" t="10228" r="38438" b="13912"/>
          <a:stretch/>
        </p:blipFill>
        <p:spPr>
          <a:xfrm>
            <a:off x="1476360" y="836640"/>
            <a:ext cx="5991120" cy="555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9:37:45Z</dcterms:created>
  <dc:creator>1</dc:creator>
  <dc:description/>
  <dc:language>en-US</dc:language>
  <cp:lastModifiedBy>1</cp:lastModifiedBy>
  <dcterms:modified xsi:type="dcterms:W3CDTF">2015-11-12T17:04:02Z</dcterms:modified>
  <cp:revision>72</cp:revision>
  <dc:subject/>
  <dc:title>Керівник: к.т.н., ст.викл. каф. ЕСС Тептя В. В.  Виконав: студент групи ЕСсп-14 Скоропадик О. І.</dc:title>
</cp:coreProperties>
</file>