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6.wmf" ContentType="image/x-wmf"/>
  <Override PartName="/ppt/media/image5.jpeg" ContentType="image/jpeg"/>
  <Override PartName="/ppt/media/image18.wmf" ContentType="image/x-wmf"/>
  <Override PartName="/ppt/media/image24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439-4200-4355-A348-FA5946195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4388-52BF-4F44-9549-79188B36F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558A-9104-47B5-A0F8-533570713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B7C-03AF-4B12-A6AF-7D7467917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DF34-12CB-43C3-B77A-C2CE5C33D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922B-562C-48E3-B106-31FD1713F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E4EA-2B04-4A72-8327-F2371E7F7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693A-6385-40C5-BD11-45B24C1A2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8393-D68A-4182-82DF-74EE9F9B7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0350-769F-4096-BCBD-543872F7A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FE69-CFEB-476A-95D4-2587587D4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A200-07B8-4169-A769-710029E44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EE9760-8B58-4D22-A507-5801B934DA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19512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електроенергетики та електромеханік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електричних систем та станці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11120" y="1814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стосування принципу Гамільтона для комплексної оптимізації електроенергетичних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929200" y="3571920"/>
            <a:ext cx="33242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конав ст. гр. ЕСМ — 14 м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учков Є. 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86080" y="607212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571680" y="790560"/>
          <a:ext cx="804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4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5712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проведено розрахунок визначаючи можливість використовувати принцип найменшої дії для встановлення оптимального вузла підключення сонячних електричних станці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2571840" y="785880"/>
          <a:ext cx="4254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785880"/>
                    <a:ext cx="4254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3500280" y="6215040"/>
            <a:ext cx="2928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Схема фідера “Луг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643960" y="46080"/>
            <a:ext cx="46512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28760" y="-396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и проведені розрахунки економічності підключення СЕС до даного фідера. Розрахунки показані у вигляді діагр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425840" y="420840"/>
            <a:ext cx="4552920" cy="28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33200" y="420840"/>
            <a:ext cx="4237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494000" y="3279600"/>
            <a:ext cx="56386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0004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дячи з даних розрахунків можна зробити висновок, що найменші втрати досягаються у тому випадку коли СЕС підключене до вузла 204 при потужності СЕС 181,816 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і по розрахункам кожного варіанту приведені в таблиці нижч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Таблица 4" descr=""/>
          <p:cNvPicPr/>
          <p:nvPr/>
        </p:nvPicPr>
        <p:blipFill>
          <a:blip r:embed="rId1"/>
          <a:stretch/>
        </p:blipFill>
        <p:spPr>
          <a:xfrm>
            <a:off x="1573200" y="291960"/>
            <a:ext cx="59976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684360" y="836640"/>
          <a:ext cx="7797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7797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685800" y="838080"/>
          <a:ext cx="7924680" cy="43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4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838080"/>
          <a:ext cx="914400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Файл:PierreLouisMaupertuis.jpg"/>
          <p:cNvPicPr/>
          <p:nvPr/>
        </p:nvPicPr>
        <p:blipFill>
          <a:blip r:embed="rId1"/>
          <a:stretch/>
        </p:blipFill>
        <p:spPr>
          <a:xfrm>
            <a:off x="231840" y="500040"/>
            <a:ext cx="5144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Объект 1"/>
          <p:cNvGraphicFramePr/>
          <p:nvPr/>
        </p:nvGraphicFramePr>
        <p:xfrm>
          <a:off x="5780160" y="457200"/>
          <a:ext cx="14191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0160" y="457200"/>
                    <a:ext cx="141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Рисунок 4" descr="Ейлер"/>
          <p:cNvPicPr/>
          <p:nvPr/>
        </p:nvPicPr>
        <p:blipFill>
          <a:blip r:embed="rId4"/>
          <a:stretch/>
        </p:blipFill>
        <p:spPr>
          <a:xfrm>
            <a:off x="231840" y="1571760"/>
            <a:ext cx="4572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Объект 2"/>
          <p:cNvGraphicFramePr/>
          <p:nvPr/>
        </p:nvGraphicFramePr>
        <p:xfrm>
          <a:off x="5359320" y="1709640"/>
          <a:ext cx="234000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9320" y="1709640"/>
                    <a:ext cx="2340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Файл:Langrange portrait.jpg"/>
          <p:cNvPicPr/>
          <p:nvPr/>
        </p:nvPicPr>
        <p:blipFill>
          <a:blip r:embed="rId7"/>
          <a:stretch/>
        </p:blipFill>
        <p:spPr>
          <a:xfrm>
            <a:off x="231840" y="2914560"/>
            <a:ext cx="51444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Объект 3"/>
          <p:cNvGraphicFramePr/>
          <p:nvPr/>
        </p:nvGraphicFramePr>
        <p:xfrm>
          <a:off x="4716360" y="2922480"/>
          <a:ext cx="3353040" cy="6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Объект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922480"/>
                    <a:ext cx="33530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4" descr="Вільям Роуен Гамільтон біографія, фото, розповіді - видатний ірландський математик і фізик XIX століття"/>
          <p:cNvPicPr/>
          <p:nvPr/>
        </p:nvPicPr>
        <p:blipFill>
          <a:blip r:embed="rId10"/>
          <a:stretch/>
        </p:blipFill>
        <p:spPr>
          <a:xfrm>
            <a:off x="231840" y="4191120"/>
            <a:ext cx="523800" cy="63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Объект 4"/>
          <p:cNvGraphicFramePr/>
          <p:nvPr/>
        </p:nvGraphicFramePr>
        <p:xfrm>
          <a:off x="5435640" y="4076640"/>
          <a:ext cx="1790640" cy="12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4076640"/>
                    <a:ext cx="1790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Рисунок 7" descr="Файл:Ostrogradski.jpeg"/>
          <p:cNvPicPr/>
          <p:nvPr/>
        </p:nvPicPr>
        <p:blipFill>
          <a:blip r:embed="rId13"/>
          <a:stretch/>
        </p:blipFill>
        <p:spPr>
          <a:xfrm>
            <a:off x="219240" y="5500800"/>
            <a:ext cx="5140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5"/>
          <p:cNvGraphicFramePr/>
          <p:nvPr/>
        </p:nvGraphicFramePr>
        <p:xfrm>
          <a:off x="5364000" y="5286240"/>
          <a:ext cx="2829240" cy="123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5286240"/>
                    <a:ext cx="28292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1"/>
          <p:cNvSpPr/>
          <p:nvPr/>
        </p:nvSpPr>
        <p:spPr>
          <a:xfrm>
            <a:off x="2358000" y="140040"/>
            <a:ext cx="44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СТОРІЯ РОЗВИТКУ ПРИНЦИПУ НАЙМЕНШОЇ Д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 flipV="1" rot="10800000">
            <a:off x="178920" y="542880"/>
            <a:ext cx="51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'єр Луї Мопертюї (1698-1759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14640" y="722880"/>
            <a:ext cx="52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мас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видкість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лях, що проходить ті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 flipV="1" rot="10800000">
            <a:off x="108000" y="17971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онард Ейлер (1707-1783)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456440" y="2761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81968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205000" y="31312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озеф Луї Лагранж (1736-1813)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431240" y="4037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180520" y="4355280"/>
            <a:ext cx="51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льям Ро́уен Га́мільтон (1805-1865)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 flipV="1" rot="10800000">
            <a:off x="6372360" y="4705560"/>
            <a:ext cx="25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ія Лагран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 flipV="1" rot="10800000">
            <a:off x="158400" y="5654520"/>
            <a:ext cx="563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 Васильович Остроградський (1801-1862)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745240" y="621504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δ – символ варіації функції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29520" cy="580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79320" y="122040"/>
            <a:ext cx="763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1.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МЕТОД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АХУНКУ УСТАЛЕНИХ РЕЖИМ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642960"/>
          <a:ext cx="8280360" cy="5718240"/>
        </p:xfrm>
        <a:graphic>
          <a:graphicData uri="http://schemas.openxmlformats.org/drawingml/2006/table">
            <a:tbl>
              <a:tblPr/>
              <a:tblGrid>
                <a:gridCol w="1476360"/>
                <a:gridCol w="1778040"/>
                <a:gridCol w="2749680"/>
                <a:gridCol w="2276280"/>
              </a:tblGrid>
              <a:tr h="36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іж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аг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лі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д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алгоритму, дуже малий обсяг пам'яті, малий час одного кро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дійна, а в ряд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падків повіль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матрице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ий розрахунок при незначних змінах схе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великий обсяг пам'яті, необхідність обчисл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ю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ют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к правило, швид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 і надійна збіжність, невеличкий обсяг пам'яті при врахуванні слабкої заповне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ий алгоритм врахування слабкої заповненості; неможливо заздалегідь зазначити граничне число вузлів і віток системи, що розраховує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раметр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повільні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у Ньюто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більш надій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 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ійна збіжність  при поганих початкових наближеннях.  Можливість визначити мінімум  суми квадратів небаланс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, якщ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к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нує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 збіжність поблизу розв'язку.  Швидкість збіжності сильно залежить від вибору кроку і вагових коефіц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ур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ристовуються властивості розімкнутих мере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і рівнянь більше, ніж пр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анн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внянь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ло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напру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на збіж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ує дослі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68360" y="19512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ЯК МЕТОД ОПТИМІЗАЦІЇ</a:t>
            </a:r>
            <a:br>
              <a:rPr sz="1600"/>
            </a:b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СКЛАДНИХ СИСТ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Объект 20"/>
          <p:cNvGraphicFramePr/>
          <p:nvPr/>
        </p:nvGraphicFramePr>
        <p:xfrm>
          <a:off x="247680" y="790560"/>
          <a:ext cx="85914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90560"/>
                    <a:ext cx="85914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61920" y="189000"/>
            <a:ext cx="6923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В ЕЛЕКТРОТЕХНІ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Объект 1"/>
          <p:cNvGraphicFramePr/>
          <p:nvPr/>
        </p:nvGraphicFramePr>
        <p:xfrm>
          <a:off x="466560" y="695160"/>
          <a:ext cx="830592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695160"/>
                    <a:ext cx="830592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04840" y="274680"/>
            <a:ext cx="6707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НОРМАЛЬНИХ УСТАЛЕНИХ СТАНІВ Е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6360" y="762120"/>
            <a:ext cx="79912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88840" y="189000"/>
            <a:ext cx="7428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РЕЖИМУ ЕЕС ПО АКТИВНІЙ ПОТУЖНОСТІ І НАПРУЗ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Объект 1"/>
          <p:cNvGraphicFramePr/>
          <p:nvPr/>
        </p:nvGraphicFramePr>
        <p:xfrm>
          <a:off x="324000" y="762120"/>
          <a:ext cx="8420040" cy="58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200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ЛЕКСНА ОПТИМІЗАЦІЯ РЕЖИМІВ Е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без врахуванням вартості генерування реактивної потужності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571680" y="790560"/>
          <a:ext cx="8076960" cy="54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769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31:10Z</dcterms:created>
  <dc:creator>Владимир</dc:creator>
  <dc:description/>
  <dc:language>en-US</dc:language>
  <cp:lastModifiedBy>du4a</cp:lastModifiedBy>
  <dcterms:modified xsi:type="dcterms:W3CDTF">2015-11-18T15:40:59Z</dcterms:modified>
  <cp:revision>94</cp:revision>
  <dc:subject/>
  <dc:title>Слайд 1</dc:title>
</cp:coreProperties>
</file>