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7.jpeg" ContentType="image/jpeg"/>
  <Override PartName="/ppt/media/image20.png" ContentType="image/png"/>
  <Override PartName="/ppt/media/image6.wmf" ContentType="image/x-wmf"/>
  <Override PartName="/ppt/media/image5.jpeg" ContentType="image/jpeg"/>
  <Override PartName="/ppt/media/image18.wmf" ContentType="image/x-wmf"/>
  <Override PartName="/ppt/media/image24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15.wmf" ContentType="image/x-wmf"/>
  <Override PartName="/ppt/media/image25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FE1C-6734-4E4B-AE04-E4B19C0DB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4109-4E44-4FA1-A6EB-09D457914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50E7-4477-4BC0-87EA-DC4A812D0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D5C1-92B1-4D7D-82E3-C465069F4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220A-31E6-4891-BE63-033CDC51D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AFBB-389C-4EB8-B822-FC7D4AE8E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5CE5-2BAF-409A-B053-ECFF4CB24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F470-1F71-4655-B3DA-D514107E2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A186-29C1-41EB-BB2D-168772521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94EE-4110-472A-B874-990C26FD6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43CC-FA3F-48E7-9D97-E95302F71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862E-C308-44B3-8E42-B5DE1D194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A53492-6F8A-4495-B09B-4D1DD31A44C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image" Target="../media/image7.jpe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image" Target="../media/image9.jpe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68360" y="19512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Факультет електроенергетики та електромеханіки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Кафедра електричних систем та станці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11120" y="1814400"/>
            <a:ext cx="82296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стосування принципу Гамільтона для комплексної оптимізації електроенергетичних сис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929200" y="3571920"/>
            <a:ext cx="33242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конав ст. гр. ЕСМ — 14 м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учков Є. 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286080" y="6072120"/>
            <a:ext cx="25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я - 2015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571680" y="790560"/>
          <a:ext cx="80485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790560"/>
                    <a:ext cx="8048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57120" y="214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боті проведено розрахунок визначаючи можливість використовувати принцип найменшої дії для встановлення оптимального вузла підключення сонячних електричних станці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2571840" y="785880"/>
          <a:ext cx="42544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785880"/>
                    <a:ext cx="42544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"/>
          <p:cNvSpPr/>
          <p:nvPr/>
        </p:nvSpPr>
        <p:spPr>
          <a:xfrm>
            <a:off x="3500280" y="6215040"/>
            <a:ext cx="2928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– Схема фідера “Луги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643960" y="46080"/>
            <a:ext cx="46512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28760" y="-39600"/>
            <a:ext cx="822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ж були проведені розрахунки економічності підключення СЕС до даного фідера. Розрахунки показані у вигляді діагр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425840" y="420840"/>
            <a:ext cx="4552920" cy="2876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33200" y="420840"/>
            <a:ext cx="4237200" cy="287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494000" y="3279600"/>
            <a:ext cx="56386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00040" y="6489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одячи з даних розрахунків можна зробити висновок, що найменші втрати досягаються у тому випадку коли СЕС підключене до вузла 204 при потужності СЕС 181,816 к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8604360" y="46080"/>
            <a:ext cx="46836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952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і по розрахункам кожного варіанту приведені в таблиці нижч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604360" y="46080"/>
            <a:ext cx="46836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Таблица 4" descr=""/>
          <p:cNvPicPr/>
          <p:nvPr/>
        </p:nvPicPr>
        <p:blipFill>
          <a:blip r:embed="rId1"/>
          <a:stretch/>
        </p:blipFill>
        <p:spPr>
          <a:xfrm>
            <a:off x="1573200" y="291960"/>
            <a:ext cx="599760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459640" y="71280"/>
            <a:ext cx="61128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7"/>
          <p:cNvGraphicFramePr/>
          <p:nvPr/>
        </p:nvGraphicFramePr>
        <p:xfrm>
          <a:off x="684360" y="836640"/>
          <a:ext cx="779760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6640"/>
                    <a:ext cx="7797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459640" y="71280"/>
            <a:ext cx="61128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685800" y="838080"/>
          <a:ext cx="7924680" cy="435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9246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4"/>
          <p:cNvGraphicFramePr/>
          <p:nvPr/>
        </p:nvGraphicFramePr>
        <p:xfrm>
          <a:off x="0" y="838080"/>
          <a:ext cx="9144000" cy="49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Файл:PierreLouisMaupertuis.jpg"/>
          <p:cNvPicPr/>
          <p:nvPr/>
        </p:nvPicPr>
        <p:blipFill>
          <a:blip r:embed="rId1"/>
          <a:stretch/>
        </p:blipFill>
        <p:spPr>
          <a:xfrm>
            <a:off x="231840" y="500040"/>
            <a:ext cx="51444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Объект 1"/>
          <p:cNvGraphicFramePr/>
          <p:nvPr/>
        </p:nvGraphicFramePr>
        <p:xfrm>
          <a:off x="5780160" y="457200"/>
          <a:ext cx="141912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80160" y="457200"/>
                    <a:ext cx="1419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Рисунок 4" descr="Ейлер"/>
          <p:cNvPicPr/>
          <p:nvPr/>
        </p:nvPicPr>
        <p:blipFill>
          <a:blip r:embed="rId4"/>
          <a:stretch/>
        </p:blipFill>
        <p:spPr>
          <a:xfrm>
            <a:off x="231840" y="1571760"/>
            <a:ext cx="45720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Объект 2"/>
          <p:cNvGraphicFramePr/>
          <p:nvPr/>
        </p:nvGraphicFramePr>
        <p:xfrm>
          <a:off x="5359320" y="1709640"/>
          <a:ext cx="234000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9320" y="1709640"/>
                    <a:ext cx="23400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 6" descr="Файл:Langrange portrait.jpg"/>
          <p:cNvPicPr/>
          <p:nvPr/>
        </p:nvPicPr>
        <p:blipFill>
          <a:blip r:embed="rId7"/>
          <a:stretch/>
        </p:blipFill>
        <p:spPr>
          <a:xfrm>
            <a:off x="231840" y="2914560"/>
            <a:ext cx="514440" cy="5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Объект 3"/>
          <p:cNvGraphicFramePr/>
          <p:nvPr/>
        </p:nvGraphicFramePr>
        <p:xfrm>
          <a:off x="4716360" y="2922480"/>
          <a:ext cx="3353040" cy="695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" name="Объект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16360" y="2922480"/>
                    <a:ext cx="33530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4" descr="Вільям Роуен Гамільтон біографія, фото, розповіді - видатний ірландський математик і фізик XIX століття"/>
          <p:cNvPicPr/>
          <p:nvPr/>
        </p:nvPicPr>
        <p:blipFill>
          <a:blip r:embed="rId10"/>
          <a:stretch/>
        </p:blipFill>
        <p:spPr>
          <a:xfrm>
            <a:off x="231840" y="4191120"/>
            <a:ext cx="523800" cy="63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Объект 4"/>
          <p:cNvGraphicFramePr/>
          <p:nvPr/>
        </p:nvGraphicFramePr>
        <p:xfrm>
          <a:off x="5435640" y="4076640"/>
          <a:ext cx="1790640" cy="123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Объект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4076640"/>
                    <a:ext cx="17906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Рисунок 7" descr="Файл:Ostrogradski.jpeg"/>
          <p:cNvPicPr/>
          <p:nvPr/>
        </p:nvPicPr>
        <p:blipFill>
          <a:blip r:embed="rId13"/>
          <a:stretch/>
        </p:blipFill>
        <p:spPr>
          <a:xfrm>
            <a:off x="219240" y="5500800"/>
            <a:ext cx="51408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Объект 5"/>
          <p:cNvGraphicFramePr/>
          <p:nvPr/>
        </p:nvGraphicFramePr>
        <p:xfrm>
          <a:off x="5364000" y="5286240"/>
          <a:ext cx="2829240" cy="1238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9" name="Объект 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64000" y="5286240"/>
                    <a:ext cx="28292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1"/>
          <p:cNvSpPr/>
          <p:nvPr/>
        </p:nvSpPr>
        <p:spPr>
          <a:xfrm>
            <a:off x="2358000" y="140040"/>
            <a:ext cx="44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ІСТОРІЯ РОЗВИТКУ ПРИНЦИПУ НАЙМЕНШОЇ ДІ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 flipV="1" rot="10800000">
            <a:off x="178920" y="542880"/>
            <a:ext cx="51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'єр Луї Мопертюї (1698-1759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14640" y="722880"/>
            <a:ext cx="522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д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маса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швидкість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шлях, що проходить тіл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 flipV="1" rot="10800000">
            <a:off x="108000" y="1797120"/>
            <a:ext cx="40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еонард Ейлер (1707-1783)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456440" y="27612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81968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205000" y="3131280"/>
            <a:ext cx="50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озеф Луї Лагранж (1736-1813)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4431240" y="40377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180520" y="4355280"/>
            <a:ext cx="51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ільям Ро́уен Га́мільтон (1805-1865)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 flipV="1" rot="10800000">
            <a:off x="6372360" y="4705560"/>
            <a:ext cx="252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функція Лагран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 flipV="1" rot="10800000">
            <a:off x="158400" y="5654520"/>
            <a:ext cx="563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ихайло Васильович Остроградський (1801-1862)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5745240" y="621504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 δ – символ варіації функції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29520" cy="5805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679320" y="122040"/>
            <a:ext cx="763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я 1.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МЕТОД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ІВ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ЗРАХУНКУ УСТАЛЕНИХ РЕЖИМІ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642960"/>
          <a:ext cx="8280360" cy="5718240"/>
        </p:xfrm>
        <a:graphic>
          <a:graphicData uri="http://schemas.openxmlformats.org/drawingml/2006/table">
            <a:tbl>
              <a:tblPr/>
              <a:tblGrid>
                <a:gridCol w="1476360"/>
                <a:gridCol w="1778040"/>
                <a:gridCol w="2749680"/>
                <a:gridCol w="2276280"/>
              </a:tblGrid>
              <a:tr h="365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біжност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аг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лі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йд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алгоритму, дуже малий обсяг пам'яті, малий час одного кроку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надійна, а в ряд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падків повільна збіжніст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матрицею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ий розрахунок при незначних змінах схем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е великий обсяг пам'яті, необхідність обчисл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в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рицю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ьют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ич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як правило, швидше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іж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метод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y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 і надійна збіжність, невеличкий обсяг пам'яті при врахуванні слабкої заповненост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адний алгоритм врахування слабкої заповненості; неможливо заздалегідь зазначити граничне число вузлів і віток системи, що розраховуєть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араметр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ич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е повільніше,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іж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методу Ньютон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більш надійна збіжність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 ж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є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ійна збіжність  при поганих початкових наближеннях.  Можливість визначити мінімум  суми квадратів небаланс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, якщо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в'язк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снує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 збіжність поблизу розв'язку.  Швидкість збіжності сильно залежить від вибору кроку і вагових коефіцієнті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рі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урі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іль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ористовуються властивості розімкнутих мереж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і рівнянь більше, ніж при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в'язанні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івнянь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лов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 напру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на збіж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ує досліджен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68360" y="195120"/>
            <a:ext cx="8229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НАЙМЕНШОЇ ДІЇ ЯК МЕТОД ОПТИМІЗАЦІЇ</a:t>
            </a:r>
            <a:br>
              <a:rPr sz="1600"/>
            </a:b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СКЛАДНИХ СИСТ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Объект 20"/>
          <p:cNvGraphicFramePr/>
          <p:nvPr/>
        </p:nvGraphicFramePr>
        <p:xfrm>
          <a:off x="247680" y="790560"/>
          <a:ext cx="8591400" cy="60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Объект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790560"/>
                    <a:ext cx="8591400" cy="60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61920" y="189000"/>
            <a:ext cx="6923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НАЙМЕНШОЇ ДІЇ В ЕЛЕКТРОТЕХНІЦ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Объект 1"/>
          <p:cNvGraphicFramePr/>
          <p:nvPr/>
        </p:nvGraphicFramePr>
        <p:xfrm>
          <a:off x="466560" y="695160"/>
          <a:ext cx="830592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695160"/>
                    <a:ext cx="830592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04840" y="274680"/>
            <a:ext cx="6707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ІЗАЦІЯ НОРМАЛЬНИХ УСТАЛЕНИХ СТАНІВ Е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576360" y="762120"/>
            <a:ext cx="799128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88840" y="189000"/>
            <a:ext cx="7428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ІЗАЦІЯ РЕЖИМУ ЕЕС ПО АКТИВНІЙ ПОТУЖНОСТІ І НАПРУЗ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Объект 1"/>
          <p:cNvGraphicFramePr/>
          <p:nvPr/>
        </p:nvGraphicFramePr>
        <p:xfrm>
          <a:off x="324000" y="762120"/>
          <a:ext cx="8420040" cy="58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62120"/>
                    <a:ext cx="842004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68360" y="20304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МПЛЕКСНА ОПТИМІЗАЦІЯ РЕЖИМІВ ЕЕ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(без врахуванням вартості генерування реактивної потужності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8675640" y="46080"/>
            <a:ext cx="433440" cy="35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Object 6"/>
          <p:cNvGraphicFramePr/>
          <p:nvPr/>
        </p:nvGraphicFramePr>
        <p:xfrm>
          <a:off x="571680" y="790560"/>
          <a:ext cx="8076960" cy="54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790560"/>
                    <a:ext cx="807696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7:31:10Z</dcterms:created>
  <dc:creator>Владимир</dc:creator>
  <dc:description/>
  <dc:language>en-US</dc:language>
  <cp:lastModifiedBy>du4a</cp:lastModifiedBy>
  <dcterms:modified xsi:type="dcterms:W3CDTF">2015-11-18T15:40:59Z</dcterms:modified>
  <cp:revision>94</cp:revision>
  <dc:subject/>
  <dc:title>Слайд 1</dc:title>
</cp:coreProperties>
</file>