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4.png" ContentType="image/png"/>
  <Override PartName="/ppt/media/image34.png" ContentType="image/png"/>
  <Override PartName="/ppt/media/image32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86E-3833-4557-8F26-C537BD17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9EF-879B-4BE9-BC09-C8F823F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28D-B016-4A39-AD20-A66ADE5F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403-0D4D-4EC1-8FDC-1D688AE7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8C5C-A2DD-415F-B8A0-E82854A6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5DA1-4BDF-4179-9C7E-F4B488B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17FF-595A-41D1-A018-A32E451B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E5E-530E-4087-82C6-2FE459A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AFB-2111-4C35-940F-12AB6201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231-866E-40D8-BDFC-A09B310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F6E-A00A-4E51-BF95-75DC0D35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40A-C260-41C3-8A6C-579362F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8317-3496-4524-8250-7438BB4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07EE-92EB-4E35-961F-942EF6D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444-79E2-4A8A-9C2E-32BD363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CA7D-C07B-4F8A-9C9D-91001A7A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024E-4F82-4BB6-B9C0-D128D818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346C-D5EE-4336-A6DD-9B34F883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F58D-5373-42ED-8AE6-A35FBFE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E976-43C0-4DDD-8DBE-6CDDFD2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A619B-AB83-4129-9A07-5C4BAA1C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7857-07EA-458D-A1AB-D0EC944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D99-7D42-4F37-9B54-662D7864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9C69-BEF7-441A-BD9D-C1398CB8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209A-4E0D-462D-99BF-2635FDB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B51D-67A3-45DA-8F1F-485AD21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304E-1D43-444D-A131-8CF15B7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5DE7-BC0B-4A2C-AFDF-EB3DCF6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AAE3-F46A-4B53-BFC1-F6FB0475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8050-189A-456A-95E5-F75C6B32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85CE-D3BB-4694-9D8D-6D971CC7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78CE-37DD-46BC-8163-5B5CFED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A9C8-4734-4F4C-9845-71EB6D6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66D-71A7-4FEE-AB97-B6A18125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C3A5F-6964-4433-823C-68A8F5E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2E69-C68E-450A-BE90-9FA7665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E2DB-4378-4E55-A91A-042EEEE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CD32-F0DB-4BC8-80B4-3C686A0E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0F24-0D0B-4E3B-883D-06B0873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0D9A-5EF6-457B-B106-E0E3DB1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257C5-5A9F-46AC-9492-E75BE57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08C5-5EC0-42BC-A0AA-3F7CFDDD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7383-4444-4DA8-B238-9CD2EEFF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D145-FA74-4592-AA4A-14260215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967-FEEA-4A3D-AD52-EF2D672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189E-49BD-4789-8418-9FF0E87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6DBB5-EE6A-4278-B499-B0BF76F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4B56-DACD-4DBF-BE07-1B45F776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D13C-8888-4864-9540-451727A7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6DA0-C5B7-49B9-A603-6184773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A57B-413A-4CC5-9305-6B3ADC91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DE4A-1C41-4D44-8A8C-0AFC80F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0BE4-DE93-45CC-B9FA-A50823A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D7507-9B74-4A7B-844A-D7EF0ED3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049D-6F7A-4D13-A16F-E92DF336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FF6-85C1-4145-BDAD-E8178827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94B33-9F34-4DD3-867B-2F9D3A0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A63A-D2B5-4666-8DC9-FEADE8FF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B76A-3F77-4C92-9FAD-4171A65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4E26-C6FD-4857-A6BB-1C2EC056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47CA-9049-4390-8B0D-AB191D6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7CD0-F407-428D-A3C6-CE7B90D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4EC4-C16E-4929-8ACB-CC33DB2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36D9-8116-434D-BCF3-EFF6B782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1BD4-7CC4-4ADB-A6E7-50A1BDD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C24C-B11B-4A0E-A4DA-5F8D347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7DD-38F9-49F4-ACCE-B751F63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037D-510C-4FE6-8E85-AA552DF6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D084-F4FA-46E8-BCA6-017D056A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2D1D-FCF6-4270-9B8D-E61F2887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A459C-3B37-4EA5-BF1E-3D84615A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43960-CA45-4F11-AE4D-49A30342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F566F-AA72-4681-B6AB-328B39A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30CF1-3C1E-4F1D-9C53-9254379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CD564-C2FC-4FF3-919A-5FC9355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FE5E8-AF03-4ECA-814A-24B0650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5D97D-CCAF-4B9E-A83D-22D2FF0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95A-CB4E-4DF6-B50F-DCBD90F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ECD02-028E-4611-ACE4-3EBA026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01837-9704-445D-82B7-B35DB96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41E9A-59D2-4090-8A3A-66660B24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81A39-1691-4EAB-B653-5B2D3621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96FE1-BD64-4696-8753-A92FCF8A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28D09-8260-4D7A-9D0F-944F26D2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E1BBE-402E-4469-83FA-5B173B8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17A63-BFEA-4C1C-B903-A9449F7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D62B1A-8BBF-44F3-918D-472951E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EC466-002C-4BDF-88FF-6C505365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06F-30A1-499B-BEE8-F37FEB5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05F590-D539-4492-A437-6092A82C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BA7AD-B6A3-47E3-BA3C-2197119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24A13-F898-4B98-8BA9-2C20C8EC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28EBE-EE53-4FD4-8F4A-8FA0C726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E103B-E88E-451E-84AF-E123E40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CCF1C-34DD-4775-BCDF-4850934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F2BB4-7346-42B2-8B53-B616B5E8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58894D-3C71-41D7-B97D-C0D774B4EF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590438-E90D-411B-9CFF-324EDA8C18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D5B326-2193-4148-BE93-DBDBA530C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469BE0-E2F2-49AD-B6E1-74E2C8176B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DECA71-FFCF-4585-9627-17E05397F6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2EABAE-DA5C-4BA0-B7AC-BB82775D85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9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4437D6-2802-4F5B-8D43-9A6DB722B6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dt" idx="2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Gill Sans MT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C01409-A490-499D-81CB-63976798B5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7"/>
          <p:cNvSpPr/>
          <p:nvPr/>
        </p:nvSpPr>
        <p:spPr>
          <a:xfrm>
            <a:off x="357120" y="6429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ький національний технічний універс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468360" y="4425840"/>
            <a:ext cx="810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повідач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Никитенко Ю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уковий керів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т.н., доцен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ниця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357120" y="1844640"/>
            <a:ext cx="8215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лідження  компенсації реактивної потужності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зподільних  електричних мережах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3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192AD8-8FE3-43AC-BEA3-73A3E62AF1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Rectangle 1"/>
          <p:cNvGrpSpPr/>
          <p:nvPr/>
        </p:nvGrpSpPr>
        <p:grpSpPr>
          <a:xfrm>
            <a:off x="-55440" y="-115920"/>
            <a:ext cx="9126360" cy="1341360"/>
            <a:chOff x="-55440" y="-115920"/>
            <a:chExt cx="9126360" cy="1341360"/>
          </a:xfrm>
        </p:grpSpPr>
        <p:pic>
          <p:nvPicPr>
            <p:cNvPr id="455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-115920"/>
              <a:ext cx="9126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4920" y="-190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Підвищення ефективності використання синхронних машин для компенсації реактивної потужност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20"/>
          <p:cNvSpPr/>
          <p:nvPr/>
        </p:nvSpPr>
        <p:spPr>
          <a:xfrm>
            <a:off x="395280" y="91224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і методи підвищення ефективності використання генераторів місцевих електростанцій , установлених в мережах споживачів, для компенсації реактивної потужності цих споживачів. Задачу розв’язана для двох випадкі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Object 8"/>
          <p:cNvGraphicFramePr/>
          <p:nvPr/>
        </p:nvGraphicFramePr>
        <p:xfrm>
          <a:off x="2203560" y="1844640"/>
          <a:ext cx="451944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3560" y="1844640"/>
                    <a:ext cx="4519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11"/>
          <p:cNvGraphicFramePr/>
          <p:nvPr/>
        </p:nvGraphicFramePr>
        <p:xfrm>
          <a:off x="1136520" y="2556000"/>
          <a:ext cx="6675480" cy="65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36520" y="2556000"/>
                    <a:ext cx="66754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20"/>
          <p:cNvSpPr/>
          <p:nvPr/>
        </p:nvSpPr>
        <p:spPr>
          <a:xfrm>
            <a:off x="395280" y="298188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о декомпозиційну модель автоматичного регулювання реактивного навантаження підприємства з допомогою групи синхронних двигунів з врахуванням зміни втрат в мережах 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20"/>
          <p:cNvGraphicFramePr/>
          <p:nvPr/>
        </p:nvGraphicFramePr>
        <p:xfrm>
          <a:off x="5003640" y="4005360"/>
          <a:ext cx="3056040" cy="272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4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3640" y="4005360"/>
                    <a:ext cx="30560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3"/>
          <p:cNvGraphicFramePr/>
          <p:nvPr/>
        </p:nvGraphicFramePr>
        <p:xfrm>
          <a:off x="1138320" y="4076640"/>
          <a:ext cx="3214440" cy="145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6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38320" y="4076640"/>
                    <a:ext cx="321444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Rectangle 1"/>
          <p:cNvGrpSpPr/>
          <p:nvPr/>
        </p:nvGrpSpPr>
        <p:grpSpPr>
          <a:xfrm>
            <a:off x="-55440" y="96840"/>
            <a:ext cx="9126360" cy="976320"/>
            <a:chOff x="-55440" y="96840"/>
            <a:chExt cx="9126360" cy="976320"/>
          </a:xfrm>
        </p:grpSpPr>
        <p:pic>
          <p:nvPicPr>
            <p:cNvPr id="470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96840"/>
              <a:ext cx="9126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4920" y="19692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Виснов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20"/>
          <p:cNvSpPr/>
          <p:nvPr/>
        </p:nvSpPr>
        <p:spPr>
          <a:xfrm>
            <a:off x="468360" y="658800"/>
            <a:ext cx="8136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Таким чином проведені дослідження в роботі дозволяють зробити наступні висновк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ахунок впровадження КУ доцільно проводити поетапно, що дає можливість визначати максимальну ефективність цього впровадження на кожному з етапі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економічну ефективність впровадження КУ можна значно змінювати за рахунок зміни їх потужностей та місць установленн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еличина потужності КУ, яку доцільно установити в мережах підприємства, визначається економічними можливостями підприємства в виробничій та комерційній діяльност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поетапний розрахунок впровадження КУ дає можливість враховувати їх дискретність, що підвищує точність розрахункі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запропоновано спрощену систему оплати за реактивну енергію на основі нормованих коефіцієнтів потужності, що дає можливість підприємству прогнозувати результати впровадження КУ і контролювати правильність розрахунків за реактивну енергі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запропоновано комплексне використання КУ для компенсації реактивної потужності та симетрування навантажень при розрахуванні вхідної реактивної потужності споживача, що забезпечує додаткове зниження втрат в живильних мережа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0"/>
          <p:cNvSpPr/>
          <p:nvPr/>
        </p:nvSpPr>
        <p:spPr>
          <a:xfrm>
            <a:off x="468360" y="987480"/>
            <a:ext cx="8136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Розроблено методи підвищення ефективності існуючих КУ, що дозволяє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икористовувати оперативний резерв потужності КУ одних вузлів для компенсації реактивних навантажень інших вузлів, що знижує плату за електроенергі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додатково знижувати втрати при забезпечувати заданої величини вхідної реактивної потужності споживачів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враховувати зміну втрат в мережах ЕК при використанні синхронних двигунів споживачів для КРП, що зменшує втрати в мережах 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Rectangle 1"/>
          <p:cNvGrpSpPr/>
          <p:nvPr/>
        </p:nvGrpSpPr>
        <p:grpSpPr>
          <a:xfrm>
            <a:off x="-55440" y="96840"/>
            <a:ext cx="9126360" cy="976320"/>
            <a:chOff x="-55440" y="96840"/>
            <a:chExt cx="9126360" cy="976320"/>
          </a:xfrm>
        </p:grpSpPr>
        <p:pic>
          <p:nvPicPr>
            <p:cNvPr id="475" name="Rectangle 1" descr=""/>
            <p:cNvPicPr/>
            <p:nvPr/>
          </p:nvPicPr>
          <p:blipFill>
            <a:blip r:embed="rId1"/>
            <a:stretch/>
          </p:blipFill>
          <p:spPr>
            <a:xfrm>
              <a:off x="-55440" y="96840"/>
              <a:ext cx="91263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34920" y="19692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Виснов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Rectangle 1"/>
          <p:cNvGrpSpPr/>
          <p:nvPr/>
        </p:nvGrpSpPr>
        <p:grpSpPr>
          <a:xfrm>
            <a:off x="23760" y="2571840"/>
            <a:ext cx="9126720" cy="1135080"/>
            <a:chOff x="23760" y="2571840"/>
            <a:chExt cx="9126720" cy="1135080"/>
          </a:xfrm>
        </p:grpSpPr>
        <p:pic>
          <p:nvPicPr>
            <p:cNvPr id="478" name="Rectangle 1" descr=""/>
            <p:cNvPicPr/>
            <p:nvPr/>
          </p:nvPicPr>
          <p:blipFill>
            <a:blip r:embed="rId1"/>
            <a:stretch/>
          </p:blipFill>
          <p:spPr>
            <a:xfrm>
              <a:off x="23760" y="2571840"/>
              <a:ext cx="912672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14480" y="27082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ff9900"/>
                  </a:solidFill>
                  <a:latin typeface="Corbel"/>
                </a:rPr>
                <a:t>Дякую за увагу!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1" descr=""/>
          <p:cNvPicPr/>
          <p:nvPr/>
        </p:nvPicPr>
        <p:blipFill>
          <a:blip r:embed="rId1"/>
          <a:stretch/>
        </p:blipFill>
        <p:spPr>
          <a:xfrm>
            <a:off x="622440" y="189000"/>
            <a:ext cx="7772400" cy="785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08000" y="980640"/>
            <a:ext cx="885672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становлення компенсуючих установок (КУ) в розподільних електричних мережах споживачів дозволяє значно знизити втрати електричної енергії, що потребує відповідного визначення потужностей КУ і містить їх встановлення. В існуючих методах вважається, що підприємства, на балансі яких знаходяться мережі, мають можливість установити всі КУ одночасно відповідно результатам розрахунків, а проміжні кроки по впровадженню результатів при цьому не розглядаються. В дійсності таке встановлення неможливе, оскільки фінансові можливості енергетичних та промислових підприємств, як правило, обмежені, і це унеможливлює процес встановлення КУ в усіх вузлах розподільних мереж одночасно, що в свою чергу потребує розподілення їх впровадження в часі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Додаткового зниження втрат можна досягнути не лише шляхом встановлення нових КУ, а також більш ефективним використанням існуючих, що потребує відповідного вдосконалення їх роботи. Зокрема в існуючих способах управління потужностями не в повній мірі враховується взаємний вплив КУ різних вузлів, що знижує на ефективність цих К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1459B5-C2C0-434C-9B89-1577EF1A6B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Rectangle 1" descr=""/>
          <p:cNvPicPr/>
          <p:nvPr/>
        </p:nvPicPr>
        <p:blipFill>
          <a:blip r:embed="rId1"/>
          <a:stretch/>
        </p:blipFill>
        <p:spPr>
          <a:xfrm>
            <a:off x="324000" y="-115920"/>
            <a:ext cx="8570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755640" y="1052640"/>
          <a:ext cx="7632720" cy="4957560"/>
        </p:xfrm>
        <a:graphic>
          <a:graphicData uri="http://schemas.openxmlformats.org/drawingml/2006/table">
            <a:tbl>
              <a:tblPr/>
              <a:tblGrid>
                <a:gridCol w="550800"/>
                <a:gridCol w="2237040"/>
                <a:gridCol w="4844880"/>
              </a:tblGrid>
              <a:tr h="905400"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Ознака мето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утні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методу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истемні, локальн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истемн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: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озв’язання задачі в окремих частинах розподільних мереж з врахування  впливу інших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Локальні:  розв’язання задачі в окремих частинах розподільних мереж без врахування впливу інших 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критеріє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оптимізаці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безпечення мінімумів втрат активної потужності  або приведених затрат на генерацію та передачу реактивної потужності , п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дтримання заданих рівнів напруг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балансовою приналежністю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озподільні мережі споживачів, та енергопостачальних компані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.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постановкою задач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роектні: вибір місць розташування та потужностей КУ; експлуатаційні: підвищення ефективності використання існуючих 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За використанням математичного апарату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3680" rIns="103680" tIns="51840" bIns="51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етод  дискретної оптимізації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адієнт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ітераційний  метод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Arial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03680" marR="103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63A28B-924A-4CB7-BF47-F699A8E5A1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1" descr=""/>
          <p:cNvPicPr/>
          <p:nvPr/>
        </p:nvPicPr>
        <p:blipFill>
          <a:blip r:embed="rId1"/>
          <a:stretch/>
        </p:blipFill>
        <p:spPr>
          <a:xfrm>
            <a:off x="622440" y="-115920"/>
            <a:ext cx="777240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4"/>
          <p:cNvGraphicFramePr/>
          <p:nvPr/>
        </p:nvGraphicFramePr>
        <p:xfrm>
          <a:off x="971640" y="1192320"/>
          <a:ext cx="21240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92320"/>
                    <a:ext cx="2124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3"/>
          <p:cNvGraphicFramePr/>
          <p:nvPr/>
        </p:nvGraphicFramePr>
        <p:xfrm>
          <a:off x="6837480" y="1052640"/>
          <a:ext cx="1263600" cy="76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37480" y="1052640"/>
                    <a:ext cx="12636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16"/>
          <p:cNvSpPr/>
          <p:nvPr/>
        </p:nvSpPr>
        <p:spPr>
          <a:xfrm>
            <a:off x="4140360" y="1321920"/>
            <a:ext cx="11509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r>
              <a:rPr b="0" lang="uk-UA" sz="1400" spc="-1" strike="noStrike" baseline="-30000">
                <a:solidFill>
                  <a:srgbClr val="000000"/>
                </a:solidFill>
                <a:latin typeface="Arial"/>
                <a:ea typeface="Arial Unicode MS"/>
              </a:rPr>
              <a:t>Q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=(k–1)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468360" y="1680120"/>
            <a:ext cx="813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Надбавка враховує віддаленість споживачів від джерел реактивної потужності і визначається на основі врахування загальнодержавних інтересів. При значеннях             менше нормованого, спожив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сплачує надбавку до тарифу, при вищих – одержує знижку до тариф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3"/>
          <p:cNvGraphicFramePr/>
          <p:nvPr/>
        </p:nvGraphicFramePr>
        <p:xfrm>
          <a:off x="5554800" y="2252520"/>
          <a:ext cx="457200" cy="27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9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4800" y="2252520"/>
                    <a:ext cx="45720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29"/>
          <p:cNvGraphicFramePr/>
          <p:nvPr/>
        </p:nvGraphicFramePr>
        <p:xfrm>
          <a:off x="4140360" y="3052800"/>
          <a:ext cx="1225440" cy="30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1" name="Object 2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3052800"/>
                    <a:ext cx="1225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20"/>
          <p:cNvSpPr/>
          <p:nvPr/>
        </p:nvSpPr>
        <p:spPr>
          <a:xfrm>
            <a:off x="539640" y="3414960"/>
            <a:ext cx="81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Це дозволяє визначати плату за реактивну енергію споживачем, підключеним до i-го вузла живлячої мережі, по відносним спадам напруги в вузл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539640" y="4062600"/>
            <a:ext cx="81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Інформація про діапазон зміни відносних спадів напруги є доступною для споживачів, що дає можливість споживачам контролювати плату за реактивну енергі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39640" y="4551120"/>
            <a:ext cx="8136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rbel"/>
                <a:ea typeface="Arial Unicode MS"/>
              </a:rPr>
              <a:t>Максимальне значення економічної ефективності за певний період впровадження буде в тому випадку, якщо забезпечити максимальне значення ефективності на кожному етапі впроваджен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38"/>
          <p:cNvGraphicFramePr/>
          <p:nvPr/>
        </p:nvGraphicFramePr>
        <p:xfrm>
          <a:off x="4208400" y="5516640"/>
          <a:ext cx="130032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6" name="Object 3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08400" y="5516640"/>
                    <a:ext cx="1300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0"/>
          <p:cNvGraphicFramePr/>
          <p:nvPr/>
        </p:nvGraphicFramePr>
        <p:xfrm>
          <a:off x="6227640" y="5732640"/>
          <a:ext cx="210816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8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27640" y="5732640"/>
                    <a:ext cx="2108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Номер слайда 2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182E68-3B13-4559-B6A8-F3109FE51A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755640" y="-244440"/>
            <a:ext cx="7778880" cy="15127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146A08-417E-42F1-9746-7D9B178C4A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0"/>
          <p:cNvSpPr/>
          <p:nvPr/>
        </p:nvSpPr>
        <p:spPr>
          <a:xfrm>
            <a:off x="468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1692360" y="11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Объект 7"/>
          <p:cNvGraphicFramePr/>
          <p:nvPr/>
        </p:nvGraphicFramePr>
        <p:xfrm>
          <a:off x="1379520" y="1708200"/>
          <a:ext cx="6505560" cy="46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9520" y="1708200"/>
                    <a:ext cx="65055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Прямоугольник 8"/>
          <p:cNvSpPr/>
          <p:nvPr/>
        </p:nvSpPr>
        <p:spPr>
          <a:xfrm>
            <a:off x="1476360" y="1054080"/>
            <a:ext cx="61912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Алгоритм розрахунку впровадження КУ при заданій економічній ефектив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1"/>
          <p:cNvSpPr/>
          <p:nvPr/>
        </p:nvSpPr>
        <p:spPr>
          <a:xfrm>
            <a:off x="864720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B63C16-6C56-4CE5-9952-D1473C7D41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Объект 5"/>
          <p:cNvGraphicFramePr/>
          <p:nvPr/>
        </p:nvGraphicFramePr>
        <p:xfrm>
          <a:off x="108000" y="873000"/>
          <a:ext cx="468000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73000"/>
                    <a:ext cx="4680000" cy="400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Прямоугольник 3"/>
          <p:cNvSpPr/>
          <p:nvPr/>
        </p:nvSpPr>
        <p:spPr>
          <a:xfrm>
            <a:off x="133560" y="40464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Розрахункова схема заводської мереж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488628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5" name="Объект 6"/>
          <p:cNvGraphicFramePr/>
          <p:nvPr/>
        </p:nvGraphicFramePr>
        <p:xfrm>
          <a:off x="4930920" y="1628640"/>
          <a:ext cx="374472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0920" y="1628640"/>
                    <a:ext cx="37447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4"/>
          <p:cNvSpPr/>
          <p:nvPr/>
        </p:nvSpPr>
        <p:spPr>
          <a:xfrm>
            <a:off x="4915080" y="9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Объект 8"/>
          <p:cNvGraphicFramePr/>
          <p:nvPr/>
        </p:nvGraphicFramePr>
        <p:xfrm>
          <a:off x="5219640" y="884160"/>
          <a:ext cx="162900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884160"/>
                    <a:ext cx="1629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Прямоугольник 9"/>
          <p:cNvSpPr/>
          <p:nvPr/>
        </p:nvSpPr>
        <p:spPr>
          <a:xfrm>
            <a:off x="4716360" y="2492280"/>
            <a:ext cx="4572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1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6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24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5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36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413;  p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1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36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10"/>
          <p:cNvSpPr/>
          <p:nvPr/>
        </p:nvSpPr>
        <p:spPr>
          <a:xfrm>
            <a:off x="4831200" y="10526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4849920" y="34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Объект 12"/>
          <p:cNvGraphicFramePr/>
          <p:nvPr/>
        </p:nvGraphicFramePr>
        <p:xfrm>
          <a:off x="4849920" y="3686040"/>
          <a:ext cx="428616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9920" y="3686040"/>
                    <a:ext cx="428616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Прямоугольник 16"/>
          <p:cNvSpPr/>
          <p:nvPr/>
        </p:nvSpPr>
        <p:spPr>
          <a:xfrm>
            <a:off x="4862160" y="326556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4943520" y="44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7" name="Объект 14"/>
          <p:cNvGraphicFramePr/>
          <p:nvPr/>
        </p:nvGraphicFramePr>
        <p:xfrm>
          <a:off x="5234040" y="4365720"/>
          <a:ext cx="809640" cy="2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4040" y="4365720"/>
                    <a:ext cx="809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Прямоугольник 19"/>
          <p:cNvSpPr/>
          <p:nvPr/>
        </p:nvSpPr>
        <p:spPr>
          <a:xfrm>
            <a:off x="4862160" y="43448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5202000" y="4849920"/>
            <a:ext cx="199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2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0 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=850кВ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1"/>
          <p:cNvSpPr/>
          <p:nvPr/>
        </p:nvSpPr>
        <p:spPr>
          <a:xfrm>
            <a:off x="4862160" y="484992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2255400" y="5373720"/>
            <a:ext cx="45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ідовність вузлів для встановлення: 6-4-3-6-4-3-6-4-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4"/>
          <p:cNvSpPr/>
          <p:nvPr/>
        </p:nvSpPr>
        <p:spPr>
          <a:xfrm>
            <a:off x="2700360" y="112536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33D25A-4858-4E0F-A5F9-822860F6B0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Объект 5"/>
          <p:cNvGraphicFramePr/>
          <p:nvPr/>
        </p:nvGraphicFramePr>
        <p:xfrm>
          <a:off x="1763640" y="1700280"/>
          <a:ext cx="61214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00280"/>
                    <a:ext cx="61214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Прямоугольник 19"/>
          <p:cNvSpPr/>
          <p:nvPr/>
        </p:nvSpPr>
        <p:spPr>
          <a:xfrm>
            <a:off x="568440" y="477720"/>
            <a:ext cx="80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Залежність максимального середнього значення ефективності установлення КУ від їх потуж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Rectangle 1"/>
          <p:cNvGrpSpPr/>
          <p:nvPr/>
        </p:nvGrpSpPr>
        <p:grpSpPr>
          <a:xfrm>
            <a:off x="-42840" y="-103320"/>
            <a:ext cx="9101160" cy="1743120"/>
            <a:chOff x="-42840" y="-103320"/>
            <a:chExt cx="9101160" cy="1743120"/>
          </a:xfrm>
        </p:grpSpPr>
        <p:pic>
          <p:nvPicPr>
            <p:cNvPr id="444" name="Rectangle 1" descr=""/>
            <p:cNvPicPr/>
            <p:nvPr/>
          </p:nvPicPr>
          <p:blipFill>
            <a:blip r:embed="rId1"/>
            <a:stretch/>
          </p:blipFill>
          <p:spPr>
            <a:xfrm>
              <a:off x="-42840" y="-103320"/>
              <a:ext cx="91011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4920" y="-19080"/>
              <a:ext cx="90010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9900"/>
                  </a:solidFill>
                  <a:latin typeface="Corbel"/>
                </a:rPr>
                <a:t>Моделі та пристрої підвищення ефективності використання існуючих КУ при заданій вхідній реактивній потужності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6" name="Объект 3"/>
          <p:cNvGraphicFramePr/>
          <p:nvPr/>
        </p:nvGraphicFramePr>
        <p:xfrm>
          <a:off x="2340000" y="1628640"/>
          <a:ext cx="123840" cy="1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628640"/>
                    <a:ext cx="123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Объект 4"/>
          <p:cNvGraphicFramePr/>
          <p:nvPr/>
        </p:nvGraphicFramePr>
        <p:xfrm>
          <a:off x="2340000" y="1628640"/>
          <a:ext cx="123840" cy="21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9" name="Объект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1628640"/>
                    <a:ext cx="12384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Рисунок 9" descr=""/>
          <p:cNvPicPr/>
          <p:nvPr/>
        </p:nvPicPr>
        <p:blipFill>
          <a:blip r:embed="rId6"/>
          <a:stretch/>
        </p:blipFill>
        <p:spPr>
          <a:xfrm>
            <a:off x="755640" y="1341360"/>
            <a:ext cx="7718400" cy="53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1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CB30CD-CEA0-4DB7-AB41-29F1C4DF9F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Рисунок 3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94400" cy="6809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54:05Z</dcterms:created>
  <dc:creator>Aleksei Mikhasyuk</dc:creator>
  <dc:description/>
  <dc:language>en-US</dc:language>
  <cp:lastModifiedBy>Юрій Никитенко</cp:lastModifiedBy>
  <cp:lastPrinted>2015-11-21T06:23:03Z</cp:lastPrinted>
  <dcterms:modified xsi:type="dcterms:W3CDTF">2015-11-23T12:26:42Z</dcterms:modified>
  <cp:revision>79</cp:revision>
  <dc:subject/>
  <dc:title>Слайд 1</dc:title>
</cp:coreProperties>
</file>