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30.wmf" ContentType="image/x-wmf"/>
  <Override PartName="/ppt/media/image27.png" ContentType="image/png"/>
  <Override PartName="/ppt/media/image9.wmf" ContentType="image/x-wmf"/>
  <Override PartName="/ppt/media/image5.png" ContentType="image/png"/>
  <Override PartName="/ppt/media/image13.wmf" ContentType="image/x-wmf"/>
  <Override PartName="/ppt/media/image28.png" ContentType="image/png"/>
  <Override PartName="/ppt/media/image31.wmf" ContentType="image/x-wmf"/>
  <Override PartName="/ppt/media/image4.png" ContentType="image/png"/>
  <Override PartName="/ppt/media/image34.png" ContentType="image/png"/>
  <Override PartName="/ppt/media/image32.wmf" ContentType="image/x-wmf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7.png" ContentType="image/png"/>
  <Override PartName="/ppt/media/image1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15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0CA-AFC0-48BA-9BBA-DDB1A139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5C7-B6F2-406E-AF9E-16410D53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C09-AF71-498B-9EC5-357D10B6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3F47-81A6-430A-AF44-7EA42E18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9CDD-1991-467F-B550-13526B65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4D21-9010-463B-B573-6607863C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1F83-FDCE-4FC0-8276-6958F166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3AE6-3FCD-458E-9763-0FD3B0E5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3257-0F00-4916-92A9-409A13AC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7A81-2430-48C2-BB59-F081C27F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FD63-6AA1-466A-A551-CF639E6E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9380-4E2D-4402-9B3A-3C6891BB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7533-9E3A-4731-9492-E008B3C6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F7D7-8462-40F1-842C-A7EA26CC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3F0B-DEEE-4BA3-ABB0-D726A237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87A8-A6AD-4947-BBAF-2FA44720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F8E8-0FF2-430B-A2BA-479FFA13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861A1-7525-415C-B112-12BC35D0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52654-D879-4E8B-9E23-227111D4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AFD79-85AE-4E63-B11E-201ECA70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7C55C-F799-4569-8C48-7873AAC2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3C667-41C0-4E01-B1B1-F9CD6A00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8443-9B6F-4964-AAAD-077BF6FA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8B3F0-FAA4-417A-A4A6-BCEB5E41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01577-74ED-484E-81EE-DFDB8451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1840E-3803-43BD-AC26-A5B76D69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76829-3C3F-41C1-8BBC-F1AB68B8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2940A-B58A-4394-BA1E-098CD5D1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814AD-E991-4ED6-838E-94F124A9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D79A1-9C66-47F7-A22C-18FEDD83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38B21-E835-436D-8C90-359816E8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FBE41-266A-44AF-9BA4-A3AFD5BE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F9189-3A44-425E-AEDF-32E906CD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FED7-D9C1-499C-8BF2-F800A249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6C1E0-8D7F-490D-8FE8-02D3A6A3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5E0C8-B61C-41CE-9317-6BBCA0CB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1F918-5F59-4659-8B9E-3BCBA6A0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181FD-2E49-4DE3-9C63-395F2783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131A3-C49D-476C-BC79-DD0840A1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27C5C-C6ED-438F-BE9C-79CD6462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4E117-B0E4-47F3-972E-77D7848A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8E2C0-4693-4EFD-8824-2DA667E7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050D5-E79D-487E-9D3A-609A37B5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D4A68-2D5E-423F-8CC1-C1F156D1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976C-EC77-42F3-B479-832B8C66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40260-944B-48EB-80AC-A364AA4E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C7C3D-ED25-4F3F-9689-718C10FF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86BED-E2DE-4D80-B726-7A922138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D1BDA-CCE8-412A-97A7-8BFBB55F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6B05C-39E5-44B3-8FA8-B2F6EEF2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49E1A-35BF-4E8B-8AFE-D577F808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32CF2-19C3-457C-906F-52051D08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724A1-3A26-4B76-80B7-24BB7CF7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E375D-70A6-48FF-BCD4-80D1C397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423C3-4101-428A-B613-49475055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FC8A-7587-4D83-895C-2342508C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889CE-3001-4930-9474-4DC3074E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556F5-40CD-484F-9BA5-3F6F99E0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EE76B-3ED5-4D60-946A-7BDBAC90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BA70E-A2E3-4757-A354-89D16C11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5FDEF-0A4F-4840-9A88-A6BFEE81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2DA92-1F83-4027-9C8F-DBF8BD63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D6309-025A-4181-BC5D-78CFCB11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39F0D-A77A-440D-BDEF-8F516B89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DF5FF-642B-4C70-8F54-CDEFDA39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85D47-0E42-4847-8AB0-2F8E8AE4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196-886A-4A14-9359-62FCABC0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5D2E7-E241-4F39-B0C6-43801338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61BC5-E237-4D13-997D-07BF3668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7968A-DB82-4DBD-B3EC-9BBA86D4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AE538C-75A1-4FFD-AE3B-5846966F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88507F-5E8D-4996-88F0-9111C040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7B7B34-3EEC-4F8D-9F08-0F77B2DE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07775A-AFFD-4E8D-BA04-72B7DDEE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7D8A66-86C3-46D7-B5A3-73947C15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7DA5F2-4027-4C88-A688-E8919F10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B69E63-81CD-4DE6-9425-90FACAB9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691-EC76-4944-983C-C2DB1A96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B12901-1C79-4AE2-BCA2-0E6E1F76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64254A-33E2-4E12-94D2-F4F77F26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F628B5-7774-4C14-9ADF-79142F82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DD45E9-7CD7-4C79-8E3D-898D6723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549EF7-6416-4577-9D23-070F17C3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DE3009-A118-429B-B82D-6D59233A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62CD90-5D44-42F5-BCAC-24BE3A60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756439-B1FB-47B7-9184-A465B518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D12528-60BA-4A95-8D5E-A3A09F0E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0E7EC0-60A7-4CDB-A098-970384F7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5AE-F202-4707-A86E-46BD6F87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042843-DCE7-4A28-9DB1-1D484B6D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9535FE-6C82-446A-BB21-DF82535B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AD1BB3-8CD4-42FD-B48D-1A30B507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EB097E-A2D6-4E08-A598-83C2C7C3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1AE4BC-4D66-4507-BAF9-B5D25DB1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2F07C2-DECE-452F-B78B-8B90A623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88A2A2-5731-4BEF-8B46-E30BF6F2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Gill Sans MT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7686E9-AA8B-49FE-8DC9-6FFB8817FB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ae1500"/>
              </a:gs>
              <a:gs pos="50000">
                <a:srgbClr val="f7593d"/>
              </a:gs>
              <a:gs pos="100000">
                <a:srgbClr val="ae15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9a49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Полилиния 7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" name="Полилиния 10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Gill Sans MT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315D9E-3682-425F-8BC1-8291CD4B056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Нашивка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Gill Sans MT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091977-2F24-4EC5-AEF2-6DEA2E4D52A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Gill Sans MT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1AE7B3-D475-43D6-929F-1B8738D442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Gill Sans MT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9ECD94-A0C9-496F-A0CE-F1CA30E463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олилиния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Прямоугольный треугольник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0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Gill Sans MT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461968-A48F-433B-88D9-34ECDB5509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Gill Sans MT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9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D6575E-EB57-455C-9802-C2FB03334E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dt" idx="2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Gill Sans MT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2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BA4498-4943-46DE-BA2C-5C1B37CA4F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dt" idx="2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7"/>
          <p:cNvSpPr/>
          <p:nvPr/>
        </p:nvSpPr>
        <p:spPr>
          <a:xfrm>
            <a:off x="357120" y="64296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ький національний технічний університ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Box 9"/>
          <p:cNvSpPr/>
          <p:nvPr/>
        </p:nvSpPr>
        <p:spPr>
          <a:xfrm>
            <a:off x="468360" y="4425840"/>
            <a:ext cx="810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повідач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Никитенко Ю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уковий керів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.т.н., доцент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м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я 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WordArt 8"/>
          <p:cNvSpPr txBox="1"/>
          <p:nvPr/>
        </p:nvSpPr>
        <p:spPr>
          <a:xfrm>
            <a:off x="357120" y="1844640"/>
            <a:ext cx="82155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слідження  компенсації реактивної потужності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озподільних  електричних мережах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3" name="Номер слайда 1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FC98D7-1C81-43AC-A6D3-4370E19E3CA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Rectangle 1"/>
          <p:cNvGrpSpPr/>
          <p:nvPr/>
        </p:nvGrpSpPr>
        <p:grpSpPr>
          <a:xfrm>
            <a:off x="-55440" y="-115920"/>
            <a:ext cx="9126360" cy="1341360"/>
            <a:chOff x="-55440" y="-115920"/>
            <a:chExt cx="9126360" cy="1341360"/>
          </a:xfrm>
        </p:grpSpPr>
        <p:pic>
          <p:nvPicPr>
            <p:cNvPr id="455" name="Rectangle 1" descr=""/>
            <p:cNvPicPr/>
            <p:nvPr/>
          </p:nvPicPr>
          <p:blipFill>
            <a:blip r:embed="rId1"/>
            <a:stretch/>
          </p:blipFill>
          <p:spPr>
            <a:xfrm>
              <a:off x="-55440" y="-115920"/>
              <a:ext cx="912636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34920" y="-19080"/>
              <a:ext cx="90010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9900"/>
                  </a:solidFill>
                  <a:latin typeface="Corbel"/>
                </a:rPr>
                <a:t>Підвищення ефективності використання синхронних машин для компенсації реактивної потужності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Rectangle 20"/>
          <p:cNvSpPr/>
          <p:nvPr/>
        </p:nvSpPr>
        <p:spPr>
          <a:xfrm>
            <a:off x="395280" y="912240"/>
            <a:ext cx="8136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Розроблені методи підвищення ефективності використання генераторів місцевих електростанцій , установлених в мережах споживачів, для компенсації реактивної потужності цих споживачів. Задачу розв’язана для двох випадків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Object 8"/>
          <p:cNvGraphicFramePr/>
          <p:nvPr/>
        </p:nvGraphicFramePr>
        <p:xfrm>
          <a:off x="2203560" y="1844640"/>
          <a:ext cx="451944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3560" y="1844640"/>
                    <a:ext cx="45194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11"/>
          <p:cNvGraphicFramePr/>
          <p:nvPr/>
        </p:nvGraphicFramePr>
        <p:xfrm>
          <a:off x="1136520" y="2556000"/>
          <a:ext cx="6675480" cy="65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1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36520" y="2556000"/>
                    <a:ext cx="667548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Rectangle 20"/>
          <p:cNvSpPr/>
          <p:nvPr/>
        </p:nvSpPr>
        <p:spPr>
          <a:xfrm>
            <a:off x="395280" y="2981880"/>
            <a:ext cx="8136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Розроблено декомпозиційну модель автоматичного регулювання реактивного навантаження підприємства з допомогою групи синхронних двигунів з врахуванням зміни втрат в мережах Е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3" name="Object 20"/>
          <p:cNvGraphicFramePr/>
          <p:nvPr/>
        </p:nvGraphicFramePr>
        <p:xfrm>
          <a:off x="5003640" y="4005360"/>
          <a:ext cx="3056040" cy="2720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4" name="Object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03640" y="4005360"/>
                    <a:ext cx="3056040" cy="27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13"/>
          <p:cNvGraphicFramePr/>
          <p:nvPr/>
        </p:nvGraphicFramePr>
        <p:xfrm>
          <a:off x="1138320" y="4076640"/>
          <a:ext cx="3214440" cy="1451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6" name="Object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38320" y="4076640"/>
                    <a:ext cx="3214440" cy="14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Rectangle 1"/>
          <p:cNvGrpSpPr/>
          <p:nvPr/>
        </p:nvGrpSpPr>
        <p:grpSpPr>
          <a:xfrm>
            <a:off x="-55440" y="96840"/>
            <a:ext cx="9126360" cy="976320"/>
            <a:chOff x="-55440" y="96840"/>
            <a:chExt cx="9126360" cy="976320"/>
          </a:xfrm>
        </p:grpSpPr>
        <p:pic>
          <p:nvPicPr>
            <p:cNvPr id="470" name="Rectangle 1" descr=""/>
            <p:cNvPicPr/>
            <p:nvPr/>
          </p:nvPicPr>
          <p:blipFill>
            <a:blip r:embed="rId1"/>
            <a:stretch/>
          </p:blipFill>
          <p:spPr>
            <a:xfrm>
              <a:off x="-55440" y="96840"/>
              <a:ext cx="912636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34920" y="196920"/>
              <a:ext cx="90010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9900"/>
                  </a:solidFill>
                  <a:latin typeface="Corbel"/>
                </a:rPr>
                <a:t>Висновк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Rectangle 20"/>
          <p:cNvSpPr/>
          <p:nvPr/>
        </p:nvSpPr>
        <p:spPr>
          <a:xfrm>
            <a:off x="468360" y="658800"/>
            <a:ext cx="81360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Таким чином проведені дослідження в роботі дозволяють зробити наступні висновки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розрахунок впровадження КУ доцільно проводити поетапно, що дає можливість визначати максимальну ефективність цього впровадження на кожному з етапі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економічну ефективність впровадження КУ можна значно змінювати за рахунок зміни їх потужностей та місць установленн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величина потужності КУ, яку доцільно установити в мережах підприємства, визначається економічними можливостями підприємства в виробничій та комерційній діяльності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поетапний розрахунок впровадження КУ дає можливість враховувати їх дискретність, що підвищує точність розрахункі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запропоновано спрощену систему оплати за реактивну енергію на основі нормованих коефіцієнтів потужності, що дає можливість підприємству прогнозувати результати впровадження КУ і контролювати правильність розрахунків за реактивну енергію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запропоновано комплексне використання КУ для компенсації реактивної потужності та симетрування навантажень при розрахуванні вхідної реактивної потужності споживача, що забезпечує додаткове зниження втрат в живильних мережах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0"/>
          <p:cNvSpPr/>
          <p:nvPr/>
        </p:nvSpPr>
        <p:spPr>
          <a:xfrm>
            <a:off x="468360" y="987480"/>
            <a:ext cx="81360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Розроблено методи підвищення ефективності існуючих КУ, що дозволяє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використовувати оперативний резерв потужності КУ одних вузлів для компенсації реактивних навантажень інших вузлів, що знижує плату за електроенергію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додатково знижувати втрати при забезпечувати заданої величини вхідної реактивної потужності споживачів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враховувати зміну втрат в мережах ЕК при використанні синхронних двигунів споживачів для КРП, що зменшує втрати в мережах Е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Rectangle 1"/>
          <p:cNvGrpSpPr/>
          <p:nvPr/>
        </p:nvGrpSpPr>
        <p:grpSpPr>
          <a:xfrm>
            <a:off x="-55440" y="96840"/>
            <a:ext cx="9126360" cy="976320"/>
            <a:chOff x="-55440" y="96840"/>
            <a:chExt cx="9126360" cy="976320"/>
          </a:xfrm>
        </p:grpSpPr>
        <p:pic>
          <p:nvPicPr>
            <p:cNvPr id="475" name="Rectangle 1" descr=""/>
            <p:cNvPicPr/>
            <p:nvPr/>
          </p:nvPicPr>
          <p:blipFill>
            <a:blip r:embed="rId1"/>
            <a:stretch/>
          </p:blipFill>
          <p:spPr>
            <a:xfrm>
              <a:off x="-55440" y="96840"/>
              <a:ext cx="912636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34920" y="196920"/>
              <a:ext cx="90010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9900"/>
                  </a:solidFill>
                  <a:latin typeface="Corbel"/>
                </a:rPr>
                <a:t>Висновк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Rectangle 1"/>
          <p:cNvGrpSpPr/>
          <p:nvPr/>
        </p:nvGrpSpPr>
        <p:grpSpPr>
          <a:xfrm>
            <a:off x="23760" y="2571840"/>
            <a:ext cx="9126720" cy="1135080"/>
            <a:chOff x="23760" y="2571840"/>
            <a:chExt cx="9126720" cy="1135080"/>
          </a:xfrm>
        </p:grpSpPr>
        <p:pic>
          <p:nvPicPr>
            <p:cNvPr id="478" name="Rectangle 1" descr=""/>
            <p:cNvPicPr/>
            <p:nvPr/>
          </p:nvPicPr>
          <p:blipFill>
            <a:blip r:embed="rId1"/>
            <a:stretch/>
          </p:blipFill>
          <p:spPr>
            <a:xfrm>
              <a:off x="23760" y="2571840"/>
              <a:ext cx="912672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114480" y="2708280"/>
              <a:ext cx="90010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ff9900"/>
                  </a:solidFill>
                  <a:latin typeface="Corbel"/>
                </a:rPr>
                <a:t>Дякую за увагу!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1" descr=""/>
          <p:cNvPicPr/>
          <p:nvPr/>
        </p:nvPicPr>
        <p:blipFill>
          <a:blip r:embed="rId1"/>
          <a:stretch/>
        </p:blipFill>
        <p:spPr>
          <a:xfrm>
            <a:off x="622440" y="189000"/>
            <a:ext cx="7772400" cy="7858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08000" y="980640"/>
            <a:ext cx="885672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Встановлення компенсуючих установок (КУ) в розподільних електричних мережах споживачів дозволяє значно знизити втрати електричної енергії, що потребує відповідного визначення потужностей КУ і містить їх встановлення. В існуючих методах вважається, що підприємства, на балансі яких знаходяться мережі, мають можливість установити всі КУ одночасно відповідно результатам розрахунків, а проміжні кроки по впровадженню результатів при цьому не розглядаються. В дійсності таке встановлення неможливе, оскільки фінансові можливості енергетичних та промислових підприємств, як правило, обмежені, і це унеможливлює процес встановлення КУ в усіх вузлах розподільних мереж одночасно, що в свою чергу потребує розподілення їх впровадження в часі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Додаткового зниження втрат можна досягнути не лише шляхом встановлення нових КУ, а також більш ефективним використанням існуючих, що потребує відповідного вдосконалення їх роботи. Зокрема в існуючих способах управління потужностями не в повній мірі враховується взаємний вплив КУ різних вузлів, що знижує на ефективність цих КУ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Номер слайда 1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698DE7-A7A8-4029-9071-1E7582A567E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Rectangle 1" descr=""/>
          <p:cNvPicPr/>
          <p:nvPr/>
        </p:nvPicPr>
        <p:blipFill>
          <a:blip r:embed="rId1"/>
          <a:stretch/>
        </p:blipFill>
        <p:spPr>
          <a:xfrm>
            <a:off x="324000" y="-115920"/>
            <a:ext cx="8570880" cy="131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9" name=""/>
          <p:cNvGraphicFramePr/>
          <p:nvPr/>
        </p:nvGraphicFramePr>
        <p:xfrm>
          <a:off x="755640" y="1052640"/>
          <a:ext cx="7632720" cy="4957560"/>
        </p:xfrm>
        <a:graphic>
          <a:graphicData uri="http://schemas.openxmlformats.org/drawingml/2006/table">
            <a:tbl>
              <a:tblPr/>
              <a:tblGrid>
                <a:gridCol w="550800"/>
                <a:gridCol w="2237040"/>
                <a:gridCol w="4844880"/>
              </a:tblGrid>
              <a:tr h="905400">
                <a:tc>
                  <a:txBody>
                    <a:bodyPr lIns="103680" rIns="10368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Ознака метод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Сутніст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 методу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0"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Системні, локальні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Системні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: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розв’язання задачі в окремих частинах розподільних мереж з врахування  впливу інших 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 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Локальні:  розв’язання задачі в окремих частинах розподільних мереж без врахування впливу інших 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6520"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За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критеріє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оптимізації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Забезпечення мінімумів втрат активної потужності  або приведених затрат на генерацію та передачу реактивної потужності , п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і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дтримання заданих рівнів напруги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За балансовою приналежністю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Розподільні мережі споживачів, та енергопостачальних компані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.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400"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За постановкою задач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Проектні: вибір місць розташування та потужностей КУ; експлуатаційні: підвищення ефективності використання існуючих К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400"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За використанням математичного апарату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етод  дискретної оптимізації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 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г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радієнт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т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ітераційний  метод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Номер слайда 1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A2DF63-625E-4418-AB20-FD3BEB916DF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1" descr=""/>
          <p:cNvPicPr/>
          <p:nvPr/>
        </p:nvPicPr>
        <p:blipFill>
          <a:blip r:embed="rId1"/>
          <a:stretch/>
        </p:blipFill>
        <p:spPr>
          <a:xfrm>
            <a:off x="622440" y="-115920"/>
            <a:ext cx="7772400" cy="131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Object 4"/>
          <p:cNvGraphicFramePr/>
          <p:nvPr/>
        </p:nvGraphicFramePr>
        <p:xfrm>
          <a:off x="971640" y="1192320"/>
          <a:ext cx="2124000" cy="5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192320"/>
                    <a:ext cx="21240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13"/>
          <p:cNvGraphicFramePr/>
          <p:nvPr/>
        </p:nvGraphicFramePr>
        <p:xfrm>
          <a:off x="6837480" y="1052640"/>
          <a:ext cx="1263600" cy="763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5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37480" y="1052640"/>
                    <a:ext cx="12636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Rectangle 16"/>
          <p:cNvSpPr/>
          <p:nvPr/>
        </p:nvSpPr>
        <p:spPr>
          <a:xfrm>
            <a:off x="4140360" y="1321920"/>
            <a:ext cx="11509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П</a:t>
            </a:r>
            <a:r>
              <a:rPr b="0" lang="uk-UA" sz="1400" spc="-1" strike="noStrike" baseline="-30000">
                <a:solidFill>
                  <a:srgbClr val="000000"/>
                </a:solidFill>
                <a:latin typeface="Arial"/>
                <a:ea typeface="Arial Unicode MS"/>
              </a:rPr>
              <a:t>Q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=(k–1)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20"/>
          <p:cNvSpPr/>
          <p:nvPr/>
        </p:nvSpPr>
        <p:spPr>
          <a:xfrm>
            <a:off x="468360" y="1680120"/>
            <a:ext cx="813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Надбавка враховує віддаленість споживачів від джерел реактивної потужності і визначається на основі врахування загальнодержавних інтересів. При значеннях             менше нормованого, спожива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сплачує надбавку до тарифу, при вищих – одержує знижку до тариф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8" name="Object 33"/>
          <p:cNvGraphicFramePr/>
          <p:nvPr/>
        </p:nvGraphicFramePr>
        <p:xfrm>
          <a:off x="5554800" y="2252520"/>
          <a:ext cx="457200" cy="277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9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54800" y="2252520"/>
                    <a:ext cx="45720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29"/>
          <p:cNvGraphicFramePr/>
          <p:nvPr/>
        </p:nvGraphicFramePr>
        <p:xfrm>
          <a:off x="4140360" y="3052800"/>
          <a:ext cx="1225440" cy="309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1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3052800"/>
                    <a:ext cx="1225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20"/>
          <p:cNvSpPr/>
          <p:nvPr/>
        </p:nvSpPr>
        <p:spPr>
          <a:xfrm>
            <a:off x="539640" y="3414960"/>
            <a:ext cx="813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Це дозволяє визначати плату за реактивну енергію споживачем, підключеним до i-го вузла живлячої мережі, по відносним спадам напруги в вузл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20"/>
          <p:cNvSpPr/>
          <p:nvPr/>
        </p:nvSpPr>
        <p:spPr>
          <a:xfrm>
            <a:off x="539640" y="4062600"/>
            <a:ext cx="813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Інформація про діапазон зміни відносних спадів напруги є доступною для споживачів, що дає можливість споживачам контролювати плату за реактивну енергі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539640" y="4551120"/>
            <a:ext cx="8136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Максимальне значення економічної ефективності за певний період впровадження буде в тому випадку, якщо забезпечити максимальне значення ефективності на кожному етапі впровадженн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5" name="Object 38"/>
          <p:cNvGraphicFramePr/>
          <p:nvPr/>
        </p:nvGraphicFramePr>
        <p:xfrm>
          <a:off x="4208400" y="5516640"/>
          <a:ext cx="1300320" cy="86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96" name="Object 3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08400" y="5516640"/>
                    <a:ext cx="1300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40"/>
          <p:cNvGraphicFramePr/>
          <p:nvPr/>
        </p:nvGraphicFramePr>
        <p:xfrm>
          <a:off x="6227640" y="5732640"/>
          <a:ext cx="2108160" cy="504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98" name="Object 4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227640" y="5732640"/>
                    <a:ext cx="21081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Номер слайда 2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C82B3A-51F1-4417-B5A0-FB4C1310D92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1" descr=""/>
          <p:cNvPicPr/>
          <p:nvPr/>
        </p:nvPicPr>
        <p:blipFill>
          <a:blip r:embed="rId1"/>
          <a:stretch/>
        </p:blipFill>
        <p:spPr>
          <a:xfrm>
            <a:off x="755640" y="-244440"/>
            <a:ext cx="7778880" cy="15127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Номер слайда 1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90D6F2-1141-490E-9AE8-BC3F874D04A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0"/>
          <p:cNvSpPr/>
          <p:nvPr/>
        </p:nvSpPr>
        <p:spPr>
          <a:xfrm>
            <a:off x="468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22"/>
          <p:cNvSpPr/>
          <p:nvPr/>
        </p:nvSpPr>
        <p:spPr>
          <a:xfrm>
            <a:off x="1692360" y="11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7" name="Объект 7"/>
          <p:cNvGraphicFramePr/>
          <p:nvPr/>
        </p:nvGraphicFramePr>
        <p:xfrm>
          <a:off x="1379520" y="1708200"/>
          <a:ext cx="6505560" cy="460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8" name="Объект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9520" y="1708200"/>
                    <a:ext cx="650556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Прямоугольник 8"/>
          <p:cNvSpPr/>
          <p:nvPr/>
        </p:nvSpPr>
        <p:spPr>
          <a:xfrm>
            <a:off x="1476360" y="1054080"/>
            <a:ext cx="61912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Алгоритм розрахунку впровадження КУ при заданій економічній ефективност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Номер слайда 1"/>
          <p:cNvSpPr/>
          <p:nvPr/>
        </p:nvSpPr>
        <p:spPr>
          <a:xfrm>
            <a:off x="8647200" y="630864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04FAD7-AEF7-4BC0-8168-A4715DF3BD7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1" name="Объект 5"/>
          <p:cNvGraphicFramePr/>
          <p:nvPr/>
        </p:nvGraphicFramePr>
        <p:xfrm>
          <a:off x="108000" y="873000"/>
          <a:ext cx="468000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873000"/>
                    <a:ext cx="4680000" cy="4005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3" name="Прямоугольник 3"/>
          <p:cNvSpPr/>
          <p:nvPr/>
        </p:nvSpPr>
        <p:spPr>
          <a:xfrm>
            <a:off x="133560" y="40464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Розрахункова схема заводської мережі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4886280" y="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5" name="Объект 6"/>
          <p:cNvGraphicFramePr/>
          <p:nvPr/>
        </p:nvGraphicFramePr>
        <p:xfrm>
          <a:off x="4930920" y="1628640"/>
          <a:ext cx="3744720" cy="80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0920" y="1628640"/>
                    <a:ext cx="374472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Rectangle 4"/>
          <p:cNvSpPr/>
          <p:nvPr/>
        </p:nvSpPr>
        <p:spPr>
          <a:xfrm>
            <a:off x="4915080" y="91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8" name="Объект 8"/>
          <p:cNvGraphicFramePr/>
          <p:nvPr/>
        </p:nvGraphicFramePr>
        <p:xfrm>
          <a:off x="5219640" y="884160"/>
          <a:ext cx="162900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9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19640" y="884160"/>
                    <a:ext cx="16290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Прямоугольник 9"/>
          <p:cNvSpPr/>
          <p:nvPr/>
        </p:nvSpPr>
        <p:spPr>
          <a:xfrm>
            <a:off x="4716360" y="2492280"/>
            <a:ext cx="4572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1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416;  p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1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366;  p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1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424;  p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15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356;  p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16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436;  p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17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413;  p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18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363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10"/>
          <p:cNvSpPr/>
          <p:nvPr/>
        </p:nvSpPr>
        <p:spPr>
          <a:xfrm>
            <a:off x="4831200" y="10526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4849920" y="343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3" name="Объект 12"/>
          <p:cNvGraphicFramePr/>
          <p:nvPr/>
        </p:nvGraphicFramePr>
        <p:xfrm>
          <a:off x="4849920" y="3686040"/>
          <a:ext cx="4286160" cy="24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Объект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49920" y="3686040"/>
                    <a:ext cx="428616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Прямоугольник 16"/>
          <p:cNvSpPr/>
          <p:nvPr/>
        </p:nvSpPr>
        <p:spPr>
          <a:xfrm>
            <a:off x="4862160" y="326556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11"/>
          <p:cNvSpPr/>
          <p:nvPr/>
        </p:nvSpPr>
        <p:spPr>
          <a:xfrm>
            <a:off x="4943520" y="44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7" name="Объект 14"/>
          <p:cNvGraphicFramePr/>
          <p:nvPr/>
        </p:nvGraphicFramePr>
        <p:xfrm>
          <a:off x="5234040" y="4365720"/>
          <a:ext cx="809640" cy="24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8" name="Объект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34040" y="4365720"/>
                    <a:ext cx="80964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Прямоугольник 19"/>
          <p:cNvSpPr/>
          <p:nvPr/>
        </p:nvSpPr>
        <p:spPr>
          <a:xfrm>
            <a:off x="4862160" y="43448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ямоугольник 15"/>
          <p:cNvSpPr/>
          <p:nvPr/>
        </p:nvSpPr>
        <p:spPr>
          <a:xfrm>
            <a:off x="5202000" y="4849920"/>
            <a:ext cx="1994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26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900 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=850кВА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Прямоугольник 21"/>
          <p:cNvSpPr/>
          <p:nvPr/>
        </p:nvSpPr>
        <p:spPr>
          <a:xfrm>
            <a:off x="4862160" y="484992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17"/>
          <p:cNvSpPr/>
          <p:nvPr/>
        </p:nvSpPr>
        <p:spPr>
          <a:xfrm>
            <a:off x="2255400" y="5373720"/>
            <a:ext cx="453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ідовність вузлів для встановлення: 6-4-3-6-4-3-6-4-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4"/>
          <p:cNvSpPr/>
          <p:nvPr/>
        </p:nvSpPr>
        <p:spPr>
          <a:xfrm>
            <a:off x="2700360" y="112536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53E2BA-ECB2-472D-892A-FEA4E5C9111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Объект 5"/>
          <p:cNvGraphicFramePr/>
          <p:nvPr/>
        </p:nvGraphicFramePr>
        <p:xfrm>
          <a:off x="1763640" y="1700280"/>
          <a:ext cx="612144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700280"/>
                    <a:ext cx="612144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Прямоугольник 19"/>
          <p:cNvSpPr/>
          <p:nvPr/>
        </p:nvSpPr>
        <p:spPr>
          <a:xfrm>
            <a:off x="568440" y="477720"/>
            <a:ext cx="80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Залежність максимального середнього значення ефективності установлення КУ від їх потужност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Rectangle 1"/>
          <p:cNvGrpSpPr/>
          <p:nvPr/>
        </p:nvGrpSpPr>
        <p:grpSpPr>
          <a:xfrm>
            <a:off x="-42840" y="-103320"/>
            <a:ext cx="9101160" cy="1743120"/>
            <a:chOff x="-42840" y="-103320"/>
            <a:chExt cx="9101160" cy="1743120"/>
          </a:xfrm>
        </p:grpSpPr>
        <p:pic>
          <p:nvPicPr>
            <p:cNvPr id="444" name="Rectangle 1" descr=""/>
            <p:cNvPicPr/>
            <p:nvPr/>
          </p:nvPicPr>
          <p:blipFill>
            <a:blip r:embed="rId1"/>
            <a:stretch/>
          </p:blipFill>
          <p:spPr>
            <a:xfrm>
              <a:off x="-42840" y="-103320"/>
              <a:ext cx="91011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34920" y="-19080"/>
              <a:ext cx="90010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9900"/>
                  </a:solidFill>
                  <a:latin typeface="Corbel"/>
                </a:rPr>
                <a:t>Моделі та пристрої підвищення ефективності використання існуючих КУ при заданій вхідній реактивній потужності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46" name="Объект 3"/>
          <p:cNvGraphicFramePr/>
          <p:nvPr/>
        </p:nvGraphicFramePr>
        <p:xfrm>
          <a:off x="2340000" y="1628640"/>
          <a:ext cx="123840" cy="1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7" name="Объект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1628640"/>
                    <a:ext cx="1238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Объект 4"/>
          <p:cNvGraphicFramePr/>
          <p:nvPr/>
        </p:nvGraphicFramePr>
        <p:xfrm>
          <a:off x="2340000" y="1628640"/>
          <a:ext cx="123840" cy="219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9" name="Объект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1628640"/>
                    <a:ext cx="12384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0" name="Рисунок 9" descr=""/>
          <p:cNvPicPr/>
          <p:nvPr/>
        </p:nvPicPr>
        <p:blipFill>
          <a:blip r:embed="rId6"/>
          <a:stretch/>
        </p:blipFill>
        <p:spPr>
          <a:xfrm>
            <a:off x="755640" y="1341360"/>
            <a:ext cx="7718400" cy="5367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51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Номер слайда 1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CD1D12-A8BC-4C74-A46F-A2B13E11C76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Рисунок 3" descr=""/>
          <p:cNvPicPr/>
          <p:nvPr/>
        </p:nvPicPr>
        <p:blipFill>
          <a:blip r:embed="rId1"/>
          <a:stretch/>
        </p:blipFill>
        <p:spPr>
          <a:xfrm>
            <a:off x="971640" y="44280"/>
            <a:ext cx="7394400" cy="6809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1:54:05Z</dcterms:created>
  <dc:creator>Aleksei Mikhasyuk</dc:creator>
  <dc:description/>
  <dc:language>en-US</dc:language>
  <cp:lastModifiedBy>Юрій Никитенко</cp:lastModifiedBy>
  <cp:lastPrinted>2015-11-21T06:23:03Z</cp:lastPrinted>
  <dcterms:modified xsi:type="dcterms:W3CDTF">2015-11-23T12:26:42Z</dcterms:modified>
  <cp:revision>79</cp:revision>
  <dc:subject/>
  <dc:title>Слайд 1</dc:title>
</cp:coreProperties>
</file>