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ABBB-CF35-404C-9163-CE8E7893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1D99-FEF8-40C1-80CF-19717AC0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4EFB-B87A-4B26-A072-415F9066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5868-F732-43BD-88A7-2F7B689A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C1A6-66D1-40CF-B5F3-BAE58085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D993-2171-48BD-BBEC-BC390864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3DB1-D1AB-4E46-9E55-8747B41A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A388-55CA-43D0-A467-3BEEAA9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F541-E3AB-4964-8DAF-7683981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7F40-3519-4342-80D8-D31DADF0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D424-FF9D-4A49-B976-C3E8FAB3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B813-9890-46E4-8849-609CC01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AE1C-E8D4-4D42-BF45-F00900F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92B2-719B-4B18-8BA7-28CDE4D9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079B-1F9D-4838-A940-29BB7ED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818F-C6D1-49B8-BAD4-51D376ED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6E20-5183-491D-9AC2-A0260043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BC56-C787-4795-A6D3-DDE0B859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A6F6-AEEF-422F-BF0D-863E3AB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AF3F-B34E-4D73-8651-1B1F3768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9435-8D31-41BB-A1EB-0D44F33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2667-338B-48CE-A8B4-272FA78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72C8-E53B-43B7-8C82-CFE126A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782D-1F51-4782-BC88-327CC256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60D-FB6E-48BD-AB84-B554A1F2D5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1898-AC32-4B41-82ED-D25A245087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ергоаудит муніціпальних об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ктів міста Вінниці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248440" y="4358880"/>
            <a:ext cx="35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ач: ст.гр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922080" y="47160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цюк М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962800" y="521604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керівник: канд.техн.наук, доц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998760" y="567792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в О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928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кола заходів з енергозбере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2090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світл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заміна люмінесцентних ламп на світлодіодн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контроль за ефективним використанням світла (організаційний і техніч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автоматизоване керування освітленням в світлу пору доби в залежності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 природного освітлення з допомогою фотоавтоматичних пристроїв, датч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чні установки для приготування їж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міна пекарської шафи на енергоефективну комбіновану установку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му паливі, яка дає змогу опалювати приміщення 50 -100 м2 , приго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жі на чавунній плиті, духова шафа для випікання , оцінка ефектив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овадження такого обладнання потребує енергоаудиту теплоенерг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476360" y="4210200"/>
            <a:ext cx="2808360" cy="2597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859280" y="4210200"/>
            <a:ext cx="3529080" cy="257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160" y="40428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АХУНОК ТЕПЛОНАСОСНОЇ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980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-насосна установка для автономного тепло забезпечення (рис. 6) здійснює зворотній термодинамічний цикл на низько киплячій робочій речовині, одержуючи поновлювану  низько потенційну  теплову енергію з навколишнього серед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схема работы ТН"/>
          <p:cNvPicPr/>
          <p:nvPr/>
        </p:nvPicPr>
        <p:blipFill>
          <a:blip r:embed="rId1"/>
          <a:stretch/>
        </p:blipFill>
        <p:spPr>
          <a:xfrm>
            <a:off x="803160" y="2320920"/>
            <a:ext cx="7585200" cy="43704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6191280" y="5676840"/>
            <a:ext cx="2952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6 – Теплонасосна установка для автономного опалення СЗОШ №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500760" y="404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ження витрат у системі теплопостач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413000"/>
          <a:ext cx="8064360" cy="4032000"/>
        </p:xfrm>
        <a:graphic>
          <a:graphicData uri="http://schemas.openxmlformats.org/drawingml/2006/table">
            <a:tbl>
              <a:tblPr/>
              <a:tblGrid>
                <a:gridCol w="1731960"/>
                <a:gridCol w="1684440"/>
                <a:gridCol w="1865160"/>
                <a:gridCol w="1865160"/>
                <a:gridCol w="917640"/>
              </a:tblGrid>
              <a:tr h="10206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тома вартість, грн./м</a:t>
                      </a:r>
                      <a:r>
                        <a:rPr b="1" lang="uk-UA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фективна площа, м</a:t>
                      </a:r>
                      <a:r>
                        <a:rPr b="1" lang="uk-UA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и, тис.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21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теп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внішніх сті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ал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54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ищ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939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яття шару покриття радіато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4921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плоізоляція т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49356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" name="Прямоугольник 3"/>
          <p:cNvSpPr/>
          <p:nvPr/>
        </p:nvSpPr>
        <p:spPr>
          <a:xfrm>
            <a:off x="457200" y="5661000"/>
            <a:ext cx="83628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4 – Питома вартість енергоефективних заходів та затрати на впровадж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42920" y="1988640"/>
            <a:ext cx="6148440" cy="25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якую за увагу !</a:t>
            </a:r>
            <a:br>
              <a:rPr sz="5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79280" y="476280"/>
            <a:ext cx="8713800" cy="57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ість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 вирішенні проблем підвищення енергетичної ефективності на муніципальних об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ктах,   органи місцевого самоврядування, мають безпосередній і значний вплив на те як буде розвиватись споживання у майбутньому. Досі місто Вінниця зосереджувала інвестиції на об’єктах, які експлуатуються муніципальними комунальними підприємствами, тобто в секторі виробництва енергетичних ресурсів, та недостатньо підтримувала інвестиціями підвищення енергетичної ефективності будівель, як в бюджетній сфері, так і в житловому фонді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й принцип розподілу інвестицій не зміг не позначитись на стрімкому зростанні витрат на енергопостачання будівель муніципального сектору,  енергетичні характеристики яких залишались незадовіль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ю роботи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є енергоаудит муніципальних об’єктів міста Вінниці з метою розробки шляхів економії електричної енергії на цих об’єк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осягнення поставленої мети необхідно роз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’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ати такі задач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аналіз принципів енергоаудиту муніципальних споживачів електроенерг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брати ефективні заходи з енергозбереження для муніципальних споживач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енергоаудит СЗОШ №27 міста Вінни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в'язок роботи з науковими програмами, планами, темами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бота виконувалась відповідно договору про науково-технічне співробітництво між ВНТУ і Вінницькою міською радою № 28/2 від 1 березня 2010 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’єкт дослідж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електроустановки муніципальних споживач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лідж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енергоаудит електроспоживання муніципальних об’єктів міста Вінни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кова новизна одержаних результатів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і проведеного аналізу електроспоживання СЗОШ №27 запропанована комбінована система приготування їжі та опалення. Яка, на відміну від існуючих кухонних блоків, які складаються з кількох термічних установок ( електрокотел, електроплита, електрошафа), дає можливість знизити споживання електричної 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79280" y="3538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А ЕНЕРГОСПОЖИВАНН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ІСТ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79280" y="723960"/>
            <a:ext cx="7201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спективи досліджень проблем енергоефективності 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−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ґрунтування підвищення ефективності енергоспоживання у муніципальному секторі міст України для вирішення пріоритетних виробничих та соціальних проблем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 </a:t>
            </a: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еровувавання зекономлених у результаті проведення енергозберігаючих заходів коштів на підвищення рівня життя мешканців та розвиток інфраструктури міст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ровадження нових та удосконалення існуючих методів обліку та аналізу споживання енергоресурсів, методик проведення енергоаудиту, методик фінансування заходів у сфері енергоефективності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йснення проектів у сфері енергоефективності згідно із стратегією розвитку об’єктів комунального господарства , організацій, приватних підприємств, поєднання їх з інформаційним аналізом і маркетингом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робка та удосконалення інформаційного забезпечення обліку використання та оцінки ефективності споживання енергоресурсі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74508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-1260360" y="6165720"/>
            <a:ext cx="54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449280"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хема електропостачання м. Вінни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067280" y="20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86920" y="4156560"/>
            <a:ext cx="44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трати електричної енергії на зовнішнє освіт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8" descr=""/>
          <p:cNvPicPr/>
          <p:nvPr/>
        </p:nvPicPr>
        <p:blipFill>
          <a:blip r:embed="rId2"/>
          <a:stretch/>
        </p:blipFill>
        <p:spPr>
          <a:xfrm>
            <a:off x="4427640" y="2532240"/>
            <a:ext cx="2193840" cy="165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3978360" y="4425840"/>
          <a:ext cx="5057640" cy="1793880"/>
        </p:xfrm>
        <a:graphic>
          <a:graphicData uri="http://schemas.openxmlformats.org/drawingml/2006/table">
            <a:tbl>
              <a:tblPr/>
              <a:tblGrid>
                <a:gridCol w="765000"/>
                <a:gridCol w="1736640"/>
                <a:gridCol w="830520"/>
                <a:gridCol w="831600"/>
                <a:gridCol w="754200"/>
                <a:gridCol w="139680"/>
              </a:tblGrid>
              <a:tr h="1796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енергоресурс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ендарний рі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ктрична енергія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ВТ 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2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ий газ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с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58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4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зин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с. 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090,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49,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21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ельне паливо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с. 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3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3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de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ик 11"/>
          <p:cNvSpPr/>
          <p:nvPr/>
        </p:nvSpPr>
        <p:spPr>
          <a:xfrm>
            <a:off x="4238640" y="6165720"/>
            <a:ext cx="469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я 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­­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сяги споживання енергоресурсів у 2012-2014 ро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0" y="3538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ЕРГОАУДИТ МУНІЦИПАЛЬНИХ СПОЖИ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68360" y="57960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ергоаудит по напрямкам споживання енер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24920" y="901800"/>
            <a:ext cx="407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оаудит систем електр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36440" y="1409760"/>
            <a:ext cx="4435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ами аудиту систем електроспоживання є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і понижуючі підстанції, розподільні пристро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ні підстан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і мережі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угою до 1000 В і вищ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електр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ліку електричної 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м енергоаудитора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визначити втрати в елементах системи електропоста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визначити планову величину електр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визначити технологічну та аварійну захи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скласти баланс електроспоживання за технологіями, за підрозділам і об'єкту в цілому з урахуванням видів навантаження (освітлення, силові і електротехнологічні споживачі до 1000 В і вищ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оцінити ефективність електр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визначити потенціал енергозбереж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ити рекомендації з впровадження енергозберігаючих заход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769640" y="10000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нергоаудит систем теплопоста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626000" y="1357200"/>
            <a:ext cx="451800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ами аудиту систем теплопостачання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ельні (котли, бойлери, теплообмінник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і розподільчі пун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менти системи паропоста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менти системи опале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менти системи гарячого водопостач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подільчі теплові мереж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жим тепл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управління теплопостача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обліку та контролю теплопостача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а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оаудитора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значити втрати в елементах системи постачання гарячої води та п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значити планову величину теплоспожи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ласти баланс теплоспоживання за технологіями, за підрозділам і об'єкту в ціл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інити ефективність використання гарячої води і п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значити потенціал економії теп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зробити рекомендації з впровадження Е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324000" y="3650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ДИ З ЕНЕРГОЗБЕРЕЖЕННЯ МУНІЦИПАЛЬНИХ СПОЖИ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324000" y="701640"/>
            <a:ext cx="5327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ливі шляхи і методи в економії електроенергії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Впровадження електрогенеруючого обладнання на основі газо - і паротурбінних,, газопоршневих, турбодетандерних і парогазових установ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Перехід на частотно-регульовані приводи на обладнанні з змінним навантаженн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менш енергоємних насосних установ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Впровадження автоматизованих систем керування технологічними процесами АСУ ("енергоефективність"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провадження систем управління освітленням, енергоефективних освітлювальних пристроїв і секційний поділ освітле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міна електрокотелень і електроводонагр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х приладів джерелами тепла, що працюють на місцевих видах палива (торф, пелет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 Введення енергогенеруючого та технологічного обладнання, що працює з використанням горючих вторинних енергоресурсів (ВЕР) та відходів виробниц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Впровадження нетрадиційних та відновлюваних джерел енергії (геліоколектори, ГЕС, ВЕУ, біогазові установки)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95280" y="5099040"/>
            <a:ext cx="5256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ації з впровадження енергозберігаючих заходів у системах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ктропоста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постач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нтиляції, обігріву та кондиціонування повіт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віт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5952960" y="76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Объект 5"/>
          <p:cNvGraphicFramePr/>
          <p:nvPr/>
        </p:nvGraphicFramePr>
        <p:xfrm>
          <a:off x="5765760" y="765000"/>
          <a:ext cx="305424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5760" y="765000"/>
                    <a:ext cx="305424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Прямоугольник 6"/>
          <p:cNvSpPr/>
          <p:nvPr/>
        </p:nvSpPr>
        <p:spPr>
          <a:xfrm>
            <a:off x="5651640" y="4568760"/>
            <a:ext cx="356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3 – Блок-схема функціонування інформаційної бази з електрозбереження муніципальних споживачів м.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нни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2680" y="4482720"/>
            <a:ext cx="35719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іщення будівлі школи, в яких використовується електроенергі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навчальних класи, басейн та їдаль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кількість учнів 13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ічний колектив складається з 76 учителів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2320" y="771120"/>
            <a:ext cx="445932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і характеристики системи енерговикористання СЗОШ №2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23840" y="1457280"/>
          <a:ext cx="381780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457280"/>
                    <a:ext cx="381780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Прямоугольник 1"/>
          <p:cNvSpPr/>
          <p:nvPr/>
        </p:nvSpPr>
        <p:spPr>
          <a:xfrm>
            <a:off x="448560" y="371520"/>
            <a:ext cx="58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ЕРГОАУДИТ СЗОШ № 27 МІСТА ВІН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140360" y="622440"/>
            <a:ext cx="5551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електропостача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140360" y="4151160"/>
            <a:ext cx="4865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истеми електропостачання належать кабельні лінії та розподільчий пристрій 0,4 к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лення здійснюється двома кабелями, перерізом 50 мм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ік електроенергії здійснюється шістьма лічильниками електро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ники цих лічильників записуються в обліковий журн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0"/>
          <p:cNvGraphicFramePr/>
          <p:nvPr/>
        </p:nvGraphicFramePr>
        <p:xfrm>
          <a:off x="4343400" y="1278000"/>
          <a:ext cx="4795920" cy="26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278000"/>
                    <a:ext cx="479592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4559400" y="3848040"/>
            <a:ext cx="4248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4 - Однолінійна схема електричних з’єднань СЗОШ №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02680" y="1072800"/>
            <a:ext cx="4854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світлення виконана модульними світильниками 4*18 В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жному класі розташовані 6-8 таких модулів, тривалість їх роботи залежить від пори року: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има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год./ранок, 4 год./вечі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сн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–3 год./д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i="1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ін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–3 год./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а потужність освітлювальних пристрої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вст = 42×4×18×7×10-3=21,17 (кВ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нагрівального обладнання їдальн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лектричний котел КПЭ-60-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ь, кВт: 9,45;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карська шафа ШПЭСМ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ужність –14,4 кВ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-217440" y="394920"/>
            <a:ext cx="47512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мості про електричні навантаження шко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j0299587"/>
          <p:cNvPicPr/>
          <p:nvPr/>
        </p:nvPicPr>
        <p:blipFill>
          <a:blip r:embed="rId1"/>
          <a:stretch/>
        </p:blipFill>
        <p:spPr>
          <a:xfrm>
            <a:off x="351000" y="21049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j0281904"/>
          <p:cNvPicPr/>
          <p:nvPr/>
        </p:nvPicPr>
        <p:blipFill>
          <a:blip r:embed="rId2"/>
          <a:stretch/>
        </p:blipFill>
        <p:spPr>
          <a:xfrm>
            <a:off x="351000" y="2476440"/>
            <a:ext cx="407880" cy="3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j0298897"/>
          <p:cNvPicPr/>
          <p:nvPr/>
        </p:nvPicPr>
        <p:blipFill>
          <a:blip r:embed="rId3"/>
          <a:stretch/>
        </p:blipFill>
        <p:spPr>
          <a:xfrm>
            <a:off x="314280" y="2871720"/>
            <a:ext cx="432000" cy="37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4"/>
          <p:cNvSpPr/>
          <p:nvPr/>
        </p:nvSpPr>
        <p:spPr>
          <a:xfrm>
            <a:off x="4778280" y="283320"/>
            <a:ext cx="43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новлені потужності об’єктів електроспожив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5048280" y="1038960"/>
            <a:ext cx="405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ізувавши схему електропостачання школи та основні споживачі, можна умовно розбити споживачів на 3 груп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ітленн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дальн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ей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чином можна нарисувати умовну схему електропостачання, щоб полегшити аналіз отриманих да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175360" y="3579840"/>
          <a:ext cx="3806640" cy="1344600"/>
        </p:xfrm>
        <a:graphic>
          <a:graphicData uri="http://schemas.openxmlformats.org/drawingml/2006/table">
            <a:tbl>
              <a:tblPr/>
              <a:tblGrid>
                <a:gridCol w="450720"/>
                <a:gridCol w="2349360"/>
                <a:gridCol w="1006560"/>
              </a:tblGrid>
              <a:tr h="430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менування об’є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вст, кВ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чальні кл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Їдальн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сей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a31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Object 62"/>
          <p:cNvGraphicFramePr/>
          <p:nvPr/>
        </p:nvGraphicFramePr>
        <p:xfrm>
          <a:off x="5384880" y="5013360"/>
          <a:ext cx="3371760" cy="12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6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84880" y="5013360"/>
                    <a:ext cx="337176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Прямоугольник 1"/>
          <p:cNvSpPr/>
          <p:nvPr/>
        </p:nvSpPr>
        <p:spPr>
          <a:xfrm>
            <a:off x="478476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5 – Умовна схема електропостач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 інформації про о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кт енергетичного ауди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1125360"/>
          <a:ext cx="8713800" cy="1737000"/>
        </p:xfrm>
        <a:graphic>
          <a:graphicData uri="http://schemas.openxmlformats.org/drawingml/2006/table">
            <a:tbl>
              <a:tblPr/>
              <a:tblGrid>
                <a:gridCol w="2179800"/>
                <a:gridCol w="2178000"/>
                <a:gridCol w="2176560"/>
                <a:gridCol w="2179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ітлення, кВт*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Їдальня, кВт*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, кВт*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, кВт*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2"/>
          <p:cNvSpPr/>
          <p:nvPr/>
        </p:nvSpPr>
        <p:spPr>
          <a:xfrm>
            <a:off x="1476360" y="2882880"/>
            <a:ext cx="5832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2 - Сумарне споживання енерг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8080" y="4368960"/>
          <a:ext cx="8569080" cy="2016000"/>
        </p:xfrm>
        <a:graphic>
          <a:graphicData uri="http://schemas.openxmlformats.org/drawingml/2006/table">
            <a:tbl>
              <a:tblPr/>
              <a:tblGrid>
                <a:gridCol w="1244520"/>
                <a:gridCol w="2182680"/>
                <a:gridCol w="1714680"/>
                <a:gridCol w="1714320"/>
                <a:gridCol w="17128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день 20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чень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ітлен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Їдаль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ітлен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дальня, кВт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c66e"/>
                    </a:solidFill>
                  </a:tcPr>
                </a:tc>
              </a:tr>
            </a:tbl>
          </a:graphicData>
        </a:graphic>
      </p:graphicFrame>
      <p:sp>
        <p:nvSpPr>
          <p:cNvPr id="160" name="Прямоугольник 2"/>
          <p:cNvSpPr/>
          <p:nvPr/>
        </p:nvSpPr>
        <p:spPr>
          <a:xfrm>
            <a:off x="184320" y="335916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ховуючи той факт, що система освітлення у зимовий період працює 5год/добу, а їдальня працює 8 годинний робочий день визначаємо середню і максимальну потужності за місяць, і представимо у таблиці 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1332000" y="64087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3 – Максимальні та середні потужності за місяц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3:20:44Z</dcterms:created>
  <dc:creator>Ирина</dc:creator>
  <dc:description/>
  <dc:language>en-US</dc:language>
  <cp:lastModifiedBy>Рита</cp:lastModifiedBy>
  <dcterms:modified xsi:type="dcterms:W3CDTF">2015-11-22T23:34:25Z</dcterms:modified>
  <cp:revision>30</cp:revision>
  <dc:subject/>
  <dc:title>Слайд 1</dc:title>
</cp:coreProperties>
</file>