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9803-6114-4676-ABF4-521E618568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0"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78B7-AAD6-497F-91E7-72AD9D4163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D6E3-14C6-45AF-8CA8-95EAFD93A0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C3DF9-0E99-4213-96F9-79A0B64F0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A026-B6D7-4E7D-9719-B311B933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F94F2-4322-4098-BEA1-C83C7EA46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06E74-775D-4A63-A9E7-F847B480C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5EC1C-102C-4D81-A352-4594C3793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B97C7-CEA2-4092-BD07-5EA6AF63B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E5888-06A1-47E6-8A38-74389FD8E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88D04-ECFE-43D4-9DC9-8363B4880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7EF7E-CF8F-46A7-9B25-4E74A4670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D0B8F-178A-49F1-9F96-26286722C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C59F4-5202-451F-8069-2D1E59E71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0EC1-3EF2-4C36-8AA9-4503BB52A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C0E9C-B08F-42F2-99DB-1C613A60D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6E0C7-6CC3-4520-9424-E7DFEDA8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DA39A-9C12-4C87-A413-4997B3AE2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E54B9-52FA-4F4A-8143-0C1BF4D81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A2126-81B3-4C7E-9B5B-304BB7FC2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92B2C-B9D0-45F6-AC02-D661500C7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855C9-59E0-4ED2-835B-8269846F2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68F63-CBD3-4E7A-826C-EF4EC87DF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4CED9-47AE-4DA2-A415-B10D9C428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CE3D8-486C-48DA-A7DB-5D7524A80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FAE8-8E88-4D80-9BCC-C05FAACA0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83F0-8106-422A-8E49-B738ED2D6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52CB-CECE-4900-ABF2-2606BDC51590}"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AE0D-39AC-415F-83CD-7E4FCCC8F14C}"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6"/>
          <p:cNvSpPr/>
          <p:nvPr/>
        </p:nvSpPr>
        <p:spPr>
          <a:xfrm>
            <a:off x="0" y="232884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7"/>
          <p:cNvSpPr/>
          <p:nvPr/>
        </p:nvSpPr>
        <p:spPr>
          <a:xfrm>
            <a:off x="0" y="266688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AutoShape 8"/>
          <p:cNvSpPr/>
          <p:nvPr/>
        </p:nvSpPr>
        <p:spPr>
          <a:xfrm rot="5400000">
            <a:off x="2552400" y="2406600"/>
            <a:ext cx="22860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9"/>
          <p:cNvSpPr/>
          <p:nvPr/>
        </p:nvSpPr>
        <p:spPr>
          <a:xfrm rot="5400000">
            <a:off x="2738160" y="2411640"/>
            <a:ext cx="22860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1116000" y="260280"/>
            <a:ext cx="6842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інницький національний технічний університ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Факультет</a:t>
            </a:r>
            <a:r>
              <a:rPr b="1" lang="ru-RU" sz="2000" spc="-1" strike="noStrike">
                <a:solidFill>
                  <a:srgbClr val="000000"/>
                </a:solidFill>
                <a:latin typeface="Times New Roman"/>
                <a:ea typeface="Times New Roman"/>
              </a:rPr>
              <a:t> електроенергетики та електромеханік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афедра електротехнічних систем електроспоживання та енергетичного менеджменту</a:t>
            </a:r>
            <a:endParaRPr b="0" lang="en-US" sz="2000" spc="-1" strike="noStrike">
              <a:solidFill>
                <a:srgbClr val="000000"/>
              </a:solidFill>
              <a:latin typeface="Arial"/>
            </a:endParaRPr>
          </a:p>
        </p:txBody>
      </p:sp>
      <p:sp>
        <p:nvSpPr>
          <p:cNvPr id="98" name="Text Box 14"/>
          <p:cNvSpPr/>
          <p:nvPr/>
        </p:nvSpPr>
        <p:spPr>
          <a:xfrm>
            <a:off x="909720" y="5148360"/>
            <a:ext cx="7623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конала: студентка 2 курсу, групи ЕМм –14 спеціальності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8.05070108 – Енергетичний менеджмент Дворецька І.В.</a:t>
            </a:r>
            <a:endParaRPr b="0" lang="en-US" sz="1600" spc="-1" strike="noStrike">
              <a:solidFill>
                <a:srgbClr val="000000"/>
              </a:solidFill>
              <a:latin typeface="Arial"/>
            </a:endParaRPr>
          </a:p>
        </p:txBody>
      </p:sp>
      <p:sp>
        <p:nvSpPr>
          <p:cNvPr id="99" name="Rectangle 15"/>
          <p:cNvSpPr/>
          <p:nvPr/>
        </p:nvSpPr>
        <p:spPr>
          <a:xfrm>
            <a:off x="3750120" y="6237720"/>
            <a:ext cx="1509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нниця – 201</a:t>
            </a: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p:txBody>
      </p:sp>
      <p:sp>
        <p:nvSpPr>
          <p:cNvPr id="100" name="Rectangle 11"/>
          <p:cNvSpPr/>
          <p:nvPr/>
        </p:nvSpPr>
        <p:spPr>
          <a:xfrm>
            <a:off x="468360" y="1901880"/>
            <a:ext cx="8567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993300"/>
                </a:solidFill>
                <a:latin typeface="Arial"/>
              </a:rPr>
              <a:t>     </a:t>
            </a:r>
            <a:r>
              <a:rPr b="0" lang="uk-UA" sz="3600" spc="-1" strike="noStrike">
                <a:solidFill>
                  <a:srgbClr val="993300"/>
                </a:solidFill>
                <a:latin typeface="Times New Roman"/>
                <a:ea typeface="Times New Roman"/>
              </a:rPr>
              <a:t>Підвищення енергоефективності промислового підприємства за рахунок впровадження системи енергетичного менеджменту</a:t>
            </a:r>
            <a:endParaRPr b="0" lang="en-US" sz="3600" spc="-1" strike="noStrike">
              <a:solidFill>
                <a:srgbClr val="000000"/>
              </a:solidFill>
              <a:latin typeface="Arial"/>
            </a:endParaRPr>
          </a:p>
        </p:txBody>
      </p:sp>
      <p:sp>
        <p:nvSpPr>
          <p:cNvPr id="101" name="Прямоугольник 1"/>
          <p:cNvSpPr/>
          <p:nvPr/>
        </p:nvSpPr>
        <p:spPr>
          <a:xfrm>
            <a:off x="468360" y="4210200"/>
            <a:ext cx="80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гістерська кваліфікаційна робота</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285840" y="431640"/>
            <a:ext cx="8286840" cy="520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Calibri"/>
              </a:rPr>
              <a:t>ВИСНОВКИ</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Аналіз діяльності підприємства показав необхідність пошуку та реалізації ефективних заходів з енергозбереження у зв'язку з виявленими втратами енергії на різних етапах виробничо-господарської діяльності. Були ідентифіковані значущі енергетичні аспекти. На підставі аспектів були розроблені технічні та управлінські заходи щодо підвищення енергоефективності. Складено програму впровадження системи енергетичного менеджменту, розроблено енергетичну політику підприємства. Здійснення запропонованих у роботі заходів дозволить забезпечити постійне зниження витрат на енергетичні ресурси, знизити енергоємність продукції, удосконалити систему управління та обміну інформацією, покращити процес прийняття рішень в питаннях контролю енергоспоживання.</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Була запропонована модернізація системи освітлення шляхом заміни ламп розжарювання на світлодіодні лампи при якій річна економія коштів дорівнює близько 4,5 тис. грн., а термін окупності капіталовкладень не перевищує 0,5 року.</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Розроблено заходи з перетворення котельні на газовому паливі в когенераційну установку, що працює на вугіллі. Розраховано експлуатаційні витрати, які становлять 15,29 млн.грн., розраховано економію коштів, яка складає 21,96 млн.грн/рік. Капіталовкладення даної модернізації становлять 25,2 млн. грн. Проведені розрахунки на викиди шкідливих речовин від спалювання вугілля, тому дана модернізація є екологічно чистою і доцільною у використанні. Термін окупності донної модернізації становить 1,78 роки.</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Проведено техніко-економічні розрахунки ефективності </a:t>
            </a:r>
            <a:r>
              <a:rPr b="0" lang="uk-UA" sz="1400" spc="-1" strike="noStrike">
                <a:solidFill>
                  <a:srgbClr val="000000"/>
                </a:solidFill>
                <a:latin typeface="Times New Roman"/>
                <a:ea typeface="Times New Roman"/>
              </a:rPr>
              <a:t>впровадження системи енергетичного менеджменту на підприємстві. З</a:t>
            </a:r>
            <a:r>
              <a:rPr b="0" lang="uk-UA" sz="1400" spc="-1" strike="noStrike">
                <a:solidFill>
                  <a:srgbClr val="000000"/>
                </a:solidFill>
                <a:latin typeface="Times New Roman"/>
                <a:ea typeface="Calibri"/>
              </a:rPr>
              <a:t>а всіма показниками проект визнається економічно доцільним і таким, що рекомендуються до впровадження. </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едставлено технічні рішення по беспечній експлуатації об</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єкта, </a:t>
            </a:r>
            <a:r>
              <a:rPr b="0" lang="uk-UA" sz="1400" spc="-1" strike="noStrike">
                <a:solidFill>
                  <a:srgbClr val="000000"/>
                </a:solidFill>
                <a:latin typeface="Times New Roman"/>
                <a:ea typeface="Calibri"/>
              </a:rPr>
              <a:t>з гігієни праці і виробничої санітарії. Виконані д</a:t>
            </a:r>
            <a:r>
              <a:rPr b="0" lang="ru-RU" sz="1400" spc="-1" strike="noStrike">
                <a:solidFill>
                  <a:srgbClr val="000000"/>
                </a:solidFill>
                <a:latin typeface="Times New Roman"/>
                <a:ea typeface="Calibri"/>
              </a:rPr>
              <a:t>ослідження безпеки роботи системи енергозбереження промислового підприємства в умовах дії загрозливих чинників НС</a:t>
            </a:r>
            <a:r>
              <a:rPr b="0" lang="uk-UA" sz="1400" spc="-1" strike="noStrike">
                <a:solidFill>
                  <a:srgbClr val="000000"/>
                </a:solidFill>
                <a:latin typeface="Times New Roman"/>
                <a:ea typeface="Calibri"/>
              </a:rPr>
              <a:t>.</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642960"/>
            <a:ext cx="7889760" cy="5500800"/>
          </a:xfrm>
          <a:prstGeom prst="rect">
            <a:avLst/>
          </a:prstGeom>
          <a:noFill/>
          <a:ln w="0">
            <a:noFill/>
          </a:ln>
        </p:spPr>
        <p:txBody>
          <a:bodyPr anchor="t">
            <a:normAutofit/>
          </a:bodyPr>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ВСТУП</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Актуальність.</a:t>
            </a:r>
            <a:r>
              <a:rPr b="0" lang="ru-RU" sz="800" spc="-1" strike="noStrike">
                <a:solidFill>
                  <a:srgbClr val="000000"/>
                </a:solidFill>
                <a:latin typeface="Times New Roman"/>
                <a:ea typeface="Times New Roman"/>
              </a:rPr>
              <a:t> На сьогоднішній день, питання енергозбереження та раціонального використання паливно-енергетичних ресурсів є одним із найпоширеніших. Саме тому актуальною є задача оптимізації споживання енергетичних ресурсів та підвищення енергоефективності промислового підприємства. Вирішенням цієї задачі є впровадження на підприємстві системи енергетичного менеджменту (СЕМ). </a:t>
            </a:r>
            <a:r>
              <a:rPr b="0" lang="uk-UA" sz="800" spc="-1" strike="noStrike">
                <a:solidFill>
                  <a:srgbClr val="000000"/>
                </a:solidFill>
                <a:latin typeface="Times New Roman"/>
                <a:ea typeface="Times New Roman"/>
              </a:rPr>
              <a:t>Це система управління споживанням енергоносіїв, що заснована на проведенні регулярних вимірів та перевірок, що забезпечує споживання лише необхідної кількості енергії. Впровадження енергетичного менеджменту дає змогу отримати детальну картину споживання ресурсів, дати оцінку проектів економії енергії, що плануються до впровадження, а також оптимізувати систему управління та обміну інформацією в енергетиці підприємства.</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Зв’язок роботи з науковими програмами, планами, темами.</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Робота виконувалась згідно з науковими розробками кафедри </a:t>
            </a:r>
            <a:r>
              <a:rPr b="0" lang="ru-RU" sz="800" spc="-1" strike="noStrike">
                <a:solidFill>
                  <a:srgbClr val="000000"/>
                </a:solidFill>
                <a:latin typeface="Times New Roman"/>
                <a:ea typeface="Times New Roman"/>
              </a:rPr>
              <a:t>електротехнічних систем електроспоживання та енергетичного менеджменту</a:t>
            </a:r>
            <a:r>
              <a:rPr b="0" lang="uk-UA" sz="800" spc="-1" strike="noStrike">
                <a:solidFill>
                  <a:srgbClr val="000000"/>
                </a:solidFill>
                <a:latin typeface="Times New Roman"/>
                <a:ea typeface="Times New Roman"/>
              </a:rPr>
              <a:t> ВНТУ.</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Мета і завдання дослідження. </a:t>
            </a:r>
            <a:r>
              <a:rPr b="0" lang="uk-UA" sz="800" spc="-1" strike="noStrike">
                <a:solidFill>
                  <a:srgbClr val="000000"/>
                </a:solidFill>
                <a:latin typeface="Times New Roman"/>
                <a:ea typeface="Times New Roman"/>
              </a:rPr>
              <a:t>Метою</a:t>
            </a:r>
            <a:r>
              <a:rPr b="0" i="1" lang="uk-UA" sz="800" spc="-1" strike="noStrike">
                <a:solidFill>
                  <a:srgbClr val="000000"/>
                </a:solidFill>
                <a:latin typeface="Times New Roman"/>
                <a:ea typeface="Times New Roman"/>
              </a:rPr>
              <a:t> </a:t>
            </a:r>
            <a:r>
              <a:rPr b="0" lang="uk-UA" sz="800" spc="-1" strike="noStrike">
                <a:solidFill>
                  <a:srgbClr val="000000"/>
                </a:solidFill>
                <a:latin typeface="Times New Roman"/>
                <a:ea typeface="Times New Roman"/>
              </a:rPr>
              <a:t>роботи є підвищення енергоефективності промислового підприємства за рахунок впровадження системи енергетичного менеджменту.</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Для досягнення поставленої мети необхідно розв’язати такі задачі:</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дослідити основні характеристики сфери енергозбереження та ефективності використання енергії;</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розглянути загальні відомості про підприємство;</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дати рекомендації по створенню системи енергетичного менеджменту та енергозбереженню на промисловому підприємстві;</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розробити заходи з енергозбереження в системі освітлення;</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провести енергоаудит теплової частини;</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визначити е</a:t>
            </a:r>
            <a:r>
              <a:rPr b="0" lang="ru-RU" sz="800" spc="-1" strike="noStrike">
                <a:solidFill>
                  <a:srgbClr val="000000"/>
                </a:solidFill>
                <a:latin typeface="Times New Roman"/>
                <a:ea typeface="Times New Roman"/>
              </a:rPr>
              <a:t>кономічн</a:t>
            </a:r>
            <a:r>
              <a:rPr b="0" lang="uk-UA" sz="800" spc="-1" strike="noStrike">
                <a:solidFill>
                  <a:srgbClr val="000000"/>
                </a:solidFill>
                <a:latin typeface="Times New Roman"/>
                <a:ea typeface="Times New Roman"/>
              </a:rPr>
              <a:t>ий ефект від впровадження системи енергетичного менеджменту;</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запропонувати заходи з о</a:t>
            </a:r>
            <a:r>
              <a:rPr b="0" lang="ru-RU" sz="800" spc="-1" strike="noStrike">
                <a:solidFill>
                  <a:srgbClr val="000000"/>
                </a:solidFill>
                <a:latin typeface="Times New Roman"/>
                <a:ea typeface="Times New Roman"/>
              </a:rPr>
              <a:t>хорон</a:t>
            </a:r>
            <a:r>
              <a:rPr b="0" lang="uk-UA" sz="800" spc="-1" strike="noStrike">
                <a:solidFill>
                  <a:srgbClr val="000000"/>
                </a:solidFill>
                <a:latin typeface="Times New Roman"/>
                <a:ea typeface="Times New Roman"/>
              </a:rPr>
              <a:t>и</a:t>
            </a:r>
            <a:r>
              <a:rPr b="0" lang="ru-RU" sz="800" spc="-1" strike="noStrike">
                <a:solidFill>
                  <a:srgbClr val="000000"/>
                </a:solidFill>
                <a:latin typeface="Times New Roman"/>
                <a:ea typeface="Times New Roman"/>
              </a:rPr>
              <a:t> праці та </a:t>
            </a:r>
            <a:r>
              <a:rPr b="0" lang="uk-UA" sz="800" spc="-1" strike="noStrike">
                <a:solidFill>
                  <a:srgbClr val="000000"/>
                </a:solidFill>
                <a:latin typeface="Times New Roman"/>
                <a:ea typeface="Times New Roman"/>
              </a:rPr>
              <a:t>захисту </a:t>
            </a:r>
            <a:r>
              <a:rPr b="0" lang="ru-RU" sz="800" spc="-1" strike="noStrike">
                <a:solidFill>
                  <a:srgbClr val="000000"/>
                </a:solidFill>
                <a:latin typeface="Times New Roman"/>
                <a:ea typeface="Times New Roman"/>
              </a:rPr>
              <a:t>в надзвичайних ситуаціях.</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Об'єктом дослідження</a:t>
            </a:r>
            <a:r>
              <a:rPr b="0" lang="uk-UA" sz="800" spc="-1" strike="noStrike">
                <a:solidFill>
                  <a:srgbClr val="000000"/>
                </a:solidFill>
                <a:latin typeface="Times New Roman"/>
                <a:ea typeface="Times New Roman"/>
              </a:rPr>
              <a:t> є процеси діяльності підприємства пов'язані з споживанням енергоресурсів.</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Предмет</a:t>
            </a:r>
            <a:r>
              <a:rPr b="1" lang="uk-UA" sz="800" spc="-1" strike="noStrike">
                <a:solidFill>
                  <a:srgbClr val="000000"/>
                </a:solidFill>
                <a:latin typeface="Times New Roman"/>
                <a:ea typeface="Times New Roman"/>
              </a:rPr>
              <a:t>ом</a:t>
            </a:r>
            <a:r>
              <a:rPr b="1" lang="ru-RU" sz="800" spc="-1" strike="noStrike">
                <a:solidFill>
                  <a:srgbClr val="000000"/>
                </a:solidFill>
                <a:latin typeface="Times New Roman"/>
                <a:ea typeface="Times New Roman"/>
              </a:rPr>
              <a:t> дослідження</a:t>
            </a:r>
            <a:r>
              <a:rPr b="0" lang="ru-RU" sz="800" spc="-1" strike="noStrike">
                <a:solidFill>
                  <a:srgbClr val="000000"/>
                </a:solidFill>
                <a:latin typeface="Times New Roman"/>
                <a:ea typeface="Times New Roman"/>
              </a:rPr>
              <a:t> </a:t>
            </a:r>
            <a:r>
              <a:rPr b="0" lang="uk-UA" sz="800" spc="-1" strike="noStrike">
                <a:solidFill>
                  <a:srgbClr val="000000"/>
                </a:solidFill>
                <a:latin typeface="Times New Roman"/>
                <a:ea typeface="Times New Roman"/>
              </a:rPr>
              <a:t>є </a:t>
            </a:r>
            <a:r>
              <a:rPr b="0" lang="ru-RU" sz="800" spc="-1" strike="noStrike">
                <a:solidFill>
                  <a:srgbClr val="000000"/>
                </a:solidFill>
                <a:latin typeface="Times New Roman"/>
                <a:ea typeface="Times New Roman"/>
              </a:rPr>
              <a:t>методи планування, обліку, контролю та аналізу енергоспоживання виробничих систем</a:t>
            </a:r>
            <a:r>
              <a:rPr b="0" lang="uk-UA" sz="800" spc="-1" strike="noStrike">
                <a:solidFill>
                  <a:srgbClr val="000000"/>
                </a:solidFill>
                <a:latin typeface="Times New Roman"/>
                <a:ea typeface="Times New Roman"/>
              </a:rPr>
              <a:t>.</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Методи дослідження.</a:t>
            </a:r>
            <a:r>
              <a:rPr b="0" lang="uk-UA" sz="800" spc="-1" strike="noStrike">
                <a:solidFill>
                  <a:srgbClr val="000000"/>
                </a:solidFill>
                <a:latin typeface="Times New Roman"/>
                <a:ea typeface="Times New Roman"/>
              </a:rPr>
              <a:t> У процесі дослідження застосовувалися: теорія чисел та чисельних методів, </a:t>
            </a:r>
            <a:r>
              <a:rPr b="0" lang="ru-RU" sz="800" spc="-1" strike="noStrike">
                <a:solidFill>
                  <a:srgbClr val="000000"/>
                </a:solidFill>
                <a:latin typeface="Times New Roman"/>
                <a:ea typeface="Times New Roman"/>
              </a:rPr>
              <a:t>метод системного аналізу</a:t>
            </a:r>
            <a:r>
              <a:rPr b="0" lang="uk-UA" sz="800" spc="-1" strike="noStrike">
                <a:solidFill>
                  <a:srgbClr val="000000"/>
                </a:solidFill>
                <a:latin typeface="Times New Roman"/>
                <a:ea typeface="Times New Roman"/>
              </a:rPr>
              <a:t>, методи експертних оцінок. Виконана робота базується на теоретичних основах електротехніки, теорії електричних систем, теорії електропостачання, методах та теорії прийняття рішень.</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Наукова новизна одержаних результатів.</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1. </a:t>
            </a:r>
            <a:r>
              <a:rPr b="0" lang="ru-RU" sz="800" spc="-1" strike="noStrike">
                <a:solidFill>
                  <a:srgbClr val="000000"/>
                </a:solidFill>
                <a:latin typeface="Times New Roman"/>
                <a:ea typeface="Times New Roman"/>
              </a:rPr>
              <a:t>Подальшого розвитку отримав метод </a:t>
            </a:r>
            <a:r>
              <a:rPr b="0" lang="uk-UA" sz="800" spc="-1" strike="noStrike">
                <a:solidFill>
                  <a:srgbClr val="000000"/>
                </a:solidFill>
                <a:latin typeface="Times New Roman"/>
                <a:ea typeface="Times New Roman"/>
              </a:rPr>
              <a:t>оптимізації споживання енергетичних ресурсів і підвищення енергоефективності промислового підприємства за рахунок впровадження системи енергетичного менеджменту.</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2 Встановлено загальні принципи побудови системи енергетичного менеджменту та сформована </a:t>
            </a:r>
            <a:r>
              <a:rPr b="0" lang="ru-RU" sz="800" spc="-1" strike="noStrike">
                <a:solidFill>
                  <a:srgbClr val="000000"/>
                </a:solidFill>
                <a:latin typeface="Times New Roman"/>
                <a:ea typeface="Times New Roman"/>
              </a:rPr>
              <a:t>сукупність факторів, які є основними при формуванні ефективної політики енергозбереження </a:t>
            </a:r>
            <a:r>
              <a:rPr b="0" lang="uk-UA" sz="800" spc="-1" strike="noStrike">
                <a:solidFill>
                  <a:srgbClr val="000000"/>
                </a:solidFill>
                <a:latin typeface="Times New Roman"/>
                <a:ea typeface="Times New Roman"/>
              </a:rPr>
              <a:t>на промисловому підприємстві.</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3. Дістала подальшого розвитку концепція енергетичного менеджменту як одного з інструментів регулювання процесу енергозбереження, в рамках якої сформовано теоретичні і методичні основи для впровадження даної економічної категорії в практику для додаткового стимулювання раціонального використання енергоресурсів та енергозаощадження.</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Практичне значення одержаних результатів </a:t>
            </a:r>
            <a:r>
              <a:rPr b="0" lang="ru-RU" sz="800" spc="-1" strike="noStrike">
                <a:solidFill>
                  <a:srgbClr val="000000"/>
                </a:solidFill>
                <a:latin typeface="Times New Roman"/>
                <a:ea typeface="Times New Roman"/>
              </a:rPr>
              <a:t>полягає в тому, що </a:t>
            </a:r>
            <a:r>
              <a:rPr b="0" lang="uk-UA" sz="800" spc="-1" strike="noStrike">
                <a:solidFill>
                  <a:srgbClr val="000000"/>
                </a:solidFill>
                <a:latin typeface="Times New Roman"/>
                <a:ea typeface="Times New Roman"/>
              </a:rPr>
              <a:t>здійснення запропонованих у роботі заходів дозволить:</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підвищити енергоефективность промислового підприємства;</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забезпечити постійне зниження витрат на енергетичні ресурси;</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знизити енергоємність продукції;</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удосконалити систему управління та обміну інформацією;</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покращити процес прийняття рішень в питаннях контролю енергоспоживання.</a:t>
            </a:r>
            <a:endParaRPr b="0" lang="en-US" sz="800" spc="-1" strike="noStrike">
              <a:solidFill>
                <a:srgbClr val="000000"/>
              </a:solidFill>
              <a:latin typeface="Arial"/>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68360" y="5805360"/>
            <a:ext cx="8229600" cy="719280"/>
          </a:xfrm>
          <a:prstGeom prst="rect">
            <a:avLst/>
          </a:prstGeom>
          <a:noFill/>
          <a:ln w="0">
            <a:noFill/>
          </a:ln>
        </p:spPr>
        <p:txBody>
          <a:bodyPr anchor="t">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Модель системи енергоменеджменту на підприємстві</a:t>
            </a:r>
            <a:endParaRPr b="0" lang="en-US" sz="1800" spc="-1" strike="noStrike">
              <a:solidFill>
                <a:srgbClr val="000000"/>
              </a:solidFill>
              <a:latin typeface="Arial"/>
            </a:endParaRPr>
          </a:p>
        </p:txBody>
      </p:sp>
      <p:pic>
        <p:nvPicPr>
          <p:cNvPr id="104" name="Picture 3" descr="2"/>
          <p:cNvPicPr/>
          <p:nvPr/>
        </p:nvPicPr>
        <p:blipFill>
          <a:blip r:embed="rId1"/>
          <a:stretch/>
        </p:blipFill>
        <p:spPr>
          <a:xfrm>
            <a:off x="1476360" y="404640"/>
            <a:ext cx="5599080" cy="5308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2"/>
          <p:cNvPicPr/>
          <p:nvPr/>
        </p:nvPicPr>
        <p:blipFill>
          <a:blip r:embed="rId1"/>
          <a:stretch/>
        </p:blipFill>
        <p:spPr>
          <a:xfrm>
            <a:off x="971640" y="836640"/>
            <a:ext cx="7667640" cy="4392720"/>
          </a:xfrm>
          <a:prstGeom prst="rect">
            <a:avLst/>
          </a:prstGeom>
          <a:ln w="0">
            <a:noFill/>
          </a:ln>
        </p:spPr>
      </p:pic>
      <p:sp>
        <p:nvSpPr>
          <p:cNvPr id="106" name="Прямоугольник 1"/>
          <p:cNvSpPr/>
          <p:nvPr/>
        </p:nvSpPr>
        <p:spPr>
          <a:xfrm>
            <a:off x="430200" y="5661000"/>
            <a:ext cx="820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труктурна схема системи енергетичного менеджменту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324000" y="601560"/>
          <a:ext cx="8712000" cy="6186600"/>
        </p:xfrm>
        <a:graphic>
          <a:graphicData uri="http://schemas.openxmlformats.org/drawingml/2006/table">
            <a:tbl>
              <a:tblPr/>
              <a:tblGrid>
                <a:gridCol w="360360"/>
                <a:gridCol w="8351640"/>
              </a:tblGrid>
              <a:tr h="192600">
                <a:tc>
                  <a:txBody>
                    <a:bodyPr lIns="28800" rIns="288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28800" rIns="288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Найменування робіт</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1872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Рішення керівництва про впровадження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ризначення відповідальних осіб на самому підприємстві</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3.</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Укладення договору з компанією, яка впроваджує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4.</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удит підприємства(виявлення і аналіз основних енергоаспектів)</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5.</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бір та надання даних (енергетичних показників)</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6.</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становлення енергетичних цілей і енергетичних завдань</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7.</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ланування бюджету на роботи по впровадженню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8.</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ланування процедури впровадження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9.</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годження бюджету та вартості робіт</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0.</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провадження нових енергозберігаючих технологій та енергоефективного обладнання</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1.</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птимізація процесів виробництва, пов'язаних зі споживанням енергії</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2.</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енергопоказників після впровадження енергозберігаючих технологій та обладнання</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3.</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авчання співробітників (теоретичне і практичне)</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4.</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ланування дій у надзвичайних ситуаціях (перебої в енергопостачаннях або інші НС, без перерви в інших операціях)</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5.</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формлення документа «Енергетична політика»</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6.</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формлення схеми організаційної структури компанії</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7.</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Розробка документованих процедур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8.</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еревірка документів, внесення виправлень</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9.</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удит системи енергоменеджменту</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0.</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ідготовка документів до сертифікації</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1.</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ача документів у сертифікаційний орган</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8484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2.</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Експертиза документації сертифікаційним органом. Сертифікаційний орган надсилає протокол, який містить невідповідності між СЕМ та вимогами ISO.</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3.</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Усунення невідповідностей згідно з протоколом, подача звіту в сертифікаційний орган.</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4.</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ертифікація, оформлення сертифіката.</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8484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5.</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идача сертифіката про те, що на підприємстві успішно впроваджена система енергетичного менеджменту відповідно до стандарту ДСТУ і ISO</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08" name="Rectangle 1"/>
          <p:cNvSpPr/>
          <p:nvPr/>
        </p:nvSpPr>
        <p:spPr>
          <a:xfrm>
            <a:off x="2070360" y="180000"/>
            <a:ext cx="57952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рограма впровадження системи енергоменеджменту</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395280" y="620640"/>
          <a:ext cx="8424720" cy="5597640"/>
        </p:xfrm>
        <a:graphic>
          <a:graphicData uri="http://schemas.openxmlformats.org/drawingml/2006/table">
            <a:tbl>
              <a:tblPr/>
              <a:tblGrid>
                <a:gridCol w="576360"/>
                <a:gridCol w="5040360"/>
                <a:gridCol w="2808000"/>
              </a:tblGrid>
              <a:tr h="246240">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йменування заходу</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Межі річної економії,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5160">
                <a:tc gridSpan="3">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Системи електропостачання</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ідтримання номінальних рівнів напруги в мережах</a:t>
                      </a:r>
                      <a:endParaRPr b="0" lang="en-US" sz="14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 % на 1 % підвищення напруги вище U</a:t>
                      </a:r>
                      <a:r>
                        <a:rPr b="0" lang="uk-UA" sz="1400" spc="-1" strike="noStrike" baseline="-25000">
                          <a:solidFill>
                            <a:srgbClr val="000000"/>
                          </a:solidFill>
                          <a:latin typeface="Times New Roman"/>
                          <a:ea typeface="Times New Roman"/>
                        </a:rPr>
                        <a:t>ном</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302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меншення числа особистих побутових приладів (кип'ятильники, кавоварки, електрочайники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20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73512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більшення коефіцієнтів завантаження електроприймачів з електродвигунами і трансформаторних підстанцій та обмеження їх холостого ходу</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0-50 % від споживаної електроприймача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992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ащення систем електропостачання системами моніторингу споживання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0-20%</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6240">
                <a:tc gridSpan="3">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Системи освітлення</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84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корочення сфери застосування ламп розжарювання і заміна їх люмінесцентними</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55%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302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тосування малогабаритних криптонових ламп замість звичайних люмінесцентних</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8%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302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міна люмінесцентних ламп старої модифікації на нові: 18 Вт замість 20. 38 Вт замість 40. 58 Вт замість 65.</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5%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5244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барвлення приміщень в більш світлі тони</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10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956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міна електромагнітних пускорегулювальних пристроїв люмінесцентних ламп на електронні</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1 %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110" name="Прямоугольник 4"/>
          <p:cNvSpPr/>
          <p:nvPr/>
        </p:nvSpPr>
        <p:spPr>
          <a:xfrm>
            <a:off x="2797200" y="179280"/>
            <a:ext cx="34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ипові енергозберігаючі заходи</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468360" y="692280"/>
          <a:ext cx="8353440" cy="5217840"/>
        </p:xfrm>
        <a:graphic>
          <a:graphicData uri="http://schemas.openxmlformats.org/drawingml/2006/table">
            <a:tbl>
              <a:tblPr/>
              <a:tblGrid>
                <a:gridCol w="4176720"/>
                <a:gridCol w="4176720"/>
              </a:tblGrid>
              <a:tr h="210240">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Сильні сторони</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Слабкі сторони</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2255400">
                <a:tc>
                  <a:txBody>
                    <a:bodyPr lIns="50760" rIns="50760" tIns="0" bIns="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ниження витрат на енергетичні ресурси;</a:t>
                      </a:r>
                      <a:br>
                        <a:rPr sz="1200"/>
                      </a:br>
                      <a:r>
                        <a:rPr b="1" lang="uk-UA" sz="1200" spc="-1" strike="noStrike">
                          <a:solidFill>
                            <a:srgbClr val="ffffff"/>
                          </a:solidFill>
                          <a:latin typeface="Times New Roman"/>
                          <a:ea typeface="Times New Roman"/>
                        </a:rPr>
                        <a:t>Підвищення енергоефективності та</a:t>
                      </a:r>
                      <a:br>
                        <a:rPr sz="1200"/>
                      </a:br>
                      <a:r>
                        <a:rPr b="1" lang="uk-UA" sz="1200" spc="-1" strike="noStrike">
                          <a:solidFill>
                            <a:srgbClr val="ffffff"/>
                          </a:solidFill>
                          <a:latin typeface="Times New Roman"/>
                          <a:ea typeface="Times New Roman"/>
                        </a:rPr>
                        <a:t>енергетичної результативності;</a:t>
                      </a:r>
                      <a:br>
                        <a:rPr sz="1200"/>
                      </a:br>
                      <a:r>
                        <a:rPr b="1" lang="uk-UA" sz="1200" spc="-1" strike="noStrike">
                          <a:solidFill>
                            <a:srgbClr val="ffffff"/>
                          </a:solidFill>
                          <a:latin typeface="Times New Roman"/>
                          <a:ea typeface="Times New Roman"/>
                        </a:rPr>
                        <a:t>Підвищення кваліфікації персоналу;</a:t>
                      </a:r>
                      <a:br>
                        <a:rPr sz="1200"/>
                      </a:br>
                      <a:r>
                        <a:rPr b="1" lang="uk-UA" sz="1200" spc="-1" strike="noStrike">
                          <a:solidFill>
                            <a:srgbClr val="ffffff"/>
                          </a:solidFill>
                          <a:latin typeface="Times New Roman"/>
                          <a:ea typeface="Times New Roman"/>
                        </a:rPr>
                        <a:t>Підвищення ефективності експлуатації  обладнання;</a:t>
                      </a:r>
                      <a:endParaRPr b="0" lang="en-US" sz="12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Удосконалення системи управління;</a:t>
                      </a:r>
                      <a:br>
                        <a:rPr sz="1200"/>
                      </a:br>
                      <a:r>
                        <a:rPr b="1" lang="uk-UA" sz="1200" spc="-1" strike="noStrike">
                          <a:solidFill>
                            <a:srgbClr val="ffffff"/>
                          </a:solidFill>
                          <a:latin typeface="Times New Roman"/>
                          <a:ea typeface="Times New Roman"/>
                        </a:rPr>
                        <a:t>Зниження та управлінням ризиком аварійних і надзвичайних ситуацій;</a:t>
                      </a:r>
                      <a:br>
                        <a:rPr sz="1200"/>
                      </a:br>
                      <a:r>
                        <a:rPr b="1" lang="uk-UA" sz="1200" spc="-1" strike="noStrike">
                          <a:solidFill>
                            <a:srgbClr val="ffffff"/>
                          </a:solidFill>
                          <a:latin typeface="Times New Roman"/>
                          <a:ea typeface="Times New Roman"/>
                        </a:rPr>
                        <a:t>Поліпшення зв'язків і системи обміну інформацією всередині колективу.</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cc9900"/>
                    </a:solidFill>
                  </a:tcPr>
                </a:tc>
                <a:tc>
                  <a:txBody>
                    <a:bodyPr lIns="50760" rIns="50760" tIns="0" bIns="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еобхідність отримання кредиту в банку або пошуку інвесторів у разі відсутності власних коштів на впровадження системи енергетичного менеджменту;</a:t>
                      </a:r>
                      <a:br>
                        <a:rPr sz="1200"/>
                      </a:br>
                      <a:r>
                        <a:rPr b="0" lang="uk-UA" sz="1200" spc="-1" strike="noStrike">
                          <a:solidFill>
                            <a:srgbClr val="000000"/>
                          </a:solidFill>
                          <a:latin typeface="Times New Roman"/>
                          <a:ea typeface="Times New Roman"/>
                        </a:rPr>
                        <a:t>Витрати на впровадження СЕМ;</a:t>
                      </a:r>
                      <a:br>
                        <a:rPr sz="1200"/>
                      </a:br>
                      <a:r>
                        <a:rPr b="0" lang="uk-UA" sz="1200" spc="-1" strike="noStrike">
                          <a:solidFill>
                            <a:srgbClr val="000000"/>
                          </a:solidFill>
                          <a:latin typeface="Times New Roman"/>
                          <a:ea typeface="Times New Roman"/>
                        </a:rPr>
                        <a:t>Витрати на закупівлю нового обладнання;</a:t>
                      </a:r>
                      <a:br>
                        <a:rPr sz="1200"/>
                      </a:br>
                      <a:r>
                        <a:rPr b="0" lang="uk-UA" sz="1200" spc="-1" strike="noStrike">
                          <a:solidFill>
                            <a:srgbClr val="000000"/>
                          </a:solidFill>
                          <a:latin typeface="Times New Roman"/>
                          <a:ea typeface="Times New Roman"/>
                        </a:rPr>
                        <a:t>Витрати на впровадження нових технологій;</a:t>
                      </a:r>
                      <a:br>
                        <a:rPr sz="1200"/>
                      </a:br>
                      <a:r>
                        <a:rPr b="0" lang="uk-UA" sz="1200" spc="-1" strike="noStrike">
                          <a:solidFill>
                            <a:srgbClr val="000000"/>
                          </a:solidFill>
                          <a:latin typeface="Times New Roman"/>
                          <a:ea typeface="Times New Roman"/>
                        </a:rPr>
                        <a:t>Витрати на навчання персоналу;</a:t>
                      </a:r>
                      <a:br>
                        <a:rPr sz="1200"/>
                      </a:br>
                      <a:r>
                        <a:rPr b="0" lang="uk-UA" sz="1200" spc="-1" strike="noStrike">
                          <a:solidFill>
                            <a:srgbClr val="000000"/>
                          </a:solidFill>
                          <a:latin typeface="Times New Roman"/>
                          <a:ea typeface="Times New Roman"/>
                        </a:rPr>
                        <a:t>Простій обладнання і процесів під час впровадження нових технологій.</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210240">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Можливості</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агрози</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41960">
                <a:tc>
                  <a:txBody>
                    <a:bodyPr lIns="50760" rIns="50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Відповідність міжнародному стандар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Розширення підприємства за рахунок зекономлених ресурс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Впровадження інноваці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меншення впливу на навколишнє середовище та зменшення екологічних платеж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Поліпшення репутації підприємств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більшення конкурентоспроможності підприємств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Розширення зв'язків у галузі енергоменеджменту поза підприємств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Сумісність з іншими стандартами системи менеджменту (впровадження інтегрованих систем).</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50760" rIns="50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кономічні чинники (коливання цін на ринку, зміна попиту/пропозиції на продукцію, конкуренція);</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нансові ризики (підвищення ставки дисконтування, інфляція);</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літичні фактори (зміни політичної обстановки);</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і фактори (зміни в законодавстві та стандартах);</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ехнологічні та науково-технічні фактори (зміни в технологіях);</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кологічні фактори (можливі підвищення кількості викидів в атмосферу, стічних вод і відходів).</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12" name="Прямоугольник 2"/>
          <p:cNvSpPr/>
          <p:nvPr/>
        </p:nvSpPr>
        <p:spPr>
          <a:xfrm>
            <a:off x="3708720" y="18900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SWOT – матриця</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J:\Магистерская\Дворецька\5.jpg"/>
          <p:cNvPicPr/>
          <p:nvPr/>
        </p:nvPicPr>
        <p:blipFill>
          <a:blip r:embed="rId1"/>
          <a:stretch/>
        </p:blipFill>
        <p:spPr>
          <a:xfrm>
            <a:off x="2050920" y="700200"/>
            <a:ext cx="4886280" cy="5465520"/>
          </a:xfrm>
          <a:prstGeom prst="rect">
            <a:avLst/>
          </a:prstGeom>
          <a:ln w="0">
            <a:noFill/>
          </a:ln>
        </p:spPr>
      </p:pic>
      <p:sp>
        <p:nvSpPr>
          <p:cNvPr id="114" name="Прямоугольник 1"/>
          <p:cNvSpPr/>
          <p:nvPr/>
        </p:nvSpPr>
        <p:spPr>
          <a:xfrm>
            <a:off x="395280" y="237960"/>
            <a:ext cx="820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озроблення заходів з енергозбереження в системі освітлення</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1"/>
          <p:cNvSpPr/>
          <p:nvPr/>
        </p:nvSpPr>
        <p:spPr>
          <a:xfrm>
            <a:off x="2707920" y="189000"/>
            <a:ext cx="33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Енергоаудит теплової частини</a:t>
            </a:r>
            <a:endParaRPr b="0" lang="en-US" sz="1800" spc="-1" strike="noStrike">
              <a:solidFill>
                <a:srgbClr val="000000"/>
              </a:solidFill>
              <a:latin typeface="Arial"/>
            </a:endParaRPr>
          </a:p>
        </p:txBody>
      </p:sp>
      <p:pic>
        <p:nvPicPr>
          <p:cNvPr id="116" name="Picture 2" descr="J:\Магистерская\Дворецька\6.jpg"/>
          <p:cNvPicPr/>
          <p:nvPr/>
        </p:nvPicPr>
        <p:blipFill>
          <a:blip r:embed="rId1"/>
          <a:stretch/>
        </p:blipFill>
        <p:spPr>
          <a:xfrm>
            <a:off x="1754280" y="549360"/>
            <a:ext cx="5614920" cy="5586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19:41:02Z</dcterms:created>
  <dc:creator>Alphacell</dc:creator>
  <dc:description/>
  <dc:language>en-US</dc:language>
  <cp:lastModifiedBy>Admin</cp:lastModifiedBy>
  <dcterms:modified xsi:type="dcterms:W3CDTF">2015-11-24T04:53:09Z</dcterms:modified>
  <cp:revision>84</cp:revision>
  <dc:subject/>
  <dc:title>Слайд 1</dc:title>
</cp:coreProperties>
</file>