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EBF-EB7E-4408-B736-9E324162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5A0-863C-4A46-BB30-BFC5A06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69C-4FF6-43E4-A95B-C27827BA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C56-8A2E-4AA1-B2FD-A2302EED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119-43A2-4F59-919F-843B39F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B81-23E4-46F7-842A-ABB78B6C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C8F-17F3-4BBB-BA3C-327F62E3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21E-8AA1-4651-B70F-8944ED98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D36-FB87-4718-88F0-47E149D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005-340D-451F-B874-3ACFBA97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ED9-EB3D-49B8-9F70-F00AC3C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5E1-A18D-42B2-BEFC-C01E989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88B3-B6D5-4350-A64E-22071B63CAC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471600" y="606600"/>
            <a:ext cx="83088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6"/>
          <p:cNvSpPr/>
          <p:nvPr/>
        </p:nvSpPr>
        <p:spPr>
          <a:xfrm>
            <a:off x="576360" y="646200"/>
            <a:ext cx="826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ізовує збір первинних даних про витрати енергії підприємством в цілому та окремими цехами, а також про параметри, що визначають енерговитр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570600" y="1189440"/>
            <a:ext cx="33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кладає енергобаланс підприєм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555480" y="1621080"/>
            <a:ext cx="36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кладає звіти про енерговитрати в цеха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46840" y="20530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тролює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1089000" y="246744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програми енергозбережен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9"/>
          <p:cNvSpPr/>
          <p:nvPr/>
        </p:nvSpPr>
        <p:spPr>
          <a:xfrm>
            <a:off x="1085040" y="2756520"/>
            <a:ext cx="43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ня завдань в системі енергоменеджмент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3"/>
          <p:cNvSpPr/>
          <p:nvPr/>
        </p:nvSpPr>
        <p:spPr>
          <a:xfrm>
            <a:off x="1083960" y="3051720"/>
            <a:ext cx="41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н контрольно-вимірювального устаткуван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1082520" y="3340440"/>
            <a:ext cx="48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цес навчання персоналу в сфері енергозбереженн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5"/>
          <p:cNvSpPr/>
          <p:nvPr/>
        </p:nvSpPr>
        <p:spPr>
          <a:xfrm>
            <a:off x="588600" y="3915360"/>
            <a:ext cx="100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налізує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9"/>
          <p:cNvSpPr/>
          <p:nvPr/>
        </p:nvSpPr>
        <p:spPr>
          <a:xfrm>
            <a:off x="1092960" y="4347000"/>
            <a:ext cx="36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н споживання енергоресурсів в цеха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3"/>
          <p:cNvSpPr/>
          <p:nvPr/>
        </p:nvSpPr>
        <p:spPr>
          <a:xfrm>
            <a:off x="1076760" y="4731120"/>
            <a:ext cx="48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енціал енергозбереження, що технічно досягаєть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7"/>
          <p:cNvSpPr/>
          <p:nvPr/>
        </p:nvSpPr>
        <p:spPr>
          <a:xfrm>
            <a:off x="1063440" y="50295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нергобаланси підприєм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84680" y="5333040"/>
            <a:ext cx="29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ачення питомих витрат енергії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1640" y="5688360"/>
            <a:ext cx="48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вень фінансових витрат на придбання енергоресурс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83"/>
          <p:cNvSpPr/>
          <p:nvPr/>
        </p:nvSpPr>
        <p:spPr>
          <a:xfrm>
            <a:off x="1044000" y="5988600"/>
            <a:ext cx="67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рядок заохочення персоналу шахти за високі показники енергоефективност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14"/>
          <p:cNvSpPr/>
          <p:nvPr/>
        </p:nvSpPr>
        <p:spPr>
          <a:xfrm>
            <a:off x="2572560" y="1062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Служба енергетичного менеджмен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Соединительная линия уступом 228"/>
          <p:cNvCxnSpPr>
            <a:endCxn id="57" idx="1"/>
          </p:cNvCxnSpPr>
          <p:nvPr/>
        </p:nvCxnSpPr>
        <p:spPr>
          <a:xfrm flipV="1" rot="10800000">
            <a:off x="575640" y="301320"/>
            <a:ext cx="1838880" cy="605520"/>
          </a:xfrm>
          <a:prstGeom prst="bentConnector3">
            <a:avLst>
              <a:gd name="adj1" fmla="val 112433"/>
            </a:avLst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4" name="Соединительная линия уступом 232"/>
          <p:cNvCxnSpPr>
            <a:endCxn id="58" idx="1"/>
          </p:cNvCxnSpPr>
          <p:nvPr/>
        </p:nvCxnSpPr>
        <p:spPr>
          <a:xfrm flipH="1" rot="16200000">
            <a:off x="234720" y="1012320"/>
            <a:ext cx="437400" cy="22464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5" name="Соединительная линия уступом 234"/>
          <p:cNvCxnSpPr/>
          <p:nvPr/>
        </p:nvCxnSpPr>
        <p:spPr>
          <a:xfrm flipH="1" rot="16200000">
            <a:off x="230760" y="1446480"/>
            <a:ext cx="438840" cy="22464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6" name="Соединительная линия уступом 235"/>
          <p:cNvCxnSpPr/>
          <p:nvPr/>
        </p:nvCxnSpPr>
        <p:spPr>
          <a:xfrm flipH="1" rot="16200000">
            <a:off x="235800" y="1863720"/>
            <a:ext cx="437040" cy="22428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7" name="Соединительная линия уступом 236"/>
          <p:cNvCxnSpPr>
            <a:endCxn id="61" idx="1"/>
          </p:cNvCxnSpPr>
          <p:nvPr/>
        </p:nvCxnSpPr>
        <p:spPr>
          <a:xfrm flipH="1" rot="16200000">
            <a:off x="839520" y="236736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8" name="Соединительная линия уступом 238"/>
          <p:cNvCxnSpPr/>
          <p:nvPr/>
        </p:nvCxnSpPr>
        <p:spPr>
          <a:xfrm flipH="1" rot="16200000">
            <a:off x="836280" y="269784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9" name="Соединительная линия уступом 239"/>
          <p:cNvCxnSpPr/>
          <p:nvPr/>
        </p:nvCxnSpPr>
        <p:spPr>
          <a:xfrm flipH="1" rot="16200000">
            <a:off x="838800" y="2970000"/>
            <a:ext cx="3340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0" name="Соединительная линия уступом 240"/>
          <p:cNvCxnSpPr/>
          <p:nvPr/>
        </p:nvCxnSpPr>
        <p:spPr>
          <a:xfrm flipH="1" rot="16200000">
            <a:off x="836280" y="329796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1" name="Соединительная линия уступом 241"/>
          <p:cNvCxnSpPr/>
          <p:nvPr/>
        </p:nvCxnSpPr>
        <p:spPr>
          <a:xfrm flipH="1" rot="16200000">
            <a:off x="-463680" y="3000960"/>
            <a:ext cx="1877040" cy="25956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2" name="Соединительная линия уступом 243"/>
          <p:cNvCxnSpPr/>
          <p:nvPr/>
        </p:nvCxnSpPr>
        <p:spPr>
          <a:xfrm flipH="1" rot="16200000">
            <a:off x="835560" y="4294080"/>
            <a:ext cx="3340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3" name="Соединительная линия уступом 244"/>
          <p:cNvCxnSpPr/>
          <p:nvPr/>
        </p:nvCxnSpPr>
        <p:spPr>
          <a:xfrm flipH="1" rot="16200000">
            <a:off x="836280" y="463752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4" name="Соединительная линия уступом 245"/>
          <p:cNvCxnSpPr/>
          <p:nvPr/>
        </p:nvCxnSpPr>
        <p:spPr>
          <a:xfrm flipH="1" rot="16200000">
            <a:off x="838080" y="493776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5" name="Соединительная линия уступом 246"/>
          <p:cNvCxnSpPr/>
          <p:nvPr/>
        </p:nvCxnSpPr>
        <p:spPr>
          <a:xfrm flipH="1" rot="16200000">
            <a:off x="836280" y="525204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6" name="Соединительная линия уступом 247"/>
          <p:cNvCxnSpPr/>
          <p:nvPr/>
        </p:nvCxnSpPr>
        <p:spPr>
          <a:xfrm flipH="1" rot="16200000">
            <a:off x="836280" y="559188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7" name="Соединительная линия уступом 248"/>
          <p:cNvCxnSpPr/>
          <p:nvPr/>
        </p:nvCxnSpPr>
        <p:spPr>
          <a:xfrm flipH="1" rot="16200000">
            <a:off x="830160" y="5906160"/>
            <a:ext cx="33264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88" name="Прямая со стрелкой 250"/>
          <p:cNvCxnSpPr/>
          <p:nvPr/>
        </p:nvCxnSpPr>
        <p:spPr>
          <a:xfrm>
            <a:off x="338040" y="4068360"/>
            <a:ext cx="8640" cy="24282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9"/>
          <p:cNvSpPr/>
          <p:nvPr/>
        </p:nvSpPr>
        <p:spPr>
          <a:xfrm>
            <a:off x="272880" y="152280"/>
            <a:ext cx="0" cy="801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11"/>
          <p:cNvCxnSpPr/>
          <p:nvPr/>
        </p:nvCxnSpPr>
        <p:spPr>
          <a:xfrm>
            <a:off x="272880" y="953640"/>
            <a:ext cx="26280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91" name="Rectangle 17"/>
          <p:cNvSpPr/>
          <p:nvPr/>
        </p:nvSpPr>
        <p:spPr>
          <a:xfrm>
            <a:off x="508680" y="801360"/>
            <a:ext cx="549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тує пропозиції з управління енерговикористанням в цехах д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1076040" y="1216440"/>
            <a:ext cx="29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питомих енерговитр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1072080" y="1505520"/>
            <a:ext cx="36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провадження енергозберігаючих заход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1071360" y="1800720"/>
            <a:ext cx="39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досконалення системи енергоменеджмент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582480" y="2112480"/>
            <a:ext cx="69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дійснює нормування витрат енергії на роботи, що виконуються в окремих цех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5"/>
          <p:cNvSpPr/>
          <p:nvPr/>
        </p:nvSpPr>
        <p:spPr>
          <a:xfrm>
            <a:off x="514440" y="2590200"/>
            <a:ext cx="82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формує керівництво про показники ефективності роботи підприємства, запропоновані заходи у сфері енергозбереження, перспективні плани підвищення енергетичної ефективност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Соединительная линия уступом 59"/>
          <p:cNvCxnSpPr/>
          <p:nvPr/>
        </p:nvCxnSpPr>
        <p:spPr>
          <a:xfrm flipH="1" rot="16200000">
            <a:off x="825480" y="114984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8" name="Соединительная линия уступом 60"/>
          <p:cNvCxnSpPr/>
          <p:nvPr/>
        </p:nvCxnSpPr>
        <p:spPr>
          <a:xfrm flipH="1" rot="16200000">
            <a:off x="815040" y="1452240"/>
            <a:ext cx="332280" cy="17676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9" name="Соединительная линия уступом 62"/>
          <p:cNvCxnSpPr/>
          <p:nvPr/>
        </p:nvCxnSpPr>
        <p:spPr>
          <a:xfrm flipH="1" rot="16200000">
            <a:off x="825480" y="1738800"/>
            <a:ext cx="332280" cy="17532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00" name="Соединительная линия уступом 63"/>
          <p:cNvCxnSpPr/>
          <p:nvPr/>
        </p:nvCxnSpPr>
        <p:spPr>
          <a:xfrm flipH="1" rot="16200000">
            <a:off x="-264600" y="1439640"/>
            <a:ext cx="1359720" cy="29268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01" name="Соединительная линия уступом 65"/>
          <p:cNvCxnSpPr/>
          <p:nvPr/>
        </p:nvCxnSpPr>
        <p:spPr>
          <a:xfrm flipH="1" rot="16200000">
            <a:off x="108720" y="2405520"/>
            <a:ext cx="588240" cy="249840"/>
          </a:xfrm>
          <a:prstGeom prst="bentConnector2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4"/>
          <p:cNvSpPr/>
          <p:nvPr/>
        </p:nvSpPr>
        <p:spPr>
          <a:xfrm>
            <a:off x="2717640" y="701640"/>
            <a:ext cx="3519720" cy="21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Головний енергет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трелка вправо 4"/>
          <p:cNvSpPr/>
          <p:nvPr/>
        </p:nvSpPr>
        <p:spPr>
          <a:xfrm rot="8638200">
            <a:off x="1907640" y="2211120"/>
            <a:ext cx="884520" cy="43812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трелка вправо 5"/>
          <p:cNvSpPr/>
          <p:nvPr/>
        </p:nvSpPr>
        <p:spPr>
          <a:xfrm rot="6274800">
            <a:off x="2907720" y="3283920"/>
            <a:ext cx="1231920" cy="4446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трелка вправо 7"/>
          <p:cNvSpPr/>
          <p:nvPr/>
        </p:nvSpPr>
        <p:spPr>
          <a:xfrm rot="2052600">
            <a:off x="6141600" y="2224080"/>
            <a:ext cx="903240" cy="43992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трелка вправо 8"/>
          <p:cNvSpPr/>
          <p:nvPr/>
        </p:nvSpPr>
        <p:spPr>
          <a:xfrm rot="4253400">
            <a:off x="4828320" y="3261240"/>
            <a:ext cx="1136520" cy="379440"/>
          </a:xfrm>
          <a:prstGeom prst="rightArrow">
            <a:avLst>
              <a:gd name="adj1" fmla="val 50000"/>
              <a:gd name="adj2" fmla="val 49865"/>
            </a:avLst>
          </a:prstGeom>
          <a:solidFill>
            <a:srgbClr val="5b9bd5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25360" y="2720160"/>
            <a:ext cx="250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безперебійне постачання підприємства електричною і тепловою енергіє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006640" y="4165560"/>
            <a:ext cx="233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своєчасне укладення договорів на використання електричної і теплової енерг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370400" y="3971160"/>
            <a:ext cx="2446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носить пропозиції з розробки норм витрат, заходів і контролює виконання норм витрат енергії, заходів щодо економії електроенергії, тепла і пал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237360" y="2855880"/>
            <a:ext cx="24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носить пропозиції до заохочення працівників служб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2396160" y="1364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ї типової посадової інструк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4"/>
          <p:cNvSpPr/>
          <p:nvPr/>
        </p:nvSpPr>
        <p:spPr>
          <a:xfrm>
            <a:off x="2840040" y="824040"/>
            <a:ext cx="3519360" cy="21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Головний енергет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трелка вправо 4"/>
          <p:cNvSpPr/>
          <p:nvPr/>
        </p:nvSpPr>
        <p:spPr>
          <a:xfrm rot="8638200">
            <a:off x="2030040" y="2332800"/>
            <a:ext cx="884160" cy="438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трелка вправо 5"/>
          <p:cNvSpPr/>
          <p:nvPr/>
        </p:nvSpPr>
        <p:spPr>
          <a:xfrm rot="6274800">
            <a:off x="2842560" y="3552480"/>
            <a:ext cx="1522440" cy="43020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6"/>
          <p:cNvSpPr/>
          <p:nvPr/>
        </p:nvSpPr>
        <p:spPr>
          <a:xfrm rot="2989800">
            <a:off x="6368400" y="1986480"/>
            <a:ext cx="903240" cy="44136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трелка вправо 7"/>
          <p:cNvSpPr/>
          <p:nvPr/>
        </p:nvSpPr>
        <p:spPr>
          <a:xfrm rot="4253400">
            <a:off x="4950360" y="3383640"/>
            <a:ext cx="1136520" cy="379440"/>
          </a:xfrm>
          <a:prstGeom prst="rightArrow">
            <a:avLst>
              <a:gd name="adj1" fmla="val 50000"/>
              <a:gd name="adj2" fmla="val 49865"/>
            </a:avLst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7760" y="2963880"/>
            <a:ext cx="2504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дійснює безпосереднє керівництво службою енергоменеджменту Тульчинської філії ТОВ «ТЕРРА ФУ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95560" y="4704480"/>
            <a:ext cx="236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безпечує нормальне функціонування технічних засобів, що задіяні в роботі системи енергоменеджмен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543560" y="4259520"/>
            <a:ext cx="244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носить пропозиції до заохочення енергоменеджера за високі показники в робот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199200" y="2560680"/>
            <a:ext cx="2424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налізує стан справ з енерговикористання на підприємстві і сумісно з енергоменеджером інформує про це на нарад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2712240" y="142920"/>
            <a:ext cx="38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ї, які слід додатково вв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5000" y="150480"/>
            <a:ext cx="78868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Генплан Тульчинської філії ТОВ «ТЕРРА ФУД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1392120" y="404640"/>
            <a:ext cx="695988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Однолінійна схема електропостачання підприємств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628560" y="777960"/>
            <a:ext cx="81248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Схема цехової мережі компресорного цех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1249200" y="441360"/>
            <a:ext cx="66456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Існуюча теплова схема котельні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628560" y="1392120"/>
            <a:ext cx="8074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2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Розрахунок існуючої теплової схеми підприємств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28560" y="955800"/>
          <a:ext cx="8105760" cy="5198760"/>
        </p:xfrm>
        <a:graphic>
          <a:graphicData uri="http://schemas.openxmlformats.org/drawingml/2006/table">
            <a:tbl>
              <a:tblPr/>
              <a:tblGrid>
                <a:gridCol w="2138400"/>
                <a:gridCol w="1604880"/>
                <a:gridCol w="2013120"/>
                <a:gridCol w="2349360"/>
              </a:tblGrid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ймен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мірн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алюваль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іжопалювальний пері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а теплофікації, 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(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обхідна паровидатність котельні, 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2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живильної води, G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3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8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ількість зворотного конденсату, що надходить в деаератор, G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5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додаткової води, G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и в деаераторі, D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г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плова потужність котельні, Q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Вт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1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робочого палива в котельні, В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робочого палива, В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с. м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и на паливо, Z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грн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98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,3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електричної енергії на власні потреби котельні та підприємства, Е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Вт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8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и на електроенергію, Z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r>
                        <a:rPr b="0" lang="uk-UA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грн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066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трата коштів на енергоносії, Z</a:t>
                      </a:r>
                      <a:r>
                        <a:rPr b="0" lang="uk-UA" sz="9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грн/рі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,17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,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69640"/>
            <a:ext cx="788688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Техніко-економічні показники всіх варіантів модернізації схеми теплопостачання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20880" y="928800"/>
          <a:ext cx="7281720" cy="5553000"/>
        </p:xfrm>
        <a:graphic>
          <a:graphicData uri="http://schemas.openxmlformats.org/drawingml/2006/table">
            <a:tbl>
              <a:tblPr/>
              <a:tblGrid>
                <a:gridCol w="1523880"/>
                <a:gridCol w="704880"/>
                <a:gridCol w="1109520"/>
                <a:gridCol w="809640"/>
                <a:gridCol w="1314360"/>
                <a:gridCol w="811440"/>
                <a:gridCol w="1008000"/>
              </a:tblGrid>
              <a:tr h="492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нуюча схе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ПК – модернізованим паровим котло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ТНУ для ГВ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ТО - повятрянагрівач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ли на вугілл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ЕК - електрокот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опалення, МВ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гарячого водопостачання, МВ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ужність споживачів пари, МВ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ична потужність підприєм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а газу, тис. м3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а вугілля, тонн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а електроенергії, Мвт*год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18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паливо, млн. грн.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рати на електроенергію, млн. грн./рі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річні витрати на паливо та електроенергію, млн..г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італовкладення, млн..г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я коштів, млн.г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ін окупності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к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7" descr=""/>
          <p:cNvPicPr/>
          <p:nvPr/>
        </p:nvPicPr>
        <p:blipFill>
          <a:blip r:embed="rId1"/>
          <a:stretch/>
        </p:blipFill>
        <p:spPr>
          <a:xfrm>
            <a:off x="1332000" y="279360"/>
            <a:ext cx="6480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9000" y="105840"/>
            <a:ext cx="7886880" cy="4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 Light"/>
              </a:rPr>
              <a:t>Впровадження системи енергоменеджменту на підприємстві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53" descr=""/>
          <p:cNvPicPr/>
          <p:nvPr/>
        </p:nvPicPr>
        <p:blipFill>
          <a:blip r:embed="rId1"/>
          <a:stretch/>
        </p:blipFill>
        <p:spPr>
          <a:xfrm>
            <a:off x="1469880" y="587520"/>
            <a:ext cx="65851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23:22:46Z</dcterms:created>
  <dc:creator>Моська</dc:creator>
  <dc:description/>
  <dc:language>en-US</dc:language>
  <cp:lastModifiedBy>Моська</cp:lastModifiedBy>
  <dcterms:modified xsi:type="dcterms:W3CDTF">2015-11-24T00:20:33Z</dcterms:modified>
  <cp:revision>14</cp:revision>
  <dc:subject/>
  <dc:title>Презентация PowerPoint</dc:title>
</cp:coreProperties>
</file>