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09F-735A-44F7-8744-E1F85E92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BC9-7531-4D55-A17F-B0F640FA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0B0-A589-4919-816B-786BDFC3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693-0952-4196-A7C2-C1CFE70A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74D1-48F9-4212-9499-9F8AC901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B008-D116-4AF6-BF2D-88CC8A84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ABE3-DD70-4555-983D-5875C1AF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E84B-6105-401C-9EA8-FF09D12A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2192-04A0-4CC9-92A1-21A05587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F21D-FF00-43A6-AA52-0851250D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ADA5-4C93-44D6-BD54-2BDDB9AB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D13-DE2B-44D7-9B6D-86DBE788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62FF-BCDF-4848-B89B-B0C99DF9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F967-6B05-4745-A966-DE6083AD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BD8D-3276-462D-BE67-2F33CF4D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08B5-197C-405B-8FA8-00209083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8E98-D527-4700-93CC-C96B986F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F4782-4126-4E13-BC2A-F898E385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9E4A9-F62D-49C8-A360-5225B73A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60DBA-5886-4142-A989-4E55CB6D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843C3-EEEC-4FD4-B94C-734B9C44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802E3-2F18-40FA-9B82-13B78A52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397-8E17-4F75-B45E-9DB02958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4DAA-B2F3-4CFB-AF69-4B24A407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6129-30F8-40F4-8694-BE1ADEC0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FD9F7-03A9-47AA-92C0-B1DE3FF2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4234B-B108-40F3-B462-5A7432AC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58348-EC5B-47B9-B82F-8BB368C4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020EC-E575-4739-AE3A-EB3F2549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3F3B1-B68E-470C-9B06-35F5A48C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AA706-179C-419E-96F5-A2EE7EBB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52A50-EE6B-4115-9846-89402BB1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03145-BB62-4EA3-9673-6A1E78F5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7C5-278F-4552-AB2D-3848DC9D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BB7C-9A86-4FEB-A121-1AD2A396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ADE5A-2AFE-4610-BF43-3B97AE7C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94C63-AA4D-4AB1-B85A-C78E5B31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38871-B141-4680-B9BA-E7676133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D3EE8-21D5-4132-938C-1CA55F5E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5DA93-1B21-4241-B073-0EF1073F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68030-E984-45E4-A04F-7973ECB4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1D011-4F9B-45AC-8409-D212A832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8B342-F9A3-4C9D-8D22-BD39E6F6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AAFEB-F816-4DA4-A4AB-72DD7310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9FA-ECA9-4EE9-8E9B-F8A45A51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4CEA5-E419-4D5A-9210-000AC7E3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8F830-45D3-4FD1-9CF8-8DEA6322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E5C36-D377-469D-9642-042C2AC6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604C8-2E83-412C-8B22-AE604FC3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90117-006D-4DED-BBEB-E00D515B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1FC0E-5F7A-40C1-BE50-55C742B0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C7D39-E089-4868-AAFF-1F8BE044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F43B9-4676-4880-B3A9-478E6ED3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DB25F-9F8D-4C96-832C-25E93E23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335D6-1C71-459E-AFDD-B2B84696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989-CDB9-4F04-A573-D2BF5C70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716B2-6A56-48EC-9944-9D2E4D50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BA53D-A90A-419E-97AE-166767FA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9D4AD-B279-4E35-B94E-EE3F8732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A9E4A-B374-486B-9878-3F528BE9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60AFC-7915-4834-952F-1CFBB092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43AA9-D5A1-4874-A99A-C07D4CDA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8BA38-24C5-4A29-A681-2C2E5AF8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D0D6E-DC1E-4D50-9E19-7388310C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F5BD7-E347-43DB-86C7-33DF0D55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D4EF4-1465-4F12-992A-0F940677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E834-DB86-4DA3-828F-274678AB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6008C-5F67-42F5-9703-7991CD59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EE99A-E396-456E-8605-AB4C38E6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57389-EF44-46F9-A974-B6B689C7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A974D-310C-43B0-9C77-4A89B7CA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ADB08-BD4A-4BDC-9E65-55A31261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A118A-177A-494A-AED3-954A6B56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D26A5-B6B6-4520-99A6-FFAC5C14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8E898-CA57-4512-BB4A-CA58846C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53AF8-3681-44D2-A6EF-47EC2173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6B7D0-536D-4D3F-903A-B32CDC75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2BE-E706-42E2-B4A6-7116826C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F18FE-14EC-44FD-8C96-1035655D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AE902-CD3F-4E01-B82B-B09A2833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6381B-D57C-4C78-A5B6-0A866017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5F199-9AF3-4590-BA73-89A83F78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B2B74-D303-43D1-B306-13F49EE6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5F2-0434-48DB-85EA-1DA3AAA9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2E6C-A59A-4296-B476-FEAD2299A590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8fcfd">
              <a:alpha val="33000"/>
            </a:srgbClr>
          </a:solidFill>
          <a:ln cap="rnd" w="3240">
            <a:solidFill>
              <a:srgbClr val="b6cb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afafe"/>
            </a:solidFill>
            <a:miter/>
          </a:ln>
          <a:effectLst>
            <a:outerShdw dist="12600" dir="5400000" blurRad="0" rotWithShape="0">
              <a:srgbClr val="9fadb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46c8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2176-2052-40C7-9B40-D32DF89B2982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46c8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544A-7B68-4B26-9C46-E78C13F8597C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03EB-C79B-498E-A1B6-E83ABCBF89DA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1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05D5-A524-45E2-9767-E474F6992811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FC9D-9772-4A00-8624-76C718903235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ce3e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de9ec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55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fb8c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a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e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80D0-A05D-4E4C-908A-20C212AF593A}" type="slidenum">
              <a:rPr b="0" lang="en-US" sz="1200" spc="-1" strike="noStrike">
                <a:solidFill>
                  <a:srgbClr val="9caeb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26960" y="1484280"/>
            <a:ext cx="78166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0" lang="uk-UA" sz="3500" spc="-1" strike="noStrike">
                <a:solidFill>
                  <a:srgbClr val="633f32"/>
                </a:solidFill>
                <a:latin typeface="Franklin Gothic Book"/>
              </a:rPr>
              <a:t>Магістерська кваліфікаційна робота</a:t>
            </a:r>
            <a:br>
              <a:rPr sz="3500"/>
            </a:br>
            <a:r>
              <a:rPr b="0" lang="uk-UA" sz="3500" spc="-1" strike="noStrike">
                <a:solidFill>
                  <a:srgbClr val="633f32"/>
                </a:solidFill>
                <a:latin typeface="Franklin Gothic Book"/>
              </a:rPr>
              <a:t> на тему:</a:t>
            </a:r>
            <a:br>
              <a:rPr sz="3500"/>
            </a:br>
            <a:r>
              <a:rPr b="0" lang="uk-UA" sz="3500" spc="-1" strike="noStrike">
                <a:solidFill>
                  <a:srgbClr val="633f32"/>
                </a:solidFill>
                <a:latin typeface="Franklin Gothic Book"/>
              </a:rPr>
              <a:t>«</a:t>
            </a:r>
            <a:r>
              <a:rPr b="0" i="1" lang="uk-UA" sz="36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r>
              <a:rPr b="0" lang="uk-UA" sz="3500" spc="-1" strike="noStrike">
                <a:solidFill>
                  <a:srgbClr val="633f32"/>
                </a:solidFill>
                <a:latin typeface="Franklin Gothic Book"/>
              </a:rPr>
              <a:t>»</a:t>
            </a:r>
            <a:endParaRPr b="0" lang="en-US" sz="35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356000" y="4149720"/>
            <a:ext cx="439272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35353e"/>
                </a:solidFill>
                <a:latin typeface="Franklin Gothic Book"/>
              </a:rPr>
              <a:t>Виконала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35353e"/>
                </a:solidFill>
                <a:latin typeface="Franklin Gothic Book"/>
              </a:rPr>
              <a:t>ст. групи КН-14мн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35353e"/>
                </a:solidFill>
                <a:latin typeface="Franklin Gothic Book"/>
              </a:rPr>
              <a:t>Приймак Н.В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35353e"/>
                </a:solidFill>
                <a:latin typeface="Franklin Gothic Book"/>
              </a:rPr>
              <a:t>Науковий керівник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5353e"/>
                </a:solidFill>
                <a:latin typeface="Franklin Gothic Book"/>
              </a:rPr>
              <a:t>PhD</a:t>
            </a:r>
            <a:r>
              <a:rPr b="0" lang="uk-UA" sz="1900" spc="-1" strike="noStrike">
                <a:solidFill>
                  <a:srgbClr val="35353e"/>
                </a:solidFill>
                <a:latin typeface="Franklin Gothic Book"/>
              </a:rPr>
              <a:t>, професор Савчук Т.О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03280" y="1341000"/>
            <a:ext cx="707256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444455"/>
                </a:solidFill>
                <a:latin typeface="Franklin Gothic Book"/>
              </a:rPr>
              <a:t>Значення </a:t>
            </a:r>
            <a:r>
              <a:rPr b="0" i="1" lang="uk-UA" sz="3400" spc="-1" strike="noStrike" u="sng">
                <a:solidFill>
                  <a:srgbClr val="444455"/>
                </a:solidFill>
                <a:uFillTx/>
                <a:latin typeface="Franklin Gothic Book"/>
              </a:rPr>
              <a:t>підтримки </a:t>
            </a:r>
            <a:r>
              <a:rPr b="0" i="1" lang="uk-UA" sz="3400" spc="-1" strike="noStrike">
                <a:solidFill>
                  <a:srgbClr val="444455"/>
                </a:solidFill>
                <a:latin typeface="Franklin Gothic Book"/>
              </a:rPr>
              <a:t>(</a:t>
            </a:r>
            <a:r>
              <a:rPr b="0" i="1" lang="en-US" sz="3400" spc="-1" strike="noStrike">
                <a:solidFill>
                  <a:srgbClr val="444455"/>
                </a:solidFill>
                <a:latin typeface="Franklin Gothic Book"/>
              </a:rPr>
              <a:t>supp</a:t>
            </a:r>
            <a:r>
              <a:rPr b="0" i="1" lang="uk-UA" sz="3400" spc="-1" strike="noStrike">
                <a:solidFill>
                  <a:srgbClr val="444455"/>
                </a:solidFill>
                <a:latin typeface="Franklin Gothic Book"/>
              </a:rPr>
              <a:t>) – 3</a:t>
            </a:r>
            <a:br>
              <a:rPr sz="3400"/>
            </a:br>
            <a:r>
              <a:rPr b="0" i="1" lang="uk-UA" sz="3400" spc="-1" strike="noStrike">
                <a:solidFill>
                  <a:srgbClr val="444455"/>
                </a:solidFill>
                <a:latin typeface="Franklin Gothic Book"/>
              </a:rPr>
              <a:t>Значення </a:t>
            </a:r>
            <a:r>
              <a:rPr b="0" i="1" lang="uk-UA" sz="3400" spc="-1" strike="noStrike" u="sng">
                <a:solidFill>
                  <a:srgbClr val="444455"/>
                </a:solidFill>
                <a:uFillTx/>
                <a:latin typeface="Franklin Gothic Book"/>
              </a:rPr>
              <a:t>достовірності</a:t>
            </a:r>
            <a:r>
              <a:rPr b="0" i="1" lang="uk-UA" sz="3400" spc="-1" strike="noStrike">
                <a:solidFill>
                  <a:srgbClr val="444455"/>
                </a:solidFill>
                <a:latin typeface="Franklin Gothic Book"/>
              </a:rPr>
              <a:t> </a:t>
            </a:r>
            <a:r>
              <a:rPr b="0" i="1" lang="en-US" sz="3400" spc="-1" strike="noStrike">
                <a:solidFill>
                  <a:srgbClr val="444455"/>
                </a:solidFill>
                <a:latin typeface="Franklin Gothic Book"/>
              </a:rPr>
              <a:t>(conf)</a:t>
            </a:r>
            <a:r>
              <a:rPr b="0" i="1" lang="uk-UA" sz="3400" spc="-1" strike="noStrike">
                <a:solidFill>
                  <a:srgbClr val="444455"/>
                </a:solidFill>
                <a:latin typeface="Franklin Gothic Book"/>
              </a:rPr>
              <a:t>- 4</a:t>
            </a:r>
            <a:endParaRPr b="0" lang="en-US" sz="34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1187280" y="6480"/>
            <a:ext cx="7705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187280" y="2936880"/>
          <a:ext cx="7705800" cy="2436840"/>
        </p:xfrm>
        <a:graphic>
          <a:graphicData uri="http://schemas.openxmlformats.org/drawingml/2006/table">
            <a:tbl>
              <a:tblPr/>
              <a:tblGrid>
                <a:gridCol w="2006640"/>
                <a:gridCol w="1744920"/>
                <a:gridCol w="1860480"/>
                <a:gridCol w="2093760"/>
              </a:tblGrid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              </a:t>
                      </a: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Основні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              </a:t>
                      </a: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показ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Підхі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Кількість початкових транзакцій, шт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Кількість знайдених асоціативних правил, шт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Швидкість пошуку асоціативних правил, сек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0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Без використання нечіткої логі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0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З використанням нечіткої логі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  <p:sp>
        <p:nvSpPr>
          <p:cNvPr id="374" name="Пряма сполучна лінія 7"/>
          <p:cNvSpPr/>
          <p:nvPr/>
        </p:nvSpPr>
        <p:spPr>
          <a:xfrm>
            <a:off x="1187280" y="2924280"/>
            <a:ext cx="2016360" cy="122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920" y="894960"/>
            <a:ext cx="788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444455"/>
                </a:solidFill>
                <a:latin typeface="Franklin Gothic Book"/>
              </a:rPr>
              <a:t>Діаграма зміни кількості</a:t>
            </a:r>
            <a:r>
              <a:rPr b="0" i="1" lang="ru-RU" sz="3200" spc="-1" strike="noStrike">
                <a:solidFill>
                  <a:srgbClr val="444455"/>
                </a:solidFill>
                <a:latin typeface="Franklin Gothic Book"/>
              </a:rPr>
              <a:t> предметних</a:t>
            </a:r>
            <a:r>
              <a:rPr b="0" i="1" lang="uk-UA" sz="3200" spc="-1" strike="noStrike">
                <a:solidFill>
                  <a:srgbClr val="444455"/>
                </a:solidFill>
                <a:latin typeface="Franklin Gothic Book"/>
              </a:rPr>
              <a:t> наборів</a:t>
            </a:r>
            <a:endParaRPr b="0" lang="en-US" sz="32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1187280" y="6480"/>
            <a:ext cx="7705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Діаграма 18" descr=""/>
          <p:cNvPicPr/>
          <p:nvPr/>
        </p:nvPicPr>
        <p:blipFill>
          <a:blip r:embed="rId1"/>
          <a:stretch/>
        </p:blipFill>
        <p:spPr>
          <a:xfrm>
            <a:off x="1187280" y="2489040"/>
            <a:ext cx="7705800" cy="310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93560" y="907920"/>
            <a:ext cx="749916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300" spc="-1" strike="noStrike">
                <a:solidFill>
                  <a:srgbClr val="444455"/>
                </a:solidFill>
                <a:latin typeface="Franklin Gothic Book"/>
              </a:rPr>
              <a:t>Економічна частина</a:t>
            </a:r>
            <a:endParaRPr b="0" lang="en-US" sz="4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42560" y="1916280"/>
            <a:ext cx="78915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5353e"/>
                </a:solidFill>
                <a:latin typeface="Franklin Gothic Book"/>
              </a:rPr>
              <a:t>Витрати на розробку вказаної інформаційної технології становлять  24145,62 грн, а загальні витрати в свою чергу – 60364,05 грн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5353e"/>
                </a:solidFill>
                <a:latin typeface="Franklin Gothic Book"/>
              </a:rPr>
              <a:t>Показник абсолютної ефективності вкладених інвестицій Е</a:t>
            </a:r>
            <a:r>
              <a:rPr b="0" lang="uk-UA" sz="3000" spc="-1" strike="noStrike" baseline="-25000">
                <a:solidFill>
                  <a:srgbClr val="35353e"/>
                </a:solidFill>
                <a:latin typeface="Franklin Gothic Book"/>
              </a:rPr>
              <a:t>абс</a:t>
            </a:r>
            <a:r>
              <a:rPr b="0" lang="uk-UA" sz="3000" spc="-1" strike="noStrike">
                <a:solidFill>
                  <a:srgbClr val="35353e"/>
                </a:solidFill>
                <a:latin typeface="Franklin Gothic Book"/>
              </a:rPr>
              <a:t> = 184736,56 грн, відносної – 32%, а термін окупності інвестицій становить 3,1 роки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Прямокутник 3"/>
          <p:cNvSpPr/>
          <p:nvPr/>
        </p:nvSpPr>
        <p:spPr>
          <a:xfrm>
            <a:off x="1042920" y="25560"/>
            <a:ext cx="78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87280" y="641520"/>
            <a:ext cx="7498080" cy="4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900" spc="-1" strike="noStrike">
                <a:solidFill>
                  <a:srgbClr val="35353e"/>
                </a:solidFill>
                <a:latin typeface="Franklin Gothic Book"/>
              </a:rPr>
              <a:t>Висновки</a:t>
            </a:r>
            <a:endParaRPr b="0" lang="en-US" sz="39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26560" y="1052640"/>
            <a:ext cx="8317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5353e"/>
                </a:solidFill>
                <a:latin typeface="Franklin Gothic Book"/>
              </a:rPr>
              <a:t>Запропоновано інформаційну модель процесу пошуку асоціативних правил при прийнятті рішень в маркетинговій діяльності, що реалізує математично описану задачу пошуку асоціативних правил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5353e"/>
                </a:solidFill>
                <a:latin typeface="Franklin Gothic Book"/>
              </a:rPr>
              <a:t>Удосконалено метод пошуку асоціативних правил при прийнятті рішень в маркетинговій діяльності з використанням </a:t>
            </a:r>
            <a:r>
              <a:rPr b="0" lang="en-US" sz="2100" spc="-1" strike="noStrike">
                <a:solidFill>
                  <a:srgbClr val="35353e"/>
                </a:solidFill>
                <a:latin typeface="Franklin Gothic Book"/>
              </a:rPr>
              <a:t>FP</a:t>
            </a:r>
            <a:r>
              <a:rPr b="0" lang="uk-UA" sz="2100" spc="-1" strike="noStrike">
                <a:solidFill>
                  <a:srgbClr val="35353e"/>
                </a:solidFill>
                <a:latin typeface="Franklin Gothic Book"/>
              </a:rPr>
              <a:t>-</a:t>
            </a:r>
            <a:r>
              <a:rPr b="0" lang="ru-RU" sz="2100" spc="-1" strike="noStrike">
                <a:solidFill>
                  <a:srgbClr val="35353e"/>
                </a:solidFill>
                <a:latin typeface="Franklin Gothic Book"/>
              </a:rPr>
              <a:t>дерев, що дозволило збільшити швидкодію пошуку залежностей, та, за рахунок використання нечіткої логіки, підвищити їх інформативність</a:t>
            </a:r>
            <a:r>
              <a:rPr b="0" lang="uk-UA" sz="2100" spc="-1" strike="noStrike">
                <a:solidFill>
                  <a:srgbClr val="35353e"/>
                </a:solidFill>
                <a:latin typeface="Franklin Gothic 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5353e"/>
                </a:solidFill>
                <a:latin typeface="Franklin Gothic Book"/>
              </a:rPr>
              <a:t>Синтезовано структуру відповідної інформаційної технології,  що відображає процес збору, зберігання та оброблення інформації про покупки користувачів</a:t>
            </a:r>
            <a:r>
              <a:rPr b="0" lang="uk-UA" sz="2100" spc="-1" strike="noStrike">
                <a:solidFill>
                  <a:srgbClr val="35353e"/>
                </a:solidFill>
                <a:latin typeface="Franklin Gothic 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5353e"/>
                </a:solidFill>
                <a:latin typeface="Franklin Gothic Book"/>
              </a:rPr>
              <a:t>Результати дослідження, отримані під час виконання магістерської кваліфікаційної роботи, підтверджують підвищення ефективності процесу винайдення асоціативних правил за рахунок  збільшення швидкодії пошуку на 0,4 секунд, що складає 4%, та зростанню їх інформативності в 5 разів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1187280" y="6480"/>
            <a:ext cx="7705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386000" y="1988640"/>
            <a:ext cx="73087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35353e"/>
                </a:solidFill>
                <a:latin typeface="Franklin Gothic Book"/>
              </a:rPr>
              <a:t>За результатами магістерської кваліфікаційної роботи опубліковано 2 статті в фахових виданнях, 3 тези доповідей в збірниках праць всеукраїнських наукових  конференцій, 2 тези доповідей в збірниках праць міжнародних наукових конференцій, 2 тези в збірниках праць регіональних науково-технічних конференцій, а також отримано 2 свідоцтва про реєстрацію авторського права на тві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1214280" y="115920"/>
            <a:ext cx="77043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2000160" y="1268280"/>
            <a:ext cx="530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5353e"/>
                </a:solidFill>
                <a:latin typeface="Franklin Gothic Book"/>
              </a:rPr>
              <a:t>АПРОБАЦ</a:t>
            </a:r>
            <a:r>
              <a:rPr b="0" i="1" lang="uk-UA" sz="3000" spc="-1" strike="noStrike">
                <a:solidFill>
                  <a:srgbClr val="35353e"/>
                </a:solidFill>
                <a:latin typeface="Franklin Gothic Book"/>
              </a:rPr>
              <a:t>ІЇ ТА ПУБЛІКАЦІЇ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35353e"/>
                </a:solidFill>
                <a:latin typeface="Franklin Gothic Book"/>
              </a:rPr>
              <a:t>Дякую за увагу!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7499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221840" y="1196640"/>
            <a:ext cx="79218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1160" indent="-281160">
              <a:lnSpc>
                <a:spcPct val="100000"/>
              </a:lnSpc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35353e"/>
                </a:solidFill>
                <a:latin typeface="Franklin Gothic Book"/>
              </a:rPr>
              <a:t>Метою роботи </a:t>
            </a:r>
            <a:r>
              <a:rPr b="0" lang="uk-UA" sz="2500" spc="-1" strike="noStrike">
                <a:solidFill>
                  <a:srgbClr val="35353e"/>
                </a:solidFill>
                <a:latin typeface="Franklin Gothic Book"/>
              </a:rPr>
              <a:t>є підвищення ефективності процесу винайдення асоціативних правил за рахунок  збільшення швидкодії пошуку та зростання їх інформативності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35353e"/>
                </a:solidFill>
                <a:latin typeface="Franklin Gothic Book"/>
              </a:rPr>
              <a:t>Об’єкт дослідження</a:t>
            </a:r>
            <a:r>
              <a:rPr b="0" i="1" lang="uk-UA" sz="2500" spc="-1" strike="noStrike">
                <a:solidFill>
                  <a:srgbClr val="35353e"/>
                </a:solidFill>
                <a:latin typeface="Franklin Gothic Book"/>
              </a:rPr>
              <a:t> </a:t>
            </a:r>
            <a:r>
              <a:rPr b="0" lang="ru-RU" sz="2500" spc="-1" strike="noStrike">
                <a:solidFill>
                  <a:srgbClr val="35353e"/>
                </a:solidFill>
                <a:latin typeface="Franklin Gothic Book"/>
              </a:rPr>
              <a:t>– </a:t>
            </a:r>
            <a:r>
              <a:rPr b="0" lang="uk-UA" sz="2500" spc="-1" strike="noStrike">
                <a:solidFill>
                  <a:srgbClr val="35353e"/>
                </a:solidFill>
                <a:latin typeface="Franklin Gothic Book"/>
              </a:rPr>
              <a:t>процес пошуку асоціативних правил при прийнятті рішень в маркетинговій діяльності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35353e"/>
                </a:solidFill>
                <a:latin typeface="Franklin Gothic Book"/>
              </a:rPr>
              <a:t>Предмет дослідження</a:t>
            </a:r>
            <a:r>
              <a:rPr b="0" lang="ru-RU" sz="2500" spc="-1" strike="noStrike">
                <a:solidFill>
                  <a:srgbClr val="35353e"/>
                </a:solidFill>
                <a:latin typeface="Franklin Gothic Book"/>
              </a:rPr>
              <a:t> – </a:t>
            </a:r>
            <a:r>
              <a:rPr b="0" lang="uk-UA" sz="2500" spc="-1" strike="noStrike">
                <a:solidFill>
                  <a:srgbClr val="35353e"/>
                </a:solidFill>
                <a:latin typeface="Franklin Gothic Book"/>
              </a:rPr>
              <a:t>інформаційні технології пошуку  асоціативних правил при прийнятті рішень в маркетинговій діяльності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187280" y="764640"/>
            <a:ext cx="74980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5353e"/>
                </a:solidFill>
                <a:latin typeface="Franklin Gothic Book"/>
              </a:rPr>
              <a:t>Управлінська діяльність у сфері маркетингу пов'язана з прийняттям відповідних рішень. Планування діяльності організації є одним із важливих завдань, що  виникає у маркетинговій політиці підприємств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5353e"/>
                </a:solidFill>
                <a:latin typeface="Franklin Gothic Book"/>
              </a:rPr>
              <a:t>Основною задачею інформаційної технології пошуку асоціативних правил при прийнятті рішень в маркетинговій діяльності є аналіз накопичених  даних з метою прийняття подальших управлінських рішень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5353e"/>
                </a:solidFill>
                <a:latin typeface="Franklin Gothic Book"/>
              </a:rPr>
              <a:t>Інформаційна технологія не може бути єдиним інструментом в досягненні поставлених цілей при прийнятті маркетингових рішень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Picture 15" descr="all_people.png"/>
          <p:cNvPicPr/>
          <p:nvPr/>
        </p:nvPicPr>
        <p:blipFill>
          <a:blip r:embed="rId1"/>
          <a:stretch/>
        </p:blipFill>
        <p:spPr>
          <a:xfrm>
            <a:off x="1042920" y="4643280"/>
            <a:ext cx="8101080" cy="22147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7705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444455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180800" y="1341360"/>
            <a:ext cx="7785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35353e"/>
                </a:solidFill>
                <a:latin typeface="Franklin Gothic Book"/>
              </a:rPr>
              <a:t>Технології інтелектуального аналізу даних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35353e"/>
                </a:solidFill>
                <a:latin typeface="Franklin Gothic Book"/>
              </a:rPr>
              <a:t>Методи кореляційно-регресійного аналізу,  методи кластеризації та групування, методи нечіткої логіки, генетичні алгоритми та інші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35353e"/>
                </a:solidFill>
                <a:latin typeface="Franklin Gothic Book"/>
              </a:rPr>
              <a:t>Технології підтримки прийняття рішень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35353e"/>
                </a:solidFill>
                <a:latin typeface="Franklin Gothic Book"/>
              </a:rPr>
              <a:t>Методи генерування альтернатив, експертні методи прийняття рішень, методи прогнозування, дослідження операцій та імітаційного моделювання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93480" y="115920"/>
            <a:ext cx="7499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444455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оугольник 2"/>
          <p:cNvSpPr/>
          <p:nvPr/>
        </p:nvSpPr>
        <p:spPr>
          <a:xfrm>
            <a:off x="1004760" y="981000"/>
            <a:ext cx="8143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35353e"/>
                </a:solidFill>
                <a:latin typeface="Franklin Gothic Book"/>
              </a:rPr>
              <a:t>Порівняльна характеристика технічних показників існуючих маркетингових СППР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23640" y="129960"/>
            <a:ext cx="770580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444455"/>
              </a:solidFill>
              <a:latin typeface="Gill Sans MT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004760" y="2060640"/>
          <a:ext cx="7888320" cy="3938400"/>
        </p:xfrm>
        <a:graphic>
          <a:graphicData uri="http://schemas.openxmlformats.org/drawingml/2006/table">
            <a:tbl>
              <a:tblPr/>
              <a:tblGrid>
                <a:gridCol w="2389320"/>
                <a:gridCol w="838080"/>
                <a:gridCol w="785880"/>
                <a:gridCol w="811440"/>
                <a:gridCol w="1106280"/>
                <a:gridCol w="968400"/>
                <a:gridCol w="988920"/>
              </a:tblGrid>
              <a:tr h="53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 u="sng">
                          <a:solidFill>
                            <a:srgbClr val="ffffff"/>
                          </a:solidFill>
                          <a:uFillTx/>
                          <a:latin typeface="Franklin Gothic Book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F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roject Exp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Marketing Exp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ecision G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Advanced Sc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Зручність інтерфейсу користув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ожливість аналізу ринку товарів та по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81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ожливість визначення показника доцільності продажів това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545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ожливість пошуку асоціативних прави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54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ожливість роботи системи на будь-яких О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54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ожливість роботи за відсутності Інтерн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28480" y="1357200"/>
            <a:ext cx="7497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444455"/>
                </a:solidFill>
                <a:latin typeface="Franklin Gothic Book"/>
              </a:rPr>
              <a:t>Постановка задачі</a:t>
            </a:r>
            <a:br>
              <a:rPr sz="3400"/>
            </a:br>
            <a:endParaRPr b="0" lang="en-US" sz="34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186920" y="1412640"/>
            <a:ext cx="770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800" y="24804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1187280" y="84240"/>
            <a:ext cx="7705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3324960" y="28476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Об'єкт 7"/>
              <p:cNvSpPr txBox="1"/>
              <p:nvPr/>
            </p:nvSpPr>
            <p:spPr>
              <a:xfrm>
                <a:off x="1619280" y="1733400"/>
                <a:ext cx="1873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Об'єкт 9"/>
              <p:cNvSpPr txBox="1"/>
              <p:nvPr/>
            </p:nvSpPr>
            <p:spPr>
              <a:xfrm>
                <a:off x="1619280" y="2292480"/>
                <a:ext cx="2016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Об'єкт 12"/>
              <p:cNvSpPr txBox="1"/>
              <p:nvPr/>
            </p:nvSpPr>
            <p:spPr>
              <a:xfrm>
                <a:off x="1619280" y="2781360"/>
                <a:ext cx="16574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Об'єкт 14"/>
              <p:cNvSpPr txBox="1"/>
              <p:nvPr/>
            </p:nvSpPr>
            <p:spPr>
              <a:xfrm>
                <a:off x="1619280" y="3284640"/>
                <a:ext cx="30430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Об'єкт 16"/>
              <p:cNvSpPr txBox="1"/>
              <p:nvPr/>
            </p:nvSpPr>
            <p:spPr>
              <a:xfrm>
                <a:off x="1619280" y="3789360"/>
                <a:ext cx="2351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Об'єкт 18"/>
              <p:cNvSpPr txBox="1"/>
              <p:nvPr/>
            </p:nvSpPr>
            <p:spPr>
              <a:xfrm>
                <a:off x="1584360" y="4292640"/>
                <a:ext cx="2990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Об'єкт 20"/>
              <p:cNvSpPr txBox="1"/>
              <p:nvPr/>
            </p:nvSpPr>
            <p:spPr>
              <a:xfrm>
                <a:off x="1547640" y="4797360"/>
                <a:ext cx="1204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Об'єкт 23"/>
              <p:cNvSpPr txBox="1"/>
              <p:nvPr/>
            </p:nvSpPr>
            <p:spPr>
              <a:xfrm>
                <a:off x="1547640" y="5445000"/>
                <a:ext cx="25592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up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71280" y="641160"/>
            <a:ext cx="806436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300" spc="-1" strike="noStrike">
                <a:solidFill>
                  <a:srgbClr val="444455"/>
                </a:solidFill>
                <a:latin typeface="Franklin Gothic Book"/>
              </a:rPr>
              <a:t>Удосконалений метод прийняття рішень у маркетинговій діяльності</a:t>
            </a:r>
            <a:endParaRPr b="0" lang="en-US" sz="23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1187280" y="6480"/>
            <a:ext cx="7705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1655640" y="1515960"/>
            <a:ext cx="6286680" cy="50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71280" y="2565000"/>
            <a:ext cx="3887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35353e"/>
                </a:solidFill>
                <a:latin typeface="Franklin Gothic Book"/>
              </a:rPr>
              <a:t>Структура інформаційної технології</a:t>
            </a:r>
            <a:endParaRPr b="0" lang="en-US" sz="3000" spc="-1" strike="noStrike">
              <a:solidFill>
                <a:srgbClr val="444455"/>
              </a:solidFill>
              <a:latin typeface="Gill Sans MT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1187280" y="6480"/>
            <a:ext cx="7705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Рисунок 14" descr=""/>
          <p:cNvPicPr/>
          <p:nvPr/>
        </p:nvPicPr>
        <p:blipFill>
          <a:blip r:embed="rId1"/>
          <a:stretch/>
        </p:blipFill>
        <p:spPr>
          <a:xfrm>
            <a:off x="5040360" y="655560"/>
            <a:ext cx="3460680" cy="6099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1187280" y="6480"/>
            <a:ext cx="7705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33f32"/>
                </a:solidFill>
                <a:latin typeface="Corbel"/>
              </a:rPr>
              <a:t>Інформаційна технологія пошуку асоціативних правил при прийнятті рішень в маркетинговій діяльн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692280"/>
            <a:ext cx="7499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444455"/>
                </a:solidFill>
                <a:latin typeface="Franklin Gothic Book"/>
              </a:rPr>
              <a:t>Результати роботи програмного засобу</a:t>
            </a:r>
            <a:endParaRPr b="0" lang="en-US" sz="3200" spc="-1" strike="noStrike">
              <a:solidFill>
                <a:srgbClr val="444455"/>
              </a:solidFill>
              <a:latin typeface="Gill Sans MT"/>
            </a:endParaRPr>
          </a:p>
        </p:txBody>
      </p:sp>
      <p:pic>
        <p:nvPicPr>
          <p:cNvPr id="369" name="Рисунок 16" descr="Опис : B:\!ДИПЛОМ 5 курс\!!!!мій диплом\documents-export-2015-11-06\2.jpg"/>
          <p:cNvPicPr/>
          <p:nvPr/>
        </p:nvPicPr>
        <p:blipFill>
          <a:blip r:embed="rId1"/>
          <a:stretch/>
        </p:blipFill>
        <p:spPr>
          <a:xfrm>
            <a:off x="1042920" y="1341360"/>
            <a:ext cx="3997440" cy="2716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Users\ччч\Desktop\й.jpg"/>
          <p:cNvPicPr/>
          <p:nvPr/>
        </p:nvPicPr>
        <p:blipFill>
          <a:blip r:embed="rId2"/>
          <a:stretch/>
        </p:blipFill>
        <p:spPr>
          <a:xfrm>
            <a:off x="4788000" y="3573360"/>
            <a:ext cx="4216320" cy="3197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8:41:38Z</dcterms:created>
  <dc:creator>Лена</dc:creator>
  <dc:description/>
  <dc:language>en-US</dc:language>
  <cp:lastModifiedBy>Natalia</cp:lastModifiedBy>
  <dcterms:modified xsi:type="dcterms:W3CDTF">2015-11-18T05:48:37Z</dcterms:modified>
  <cp:revision>100</cp:revision>
  <dc:subject/>
  <dc:title>Technological Awakening</dc:title>
</cp:coreProperties>
</file>