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310-9FED-44CB-8153-896F84CE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9B2-B382-4538-847A-A6C97933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4A0-3DC0-4755-ACB6-F77B033E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9AE-A59A-43D8-8CC2-32CC978C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596C-D941-436F-97CA-1590BC47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06E5-7216-4763-91CE-32765673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64F3-7260-4F29-9A61-84FD0B8B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7F8D-0BB6-4B80-A750-0E65A794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25EA-2CE2-4DA2-AC44-E7862948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6A62-59ED-4DA6-8990-24F11EE2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A57A-BA8D-4C32-BF99-32B4BCA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055-846D-4FAF-8B94-0EDE416A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034D-0D5F-4432-8CC6-6D162D09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E9BD-F016-4828-9B40-68A2150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F144-7C97-4045-BF6A-02324CE0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6071-B8F2-44B1-A75B-DDC35581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4B45-9F16-4474-988C-666685F2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085D-98FB-4DA0-B256-029C7031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CFBC-1B87-466E-A113-178A980E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3AF3-DFAB-4268-9FC5-7EA61560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1212-CB93-4F88-B79B-09E3B34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25F2F-D9F4-4E76-AF00-A3AEF205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A59-0BB6-47E1-BB9D-022C8075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EF49-5693-46B2-BF11-8CBB5C3E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A82F9-7E2F-40B5-8789-870F726D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E43B-13F6-4FF2-9047-41E24D45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7387-67C5-42AA-B72B-065C2857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C44C-CBF5-4C3D-AF3E-EEB519F9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BE29-94CC-425C-BAFE-EECA9146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5946-AD70-4A82-80A3-566EBBF3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C82E-E219-4EC4-87C7-C874CA15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E9CF-EAFD-4205-A2E4-9817B619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D70C-7ADE-4CED-BC24-9D13B0FF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98B-438B-4A91-89EA-CEE896A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56F9-7AB5-437B-9BBD-F2D62BAD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F3B8-24B4-4DA1-88D5-9CEFF69F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708E-389A-42DB-A6BD-880331C5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A3E89-50A7-47E2-900C-A7E98DD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52F3-9A1D-49CB-925C-CD0E6C41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D4DC-985C-4B76-832E-096EAA0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EBB3-CCA1-4EDC-ACA2-77C5587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F446-E7F8-4164-B44E-259742A4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2890-5636-428A-95B1-2D75BA29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9AAD4-73AD-43C3-AC52-D52B527A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1EE-039D-48F5-B724-2C2B481E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20E6-D5F2-4C1F-8A01-CD78EF24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5762-63BD-4620-9183-8C5E7AA2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C6605-025E-4C69-A8CF-82E9EA2C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0EF7-762C-44AA-AB6B-0D456A99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0526-7125-4713-AE87-524ED140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4723-2224-4C71-B8E1-3423250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E4FC-0458-4046-A944-8CD2836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AED46-E857-4DAC-9CFE-F6CAD9D0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BEF6C-A0C1-4872-97B5-61CA83D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7E4E6-81F6-4F67-BD7A-E5D6AFDE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009-3E2A-4C36-9882-61F970D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11D0-B414-4E5D-8192-4F231492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18380-AE9C-4F59-8EB5-13CBF859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16AC2-6BDC-4E3E-9900-06C8600C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3A7AB-C09A-4EF3-AF6C-AC1C0DD4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32E4-D399-404C-BA13-4D9EED15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C717-8E5A-497E-A2E4-AAD2C16B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5A7D1-1938-4082-8859-B48D101D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3553E-DCCA-44C7-9243-CA2A0566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F1FBF-E600-4983-814B-5692F330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2D4CD-3EE8-4A6F-9EA4-0ED771FC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EDE-4A65-41B2-AD22-67B97F69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FA973-C82D-430B-B8E6-F6A8EC4F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3A313-6623-4E44-AEB6-747B5668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1219F-8F90-4791-B5C8-5E7DF478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7D263-A990-4D6C-A911-57299098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4D18-3FC3-4C5E-8D02-A6356CDE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DF747-4A36-4C2C-8D21-80091246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80FF-CAA8-40D6-B689-AE1178DD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0723C-0D69-4937-86A2-371F3DFE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8343-ECE0-42F0-A777-9A35FAC2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16A2A-0C4D-4601-889F-37EF73D9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F65-0673-46B3-9D23-8EEA0D0B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19B4-70CC-46B0-B0A2-767FA914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0ACD3-51A4-4C4D-8A1A-A670BDA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2DCDB-3BA6-4B3B-8235-68F46B1E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2EE0-300E-4C4E-9937-A065DCF7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1437-7C74-4D4A-8902-79A2F542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164-BC08-4BC6-8333-089E5D7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8803-1EAB-433B-A51D-42EBDA6CC7E2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1CBC-EED5-4B3C-A4A2-689A9A5DC2CC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68AC-BB97-4DB3-890F-09AD49B08C99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7E8E-60A2-4848-9273-2FE2F82A5C27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E1E1-ADB0-4898-99A4-8581A33B96AA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3477-9F40-4A01-A0B6-38E431E6F7CD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e3e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de9e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3309-92A6-4628-B0B2-DA9E44CF02FB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26960" y="1484280"/>
            <a:ext cx="78166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uk-UA" sz="3500" spc="-1" strike="noStrike">
                <a:solidFill>
                  <a:srgbClr val="633f32"/>
                </a:solidFill>
                <a:latin typeface="Franklin Gothic Book"/>
              </a:rPr>
              <a:t>Магістерська кваліфікаційна робота</a:t>
            </a:r>
            <a:br>
              <a:rPr sz="3500"/>
            </a:br>
            <a:r>
              <a:rPr b="0" lang="uk-UA" sz="3500" spc="-1" strike="noStrike">
                <a:solidFill>
                  <a:srgbClr val="633f32"/>
                </a:solidFill>
                <a:latin typeface="Franklin Gothic Book"/>
              </a:rPr>
              <a:t> на тему:</a:t>
            </a:r>
            <a:br>
              <a:rPr sz="3500"/>
            </a:br>
            <a:r>
              <a:rPr b="0" lang="uk-UA" sz="3500" spc="-1" strike="noStrike">
                <a:solidFill>
                  <a:srgbClr val="633f32"/>
                </a:solidFill>
                <a:latin typeface="Franklin Gothic Book"/>
              </a:rPr>
              <a:t>«</a:t>
            </a:r>
            <a:r>
              <a:rPr b="0" i="1" lang="uk-UA" sz="36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r>
              <a:rPr b="0" lang="uk-UA" sz="3500" spc="-1" strike="noStrike">
                <a:solidFill>
                  <a:srgbClr val="633f32"/>
                </a:solidFill>
                <a:latin typeface="Franklin Gothic Book"/>
              </a:rPr>
              <a:t>»</a:t>
            </a:r>
            <a:endParaRPr b="0" lang="en-US" sz="35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4149720"/>
            <a:ext cx="4392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35353e"/>
                </a:solidFill>
                <a:latin typeface="Franklin Gothic Book"/>
              </a:rPr>
              <a:t>Виконала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35353e"/>
                </a:solidFill>
                <a:latin typeface="Franklin Gothic Book"/>
              </a:rPr>
              <a:t>ст. групи КН-14мн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35353e"/>
                </a:solidFill>
                <a:latin typeface="Franklin Gothic Book"/>
              </a:rPr>
              <a:t>Приймак Н.В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35353e"/>
                </a:solidFill>
                <a:latin typeface="Franklin Gothic Book"/>
              </a:rPr>
              <a:t>Науковий керівник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5353e"/>
                </a:solidFill>
                <a:latin typeface="Franklin Gothic Book"/>
              </a:rPr>
              <a:t>PhD</a:t>
            </a:r>
            <a:r>
              <a:rPr b="0" lang="uk-UA" sz="1900" spc="-1" strike="noStrike">
                <a:solidFill>
                  <a:srgbClr val="35353e"/>
                </a:solidFill>
                <a:latin typeface="Franklin Gothic Book"/>
              </a:rPr>
              <a:t>, професор Савчук Т.О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03280" y="1341000"/>
            <a:ext cx="70725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Значення </a:t>
            </a:r>
            <a:r>
              <a:rPr b="0" i="1" lang="uk-UA" sz="3400" spc="-1" strike="noStrike" u="sng">
                <a:solidFill>
                  <a:srgbClr val="444455"/>
                </a:solidFill>
                <a:uFillTx/>
                <a:latin typeface="Franklin Gothic Book"/>
              </a:rPr>
              <a:t>підтримки </a:t>
            </a: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(</a:t>
            </a:r>
            <a:r>
              <a:rPr b="0" i="1" lang="en-US" sz="3400" spc="-1" strike="noStrike">
                <a:solidFill>
                  <a:srgbClr val="444455"/>
                </a:solidFill>
                <a:latin typeface="Franklin Gothic Book"/>
              </a:rPr>
              <a:t>supp</a:t>
            </a: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) – 3</a:t>
            </a:r>
            <a:br>
              <a:rPr sz="3400"/>
            </a:b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Значення </a:t>
            </a:r>
            <a:r>
              <a:rPr b="0" i="1" lang="uk-UA" sz="3400" spc="-1" strike="noStrike" u="sng">
                <a:solidFill>
                  <a:srgbClr val="444455"/>
                </a:solidFill>
                <a:uFillTx/>
                <a:latin typeface="Franklin Gothic Book"/>
              </a:rPr>
              <a:t>достовірності</a:t>
            </a: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 </a:t>
            </a:r>
            <a:r>
              <a:rPr b="0" i="1" lang="en-US" sz="3400" spc="-1" strike="noStrike">
                <a:solidFill>
                  <a:srgbClr val="444455"/>
                </a:solidFill>
                <a:latin typeface="Franklin Gothic Book"/>
              </a:rPr>
              <a:t>(conf)</a:t>
            </a: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- 4</a:t>
            </a:r>
            <a:endParaRPr b="0" lang="en-US" sz="34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187280" y="2936880"/>
          <a:ext cx="7705800" cy="2436840"/>
        </p:xfrm>
        <a:graphic>
          <a:graphicData uri="http://schemas.openxmlformats.org/drawingml/2006/table">
            <a:tbl>
              <a:tblPr/>
              <a:tblGrid>
                <a:gridCol w="2006640"/>
                <a:gridCol w="1744920"/>
                <a:gridCol w="1860480"/>
                <a:gridCol w="2093760"/>
              </a:tblGrid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             </a:t>
                      </a: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Основні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             </a:t>
                      </a: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оказ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ідхі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ількість початкових транзакцій, ш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ількість знайдених асоціативних правил, ш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Швидкість пошуку асоціативних правил, сек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0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ез використання нечіткої логі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0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 використанням нечіткої логі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74" name="Пряма сполучна лінія 7"/>
          <p:cNvSpPr/>
          <p:nvPr/>
        </p:nvSpPr>
        <p:spPr>
          <a:xfrm>
            <a:off x="1187280" y="2924280"/>
            <a:ext cx="2016360" cy="122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920" y="894960"/>
            <a:ext cx="788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44455"/>
                </a:solidFill>
                <a:latin typeface="Franklin Gothic Book"/>
              </a:rPr>
              <a:t>Діаграма зміни кількості</a:t>
            </a:r>
            <a:r>
              <a:rPr b="0" i="1" lang="ru-RU" sz="3200" spc="-1" strike="noStrike">
                <a:solidFill>
                  <a:srgbClr val="444455"/>
                </a:solidFill>
                <a:latin typeface="Franklin Gothic Book"/>
              </a:rPr>
              <a:t> предметних</a:t>
            </a:r>
            <a:r>
              <a:rPr b="0" i="1" lang="uk-UA" sz="3200" spc="-1" strike="noStrike">
                <a:solidFill>
                  <a:srgbClr val="444455"/>
                </a:solidFill>
                <a:latin typeface="Franklin Gothic Book"/>
              </a:rPr>
              <a:t> наборів</a:t>
            </a:r>
            <a:endParaRPr b="0" lang="en-US" sz="32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Діаграма 18" descr=""/>
          <p:cNvPicPr/>
          <p:nvPr/>
        </p:nvPicPr>
        <p:blipFill>
          <a:blip r:embed="rId1"/>
          <a:stretch/>
        </p:blipFill>
        <p:spPr>
          <a:xfrm>
            <a:off x="1187280" y="2489040"/>
            <a:ext cx="7705800" cy="310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93560" y="907920"/>
            <a:ext cx="74991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300" spc="-1" strike="noStrike">
                <a:solidFill>
                  <a:srgbClr val="444455"/>
                </a:solidFill>
                <a:latin typeface="Franklin Gothic Book"/>
              </a:rPr>
              <a:t>Економічна частина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1916280"/>
            <a:ext cx="78915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5353e"/>
                </a:solidFill>
                <a:latin typeface="Franklin Gothic Book"/>
              </a:rPr>
              <a:t>Витрати на розробку вказаної інформаційної технології становлять  24145,62 грн, а загальні витрати в свою чергу – 60364,05 грн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5353e"/>
                </a:solidFill>
                <a:latin typeface="Franklin Gothic Book"/>
              </a:rPr>
              <a:t>Показник абсолютної ефективності вкладених інвестицій Е</a:t>
            </a:r>
            <a:r>
              <a:rPr b="0" lang="uk-UA" sz="3000" spc="-1" strike="noStrike" baseline="-25000">
                <a:solidFill>
                  <a:srgbClr val="35353e"/>
                </a:solidFill>
                <a:latin typeface="Franklin Gothic Book"/>
              </a:rPr>
              <a:t>абс</a:t>
            </a:r>
            <a:r>
              <a:rPr b="0" lang="uk-UA" sz="3000" spc="-1" strike="noStrike">
                <a:solidFill>
                  <a:srgbClr val="35353e"/>
                </a:solidFill>
                <a:latin typeface="Franklin Gothic Book"/>
              </a:rPr>
              <a:t> = 184736,56 грн, відносної – 32%, а термін окупності інвестицій становить 3,1 роки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Прямокутник 3"/>
          <p:cNvSpPr/>
          <p:nvPr/>
        </p:nvSpPr>
        <p:spPr>
          <a:xfrm>
            <a:off x="1042920" y="25560"/>
            <a:ext cx="78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87280" y="641520"/>
            <a:ext cx="7498080" cy="4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900" spc="-1" strike="noStrike">
                <a:solidFill>
                  <a:srgbClr val="35353e"/>
                </a:solidFill>
                <a:latin typeface="Franklin Gothic Book"/>
              </a:rPr>
              <a:t>Висновки</a:t>
            </a:r>
            <a:endParaRPr b="0" lang="en-US" sz="39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26560" y="1052640"/>
            <a:ext cx="8317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Запропоновано інформаційну модель процесу пошуку асоціативних правил при прийнятті рішень в маркетинговій діяльності, що реалізує математично описану задачу пошуку асоціативних правил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Удосконалено метод пошуку асоціативних правил при прийнятті рішень в маркетинговій діяльності з використанням </a:t>
            </a:r>
            <a:r>
              <a:rPr b="0" lang="en-US" sz="2100" spc="-1" strike="noStrike">
                <a:solidFill>
                  <a:srgbClr val="35353e"/>
                </a:solidFill>
                <a:latin typeface="Franklin Gothic Book"/>
              </a:rPr>
              <a:t>FP</a:t>
            </a:r>
            <a:r>
              <a:rPr b="0" lang="uk-UA" sz="2100" spc="-1" strike="noStrike">
                <a:solidFill>
                  <a:srgbClr val="35353e"/>
                </a:solidFill>
                <a:latin typeface="Franklin Gothic Book"/>
              </a:rPr>
              <a:t>-</a:t>
            </a: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дерев, що дозволило збільшити швидкодію пошуку залежностей, та, за рахунок використання нечіткої логіки, підвищити їх інформативність</a:t>
            </a:r>
            <a:r>
              <a:rPr b="0" lang="uk-UA" sz="2100" spc="-1" strike="noStrike">
                <a:solidFill>
                  <a:srgbClr val="35353e"/>
                </a:solidFill>
                <a:latin typeface="Franklin Gothic 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Синтезовано структуру відповідної інформаційної технології,  що відображає процес збору, зберігання та оброблення інформації про покупки користувачів</a:t>
            </a:r>
            <a:r>
              <a:rPr b="0" lang="uk-UA" sz="2100" spc="-1" strike="noStrike">
                <a:solidFill>
                  <a:srgbClr val="35353e"/>
                </a:solidFill>
                <a:latin typeface="Franklin Gothic 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Результати дослідження, отримані під час виконання магістерської кваліфікаційної роботи, підтверджують підвищення ефективності процесу винайдення асоціативних правил за рахунок  збільшення швидкодії пошуку на 0,4 секунд, що складає 4%, та зростанню їх інформативності в 5 разів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386000" y="1988640"/>
            <a:ext cx="7308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5353e"/>
                </a:solidFill>
                <a:latin typeface="Franklin Gothic Book"/>
              </a:rPr>
              <a:t>За результатами магістерської кваліфікаційної роботи опубліковано 2 статті в фахових виданнях, 3 тези доповідей в збірниках праць всеукраїнських наукових  конференцій, 2 тези доповідей в збірниках праць міжнародних наукових конференцій, 2 тези в збірниках праць регіональних науково-технічних конференцій, а також отримано 2 свідоцтва про реєстрацію авторського права на тві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1214280" y="115920"/>
            <a:ext cx="77043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2000160" y="1268280"/>
            <a:ext cx="530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5353e"/>
                </a:solidFill>
                <a:latin typeface="Franklin Gothic Book"/>
              </a:rPr>
              <a:t>АПРОБАЦ</a:t>
            </a:r>
            <a:r>
              <a:rPr b="0" i="1" lang="uk-UA" sz="3000" spc="-1" strike="noStrike">
                <a:solidFill>
                  <a:srgbClr val="35353e"/>
                </a:solidFill>
                <a:latin typeface="Franklin Gothic Book"/>
              </a:rPr>
              <a:t>ІЇ ТА ПУБЛІКАЦІ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35353e"/>
                </a:solidFill>
                <a:latin typeface="Franklin Gothic Book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499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21840" y="1196640"/>
            <a:ext cx="79218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Метою роботи </a:t>
            </a: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є підвищення ефективності процесу винайдення асоціативних правил за рахунок  збільшення швидкодії пошуку та зростання їх інформативності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Об’єкт дослідження</a:t>
            </a:r>
            <a:r>
              <a:rPr b="0" i="1" lang="uk-UA" sz="2500" spc="-1" strike="noStrike">
                <a:solidFill>
                  <a:srgbClr val="35353e"/>
                </a:solidFill>
                <a:latin typeface="Franklin Gothic Book"/>
              </a:rPr>
              <a:t> </a:t>
            </a:r>
            <a:r>
              <a:rPr b="0" lang="ru-RU" sz="2500" spc="-1" strike="noStrike">
                <a:solidFill>
                  <a:srgbClr val="35353e"/>
                </a:solidFill>
                <a:latin typeface="Franklin Gothic Book"/>
              </a:rPr>
              <a:t>– </a:t>
            </a: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процес пошуку асоціативних правил при прийнятті рішень в маркетинговій діяльності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Предмет дослідження</a:t>
            </a:r>
            <a:r>
              <a:rPr b="0" lang="ru-RU" sz="2500" spc="-1" strike="noStrike">
                <a:solidFill>
                  <a:srgbClr val="35353e"/>
                </a:solidFill>
                <a:latin typeface="Franklin Gothic Book"/>
              </a:rPr>
              <a:t> – </a:t>
            </a: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інформаційні технології пошуку  асоціативних правил при прийнятті рішень в маркетинговій діяльності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187280" y="764640"/>
            <a:ext cx="74980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5353e"/>
                </a:solidFill>
                <a:latin typeface="Franklin Gothic Book"/>
              </a:rPr>
              <a:t>Управлінська діяльність у сфері маркетингу пов'язана з прийняттям відповідних рішень. Планування діяльності організації є одним із важливих завдань, що  виникає у маркетинговій політиці підприєм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5353e"/>
                </a:solidFill>
                <a:latin typeface="Franklin Gothic Book"/>
              </a:rPr>
              <a:t>Основною задачею інформаційної технології пошуку асоціативних правил при прийнятті рішень в маркетинговій діяльності є аналіз накопичених  даних з метою прийняття подальших управлінських рішень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5353e"/>
                </a:solidFill>
                <a:latin typeface="Franklin Gothic Book"/>
              </a:rPr>
              <a:t>Інформаційна технологія не може бути єдиним інструментом в досягненні поставлених цілей при прийнятті маркетингових рішень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15" descr="all_people.png"/>
          <p:cNvPicPr/>
          <p:nvPr/>
        </p:nvPicPr>
        <p:blipFill>
          <a:blip r:embed="rId1"/>
          <a:stretch/>
        </p:blipFill>
        <p:spPr>
          <a:xfrm>
            <a:off x="1042920" y="4643280"/>
            <a:ext cx="8101080" cy="22147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7705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444455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180800" y="1341360"/>
            <a:ext cx="7785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Технології інтелектуального аналізу даних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Методи кореляційно-регресійного аналізу,  методи кластеризації та групування, методи нечіткої логіки, генетичні алгоритми та інші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Технології підтримки прийняття рішень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Методи генерування альтернатив, експертні методи прийняття рішень, методи прогнозування, дослідження операцій та імітаційного моделювання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3480" y="115920"/>
            <a:ext cx="7499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444455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2"/>
          <p:cNvSpPr/>
          <p:nvPr/>
        </p:nvSpPr>
        <p:spPr>
          <a:xfrm>
            <a:off x="1004760" y="981000"/>
            <a:ext cx="814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35353e"/>
                </a:solidFill>
                <a:latin typeface="Franklin Gothic Book"/>
              </a:rPr>
              <a:t>Порівняльна характеристика технічних показників існуючих маркетингових СППР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23640" y="129960"/>
            <a:ext cx="77058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444455"/>
              </a:solidFill>
              <a:latin typeface="Gill Sans MT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004760" y="2060640"/>
          <a:ext cx="7888320" cy="3938400"/>
        </p:xfrm>
        <a:graphic>
          <a:graphicData uri="http://schemas.openxmlformats.org/drawingml/2006/table">
            <a:tbl>
              <a:tblPr/>
              <a:tblGrid>
                <a:gridCol w="2389320"/>
                <a:gridCol w="838080"/>
                <a:gridCol w="785880"/>
                <a:gridCol w="811440"/>
                <a:gridCol w="1106280"/>
                <a:gridCol w="968400"/>
                <a:gridCol w="988920"/>
              </a:tblGrid>
              <a:tr h="53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ffffff"/>
                          </a:solidFill>
                          <a:uFillTx/>
                          <a:latin typeface="Franklin Gothic Book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roject Exp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Marketing Exp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ecision 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Advanced Sc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ручність інтерфейсу користу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аналізу ринку товарів та по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81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визначення показника доцільності продажів това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45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пошуку асоціативних прави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54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роботи системи на будь-яких О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4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роботи за відсутності Інтерн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8480" y="1357200"/>
            <a:ext cx="7497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Постановка задачі</a:t>
            </a:r>
            <a:br>
              <a:rPr sz="3400"/>
            </a:br>
            <a:endParaRPr b="0" lang="en-US" sz="34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86920" y="1412640"/>
            <a:ext cx="770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800" y="24804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1187280" y="8424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3324960" y="28476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Об'єкт 7"/>
              <p:cNvSpPr txBox="1"/>
              <p:nvPr/>
            </p:nvSpPr>
            <p:spPr>
              <a:xfrm>
                <a:off x="1619280" y="1733400"/>
                <a:ext cx="1873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Об'єкт 9"/>
              <p:cNvSpPr txBox="1"/>
              <p:nvPr/>
            </p:nvSpPr>
            <p:spPr>
              <a:xfrm>
                <a:off x="1619280" y="2292480"/>
                <a:ext cx="2016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Об'єкт 12"/>
              <p:cNvSpPr txBox="1"/>
              <p:nvPr/>
            </p:nvSpPr>
            <p:spPr>
              <a:xfrm>
                <a:off x="1619280" y="2781360"/>
                <a:ext cx="1657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Об'єкт 14"/>
              <p:cNvSpPr txBox="1"/>
              <p:nvPr/>
            </p:nvSpPr>
            <p:spPr>
              <a:xfrm>
                <a:off x="1619280" y="3284640"/>
                <a:ext cx="30430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Об'єкт 16"/>
              <p:cNvSpPr txBox="1"/>
              <p:nvPr/>
            </p:nvSpPr>
            <p:spPr>
              <a:xfrm>
                <a:off x="1619280" y="3789360"/>
                <a:ext cx="2351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Об'єкт 18"/>
              <p:cNvSpPr txBox="1"/>
              <p:nvPr/>
            </p:nvSpPr>
            <p:spPr>
              <a:xfrm>
                <a:off x="1584360" y="4292640"/>
                <a:ext cx="299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Об'єкт 20"/>
              <p:cNvSpPr txBox="1"/>
              <p:nvPr/>
            </p:nvSpPr>
            <p:spPr>
              <a:xfrm>
                <a:off x="1547640" y="4797360"/>
                <a:ext cx="1204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Об'єкт 23"/>
              <p:cNvSpPr txBox="1"/>
              <p:nvPr/>
            </p:nvSpPr>
            <p:spPr>
              <a:xfrm>
                <a:off x="1547640" y="5445000"/>
                <a:ext cx="25592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71280" y="641160"/>
            <a:ext cx="806436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>
                <a:solidFill>
                  <a:srgbClr val="444455"/>
                </a:solidFill>
                <a:latin typeface="Franklin Gothic Book"/>
              </a:rPr>
              <a:t>Удосконалений метод прийняття рішень у маркетинговій діяльності</a:t>
            </a:r>
            <a:endParaRPr b="0" lang="en-US" sz="2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1655640" y="1515960"/>
            <a:ext cx="6286680" cy="50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71280" y="2565000"/>
            <a:ext cx="3887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35353e"/>
                </a:solidFill>
                <a:latin typeface="Franklin Gothic Book"/>
              </a:rPr>
              <a:t>Структура інформаційної технології</a:t>
            </a:r>
            <a:endParaRPr b="0" lang="en-US" sz="30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Рисунок 14" descr=""/>
          <p:cNvPicPr/>
          <p:nvPr/>
        </p:nvPicPr>
        <p:blipFill>
          <a:blip r:embed="rId1"/>
          <a:stretch/>
        </p:blipFill>
        <p:spPr>
          <a:xfrm>
            <a:off x="5040360" y="655560"/>
            <a:ext cx="3460680" cy="609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692280"/>
            <a:ext cx="7499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44455"/>
                </a:solidFill>
                <a:latin typeface="Franklin Gothic Book"/>
              </a:rPr>
              <a:t>Результати роботи програмного засобу</a:t>
            </a:r>
            <a:endParaRPr b="0" lang="en-US" sz="3200" spc="-1" strike="noStrike">
              <a:solidFill>
                <a:srgbClr val="444455"/>
              </a:solidFill>
              <a:latin typeface="Gill Sans MT"/>
            </a:endParaRPr>
          </a:p>
        </p:txBody>
      </p:sp>
      <p:pic>
        <p:nvPicPr>
          <p:cNvPr id="369" name="Рисунок 16" descr="Опис : B:\!ДИПЛОМ 5 курс\!!!!мій диплом\documents-export-2015-11-06\2.jpg"/>
          <p:cNvPicPr/>
          <p:nvPr/>
        </p:nvPicPr>
        <p:blipFill>
          <a:blip r:embed="rId1"/>
          <a:stretch/>
        </p:blipFill>
        <p:spPr>
          <a:xfrm>
            <a:off x="1042920" y="1341360"/>
            <a:ext cx="3997440" cy="2716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Users\ччч\Desktop\й.jpg"/>
          <p:cNvPicPr/>
          <p:nvPr/>
        </p:nvPicPr>
        <p:blipFill>
          <a:blip r:embed="rId2"/>
          <a:stretch/>
        </p:blipFill>
        <p:spPr>
          <a:xfrm>
            <a:off x="4788000" y="3573360"/>
            <a:ext cx="4216320" cy="319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8:41:38Z</dcterms:created>
  <dc:creator>Лена</dc:creator>
  <dc:description/>
  <dc:language>en-US</dc:language>
  <cp:lastModifiedBy>Natalia</cp:lastModifiedBy>
  <dcterms:modified xsi:type="dcterms:W3CDTF">2015-11-18T05:48:37Z</dcterms:modified>
  <cp:revision>100</cp:revision>
  <dc:subject/>
  <dc:title>Technological Awakening</dc:title>
</cp:coreProperties>
</file>