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7E9-B4C7-4952-AEAC-EFFF9CA7C5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DE41-674D-4563-B3DA-B1C30252D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25D8-A9EA-41BA-B4F2-490FEC958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930-A4BF-40B1-8CC6-F3A951C9E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13B2-9617-4F01-AE27-4374CF2BA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337-80DB-400B-90DD-96116FD58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3EA-890E-41F2-B024-8C6386925A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063D-488B-469A-AE6E-ACEE8A53B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412-2D21-48ED-800F-D62C6881B2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F34-390E-4A13-B207-2080239E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75D-4337-4137-AF11-6F429D73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E4EB1-C26E-4955-BB5A-726F61C7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F34DC-15AF-44E0-9025-E543AD0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ACC44-C6CD-4DB9-9DD0-A2306BC2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6132F-BDEA-4ACE-82DA-84B37A9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A6A1F-45B0-43B8-9836-029FF36D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5C5F-F5E1-4FF3-8490-E6F67FF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8259A-1020-4F88-807D-252DBA39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E31F3-F2C0-401F-B86A-1100D4F4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30D50-713D-4BF5-A7FE-728623E2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B270E-625F-42C3-9163-1A03DF7C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3F3-4FF4-4F24-AF91-14C663DC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7ADE4-3E88-4FB5-9AE1-733EA35A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D21E8-67F1-4A48-9EAA-2C8D9E6F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32B02C-1975-47E3-980C-8771C29C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48D994-818C-4D02-89E5-7AF006E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330448-82BA-4FB0-BB51-F432CAB0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29B1F7-23F4-4A0C-871D-CC2AE8E3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CC024-BC8F-44CD-BE62-317A6479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10CAFA-79D3-4FE2-9D4C-6181985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B0557F-15B0-4068-AC0E-62DEF245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E8C215-99BD-493B-BCD2-95BF2ECC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99D-2228-4FEF-8599-C6BECC3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898BBE-D88A-4752-ABC7-8281EFFA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88F0B-3E39-4130-8C27-9E35FED1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93BF-B64D-46E6-A32B-565D74A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0000-3E1D-4874-89BA-1E210B2F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63E34-1D29-44AC-AFAC-E9D3E71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C1FA-69F7-41F9-8D90-1DEDEA6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5B166-8B0B-44CE-984D-27673F1E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FF952-F9E3-45F5-B8B1-E5DEAA2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82D27-F408-44C1-871E-F69844B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55342-54DD-46C5-9150-7B0A3C8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327C-05FE-493E-88A3-B8EB9966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00B2-B656-4CDB-B15F-C559BDA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2D2DE-5664-4089-A246-B12D50B7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B353-6AF6-43DF-8B68-5277F306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F1D6-DF19-4E66-98E3-66F2C2CB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599CA-0485-4128-8F11-5074FA9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6DAD1-2353-4D08-8E52-9879F28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40B72-2FFA-4F18-A1C1-62D94A5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A0B2A-08C8-4C3E-B7B9-2326B42D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4CE9D-5616-4C15-A301-13B0A3EF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40ACC-C607-42B3-A860-093AFB5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366F-C4B3-496E-B100-058FEDE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ED49D-71FB-45A1-B172-62DA7E4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29265-6A47-42A0-9EC4-3D72AD4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3866C-A2FD-4E94-8BA7-EEEC520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08FE9-616E-405E-89D2-275186AF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0ACA-A752-4377-B7FA-5A273C7B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A5F42-7F21-4F49-9D85-E7FDFB3F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D67C8-C51E-4127-90DE-7DBC83B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3AD93-F910-4139-B4C3-4778DA24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4BFBA-6328-40C6-A6EF-7CF77F58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51AE8-8108-46EF-8488-531E97C0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CFF82-166A-42C0-9471-C1D191E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A3AC9-870A-495A-9324-FB4C571C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8FD36-DE74-4F1A-867C-FAB328F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A2027-FD47-4E09-B3FB-237D459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F9BE1-1E50-4B12-BAB6-2B8A162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270EC-6D91-45C6-8092-8E7EEDD8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67DE4-53F5-44EA-A326-B9B0B4FD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B3F44-F768-4265-8618-195D1CFA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8D7BE-C863-46AE-B76D-4DE528A2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14177-1A8E-4588-9C34-F5DC4B71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23C47-807D-4DEB-A0D6-EAF356C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60C0-1BFE-442E-991A-18775637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54441-F95F-402A-9379-BED22099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A5959-A2C2-4A91-B37F-F657320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764A3-DA16-4CCD-9E38-E97D6EF5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60772-9534-4652-AAFD-79E0052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86BD0-EC40-4310-8B80-AF8D9E8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EC757-996B-426A-B912-02D29A4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62956-146B-488D-BAC1-10CF7653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8E2BA-1298-4E09-B92E-4CBFA242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C448E-DCAC-42F6-B34A-F1F20BB5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C2234B-93B6-4531-999D-F3B3A1A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7117B-3EA4-455F-834A-2F37770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DE5B26-62A3-432A-AA80-EFD9569D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54A033-F7B8-4C18-9B79-E565F902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6E4F71-B4B4-4059-AA1B-1288997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465D78-C670-4CC0-9DE2-98EE3D8C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A1593-A12C-4D5E-9A9B-9AA3EB02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3E5AF9-DFB7-466B-8B7C-F368845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C791F3-2AB6-423D-8560-064E5B4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C5A774-09EF-43AB-A0DB-3EF43B6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3F56A5-D5C1-4B36-8155-A6CBF93D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822291-AEC7-409E-A7AB-58F58AA1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2702-D7A0-4C10-B184-659EF19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64C160-6332-4D86-A16A-F5DB44ED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5B2993-663C-4191-B349-83498DD9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8C4BDE-4BBD-46B6-B8DD-B54BC9B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3EEC3B-989D-4BF7-925E-2A4FA68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2A955E-2E9E-4E06-B1A1-7C98420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88BE6C-8594-44A5-BD16-CA79408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7B944D-4EFB-47D8-80E0-9469320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5305EE-63FB-436F-B343-9578788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F4E355-A3DB-4C37-8ECC-568B457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D21BA1-A3C1-4562-A325-E10A784F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C255-C9C4-42E9-A2E3-32189EB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F8965A-279E-4B13-BBBA-85C43CD6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0E5A27-278D-4C67-95A5-6ACD484A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35431F-5CC0-4BFD-B338-8953273E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54248-06B6-4D33-9E09-1AB2F1CF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88A55-7B20-41E4-B4A3-62239BC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003FC-07C7-494B-9C5D-87E90C0E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307FA-68BE-43FB-917A-65FD7680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FDA1E-2DB3-4419-BC66-7E0B6506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83676-931B-4750-82E6-617FAF8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2EAFC-A6FB-42D3-AC2D-E9694D4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351-867D-4DFF-9A3A-851972D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47F45-23F5-4490-85E6-DD5C920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0C03D-C216-4D9D-852A-7B5A118C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C1027-49E6-492B-9A83-48307E2C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AB3E5-A093-414F-BE1B-417E0416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67F48-D953-4754-98E5-0B76162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F4A67-3BCE-46A6-9AB8-EA0CDB4B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2C6B4-6004-4A8D-BACD-27A7CF3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4BAEC-4A3B-4BEE-999A-2E01CA83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28B19-4E81-4F0A-8D71-61DE337F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58715-14F2-4E3C-862E-4726EBA0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E06BC-85DF-4E34-8278-DB36855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E64F-AE30-4A48-A698-84AD9DD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FC61A-5978-4061-911F-F291D953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6C6AB-3469-4C35-A2B7-B1342A9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443F5-7FB0-431E-95AF-CC24408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67B4A-1F2A-43D5-926C-D015FFC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FFFD63-FAE8-4EBE-9A28-AF14414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7CEE44-D439-44EF-987E-9134FD50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EC2AB-E665-4C3A-B0F2-63C89B36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872D-899B-4C80-893B-7C4374A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5D27-E74B-4454-9726-E04BFF7E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8008-9508-4177-AEEA-93269267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5321-5CEC-410A-B886-CF439DCA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5F91-5969-4456-90DB-88D7AB8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1BA1-58B9-4358-A960-187EB19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9FAC-1C99-4770-BC4F-84602B9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D43C-E861-48BA-A416-ADBBF7DC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FF2-1A4D-40A1-AEDA-595E780B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0E5B-BCA1-4BA6-A56D-90A60D5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2424-CF4A-423F-BCCC-5567128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03CA-A2CE-4225-8AA1-48C91D3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5FFC-000B-41AC-8F1E-6DE49C5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E478-6624-42B5-98B1-918DEFA1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1D4A-0A1E-4E2E-95E8-978FF796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49A2-CDA4-40B0-A090-703E2CA1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BE419-74F5-4E50-86BC-065F1765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440D4-8467-4CAC-A9EE-AA42D26F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A84BF-7EA4-46D7-AFFB-9A49BF1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925-A4C4-4405-A10B-5186AACF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03447-EBBD-482D-A86F-0D1154E1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2789D-D30F-40CF-9ED3-7B2809D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F78E2-6DED-4E27-9D35-FFDA3A0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568AC-1DB0-4CD0-A74E-FAA8B24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BBE7D-A367-4A0A-95CA-F908893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ABABA-4BAF-47D5-A748-658AF0C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3CAA3-BFD9-4A4D-B1CF-26FF4CF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74DEF-5C8B-47DF-8B54-7FE5EDA0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5F2C9-B0DC-424E-8E3F-BE307C04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DDB1-BC8C-4B35-974C-814F2CA6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A0A-BFD3-491E-B1B0-CB55D66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B9CA-372D-4999-8074-E85502DD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C043-E422-48C6-9BCC-0E9BAAFA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671A-6C9E-4683-949E-9D4A79C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3675-7B3F-4E11-A1C1-E4051AEE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6057-81A2-4CFC-B017-9895184E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3FDB-F9AC-448C-B486-E900A4D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541E-93C5-45D7-ABD8-A00AA2A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D7FD-9F4D-4F14-A3A4-3ADE400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22F7-313B-4082-95BD-8CE77B8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F540-3FA2-4B19-852C-6EE4246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6E2-3EA1-4ACF-B651-444A6F7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6E700-BEE4-43EE-86F6-AC7EFBE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6475-909D-45B6-9ECB-EB9D01B9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CE42-5627-4B11-86FB-6F283EC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E88F-1291-4551-B8EA-8AA1B0D8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C8296-CC04-4B53-9E15-CB187A8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3547-7B2B-418E-AAE8-EC8B86D0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7DC5-CD70-4207-8827-24284435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5353-24C4-4C90-A7D9-EABEEE9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DF63-E161-4828-9BFD-7532CB6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DB4E-643F-4CCF-96AF-C1FC81B7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268-23D1-4C6B-A94E-1A31D564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262E-F242-4292-B060-466A515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8759-B957-49B8-9DC8-6F985895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E8F5-BC8F-4D6F-BEEF-8D329580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B1488-063A-423D-8CD2-F3D68326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1AFF0-63D0-4F13-81A7-2BBC8B12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301DD-3313-4AB4-88EF-B895C39D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A47B2-087E-4027-A2B5-329FA774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D9A8C-E16C-4A66-BAA6-BCF2F11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306BB-8C34-41F0-9D24-7014E9E4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E788E-76B0-4A8A-AD33-C730C97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263-640D-49C5-9F40-B78470D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4E753-ABC0-4751-B813-C0EE7F5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87FF2-3821-4CB8-B4EF-8A8DF9A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F3FAB-CD29-4E74-9B39-3CDFA1F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C3A46-3EBC-46B5-B572-D2FB6535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88CF2-149E-49C3-895F-C9290695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7CC53-E3A2-43FE-BFF8-1C752CC1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EEF36-3CB2-4C74-8CBF-84317ACE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030F1-7317-49EB-8E93-E5E90E3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07B77-4FF8-46B6-A2CF-C81CF3B9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F49CF-9129-4CE8-ACCA-3ECD2B3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226-B9D1-4F00-854E-98868B7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B99C8-D884-486B-8E78-9C827234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8ABF9D-9216-4425-A8FA-E34420D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7C1A0-0912-4FB8-938B-64BCDE6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952EF-E36B-4EF9-AB4C-4A45840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A7756-6F28-4B8E-ACBA-EC942946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B8D71-54A4-42D3-83A4-7F4068EF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86E58-0D4F-4171-80D6-24726F73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8529E-6546-496E-9633-F7BDEE60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54A28-42E1-4105-BE74-4E8F7217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981A1-AE7F-43D1-8280-70DA3E0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79B3-D99F-4403-8968-CF30943720A0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9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F53-7181-4217-B22E-17ADA00B689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0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9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3E9-603C-489A-9E04-1B49E7196E1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3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031-2C2E-4698-B374-7653243CD28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8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893D-C0B4-4452-8C91-F4B4EF4206C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E51-E734-44D3-8737-ED0F0DC1E58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8EAC-BD62-4E4E-A63C-3F91BF89382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EC2-5151-41E3-B82D-918089CBC90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4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5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3355-BEE4-4A2C-9728-18CF44BB529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0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EE3-4448-498C-B254-B64FB42C186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24D0-4C5D-4029-B21B-1B7B3519AA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EA6-82A4-4896-8E51-6385ABAED2B7}" type="slidenum">
              <a:rPr b="0" lang="uk-UA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E5C1-6F1C-45BB-8895-7CA85F6A240F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0C3-A7E2-49D5-8F4B-7562D20966FD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C7D7-2019-4D0D-9846-A2D54CDEE716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0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0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0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369-2960-4FEA-A68A-7C8513A158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363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B042-52AF-46B2-9C06-5E564630879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0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B64-CBFA-4EE5-8DAB-F7DB717E4DC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Rectangle 2" descr=""/>
          <p:cNvPicPr/>
          <p:nvPr/>
        </p:nvPicPr>
        <p:blipFill>
          <a:blip r:embed="rId1"/>
          <a:stretch/>
        </p:blipFill>
        <p:spPr>
          <a:xfrm>
            <a:off x="360360" y="433440"/>
            <a:ext cx="8783640" cy="125568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9"/>
          <p:cNvSpPr/>
          <p:nvPr/>
        </p:nvSpPr>
        <p:spPr>
          <a:xfrm>
            <a:off x="684360" y="2133720"/>
            <a:ext cx="770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Відстежування переміщ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обличчя люд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на основі сегмент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8f4a1"/>
                </a:solidFill>
                <a:latin typeface="Times New Roman"/>
              </a:rPr>
              <a:t>зобра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0"/>
          <p:cNvSpPr/>
          <p:nvPr/>
        </p:nvSpPr>
        <p:spPr>
          <a:xfrm>
            <a:off x="1285920" y="5013360"/>
            <a:ext cx="72867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магістр гр. 1КІ-14м Тохтунов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уковий керівник: д.т.н., професор Мартинюк Т.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755280" y="1571400"/>
            <a:ext cx="8147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. Переведення зображення із модел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GB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в моде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CbC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0.299f * r + 0.587f * g + 0.114f * b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.168736f * r + -0.331264f * g + 0.5f * b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0.5f * r + -0.418688f * g + -0.081312f * b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. Нормування колірного прост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f / 2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3. Перевірка для заданого діапазону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0, 1]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b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–0.15, 0.05]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= [0.05, 0.20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Кольорова сегментація для пошуку обличч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3c63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900000" y="549360"/>
            <a:ext cx="7272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труктура програми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9" descr=""/>
          <p:cNvPicPr/>
          <p:nvPr/>
        </p:nvPicPr>
        <p:blipFill>
          <a:blip r:embed="rId1"/>
          <a:stretch/>
        </p:blipFill>
        <p:spPr>
          <a:xfrm>
            <a:off x="2050920" y="1515960"/>
            <a:ext cx="4826160" cy="5226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"/>
          <p:cNvSpPr/>
          <p:nvPr/>
        </p:nvSpPr>
        <p:spPr>
          <a:xfrm>
            <a:off x="1187280" y="549360"/>
            <a:ext cx="66675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 про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Picture 9" descr="D:\Учёба\ДИПЛОМ ! ! !\1111.jpg"/>
          <p:cNvPicPr/>
          <p:nvPr/>
        </p:nvPicPr>
        <p:blipFill>
          <a:blip r:embed="rId1"/>
          <a:stretch/>
        </p:blipFill>
        <p:spPr>
          <a:xfrm>
            <a:off x="952560" y="1123920"/>
            <a:ext cx="7238880" cy="539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1187280" y="549360"/>
            <a:ext cx="666756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0"/>
          <p:cNvSpPr/>
          <p:nvPr/>
        </p:nvSpPr>
        <p:spPr>
          <a:xfrm>
            <a:off x="785880" y="1785960"/>
            <a:ext cx="71438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пробац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езультатів магістерської роботи: зроблено доповідь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IV регіональній науково-технічній конференції професорсько-викладацького складу, співробітників та студентів університету з участю працівників науково-дослідних організацій та інженерно-технічних працівників підприємств м. Вінниці та області  (Вінниця, 2015 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ублікації :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охтунов А. О. Виділення об’єктів зображень шляхом сегментації на основі методу об’єднання областей. Тези доповіді. Матеріа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IV регіональної науково-технічної конференції професорсько-викладацького складу, співробітників та студентів університету з участю працівників науково-дослідних організацій та інженерно-технічних працівників підприємств м. Вінниці та області  (Вінниця, 2015 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Результати роб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>
            <a:off x="785880" y="1214280"/>
            <a:ext cx="75009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укова новиз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досконалено спосіб пошуку та відстеження переміщення обличчя люди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досконалено спосіб сегментації зображення для пошуку обличч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актичне 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алгоритм відстеження переміщення обличчя людини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алгоритм сегментації зображень для пошуку обличчя люди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розроблено програму пошуку та відстеження переміщення обличч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6"/>
          <p:cNvSpPr/>
          <p:nvPr/>
        </p:nvSpPr>
        <p:spPr>
          <a:xfrm>
            <a:off x="6429240" y="6286680"/>
            <a:ext cx="2303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03638"/>
                </a:solidFill>
                <a:latin typeface="Times New Roman"/>
              </a:rPr>
              <a:t>©Тохтунов А.О</a:t>
            </a:r>
            <a:r>
              <a:rPr b="0" lang="uk-UA" sz="1800" spc="-1" strike="noStrike">
                <a:solidFill>
                  <a:srgbClr val="903638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903638"/>
                </a:solidFill>
                <a:latin typeface="Times New Roman"/>
              </a:rPr>
              <a:t>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7"/>
          <p:cNvSpPr/>
          <p:nvPr/>
        </p:nvSpPr>
        <p:spPr>
          <a:xfrm>
            <a:off x="468360" y="2349360"/>
            <a:ext cx="8064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ff"/>
                </a:solidFill>
                <a:latin typeface="Arial Black"/>
              </a:rPr>
              <a:t>Дякую за уваг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8"/>
          <p:cNvSpPr/>
          <p:nvPr/>
        </p:nvSpPr>
        <p:spPr>
          <a:xfrm>
            <a:off x="684360" y="333360"/>
            <a:ext cx="77724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Вінницький національний технічний університе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Факультет інформаційних технологій та комп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’</a:t>
            </a:r>
            <a:r>
              <a:rPr b="1" lang="uk-UA" sz="2400" spc="-1" strike="noStrike">
                <a:solidFill>
                  <a:srgbClr val="ff0000"/>
                </a:solidFill>
                <a:latin typeface="Monotype Corsiva"/>
              </a:rPr>
              <a:t>ютерної інженер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0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3c63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500040" y="549360"/>
            <a:ext cx="77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Області застос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відстеження переміщення обличч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3"/>
          <p:cNvSpPr/>
          <p:nvPr/>
        </p:nvSpPr>
        <p:spPr>
          <a:xfrm>
            <a:off x="1857240" y="2015640"/>
            <a:ext cx="650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хоронні систе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міналі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ємодія комп'ютер – лю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ртуальна реальні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'ютерні іг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 над імміграціє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іальні серві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Процес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"/>
          <p:cNvSpPr/>
          <p:nvPr/>
        </p:nvSpPr>
        <p:spPr>
          <a:xfrm>
            <a:off x="785880" y="1643040"/>
            <a:ext cx="75009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окалізація обличчя людини (face localiz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теження переміщення обличчя людини (face tra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Группа 8"/>
          <p:cNvGrpSpPr/>
          <p:nvPr/>
        </p:nvGrpSpPr>
        <p:grpSpPr>
          <a:xfrm>
            <a:off x="546120" y="3068640"/>
            <a:ext cx="7691400" cy="3193920"/>
            <a:chOff x="546120" y="3068640"/>
            <a:chExt cx="7691400" cy="3193920"/>
          </a:xfrm>
        </p:grpSpPr>
        <p:grpSp>
          <p:nvGrpSpPr>
            <p:cNvPr id="868" name="Группа 9"/>
            <p:cNvGrpSpPr/>
            <p:nvPr/>
          </p:nvGrpSpPr>
          <p:grpSpPr>
            <a:xfrm>
              <a:off x="546120" y="3068640"/>
              <a:ext cx="7194960" cy="3193920"/>
              <a:chOff x="546120" y="3068640"/>
              <a:chExt cx="7194960" cy="3193920"/>
            </a:xfrm>
          </p:grpSpPr>
          <p:grpSp>
            <p:nvGrpSpPr>
              <p:cNvPr id="869" name="Группа 11"/>
              <p:cNvGrpSpPr/>
              <p:nvPr/>
            </p:nvGrpSpPr>
            <p:grpSpPr>
              <a:xfrm>
                <a:off x="546120" y="3068640"/>
                <a:ext cx="7194960" cy="3193920"/>
                <a:chOff x="546120" y="3068640"/>
                <a:chExt cx="7194960" cy="3193920"/>
              </a:xfrm>
            </p:grpSpPr>
            <p:sp>
              <p:nvSpPr>
                <p:cNvPr id="870" name="Поле 26"/>
                <p:cNvSpPr/>
                <p:nvPr/>
              </p:nvSpPr>
              <p:spPr>
                <a:xfrm>
                  <a:off x="4548240" y="5535720"/>
                  <a:ext cx="1073160" cy="57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200" spc="-1" strike="noStrike">
                      <a:solidFill>
                        <a:srgbClr val="000000"/>
                      </a:solidFill>
                      <a:latin typeface="Times New Roman"/>
                      <a:ea typeface="Calibri"/>
                    </a:rPr>
                    <a:t>Метод виявленн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1" name="Группа 14"/>
                <p:cNvGrpSpPr/>
                <p:nvPr/>
              </p:nvGrpSpPr>
              <p:grpSpPr>
                <a:xfrm>
                  <a:off x="546120" y="3068640"/>
                  <a:ext cx="7194960" cy="3193920"/>
                  <a:chOff x="546120" y="3068640"/>
                  <a:chExt cx="7194960" cy="3193920"/>
                </a:xfrm>
              </p:grpSpPr>
              <p:sp>
                <p:nvSpPr>
                  <p:cNvPr id="872" name="Поле 25"/>
                  <p:cNvSpPr/>
                  <p:nvPr/>
                </p:nvSpPr>
                <p:spPr>
                  <a:xfrm>
                    <a:off x="4548240" y="4070160"/>
                    <a:ext cx="1073160" cy="57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uk-UA" sz="1200" spc="-1" strike="noStrike">
                        <a:solidFill>
                          <a:srgbClr val="000000"/>
                        </a:solidFill>
                        <a:latin typeface="Times New Roman"/>
                        <a:ea typeface="Calibri"/>
                      </a:rPr>
                      <a:t>Виявлення обличч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3" name="Группа 16"/>
                  <p:cNvGrpSpPr/>
                  <p:nvPr/>
                </p:nvGrpSpPr>
                <p:grpSpPr>
                  <a:xfrm>
                    <a:off x="546120" y="3068640"/>
                    <a:ext cx="7194960" cy="3193920"/>
                    <a:chOff x="546120" y="3068640"/>
                    <a:chExt cx="7194960" cy="3193920"/>
                  </a:xfrm>
                </p:grpSpPr>
                <p:grpSp>
                  <p:nvGrpSpPr>
                    <p:cNvPr id="874" name="Группа 17"/>
                    <p:cNvGrpSpPr/>
                    <p:nvPr/>
                  </p:nvGrpSpPr>
                  <p:grpSpPr>
                    <a:xfrm>
                      <a:off x="546120" y="3068640"/>
                      <a:ext cx="7194960" cy="3193920"/>
                      <a:chOff x="546120" y="3068640"/>
                      <a:chExt cx="7194960" cy="3193920"/>
                    </a:xfrm>
                  </p:grpSpPr>
                  <p:grpSp>
                    <p:nvGrpSpPr>
                      <p:cNvPr id="875" name="Группа 19"/>
                      <p:cNvGrpSpPr/>
                      <p:nvPr/>
                    </p:nvGrpSpPr>
                    <p:grpSpPr>
                      <a:xfrm>
                        <a:off x="546120" y="3068640"/>
                        <a:ext cx="7194960" cy="3193920"/>
                        <a:chOff x="546120" y="3068640"/>
                        <a:chExt cx="7194960" cy="3193920"/>
                      </a:xfrm>
                    </p:grpSpPr>
                    <p:grpSp>
                      <p:nvGrpSpPr>
                        <p:cNvPr id="876" name="Группа 21"/>
                        <p:cNvGrpSpPr/>
                        <p:nvPr/>
                      </p:nvGrpSpPr>
                      <p:grpSpPr>
                        <a:xfrm>
                          <a:off x="546120" y="3633120"/>
                          <a:ext cx="7194960" cy="2629440"/>
                          <a:chOff x="546120" y="3633120"/>
                          <a:chExt cx="7194960" cy="2629440"/>
                        </a:xfrm>
                      </p:grpSpPr>
                      <p:grpSp>
                        <p:nvGrpSpPr>
                          <p:cNvPr id="877" name="Группа 23"/>
                          <p:cNvGrpSpPr/>
                          <p:nvPr/>
                        </p:nvGrpSpPr>
                        <p:grpSpPr>
                          <a:xfrm>
                            <a:off x="546120" y="3633120"/>
                            <a:ext cx="7194960" cy="2629440"/>
                            <a:chOff x="546120" y="3633120"/>
                            <a:chExt cx="7194960" cy="2629440"/>
                          </a:xfrm>
                        </p:grpSpPr>
                        <p:grpSp>
                          <p:nvGrpSpPr>
                            <p:cNvPr id="878" name="Группа 25"/>
                            <p:cNvGrpSpPr/>
                            <p:nvPr/>
                          </p:nvGrpSpPr>
                          <p:grpSpPr>
                            <a:xfrm>
                              <a:off x="1017360" y="3633120"/>
                              <a:ext cx="6723720" cy="2629440"/>
                              <a:chOff x="1017360" y="3633120"/>
                              <a:chExt cx="6723720" cy="2629440"/>
                            </a:xfrm>
                          </p:grpSpPr>
                          <p:cxnSp>
                            <p:nvCxnSpPr>
                              <p:cNvPr id="879" name="Прямая со стрелкой 27"/>
                              <p:cNvCxnSpPr/>
                              <p:nvPr/>
                            </p:nvCxnSpPr>
                            <p:spPr>
                              <a:xfrm>
                                <a:off x="1017360" y="434880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0" name="Прямоугольник 28"/>
                              <p:cNvSpPr/>
                              <p:nvPr/>
                            </p:nvSpPr>
                            <p:spPr>
                              <a:xfrm>
                                <a:off x="1558440" y="395208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1" name="Прямая со стрелкой 29"/>
                              <p:cNvCxnSpPr/>
                              <p:nvPr/>
                            </p:nvCxnSpPr>
                            <p:spPr>
                              <a:xfrm>
                                <a:off x="2536200" y="4339080"/>
                                <a:ext cx="5418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2" name="Прямоугольник 30"/>
                              <p:cNvSpPr/>
                              <p:nvPr/>
                            </p:nvSpPr>
                            <p:spPr>
                              <a:xfrm>
                                <a:off x="3076200" y="396180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3" name="Прямая со стрелкой 31"/>
                              <p:cNvCxnSpPr/>
                              <p:nvPr/>
                            </p:nvCxnSpPr>
                            <p:spPr>
                              <a:xfrm>
                                <a:off x="4054320" y="434880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4" name="Прямоугольник 32"/>
                              <p:cNvSpPr/>
                              <p:nvPr/>
                            </p:nvSpPr>
                            <p:spPr>
                              <a:xfrm>
                                <a:off x="4595760" y="396180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5" name="Прямоугольник 33"/>
                              <p:cNvSpPr/>
                              <p:nvPr/>
                            </p:nvSpPr>
                            <p:spPr>
                              <a:xfrm>
                                <a:off x="4595760" y="5446440"/>
                                <a:ext cx="97776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6" name="Прямая со стрелкой 34"/>
                              <p:cNvCxnSpPr/>
                              <p:nvPr/>
                            </p:nvCxnSpPr>
                            <p:spPr>
                              <a:xfrm>
                                <a:off x="5573520" y="4348800"/>
                                <a:ext cx="5418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87" name="Прямоугольник 35"/>
                              <p:cNvSpPr/>
                              <p:nvPr/>
                            </p:nvSpPr>
                            <p:spPr>
                              <a:xfrm>
                                <a:off x="6113520" y="3940920"/>
                                <a:ext cx="105732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88" name="Прямая со стрелкой 36"/>
                              <p:cNvCxnSpPr/>
                              <p:nvPr/>
                            </p:nvCxnSpPr>
                            <p:spPr>
                              <a:xfrm>
                                <a:off x="2822040" y="3633120"/>
                                <a:ext cx="1080" cy="72000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889" name="Прямая со стрелкой 37"/>
                              <p:cNvCxnSpPr/>
                              <p:nvPr/>
                            </p:nvCxnSpPr>
                            <p:spPr>
                              <a:xfrm>
                                <a:off x="7197840" y="4339080"/>
                                <a:ext cx="543600" cy="108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890" name="Прямая со стрелкой 38"/>
                              <p:cNvCxnSpPr/>
                              <p:nvPr/>
                            </p:nvCxnSpPr>
                            <p:spPr>
                              <a:xfrm flipV="1">
                                <a:off x="5079600" y="4779000"/>
                                <a:ext cx="1080" cy="66744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sp>
                            <p:nvSpPr>
                              <p:cNvPr id="891" name="Прямоугольник 39"/>
                              <p:cNvSpPr/>
                              <p:nvPr/>
                            </p:nvSpPr>
                            <p:spPr>
                              <a:xfrm>
                                <a:off x="6010200" y="5416200"/>
                                <a:ext cx="1160280" cy="816120"/>
                              </a:xfrm>
                              <a:prstGeom prst="rect">
                                <a:avLst/>
                              </a:prstGeom>
                              <a:noFill/>
                              <a:ln w="22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cxnSp>
                            <p:nvCxnSpPr>
                              <p:cNvPr id="892" name="Прямая со стрелкой 40"/>
                              <p:cNvCxnSpPr/>
                              <p:nvPr/>
                            </p:nvCxnSpPr>
                            <p:spPr>
                              <a:xfrm flipV="1">
                                <a:off x="6599160" y="4749120"/>
                                <a:ext cx="1080" cy="667440"/>
                              </a:xfrm>
                              <a:prstGeom prst="straightConnector1">
                                <a:avLst/>
                              </a:prstGeom>
                              <a:ln w="1908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893" name="Поле 17"/>
                            <p:cNvSpPr/>
                            <p:nvPr/>
                          </p:nvSpPr>
                          <p:spPr>
                            <a:xfrm>
                              <a:off x="546120" y="3976560"/>
                              <a:ext cx="1073160" cy="3888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15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uk-UA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Calibri"/>
                                </a:rPr>
                                <a:t>Відеопотік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94" name="Поле 19"/>
                          <p:cNvSpPr/>
                          <p:nvPr/>
                        </p:nvSpPr>
                        <p:spPr>
                          <a:xfrm>
                            <a:off x="1509480" y="3922560"/>
                            <a:ext cx="1073160" cy="866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lnSpc>
                                <a:spcPct val="115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uk-UA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Calibri"/>
                              </a:rPr>
                              <a:t>Виділення кадру відеопотоку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95" name="Поле 21"/>
                        <p:cNvSpPr/>
                        <p:nvPr/>
                      </p:nvSpPr>
                      <p:spPr>
                        <a:xfrm>
                          <a:off x="2286000" y="3068640"/>
                          <a:ext cx="1073160" cy="577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15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uk-UA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Calibri"/>
                            </a:rPr>
                            <a:t>Виділений кадр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6" name="Поле 23"/>
                      <p:cNvSpPr/>
                      <p:nvPr/>
                    </p:nvSpPr>
                    <p:spPr>
                      <a:xfrm>
                        <a:off x="3044880" y="3941640"/>
                        <a:ext cx="1073160" cy="86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15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uk-UA" sz="1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Calibri"/>
                          </a:rPr>
                          <a:t>Попередня обробка зображення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97" name="Поле 28"/>
                    <p:cNvSpPr/>
                    <p:nvPr/>
                  </p:nvSpPr>
                  <p:spPr>
                    <a:xfrm>
                      <a:off x="5947200" y="5535720"/>
                      <a:ext cx="13287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відстеж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898" name="Поле 32"/>
              <p:cNvSpPr/>
              <p:nvPr/>
            </p:nvSpPr>
            <p:spPr>
              <a:xfrm>
                <a:off x="6034320" y="4060800"/>
                <a:ext cx="1201680" cy="5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imes New Roman"/>
                    <a:ea typeface="Calibri"/>
                  </a:rPr>
                  <a:t>Відстеження переміщенн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Поле 34"/>
            <p:cNvSpPr/>
            <p:nvPr/>
          </p:nvSpPr>
          <p:spPr>
            <a:xfrm>
              <a:off x="7164360" y="3732120"/>
              <a:ext cx="10731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Відстеження обличч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Послідовність відстеження переміщення обличч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8"/>
          <p:cNvSpPr/>
          <p:nvPr/>
        </p:nvSpPr>
        <p:spPr>
          <a:xfrm>
            <a:off x="785880" y="1928880"/>
            <a:ext cx="7500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римання комп’ютерного зображ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явлення у зображенні обличчя люд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ілення суттєвих ознак обличчя люди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теження переміщення обличчя людини на основі отриманих да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Методи виділення обличчя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1357200" y="1643040"/>
            <a:ext cx="6143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головних компон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основі ключових то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еометричний мет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льтри Га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пізнавання за допомогою штучних нейронних мер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ховані марківські мод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іоли-Джонс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179280" y="836640"/>
            <a:ext cx="86425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Метод ключових то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3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Рисунок 6" descr="http://www.bestreferat.ru/images/paper/91/27/9272791.png"/>
          <p:cNvPicPr/>
          <p:nvPr/>
        </p:nvPicPr>
        <p:blipFill>
          <a:blip r:embed="rId1"/>
          <a:stretch/>
        </p:blipFill>
        <p:spPr>
          <a:xfrm>
            <a:off x="1857240" y="2233440"/>
            <a:ext cx="5214960" cy="34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посіб відстеження обличчя люд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785880" y="1500120"/>
            <a:ext cx="75009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антаження зображення із відеокам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івнювання по кольору та яскра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орове диференці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егментація зобра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ілення обличчя людини за озна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очнення обличчя людини по коль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міщення обличчя людини в прямоку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теження переміщення центру прямокут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1187280" y="549360"/>
            <a:ext cx="6667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Times New Roman"/>
              </a:rPr>
              <a:t>Спосіб сегментації зобр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785880" y="1643040"/>
            <a:ext cx="75009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едення зображення із моделі кольорів RGB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V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далення можливих завад зображення шляхом фільтр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гладження зображення з використанням фільт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ластеризація зображ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кладання отриманих границь об’єктів на початкове зображ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едення сегментованого зображенн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514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54000" y="64771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983c63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324000" y="54936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ff"/>
                </a:solidFill>
                <a:latin typeface="Times New Roman"/>
              </a:rPr>
              <a:t>Алгоритм сегментації зобра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Object 9"/>
          <p:cNvGraphicFramePr/>
          <p:nvPr/>
        </p:nvGraphicFramePr>
        <p:xfrm>
          <a:off x="1500120" y="1143000"/>
          <a:ext cx="610560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143000"/>
                    <a:ext cx="610560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8:46:25Z</dcterms:created>
  <dc:creator>Andrey</dc:creator>
  <dc:description/>
  <dc:language>en-US</dc:language>
  <cp:lastModifiedBy>realredfox@hotmail.com</cp:lastModifiedBy>
  <dcterms:modified xsi:type="dcterms:W3CDTF">2015-11-23T13:42:39Z</dcterms:modified>
  <cp:revision>225</cp:revision>
  <dc:subject/>
  <dc:title>Вінницький національний технічний університет Кафедра обчислювальної техніки</dc:title>
</cp:coreProperties>
</file>