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BE5-A7E8-4E8C-8171-61C3F993D2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D58-9591-4D68-91A5-423C7CFFB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7D3-D603-4A2F-94C8-C89618305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E2A-685E-4719-BEE0-C3121685A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4516-71D4-406B-9DCF-58C1DA633C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C29-689A-495C-8881-4A8ECEA87A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34B-C2B0-41E8-BE6B-82866E8BE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8882-04CA-4656-9942-E3E8DAACA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C34-AEB3-445C-BDC4-CA7EECB095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9ED-1389-4AF9-9C6C-4A9FA827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0B5-AD52-44BF-A7AB-05E9F62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9563D-820F-44F5-BC77-8F8ACC95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4C803-4B17-48A1-BFB9-6AD2D026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A6C7D-6710-47E0-9CDB-83B2A95A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06EFA-CC06-45C8-A5C1-AD51184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19A53-FC16-4ED3-B2C3-16141F8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0F6AB-2ADC-413E-90DA-4CC78EA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9419E-0843-406A-B34B-DC8CB067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45CA4-D9CF-4EB1-A47F-75C5F6E2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E45D0-7878-4092-8F1C-9399C4F2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F48688-0CA6-4881-8C04-B212C7DD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C68-D62B-4FC6-A0FF-BAC2558C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6FCA9-E1F9-4BA9-ACAA-8A06684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87BFF8-25A2-4BE2-8C51-C898C85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33932-25DC-4620-B61F-CD6885F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BA31B-309E-413F-99E7-86B23B4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C0D8D-D55A-4BAA-9898-7613F82A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4E9AE4-0D70-4A21-89D2-90DEB6A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3DFE8-1F1A-41FB-BEB8-A5FB313D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7F531-281B-41F3-BC0E-7CA2F5A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444493-5608-4AAC-BF61-859A8023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D5230-B07A-43C2-81A9-B65BC622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9B9-C517-41AF-8DB1-F0EEE5EE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3E434-86F1-4977-A1F6-9ECEB3BC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C9C9C-54FF-4C88-A9DE-D9D3085A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17F96-069E-4F82-906F-4DCBF1A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D95FE-7C9D-4A56-BBBC-3081DE8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21FB0-F7C5-45CA-BBD2-25D2750D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311DF-A6D9-40D3-97AE-55BCDF23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2BA01-1883-4990-A148-6FD76CAA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2E60D-6381-4BB8-81B8-E81CFCA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ED3BC-4EEB-47BE-A03B-2BDC3E7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2CB7D-00D7-4F9B-9417-3CD1078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5D4DF-3D98-46E1-BCA4-A94EDF3E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0BD7-AD3B-46C3-A056-5950130F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31B8-843C-4CDD-BB3A-58665E2E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E8205-2B64-4FFA-B34F-1FD607B0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08F7F-0C61-4B84-8A73-E541083B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E2079-0D21-4BE0-9CB5-CB41E78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C672C-D05A-467A-B66A-DAE27C51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AC5B8-5EBD-4919-A7B4-78FDDDB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6AC99-1C73-4AA3-8455-E4B4740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30E5E-AFAE-4CF6-9AAB-D740C7AD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2D934-2C7A-4291-B20A-3AD97CD3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57A7-A269-43A6-8687-8021D9C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1A6D-3C06-42FC-ADDF-4986D9E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32888-5F30-4D59-BD05-50258C9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F88FF-31D3-4F63-BDE1-A4A0D57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33BFD-D144-4C8B-AF5B-E2C26565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27374-8018-4ACB-9139-705FAC22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BFAC5-B721-41FB-9BEA-F42E91E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38AD2-694F-46BA-8A8E-D129C57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04ABF-3B9B-4ED8-884D-F870C2A7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6F9A9-AB5C-40D3-BB6B-EEAB337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3262D-11E5-4F82-BDF5-DBC2A13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BFDA4-56C8-4902-80A8-B5AC439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A3F9A-A8A3-421B-BAE0-976EF89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CAF27-CB61-4A26-AB1B-39788BC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BDD45-5776-4B93-B2EF-3F547CF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AA6C0-FD1C-4980-948C-CAA7551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5AAC4-2A3B-4B19-9D8F-274D307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E3F3B-E5A0-4508-834D-781D81C5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F94A1-2F38-4625-A763-F3F29407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68D73-8096-4A6E-9212-7C418EF0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D220A-C813-4047-9990-7730940E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A5BE6-0189-49C1-981E-9806FF9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E82A4-0121-4740-A763-FED8A55D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F378E-FE8E-43A6-92C3-10C6C54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A0CFC-581C-47B7-9BB2-BF5A6076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9CD88-8D94-4A0A-9E71-6B817AA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98837-52F4-4EE4-9396-711E8E2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6F269-2E31-4664-B8F3-7DE44F8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2E180-A799-4BDA-851F-543642C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A2108-F0CD-4F36-BA60-ED416CC2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FD544-B1B1-44C6-A6D3-E7A7FEF6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A1E12-F82D-4BEE-8F97-F52567FF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B4BBF8-CEB0-4490-8B59-864E7D0F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2EAC-CC69-443C-A122-BD50DD7A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2B4FB9-B1F9-413E-9D17-B5926D2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DCF7E3-55A6-4AE3-934F-0CD484E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CF62C3-B8D9-426F-B940-598D7B5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DBE4AF-FE92-45FC-ADE3-E3FB811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F531DA-C26B-4E52-95E4-321365B3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ECF6EF-DE4B-453C-B1AB-8C0105E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257BDA-7B73-47BC-9C10-8C82F50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538A1-D41A-4ADB-9B29-ACC394C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576724-367A-4233-883A-A18A7629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8A68DD-025D-4377-AE90-111DCBF0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3FDD-772A-44F7-B88F-FC21D52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EB465E-C3AF-4403-AD48-C785A992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8E9323-67C4-4239-A0AC-3963203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FCE313-AC78-459C-AD4F-8CB2310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D7C7C7-A056-4994-BE31-631850AA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6BE238-729C-45C2-9C79-BB86D77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35DAD9-3D5F-4F74-AA33-21D1AE4D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BB104A-3412-4C07-BFA3-9DC14446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8A35D6-FA23-4D58-A4C3-0B41770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4BE683-12A8-47B2-96C3-FD30BD7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9539C7-26EA-49A5-A4B0-0E233DF2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B0FDE-97F2-43FA-A7DA-AC81C9F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F77A73-78A3-4CE0-9395-25DC411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C02F72-D591-465F-949C-A987A41C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B2FED9-D1E0-40DB-8718-7D29CAE0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19C0A-DD6D-4477-95CC-37EF5AC9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268E3-4303-4991-AD71-FA3D514F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1E884-22AB-460E-B774-3CC9A8C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AEF39-9643-4226-9DEB-07C4AA2B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63237-C780-4B7B-B069-14BEE4C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A8677-5836-4855-9D5D-A75FB7C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62DB4-6DFE-4336-AE9A-B41C74F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CF6-E4DA-4D4D-859A-31B87081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25B23-346C-4FA1-BAD3-3D2049E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92A9D-1BFD-437B-A255-C108F04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2C9C1-6B73-4182-80BB-6E0CFD3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04810-1F5B-4277-BE54-2352A86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36769-0F01-4C64-9CB6-9E1B0B12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991D5-7115-4990-9F5D-A0BB5B04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BF409-DB67-4D03-9BBA-9C73D16C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2FA69-1C79-4ADC-94E8-28E917DA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6000F-7167-440A-BD45-1E3888B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41F8F-D6C7-4121-8433-FBF3C9B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D427D-93AC-4C3C-ACC9-6E86EE6F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83550-31F5-4ACB-8421-0774C8B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61658-759E-43E0-B9F0-8C3023F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CB343-E0D4-4A75-9246-B264BC9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88158-C9DE-4685-A642-4F7DD35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CC264-C930-4556-A318-CCB9117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C04D5-5607-44DE-AF06-8BC4F0D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14B9B-3666-4AC7-9B06-94614B85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A4E62-8EBE-473F-A9C1-270A44BE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929B3-A33C-4588-9C5A-E8E935F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71087-A3F5-4106-A8B4-7B314F5D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8EBA-B118-4639-A201-2F27D23A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9FD4-57E9-4A1F-96A5-440D26E2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0529-DE77-4BD3-BC34-A71620D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9569-82CD-42E7-9C2E-649625B5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C28C9-A95A-4E4A-A94A-32FBE1D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E015-55DF-44E4-9BF7-401F1ED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899-1878-45F1-A3BC-0D6E5D7A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B879-1D6F-4CBF-AA2F-2E624F8C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57FC-BC8D-47E4-B642-F05E9FC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73A7-14AD-4B82-B60A-8227652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F781-BAD1-4FD4-957E-A2E687A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38FF-D35A-48D8-AC89-DBA1BCCF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99A6-BCDA-43E3-9C82-AF99AD88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37E4-BB45-412D-B81D-D047CFFD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60368-28B7-4127-AA32-10926979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E990D-EAC6-41A8-94C9-D96AE21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37F14-4E88-4E0A-8886-14F3FAD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D0E-18F0-4E20-8A97-F6D988B3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96B96-CD73-4080-B7C4-125E015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28FEC-AE2E-4246-A472-72C5213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5765E-494E-4AC3-AE06-9175F84B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00084-692B-4093-B25A-9E4538C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0B05A-DF09-4412-9145-A22D4A0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44F45-CA04-4CC3-8B3C-5CC4F04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82F7C-D678-468D-9E2D-8D2D6556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8DC0B-42EE-4470-8141-E4F2FBD7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CD567-79A7-4964-907E-9DD04FD5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989D-5AB7-41F7-B295-25474838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2D-8F42-4775-BB0F-04A070B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E294-B82E-446D-AB92-8350F3B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4FF3-0012-4C47-95AA-2D386FC9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EA9E-A480-439F-9EDA-DCDAC2F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7DE4-4870-4C92-83A6-301BE28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EA30-D03C-4855-96C0-29419F3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D855-C768-4A92-B52F-0072CBB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7F07-6EE5-4734-B12F-2ABA8CC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44BA-D34A-4EC3-8C5B-E6FF90B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2600-39D9-49FF-B760-376DD8DD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33B4-B659-494A-98FE-98939BB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27F-3CDA-4028-8702-9A0015C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F328-BBD0-431F-ACC0-E699B8FD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F15B-592B-4158-A939-F22AAECF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3B26-2B72-4F71-AB6F-6BFBE66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CD7C5-25CE-4B61-9708-D3327032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40D9B-F66F-4CE4-9265-22FB8B7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A631-2C67-45FB-A73C-D3083ED1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6EFC-D8B6-4397-9EDE-C7B83BF5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BF2F-898D-47C7-9B90-65034D5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13D9-4FA5-4D79-87C5-D0DEFC1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35595-E7DE-46BB-9257-775E142D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590-7C8B-4B5C-B0D1-6131E77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642D-12E7-41B1-9E1A-019C574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0EF5-60FF-4D43-806C-9B1D9D92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D46E-3EA4-455D-9DDF-C78B71F9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6C768-B1A7-4D9E-9976-571AAF26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C86A8-8BB9-4A00-BC0B-8E75F05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98B4F-E1F8-4DA1-9C61-FCDB71B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5D142-0469-4E0D-8F3E-9257FC0B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EE587-6A73-4248-A230-9F443152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61219-D59D-4A95-B1C8-48DEE84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D4DE8-E94B-4243-BE29-F6156955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DBA-9522-40DA-810B-2D5FE01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B29A5-1773-4B5F-AFDE-226F409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3B7C6-AA2D-433E-8E00-2A2E6A1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3C058-D14A-48A4-897F-37DB7A4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34269-CD64-4F29-9F2D-2C64B501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0E432-EF77-4B6C-962E-52FE136B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6B1A6-B0B8-4446-9C8A-6598561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F8AC1-4114-400E-865A-A2F2D973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64DA2-ECDD-4B5D-AD08-7A2BF81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174B2-EE36-40F3-95A5-1E1E2F6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8ADA9-3AFC-4F06-9082-A102FAC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21A-2149-462B-A041-0CF452F6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1FF27-E20A-48D4-B2D0-381B5339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8A887-6DEF-4C42-9AE7-B84757F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31B2A-BC2C-4C81-88CB-C382163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8D09AB-BEEF-436D-A7B7-0A7E129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269FA-A561-4AA0-A483-7E4DDBF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EDF07-6A23-4824-8E31-059D7C0B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464E0C-A7F6-427B-9696-0A049621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00A3-E60B-48EC-A8FF-3DD578D0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1AAC9-D70F-49A6-964A-8BE651F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73286-7469-4434-94F7-A8AF6D42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129A-DD94-4DD2-9106-10F78F313C1E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74A-6770-48F0-98CB-5A8782DA158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9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332-0E1A-4527-BEF8-9D0EC39FAF5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3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6A9-99C6-4BDB-A6C4-EC11248AD0F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8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CBB2-3494-4493-9AE8-7AD434EB708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0E07-8C74-47CC-9EA4-F117632DA6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05A8-A33F-46B9-9D8D-48787A4952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94D-BB8C-4DA5-8CFA-0FC29E37915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4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8D0-5FAB-4CA2-9EBC-374D67CD4A8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0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CBE4-8D63-40E7-9D63-E30540E1295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DCF-5D18-4108-9008-DF1EB62001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1710-1D9D-4E14-A4D4-FA4283AE54FC}" type="slidenum">
              <a:rPr b="0" lang="uk-U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422-5F2E-4891-AB32-28E6479CCEEE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4AFC-4964-4151-89B4-B8CDC17C3E93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FBDD-BB7F-46CF-8136-7F168FDDD1F8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9C4-44F5-4284-B017-81DAE8649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363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401-3389-4425-B85A-88BA1799C87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0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E1B-6794-44B3-AE0B-5BEED4D88DA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Rectangle 2" descr=""/>
          <p:cNvPicPr/>
          <p:nvPr/>
        </p:nvPicPr>
        <p:blipFill>
          <a:blip r:embed="rId1"/>
          <a:stretch/>
        </p:blipFill>
        <p:spPr>
          <a:xfrm>
            <a:off x="360360" y="433440"/>
            <a:ext cx="8783640" cy="125568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9"/>
          <p:cNvSpPr/>
          <p:nvPr/>
        </p:nvSpPr>
        <p:spPr>
          <a:xfrm>
            <a:off x="684360" y="2133720"/>
            <a:ext cx="770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Відстежування переміщ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обличчя люд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на основі сегмент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зобра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1285920" y="5013360"/>
            <a:ext cx="72867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магістр гр. 1КІ-14м Тохтунов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уковий керівник: д.т.н., професор Мартинюк Т.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755280" y="1571400"/>
            <a:ext cx="8147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. Переведення зображення із модел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GB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 мод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CbC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299f * r + 0.587f * g + 0.114f * b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.168736f * r + -0.331264f * g + 0.5f * b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5f * r + -0.418688f * g + -0.081312f * b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. Нормування колірного прост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f / 2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. Перевірка для заданого діапазон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0, 1]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b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–0.15, 0.05]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0.05, 0.20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Кольорова сегментація для пошуку обличч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3c63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900000" y="549360"/>
            <a:ext cx="7272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труктура програми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9" descr=""/>
          <p:cNvPicPr/>
          <p:nvPr/>
        </p:nvPicPr>
        <p:blipFill>
          <a:blip r:embed="rId1"/>
          <a:stretch/>
        </p:blipFill>
        <p:spPr>
          <a:xfrm>
            <a:off x="2050920" y="1515960"/>
            <a:ext cx="4826160" cy="522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1187280" y="549360"/>
            <a:ext cx="66675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 про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Picture 9" descr="D:\Учёба\ДИПЛОМ ! ! !\1111.jpg"/>
          <p:cNvPicPr/>
          <p:nvPr/>
        </p:nvPicPr>
        <p:blipFill>
          <a:blip r:embed="rId1"/>
          <a:stretch/>
        </p:blipFill>
        <p:spPr>
          <a:xfrm>
            <a:off x="952560" y="1123920"/>
            <a:ext cx="7238880" cy="539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1187280" y="549360"/>
            <a:ext cx="66675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0"/>
          <p:cNvSpPr/>
          <p:nvPr/>
        </p:nvSpPr>
        <p:spPr>
          <a:xfrm>
            <a:off x="785880" y="1785960"/>
            <a:ext cx="71438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пробац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езультатів магістерської роботи: зроблено доповідь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IV регіональній науково-технічній конференції професорсько-викладацького складу, співробітників та студентів університету з участю працівників науково-дослідних організацій та інженерно-технічних працівників підприємств м. Вінниці та області  (Вінниця, 2015 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ублікації :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хтунов А. О. Виділення об’єктів зображень шляхом сегментації на основі методу об’єднання областей. Тези доповіді. Матеріа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IV регіональної науково-технічної конференції професорсько-викладацького складу, співробітників та студентів університету з участю працівників науково-дослідних організацій та інженерно-технічних працівників підприємств м. Вінниці та області  (Вінниця, 2015 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>
            <a:off x="785880" y="1214280"/>
            <a:ext cx="75009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а новиз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досконалено спосіб пошуку та відстеження переміщення обличчя люди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досконалено спосіб сегментації зображення для пошуку обличч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актичне 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алгоритм відстеження переміщення обличчя людини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алгоритм сегментації зображень для пошуку обличчя люди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програму пошуку та відстеження переміщення обличч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6"/>
          <p:cNvSpPr/>
          <p:nvPr/>
        </p:nvSpPr>
        <p:spPr>
          <a:xfrm>
            <a:off x="6429240" y="6286680"/>
            <a:ext cx="230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03638"/>
                </a:solidFill>
                <a:latin typeface="Times New Roman"/>
              </a:rPr>
              <a:t>©Тохтунов А.О</a:t>
            </a:r>
            <a:r>
              <a:rPr b="0" lang="uk-UA" sz="1800" spc="-1" strike="noStrike">
                <a:solidFill>
                  <a:srgbClr val="903638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903638"/>
                </a:solidFill>
                <a:latin typeface="Times New Roman"/>
              </a:rPr>
              <a:t>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7"/>
          <p:cNvSpPr/>
          <p:nvPr/>
        </p:nvSpPr>
        <p:spPr>
          <a:xfrm>
            <a:off x="468360" y="2349360"/>
            <a:ext cx="8064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ff"/>
                </a:solidFill>
                <a:latin typeface="Arial Black"/>
              </a:rPr>
              <a:t>Дякую за уваг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8"/>
          <p:cNvSpPr/>
          <p:nvPr/>
        </p:nvSpPr>
        <p:spPr>
          <a:xfrm>
            <a:off x="684360" y="33336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Вінницький національний технічний університе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Факультет інформаційних технологій та комп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’</a:t>
            </a: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ютерної інженер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0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3c63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500040" y="549360"/>
            <a:ext cx="77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Області застос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відстеження переміщення обличч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3"/>
          <p:cNvSpPr/>
          <p:nvPr/>
        </p:nvSpPr>
        <p:spPr>
          <a:xfrm>
            <a:off x="1857240" y="2015640"/>
            <a:ext cx="650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хоронні сис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міналі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ємодія комп'ютер – лю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туальна реальні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'ютерн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 над імміграціє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і серві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Процес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785880" y="1643040"/>
            <a:ext cx="75009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окалізація обличчя людини (face localiz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теження переміщення обличчя людини (face tra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Группа 8"/>
          <p:cNvGrpSpPr/>
          <p:nvPr/>
        </p:nvGrpSpPr>
        <p:grpSpPr>
          <a:xfrm>
            <a:off x="546120" y="3068640"/>
            <a:ext cx="7691400" cy="3193920"/>
            <a:chOff x="546120" y="3068640"/>
            <a:chExt cx="7691400" cy="3193920"/>
          </a:xfrm>
        </p:grpSpPr>
        <p:grpSp>
          <p:nvGrpSpPr>
            <p:cNvPr id="868" name="Группа 9"/>
            <p:cNvGrpSpPr/>
            <p:nvPr/>
          </p:nvGrpSpPr>
          <p:grpSpPr>
            <a:xfrm>
              <a:off x="546120" y="3068640"/>
              <a:ext cx="7194960" cy="3193920"/>
              <a:chOff x="546120" y="3068640"/>
              <a:chExt cx="7194960" cy="3193920"/>
            </a:xfrm>
          </p:grpSpPr>
          <p:grpSp>
            <p:nvGrpSpPr>
              <p:cNvPr id="869" name="Группа 11"/>
              <p:cNvGrpSpPr/>
              <p:nvPr/>
            </p:nvGrpSpPr>
            <p:grpSpPr>
              <a:xfrm>
                <a:off x="546120" y="3068640"/>
                <a:ext cx="7194960" cy="3193920"/>
                <a:chOff x="546120" y="3068640"/>
                <a:chExt cx="7194960" cy="3193920"/>
              </a:xfrm>
            </p:grpSpPr>
            <p:sp>
              <p:nvSpPr>
                <p:cNvPr id="870" name="Поле 26"/>
                <p:cNvSpPr/>
                <p:nvPr/>
              </p:nvSpPr>
              <p:spPr>
                <a:xfrm>
                  <a:off x="4548240" y="5535720"/>
                  <a:ext cx="107316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2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Метод виявленн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1" name="Группа 14"/>
                <p:cNvGrpSpPr/>
                <p:nvPr/>
              </p:nvGrpSpPr>
              <p:grpSpPr>
                <a:xfrm>
                  <a:off x="546120" y="3068640"/>
                  <a:ext cx="7194960" cy="3193920"/>
                  <a:chOff x="546120" y="3068640"/>
                  <a:chExt cx="7194960" cy="3193920"/>
                </a:xfrm>
              </p:grpSpPr>
              <p:sp>
                <p:nvSpPr>
                  <p:cNvPr id="872" name="Поле 25"/>
                  <p:cNvSpPr/>
                  <p:nvPr/>
                </p:nvSpPr>
                <p:spPr>
                  <a:xfrm>
                    <a:off x="4548240" y="4070160"/>
                    <a:ext cx="1073160" cy="57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uk-UA" sz="1200" spc="-1" strike="noStrike">
                        <a:solidFill>
                          <a:srgbClr val="000000"/>
                        </a:solidFill>
                        <a:latin typeface="Times New Roman"/>
                        <a:ea typeface="Calibri"/>
                      </a:rPr>
                      <a:t>Виявлення обличч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3" name="Группа 16"/>
                  <p:cNvGrpSpPr/>
                  <p:nvPr/>
                </p:nvGrpSpPr>
                <p:grpSpPr>
                  <a:xfrm>
                    <a:off x="546120" y="3068640"/>
                    <a:ext cx="7194960" cy="3193920"/>
                    <a:chOff x="546120" y="3068640"/>
                    <a:chExt cx="7194960" cy="3193920"/>
                  </a:xfrm>
                </p:grpSpPr>
                <p:grpSp>
                  <p:nvGrpSpPr>
                    <p:cNvPr id="874" name="Группа 17"/>
                    <p:cNvGrpSpPr/>
                    <p:nvPr/>
                  </p:nvGrpSpPr>
                  <p:grpSpPr>
                    <a:xfrm>
                      <a:off x="546120" y="3068640"/>
                      <a:ext cx="7194960" cy="3193920"/>
                      <a:chOff x="546120" y="3068640"/>
                      <a:chExt cx="7194960" cy="3193920"/>
                    </a:xfrm>
                  </p:grpSpPr>
                  <p:grpSp>
                    <p:nvGrpSpPr>
                      <p:cNvPr id="875" name="Группа 19"/>
                      <p:cNvGrpSpPr/>
                      <p:nvPr/>
                    </p:nvGrpSpPr>
                    <p:grpSpPr>
                      <a:xfrm>
                        <a:off x="546120" y="3068640"/>
                        <a:ext cx="7194960" cy="3193920"/>
                        <a:chOff x="546120" y="3068640"/>
                        <a:chExt cx="7194960" cy="3193920"/>
                      </a:xfrm>
                    </p:grpSpPr>
                    <p:grpSp>
                      <p:nvGrpSpPr>
                        <p:cNvPr id="876" name="Группа 21"/>
                        <p:cNvGrpSpPr/>
                        <p:nvPr/>
                      </p:nvGrpSpPr>
                      <p:grpSpPr>
                        <a:xfrm>
                          <a:off x="546120" y="3633120"/>
                          <a:ext cx="7194960" cy="2629440"/>
                          <a:chOff x="546120" y="3633120"/>
                          <a:chExt cx="7194960" cy="2629440"/>
                        </a:xfrm>
                      </p:grpSpPr>
                      <p:grpSp>
                        <p:nvGrpSpPr>
                          <p:cNvPr id="877" name="Группа 23"/>
                          <p:cNvGrpSpPr/>
                          <p:nvPr/>
                        </p:nvGrpSpPr>
                        <p:grpSpPr>
                          <a:xfrm>
                            <a:off x="546120" y="3633120"/>
                            <a:ext cx="7194960" cy="2629440"/>
                            <a:chOff x="546120" y="3633120"/>
                            <a:chExt cx="7194960" cy="2629440"/>
                          </a:xfrm>
                        </p:grpSpPr>
                        <p:grpSp>
                          <p:nvGrpSpPr>
                            <p:cNvPr id="878" name="Группа 25"/>
                            <p:cNvGrpSpPr/>
                            <p:nvPr/>
                          </p:nvGrpSpPr>
                          <p:grpSpPr>
                            <a:xfrm>
                              <a:off x="1017360" y="3633120"/>
                              <a:ext cx="6723720" cy="2629440"/>
                              <a:chOff x="1017360" y="3633120"/>
                              <a:chExt cx="6723720" cy="2629440"/>
                            </a:xfrm>
                          </p:grpSpPr>
                          <p:cxnSp>
                            <p:nvCxnSpPr>
                              <p:cNvPr id="879" name="Прямая со стрелкой 27"/>
                              <p:cNvCxnSpPr/>
                              <p:nvPr/>
                            </p:nvCxnSpPr>
                            <p:spPr>
                              <a:xfrm>
                                <a:off x="1017360" y="434880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0" name="Прямоугольник 28"/>
                              <p:cNvSpPr/>
                              <p:nvPr/>
                            </p:nvSpPr>
                            <p:spPr>
                              <a:xfrm>
                                <a:off x="1558440" y="395208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1" name="Прямая со стрелкой 29"/>
                              <p:cNvCxnSpPr/>
                              <p:nvPr/>
                            </p:nvCxnSpPr>
                            <p:spPr>
                              <a:xfrm>
                                <a:off x="2536200" y="4339080"/>
                                <a:ext cx="5418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2" name="Прямоугольник 30"/>
                              <p:cNvSpPr/>
                              <p:nvPr/>
                            </p:nvSpPr>
                            <p:spPr>
                              <a:xfrm>
                                <a:off x="3076200" y="396180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3" name="Прямая со стрелкой 31"/>
                              <p:cNvCxnSpPr/>
                              <p:nvPr/>
                            </p:nvCxnSpPr>
                            <p:spPr>
                              <a:xfrm>
                                <a:off x="4054320" y="434880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4" name="Прямоугольник 32"/>
                              <p:cNvSpPr/>
                              <p:nvPr/>
                            </p:nvSpPr>
                            <p:spPr>
                              <a:xfrm>
                                <a:off x="4595760" y="396180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5" name="Прямоугольник 33"/>
                              <p:cNvSpPr/>
                              <p:nvPr/>
                            </p:nvSpPr>
                            <p:spPr>
                              <a:xfrm>
                                <a:off x="4595760" y="544644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6" name="Прямая со стрелкой 34"/>
                              <p:cNvCxnSpPr/>
                              <p:nvPr/>
                            </p:nvCxnSpPr>
                            <p:spPr>
                              <a:xfrm>
                                <a:off x="5573520" y="4348800"/>
                                <a:ext cx="5418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7" name="Прямоугольник 35"/>
                              <p:cNvSpPr/>
                              <p:nvPr/>
                            </p:nvSpPr>
                            <p:spPr>
                              <a:xfrm>
                                <a:off x="6113520" y="3940920"/>
                                <a:ext cx="105732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8" name="Прямая со стрелкой 36"/>
                              <p:cNvCxnSpPr/>
                              <p:nvPr/>
                            </p:nvCxnSpPr>
                            <p:spPr>
                              <a:xfrm>
                                <a:off x="2822040" y="3633120"/>
                                <a:ext cx="1080" cy="72000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889" name="Прямая со стрелкой 37"/>
                              <p:cNvCxnSpPr/>
                              <p:nvPr/>
                            </p:nvCxnSpPr>
                            <p:spPr>
                              <a:xfrm>
                                <a:off x="7197840" y="433908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890" name="Прямая со стрелкой 38"/>
                              <p:cNvCxnSpPr/>
                              <p:nvPr/>
                            </p:nvCxnSpPr>
                            <p:spPr>
                              <a:xfrm flipV="1">
                                <a:off x="5079600" y="4779000"/>
                                <a:ext cx="1080" cy="66744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91" name="Прямоугольник 39"/>
                              <p:cNvSpPr/>
                              <p:nvPr/>
                            </p:nvSpPr>
                            <p:spPr>
                              <a:xfrm>
                                <a:off x="6010200" y="5416200"/>
                                <a:ext cx="116028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92" name="Прямая со стрелкой 40"/>
                              <p:cNvCxnSpPr/>
                              <p:nvPr/>
                            </p:nvCxnSpPr>
                            <p:spPr>
                              <a:xfrm flipV="1">
                                <a:off x="6599160" y="4749120"/>
                                <a:ext cx="1080" cy="66744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893" name="Поле 17"/>
                            <p:cNvSpPr/>
                            <p:nvPr/>
                          </p:nvSpPr>
                          <p:spPr>
                            <a:xfrm>
                              <a:off x="546120" y="3976560"/>
                              <a:ext cx="1073160" cy="3888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15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uk-UA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Calibri"/>
                                </a:rPr>
                                <a:t>Відеопотік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4" name="Поле 19"/>
                          <p:cNvSpPr/>
                          <p:nvPr/>
                        </p:nvSpPr>
                        <p:spPr>
                          <a:xfrm>
                            <a:off x="1509480" y="3922560"/>
                            <a:ext cx="1073160" cy="866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15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uk-UA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Calibri"/>
                              </a:rPr>
                              <a:t>Виділення кадру відеопотоку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5" name="Поле 21"/>
                        <p:cNvSpPr/>
                        <p:nvPr/>
                      </p:nvSpPr>
                      <p:spPr>
                        <a:xfrm>
                          <a:off x="2286000" y="3068640"/>
                          <a:ext cx="1073160" cy="57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15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uk-UA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Calibri"/>
                            </a:rPr>
                            <a:t>Виділений кадр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6" name="Поле 23"/>
                      <p:cNvSpPr/>
                      <p:nvPr/>
                    </p:nvSpPr>
                    <p:spPr>
                      <a:xfrm>
                        <a:off x="3044880" y="3941640"/>
                        <a:ext cx="1073160" cy="86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15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uk-UA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Попередня обробка зображення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97" name="Поле 28"/>
                    <p:cNvSpPr/>
                    <p:nvPr/>
                  </p:nvSpPr>
                  <p:spPr>
                    <a:xfrm>
                      <a:off x="5947200" y="5535720"/>
                      <a:ext cx="13287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відстеж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98" name="Поле 32"/>
              <p:cNvSpPr/>
              <p:nvPr/>
            </p:nvSpPr>
            <p:spPr>
              <a:xfrm>
                <a:off x="6034320" y="4060800"/>
                <a:ext cx="120168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Відстеження переміщенн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Поле 34"/>
            <p:cNvSpPr/>
            <p:nvPr/>
          </p:nvSpPr>
          <p:spPr>
            <a:xfrm>
              <a:off x="7164360" y="3732120"/>
              <a:ext cx="1073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ідстеження обличч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Послідовність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785880" y="1928880"/>
            <a:ext cx="7500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римання комп’ютерного зображ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явлення у зображенні обличчя люд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ілення суттєвих ознак обличчя люд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теження переміщення обличчя людини на основі отриманих да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Методи виділення обличчя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1357200" y="1643040"/>
            <a:ext cx="6143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головних компон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основі ключових то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еометричний мет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льтри Га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пізнавання за допомогою штучних нейронних мер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ховані марківські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оли-Джонс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179280" y="836640"/>
            <a:ext cx="86425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Метод ключових то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Рисунок 6" descr="http://www.bestreferat.ru/images/paper/91/27/9272791.png"/>
          <p:cNvPicPr/>
          <p:nvPr/>
        </p:nvPicPr>
        <p:blipFill>
          <a:blip r:embed="rId1"/>
          <a:stretch/>
        </p:blipFill>
        <p:spPr>
          <a:xfrm>
            <a:off x="1857240" y="2233440"/>
            <a:ext cx="5214960" cy="34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посіб відстеження обличчя люд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785880" y="1500120"/>
            <a:ext cx="75009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антаження зображення із відеокам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івнювання по кольору та яскра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орове диференці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гментація зобра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ілення обличчя людини за озна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очнення обличчя людини по коль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міщення обличчя людини в прямоку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теження переміщення центру прямокут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посіб сегментації зобр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785880" y="1643040"/>
            <a:ext cx="75009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едення зображення із моделі кольорів RGB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V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алення можливих завад зображення шляхом фільтр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гладження зображення з використанням фільт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ластеризація зобра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кладання отриманих границь об’єктів на початкове зображ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едення сегментованого зображенн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324000" y="54936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ff"/>
                </a:solidFill>
                <a:latin typeface="Times New Roman"/>
              </a:rPr>
              <a:t>Алгоритм сегментації зобра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Object 9"/>
          <p:cNvGraphicFramePr/>
          <p:nvPr/>
        </p:nvGraphicFramePr>
        <p:xfrm>
          <a:off x="1500120" y="1143000"/>
          <a:ext cx="610560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143000"/>
                    <a:ext cx="610560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8:46:25Z</dcterms:created>
  <dc:creator>Andrey</dc:creator>
  <dc:description/>
  <dc:language>en-US</dc:language>
  <cp:lastModifiedBy>realredfox@hotmail.com</cp:lastModifiedBy>
  <dcterms:modified xsi:type="dcterms:W3CDTF">2015-11-23T13:42:39Z</dcterms:modified>
  <cp:revision>225</cp:revision>
  <dc:subject/>
  <dc:title>Вінницький національний технічний університет Кафедра обчислювальної техніки</dc:title>
</cp:coreProperties>
</file>