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31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33.wmf" ContentType="image/x-wmf"/>
  <Override PartName="/ppt/media/image13.png" ContentType="image/png"/>
  <Override PartName="/ppt/media/image38.wmf" ContentType="image/x-wmf"/>
  <Override PartName="/ppt/media/image40.png" ContentType="image/png"/>
  <Override PartName="/ppt/media/image8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F02-FE99-4F0B-972A-880DF55A7B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7" name="Shape 25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0F6-12C0-4F33-93B3-D048947AC0C0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88" name="Shape 1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B0E5-C803-418F-A2CF-0DBBDF975D93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1" name="Shape 1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758B-1415-47A0-939F-316F2279909E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4" name="Shape 1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3EA-6122-4B66-8297-FD29B99F7A19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44E-79AF-4A13-9D2B-6CB5AEA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639-E5B4-4ECD-B30A-D5DC40D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934-C100-4BB2-B00C-838D2F16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FF3-BFAD-45E0-8604-97DB887F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8B3-9C66-44D0-819D-0839F05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318-D0CA-4A7D-A44C-B1E899F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88A-6714-40F6-8BBE-DCD2AB1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BE6-30AF-4365-B2ED-4A1EFA3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46E-3749-4A9A-8F5E-3B909C7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945-1D90-4928-B116-B3595F3F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6DB-63E2-4217-9A6D-1FECA01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77B-1EB1-49ED-ADBD-1B930C4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7FB4-DD19-4567-90C4-66D5EB58F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5584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інформаційних технологій та комп’ютерної інженерії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 програмного забезпе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79800" y="2058840"/>
            <a:ext cx="6400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63880" y="2714760"/>
            <a:ext cx="80643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735520" y="6121440"/>
            <a:ext cx="694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ла: ст. гр. 1ПЗ-14м Даньковська Ольга Володимирі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уковий керівник: к.т.н., доц. Катєльніков Денис Іва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11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11418840" cy="2346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ая соединительная линия 23" descr=""/>
          <p:cNvPicPr/>
          <p:nvPr/>
        </p:nvPicPr>
        <p:blipFill>
          <a:blip r:embed="rId2"/>
          <a:stretch/>
        </p:blipFill>
        <p:spPr>
          <a:xfrm>
            <a:off x="768240" y="586440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3"/>
          <a:stretch/>
        </p:blipFill>
        <p:spPr>
          <a:xfrm>
            <a:off x="46080" y="1211400"/>
            <a:ext cx="303372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hape 21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6" name="Shape 21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17" name="Shape 220"/>
          <p:cNvSpPr/>
          <p:nvPr/>
        </p:nvSpPr>
        <p:spPr>
          <a:xfrm>
            <a:off x="192240" y="0"/>
            <a:ext cx="1207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икористання для розпаралелення рендерингу Фонга рівняння поверхні 2-ого поря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hape 22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hape 22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1"/>
          <a:stretch/>
        </p:blipFill>
        <p:spPr>
          <a:xfrm>
            <a:off x="55440" y="1017720"/>
            <a:ext cx="2691000" cy="2411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" descr=""/>
          <p:cNvPicPr/>
          <p:nvPr/>
        </p:nvPicPr>
        <p:blipFill>
          <a:blip r:embed="rId2"/>
          <a:stretch/>
        </p:blipFill>
        <p:spPr>
          <a:xfrm>
            <a:off x="4870440" y="1371600"/>
            <a:ext cx="6095880" cy="957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"/>
          <p:cNvPicPr/>
          <p:nvPr/>
        </p:nvPicPr>
        <p:blipFill>
          <a:blip r:embed="rId3"/>
          <a:stretch/>
        </p:blipFill>
        <p:spPr>
          <a:xfrm>
            <a:off x="662040" y="4154400"/>
            <a:ext cx="2023920" cy="1573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"/>
          <p:cNvPicPr/>
          <p:nvPr/>
        </p:nvPicPr>
        <p:blipFill>
          <a:blip r:embed="rId4"/>
          <a:stretch/>
        </p:blipFill>
        <p:spPr>
          <a:xfrm>
            <a:off x="8729640" y="3522600"/>
            <a:ext cx="3260880" cy="292428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4" descr=""/>
          <p:cNvPicPr/>
          <p:nvPr/>
        </p:nvPicPr>
        <p:blipFill>
          <a:blip r:embed="rId5"/>
          <a:stretch/>
        </p:blipFill>
        <p:spPr>
          <a:xfrm>
            <a:off x="2670120" y="2835360"/>
            <a:ext cx="8667720" cy="7794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575160" y="378468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1 = I(x+2, y) - I(x+1, y) = 2Ax+3A+Cy;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2 = I(x+3, y) - I(x +2, y) = 2Ax+5A+C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3 = I(x+4, y) - I(E+3, y) = 2Ax+7A+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3505320" y="5267160"/>
            <a:ext cx="39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+1,y)=I(x, y)+Px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,y+1)= I(x, y) +Py,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+1,y+1)= I(x, y) + Px +Py+C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hape 22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Shape 22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29" name="Shape 230"/>
          <p:cNvSpPr/>
          <p:nvPr/>
        </p:nvSpPr>
        <p:spPr>
          <a:xfrm>
            <a:off x="192240" y="228600"/>
            <a:ext cx="1207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Розпаралелення на основі комбінування метод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hape 23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hape 23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Рисунок 7" descr=""/>
          <p:cNvPicPr/>
          <p:nvPr/>
        </p:nvPicPr>
        <p:blipFill>
          <a:blip r:embed="rId1"/>
          <a:stretch/>
        </p:blipFill>
        <p:spPr>
          <a:xfrm>
            <a:off x="550800" y="1268280"/>
            <a:ext cx="7105680" cy="14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Объект 2"/>
          <p:cNvGraphicFramePr/>
          <p:nvPr/>
        </p:nvGraphicFramePr>
        <p:xfrm>
          <a:off x="8616960" y="1120680"/>
          <a:ext cx="220644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6960" y="1120680"/>
                    <a:ext cx="22064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Объект 4"/>
          <p:cNvGraphicFramePr/>
          <p:nvPr/>
        </p:nvGraphicFramePr>
        <p:xfrm>
          <a:off x="8663040" y="1989000"/>
          <a:ext cx="216036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63040" y="1989000"/>
                    <a:ext cx="2160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Объект 6"/>
          <p:cNvGraphicFramePr/>
          <p:nvPr/>
        </p:nvGraphicFramePr>
        <p:xfrm>
          <a:off x="8616960" y="2514600"/>
          <a:ext cx="23763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616960" y="2514600"/>
                    <a:ext cx="23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Объект 8"/>
          <p:cNvGraphicFramePr/>
          <p:nvPr/>
        </p:nvGraphicFramePr>
        <p:xfrm>
          <a:off x="550800" y="2852640"/>
          <a:ext cx="3882960" cy="77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800" y="2852640"/>
                    <a:ext cx="3882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5961240" y="13993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2" descr=""/>
          <p:cNvPicPr/>
          <p:nvPr/>
        </p:nvPicPr>
        <p:blipFill>
          <a:blip r:embed="rId10"/>
          <a:stretch/>
        </p:blipFill>
        <p:spPr>
          <a:xfrm>
            <a:off x="192240" y="3645000"/>
            <a:ext cx="3333600" cy="809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Объект 21"/>
          <p:cNvGraphicFramePr/>
          <p:nvPr/>
        </p:nvGraphicFramePr>
        <p:xfrm>
          <a:off x="5664240" y="3286080"/>
          <a:ext cx="589608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4240" y="3286080"/>
                    <a:ext cx="58960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1"/>
          <p:cNvSpPr/>
          <p:nvPr/>
        </p:nvSpPr>
        <p:spPr>
          <a:xfrm>
            <a:off x="345960" y="445464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довжи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і ряд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Объект 3"/>
          <p:cNvGraphicFramePr/>
          <p:nvPr/>
        </p:nvGraphicFramePr>
        <p:xfrm>
          <a:off x="2600280" y="4503600"/>
          <a:ext cx="69048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Объект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00280" y="4503600"/>
                    <a:ext cx="69048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2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Объект 6"/>
          <p:cNvGraphicFramePr/>
          <p:nvPr/>
        </p:nvGraphicFramePr>
        <p:xfrm>
          <a:off x="550800" y="4846680"/>
          <a:ext cx="1968480" cy="81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Объект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800" y="4846680"/>
                    <a:ext cx="1968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Box 13"/>
          <p:cNvSpPr/>
          <p:nvPr/>
        </p:nvSpPr>
        <p:spPr>
          <a:xfrm>
            <a:off x="442800" y="5013360"/>
            <a:ext cx="110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   і        – вектори нормалей відповідно в лівій і правій точках рядка растериз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Объект 15"/>
          <p:cNvGraphicFramePr/>
          <p:nvPr/>
        </p:nvGraphicFramePr>
        <p:xfrm>
          <a:off x="839880" y="5851440"/>
          <a:ext cx="34740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Объект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9880" y="5851440"/>
                    <a:ext cx="347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3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Объект 17"/>
          <p:cNvGraphicFramePr/>
          <p:nvPr/>
        </p:nvGraphicFramePr>
        <p:xfrm>
          <a:off x="1415880" y="5819760"/>
          <a:ext cx="39240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1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15880" y="5819760"/>
                    <a:ext cx="392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Объект 19"/>
          <p:cNvGraphicFramePr/>
          <p:nvPr/>
        </p:nvGraphicFramePr>
        <p:xfrm>
          <a:off x="4152960" y="4638600"/>
          <a:ext cx="3670200" cy="739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4" name="Объект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52960" y="4638600"/>
                    <a:ext cx="36702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hape 23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Shape 23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67" name="Shape 240"/>
          <p:cNvSpPr/>
          <p:nvPr/>
        </p:nvSpPr>
        <p:spPr>
          <a:xfrm>
            <a:off x="550800" y="331920"/>
            <a:ext cx="11064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Розробка алгоритму роботи П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hape 24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hape 24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hape 244"/>
          <p:cNvSpPr/>
          <p:nvPr/>
        </p:nvSpPr>
        <p:spPr>
          <a:xfrm>
            <a:off x="303120" y="105264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hape 245"/>
          <p:cNvSpPr/>
          <p:nvPr/>
        </p:nvSpPr>
        <p:spPr>
          <a:xfrm>
            <a:off x="4965840" y="162864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3598920" y="1052640"/>
            <a:ext cx="4226040" cy="56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hape 250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5" name="Shape 251"/>
          <p:cNvCxnSpPr/>
          <p:nvPr/>
        </p:nvCxnSpPr>
        <p:spPr>
          <a:xfrm>
            <a:off x="407880" y="98064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76" name="Shape 252"/>
          <p:cNvSpPr/>
          <p:nvPr/>
        </p:nvSpPr>
        <p:spPr>
          <a:xfrm>
            <a:off x="1992240" y="333360"/>
            <a:ext cx="806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ограмне забезпече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1"/>
          <a:stretch/>
        </p:blipFill>
        <p:spPr>
          <a:xfrm>
            <a:off x="303120" y="1268280"/>
            <a:ext cx="5697720" cy="4824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2"/>
          <a:stretch/>
        </p:blipFill>
        <p:spPr>
          <a:xfrm>
            <a:off x="6240600" y="1341360"/>
            <a:ext cx="562896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0" name="Shape 270"/>
          <p:cNvCxnSpPr/>
          <p:nvPr/>
        </p:nvCxnSpPr>
        <p:spPr>
          <a:xfrm>
            <a:off x="407880" y="83628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81" name="Shape 272"/>
          <p:cNvSpPr/>
          <p:nvPr/>
        </p:nvSpPr>
        <p:spPr>
          <a:xfrm>
            <a:off x="504720" y="984240"/>
            <a:ext cx="109918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ою магістерської кваліфікаційної роботи було написано 4 наукові праці, із ни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46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атент (свідоцтво про реєстрацію авторського права № 51700 від 11.10.2013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46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аукові статті у міжнародних наукових практичних конференціях Болгарії, Польщі та Украї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hape 277"/>
          <p:cNvSpPr/>
          <p:nvPr/>
        </p:nvSpPr>
        <p:spPr>
          <a:xfrm>
            <a:off x="3686040" y="2637000"/>
            <a:ext cx="4819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Shape 278"/>
          <p:cNvCxnSpPr/>
          <p:nvPr/>
        </p:nvCxnSpPr>
        <p:spPr>
          <a:xfrm>
            <a:off x="407880" y="83628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cxnSp>
        <p:nvCxnSpPr>
          <p:cNvPr id="284" name="Shape 279"/>
          <p:cNvCxnSpPr/>
          <p:nvPr/>
        </p:nvCxnSpPr>
        <p:spPr>
          <a:xfrm>
            <a:off x="407880" y="6021000"/>
            <a:ext cx="11376720" cy="1080"/>
          </a:xfrm>
          <a:prstGeom prst="straightConnector1">
            <a:avLst/>
          </a:prstGeom>
          <a:ln w="22320">
            <a:solidFill>
              <a:srgbClr val="d5dbe5"/>
            </a:solidFill>
            <a:miter/>
          </a:ln>
        </p:spPr>
      </p:cxnSp>
      <p:sp>
        <p:nvSpPr>
          <p:cNvPr id="285" name="Shape 280"/>
          <p:cNvSpPr/>
          <p:nvPr/>
        </p:nvSpPr>
        <p:spPr>
          <a:xfrm>
            <a:off x="9696600" y="6308640"/>
            <a:ext cx="2225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аньковська О.В.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679320" y="666720"/>
            <a:ext cx="1080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Мета дипломної робо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ідвищення продуктивності зафарбовування тривимірних графічних сцен за рахунок розпарале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Об’єкт дослідженн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цес зафарбовування тривимірних графічних об’єктів у системах комп’ютерної графі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Предмет дослідженн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етоди та засоби розпаралелення процедури рендерингу тривимірних графічних сц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914400" y="615168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695160" y="609480"/>
            <a:ext cx="105886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679320" y="666720"/>
            <a:ext cx="10801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ля досягнення поставленої мети необхідно розв’язати такі задач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1. Проаналізувати існуючі методи зафарбовування та розпаралелення у комп’ютерній графіц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2. Розробити нові методи розпаралелення рендерингу за методом Гу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3. Розробити нові методи розпаралелення рендерингу за методом Фон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4. Розробити комбіновані методи прискореного зафарбовува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5. Розробити апаратну реалізацію методів розпаралелення процедури рендеринг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6. Розробити програмне забезпечення для моделювання отриманих результат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914400" y="615168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695160" y="609480"/>
            <a:ext cx="105886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hape 103"/>
          <p:cNvSpPr/>
          <p:nvPr/>
        </p:nvSpPr>
        <p:spPr>
          <a:xfrm>
            <a:off x="2208240" y="33336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Графічний конвеє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hape 104"/>
          <p:cNvCxnSpPr/>
          <p:nvPr/>
        </p:nvCxnSpPr>
        <p:spPr>
          <a:xfrm>
            <a:off x="695160" y="980640"/>
            <a:ext cx="1080180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63" name="Shape 106"/>
          <p:cNvSpPr/>
          <p:nvPr/>
        </p:nvSpPr>
        <p:spPr>
          <a:xfrm>
            <a:off x="504720" y="984240"/>
            <a:ext cx="10991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веє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логічна сукупність обчислень, що виконуються послідовно і дають на виході синтезовану сце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Shape 107"/>
          <p:cNvGrpSpPr/>
          <p:nvPr/>
        </p:nvGrpSpPr>
        <p:grpSpPr>
          <a:xfrm>
            <a:off x="1644480" y="1916280"/>
            <a:ext cx="8915400" cy="4825440"/>
            <a:chOff x="1644480" y="1916280"/>
            <a:chExt cx="8915400" cy="4825440"/>
          </a:xfrm>
        </p:grpSpPr>
        <p:sp>
          <p:nvSpPr>
            <p:cNvPr id="65" name="Shape 108"/>
            <p:cNvSpPr/>
            <p:nvPr/>
          </p:nvSpPr>
          <p:spPr>
            <a:xfrm>
              <a:off x="4912920" y="1916280"/>
              <a:ext cx="2822400" cy="560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 сцени в тривимірному  програмному продукт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hape 109"/>
            <p:cNvSpPr/>
            <p:nvPr/>
          </p:nvSpPr>
          <p:spPr>
            <a:xfrm>
              <a:off x="6042240" y="246492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hape 110"/>
            <p:cNvSpPr/>
            <p:nvPr/>
          </p:nvSpPr>
          <p:spPr>
            <a:xfrm>
              <a:off x="1666800" y="2903400"/>
              <a:ext cx="8893080" cy="12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тадія геометричних перетворен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hape 111"/>
            <p:cNvSpPr/>
            <p:nvPr/>
          </p:nvSpPr>
          <p:spPr>
            <a:xfrm>
              <a:off x="1996200" y="3380760"/>
              <a:ext cx="18342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нерація трикутникі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hape 112"/>
            <p:cNvSpPr/>
            <p:nvPr/>
          </p:nvSpPr>
          <p:spPr>
            <a:xfrm>
              <a:off x="4255200" y="3380760"/>
              <a:ext cx="1552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ельне перетворе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hape 113"/>
            <p:cNvSpPr/>
            <p:nvPr/>
          </p:nvSpPr>
          <p:spPr>
            <a:xfrm>
              <a:off x="6230520" y="338076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вітле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hape 114"/>
            <p:cNvSpPr/>
            <p:nvPr/>
          </p:nvSpPr>
          <p:spPr>
            <a:xfrm>
              <a:off x="8348040" y="338076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ірка глибин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hape 115"/>
            <p:cNvSpPr/>
            <p:nvPr/>
          </p:nvSpPr>
          <p:spPr>
            <a:xfrm>
              <a:off x="383076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hape 116"/>
            <p:cNvSpPr/>
            <p:nvPr/>
          </p:nvSpPr>
          <p:spPr>
            <a:xfrm>
              <a:off x="580716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hape 117"/>
            <p:cNvSpPr/>
            <p:nvPr/>
          </p:nvSpPr>
          <p:spPr>
            <a:xfrm>
              <a:off x="792468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hape 118"/>
            <p:cNvSpPr/>
            <p:nvPr/>
          </p:nvSpPr>
          <p:spPr>
            <a:xfrm>
              <a:off x="5977440" y="410796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hape 119"/>
            <p:cNvSpPr/>
            <p:nvPr/>
          </p:nvSpPr>
          <p:spPr>
            <a:xfrm>
              <a:off x="1644480" y="4551120"/>
              <a:ext cx="8893080" cy="12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тадія рендеринг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hape 120"/>
            <p:cNvSpPr/>
            <p:nvPr/>
          </p:nvSpPr>
          <p:spPr>
            <a:xfrm>
              <a:off x="1925640" y="4990320"/>
              <a:ext cx="2398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ртування по z- буферу та зміщення тексту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hape 121"/>
            <p:cNvSpPr/>
            <p:nvPr/>
          </p:nvSpPr>
          <p:spPr>
            <a:xfrm>
              <a:off x="4750200" y="4990320"/>
              <a:ext cx="14108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ладання тексту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hape 122"/>
            <p:cNvSpPr/>
            <p:nvPr/>
          </p:nvSpPr>
          <p:spPr>
            <a:xfrm>
              <a:off x="6584400" y="499032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Зафарбовува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hape 123"/>
            <p:cNvSpPr/>
            <p:nvPr/>
          </p:nvSpPr>
          <p:spPr>
            <a:xfrm>
              <a:off x="8702280" y="4990320"/>
              <a:ext cx="1552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ладжува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hape 124"/>
            <p:cNvSpPr/>
            <p:nvPr/>
          </p:nvSpPr>
          <p:spPr>
            <a:xfrm>
              <a:off x="432648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hape 125"/>
            <p:cNvSpPr/>
            <p:nvPr/>
          </p:nvSpPr>
          <p:spPr>
            <a:xfrm>
              <a:off x="616104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hape 126"/>
            <p:cNvSpPr/>
            <p:nvPr/>
          </p:nvSpPr>
          <p:spPr>
            <a:xfrm>
              <a:off x="827856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hape 127"/>
            <p:cNvSpPr/>
            <p:nvPr/>
          </p:nvSpPr>
          <p:spPr>
            <a:xfrm>
              <a:off x="6019920" y="575604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hape 128"/>
            <p:cNvSpPr/>
            <p:nvPr/>
          </p:nvSpPr>
          <p:spPr>
            <a:xfrm>
              <a:off x="5173560" y="6194520"/>
              <a:ext cx="20732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ача зображення сцени на дисп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Shape 134"/>
          <p:cNvCxnSpPr/>
          <p:nvPr/>
        </p:nvCxnSpPr>
        <p:spPr>
          <a:xfrm>
            <a:off x="576360" y="980640"/>
            <a:ext cx="1092096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87" name="Shape 13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hape 13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hape 13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hape 13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hape 13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hape 14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hape 14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hape 14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hape 14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hape 14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hape 14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5160" y="274680"/>
            <a:ext cx="66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Методи зафарбовуванн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Shape 148" descr=""/>
          <p:cNvPicPr/>
          <p:nvPr/>
        </p:nvPicPr>
        <p:blipFill>
          <a:blip r:embed="rId1"/>
          <a:stretch/>
        </p:blipFill>
        <p:spPr>
          <a:xfrm>
            <a:off x="1727280" y="998640"/>
            <a:ext cx="888372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Shape 153"/>
          <p:cNvCxnSpPr/>
          <p:nvPr/>
        </p:nvCxnSpPr>
        <p:spPr>
          <a:xfrm flipV="1">
            <a:off x="436680" y="969120"/>
            <a:ext cx="11060640" cy="5004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01" name="Shape 15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hape 15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hape 15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hape 15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hape 15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hape 15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hape 16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hape 16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hape 16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hape 16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hape 16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9920" y="184320"/>
            <a:ext cx="11712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Існуючі методи розпаралелення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Shape 166"/>
          <p:cNvSpPr/>
          <p:nvPr/>
        </p:nvSpPr>
        <p:spPr>
          <a:xfrm>
            <a:off x="8558280" y="1046160"/>
            <a:ext cx="15163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898640" y="1235160"/>
            <a:ext cx="8136000" cy="52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6" name="Shape 153"/>
          <p:cNvCxnSpPr/>
          <p:nvPr/>
        </p:nvCxnSpPr>
        <p:spPr>
          <a:xfrm flipV="1">
            <a:off x="436680" y="969120"/>
            <a:ext cx="11060640" cy="5004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17" name="Shape 15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hape 15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hape 15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hape 15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hape 15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hape 15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hape 16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hape 16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hape 16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hape 16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hape 16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920" y="184320"/>
            <a:ext cx="11712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незалежного формування парних і непарних РР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Shape 166"/>
          <p:cNvSpPr/>
          <p:nvPr/>
        </p:nvSpPr>
        <p:spPr>
          <a:xfrm>
            <a:off x="8558280" y="1046160"/>
            <a:ext cx="15163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55600" y="3290760"/>
            <a:ext cx="5305320" cy="1917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3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983040" y="1104840"/>
            <a:ext cx="352908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4" descr=""/>
          <p:cNvPicPr/>
          <p:nvPr/>
        </p:nvPicPr>
        <p:blipFill>
          <a:blip r:embed="rId3"/>
          <a:stretch/>
        </p:blipFill>
        <p:spPr>
          <a:xfrm>
            <a:off x="7599240" y="1125360"/>
            <a:ext cx="2857680" cy="22100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Объект 6"/>
              <p:cNvSpPr txBox="1"/>
              <p:nvPr/>
            </p:nvSpPr>
            <p:spPr>
              <a:xfrm>
                <a:off x="5880240" y="3262320"/>
                <a:ext cx="2355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V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5" name="Группа 22"/>
          <p:cNvGrpSpPr/>
          <p:nvPr/>
        </p:nvGrpSpPr>
        <p:grpSpPr>
          <a:xfrm>
            <a:off x="8848800" y="3933720"/>
            <a:ext cx="3215880" cy="2522520"/>
            <a:chOff x="8848800" y="3933720"/>
            <a:chExt cx="3215880" cy="2522520"/>
          </a:xfrm>
        </p:grpSpPr>
        <p:sp>
          <p:nvSpPr>
            <p:cNvPr id="136" name="Line 127"/>
            <p:cNvSpPr/>
            <p:nvPr/>
          </p:nvSpPr>
          <p:spPr>
            <a:xfrm flipV="1">
              <a:off x="9084960" y="4287960"/>
              <a:ext cx="2520" cy="18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128"/>
            <p:cNvSpPr/>
            <p:nvPr/>
          </p:nvSpPr>
          <p:spPr>
            <a:xfrm flipV="1">
              <a:off x="9084960" y="6183000"/>
              <a:ext cx="297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129"/>
            <p:cNvSpPr/>
            <p:nvPr/>
          </p:nvSpPr>
          <p:spPr>
            <a:xfrm flipV="1">
              <a:off x="9084960" y="4480920"/>
              <a:ext cx="1808640" cy="170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30"/>
            <p:cNvSpPr/>
            <p:nvPr/>
          </p:nvSpPr>
          <p:spPr>
            <a:xfrm flipV="1">
              <a:off x="9084960" y="5941080"/>
              <a:ext cx="23292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31"/>
            <p:cNvSpPr/>
            <p:nvPr/>
          </p:nvSpPr>
          <p:spPr>
            <a:xfrm flipV="1">
              <a:off x="9316800" y="5335560"/>
              <a:ext cx="149760" cy="6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32"/>
            <p:cNvSpPr/>
            <p:nvPr/>
          </p:nvSpPr>
          <p:spPr>
            <a:xfrm>
              <a:off x="9470880" y="5335560"/>
              <a:ext cx="2520" cy="49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33"/>
            <p:cNvSpPr/>
            <p:nvPr/>
          </p:nvSpPr>
          <p:spPr>
            <a:xfrm flipV="1">
              <a:off x="9744480" y="4655520"/>
              <a:ext cx="238320" cy="88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34"/>
            <p:cNvSpPr/>
            <p:nvPr/>
          </p:nvSpPr>
          <p:spPr>
            <a:xfrm flipH="1">
              <a:off x="9988560" y="4669200"/>
              <a:ext cx="2520" cy="66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35"/>
            <p:cNvSpPr/>
            <p:nvPr/>
          </p:nvSpPr>
          <p:spPr>
            <a:xfrm flipV="1">
              <a:off x="10224000" y="3933720"/>
              <a:ext cx="26748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36"/>
            <p:cNvSpPr/>
            <p:nvPr/>
          </p:nvSpPr>
          <p:spPr>
            <a:xfrm>
              <a:off x="10503000" y="3934800"/>
              <a:ext cx="43920" cy="84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37"/>
            <p:cNvSpPr/>
            <p:nvPr/>
          </p:nvSpPr>
          <p:spPr>
            <a:xfrm>
              <a:off x="11886480" y="6266160"/>
              <a:ext cx="763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38"/>
            <p:cNvSpPr/>
            <p:nvPr/>
          </p:nvSpPr>
          <p:spPr>
            <a:xfrm>
              <a:off x="9510120" y="611496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39"/>
            <p:cNvSpPr/>
            <p:nvPr/>
          </p:nvSpPr>
          <p:spPr>
            <a:xfrm>
              <a:off x="970308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140"/>
            <p:cNvSpPr/>
            <p:nvPr/>
          </p:nvSpPr>
          <p:spPr>
            <a:xfrm>
              <a:off x="9896040" y="61218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141"/>
            <p:cNvSpPr/>
            <p:nvPr/>
          </p:nvSpPr>
          <p:spPr>
            <a:xfrm>
              <a:off x="1008900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142"/>
            <p:cNvSpPr/>
            <p:nvPr/>
          </p:nvSpPr>
          <p:spPr>
            <a:xfrm>
              <a:off x="10296000" y="611496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143"/>
            <p:cNvSpPr/>
            <p:nvPr/>
          </p:nvSpPr>
          <p:spPr>
            <a:xfrm>
              <a:off x="1048860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144"/>
            <p:cNvSpPr/>
            <p:nvPr/>
          </p:nvSpPr>
          <p:spPr>
            <a:xfrm>
              <a:off x="8848800" y="4247640"/>
              <a:ext cx="1256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145"/>
            <p:cNvSpPr/>
            <p:nvPr/>
          </p:nvSpPr>
          <p:spPr>
            <a:xfrm flipV="1">
              <a:off x="9489240" y="5541120"/>
              <a:ext cx="25488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146"/>
            <p:cNvSpPr/>
            <p:nvPr/>
          </p:nvSpPr>
          <p:spPr>
            <a:xfrm flipV="1">
              <a:off x="10006560" y="5066280"/>
              <a:ext cx="23292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47"/>
            <p:cNvSpPr/>
            <p:nvPr/>
          </p:nvSpPr>
          <p:spPr>
            <a:xfrm>
              <a:off x="9310680" y="61182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48"/>
            <p:cNvSpPr/>
            <p:nvPr/>
          </p:nvSpPr>
          <p:spPr>
            <a:xfrm flipH="1" flipV="1">
              <a:off x="10161000" y="5173560"/>
              <a:ext cx="84888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149"/>
            <p:cNvSpPr/>
            <p:nvPr/>
          </p:nvSpPr>
          <p:spPr>
            <a:xfrm>
              <a:off x="9466200" y="4247640"/>
              <a:ext cx="9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150"/>
            <p:cNvSpPr/>
            <p:nvPr/>
          </p:nvSpPr>
          <p:spPr>
            <a:xfrm>
              <a:off x="10778400" y="5173920"/>
              <a:ext cx="318960" cy="21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51"/>
            <p:cNvSpPr/>
            <p:nvPr/>
          </p:nvSpPr>
          <p:spPr>
            <a:xfrm>
              <a:off x="9234720" y="4016160"/>
              <a:ext cx="286560" cy="21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52"/>
            <p:cNvSpPr/>
            <p:nvPr/>
          </p:nvSpPr>
          <p:spPr>
            <a:xfrm>
              <a:off x="10701360" y="60998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153"/>
            <p:cNvSpPr/>
            <p:nvPr/>
          </p:nvSpPr>
          <p:spPr>
            <a:xfrm>
              <a:off x="11344680" y="61290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154"/>
            <p:cNvSpPr/>
            <p:nvPr/>
          </p:nvSpPr>
          <p:spPr>
            <a:xfrm>
              <a:off x="11139840" y="611028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55"/>
            <p:cNvSpPr/>
            <p:nvPr/>
          </p:nvSpPr>
          <p:spPr>
            <a:xfrm>
              <a:off x="10907280" y="610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156"/>
            <p:cNvSpPr/>
            <p:nvPr/>
          </p:nvSpPr>
          <p:spPr>
            <a:xfrm flipH="1" flipV="1">
              <a:off x="8988120" y="59436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157"/>
            <p:cNvSpPr/>
            <p:nvPr/>
          </p:nvSpPr>
          <p:spPr>
            <a:xfrm flipH="1" flipV="1">
              <a:off x="8981640" y="572652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158"/>
            <p:cNvSpPr/>
            <p:nvPr/>
          </p:nvSpPr>
          <p:spPr>
            <a:xfrm flipH="1" flipV="1">
              <a:off x="8981640" y="54756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159"/>
            <p:cNvSpPr/>
            <p:nvPr/>
          </p:nvSpPr>
          <p:spPr>
            <a:xfrm flipH="1" flipV="1">
              <a:off x="8981640" y="522756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160"/>
            <p:cNvSpPr/>
            <p:nvPr/>
          </p:nvSpPr>
          <p:spPr>
            <a:xfrm flipH="1" flipV="1">
              <a:off x="8981640" y="49932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161"/>
            <p:cNvSpPr/>
            <p:nvPr/>
          </p:nvSpPr>
          <p:spPr>
            <a:xfrm flipH="1" flipV="1">
              <a:off x="8981640" y="47520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Прямоугольник 1"/>
          <p:cNvSpPr/>
          <p:nvPr/>
        </p:nvSpPr>
        <p:spPr>
          <a:xfrm>
            <a:off x="8805960" y="365112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накопичення пох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5462280" y="3990960"/>
            <a:ext cx="32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- кількість розрядів д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робової част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Объект 4"/>
              <p:cNvSpPr txBox="1"/>
              <p:nvPr/>
            </p:nvSpPr>
            <p:spPr>
              <a:xfrm>
                <a:off x="5845320" y="3990960"/>
                <a:ext cx="431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Объект 6"/>
              <p:cNvSpPr txBox="1"/>
              <p:nvPr/>
            </p:nvSpPr>
            <p:spPr>
              <a:xfrm>
                <a:off x="338040" y="5553000"/>
                <a:ext cx="2738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Box 10"/>
          <p:cNvSpPr/>
          <p:nvPr/>
        </p:nvSpPr>
        <p:spPr>
          <a:xfrm>
            <a:off x="309600" y="5137200"/>
            <a:ext cx="193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залежному зафарбовувані парних і непарних  точок загальна похиб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4" descr=""/>
          <p:cNvPicPr/>
          <p:nvPr/>
        </p:nvPicPr>
        <p:blipFill>
          <a:blip r:embed="rId4"/>
          <a:stretch/>
        </p:blipFill>
        <p:spPr>
          <a:xfrm>
            <a:off x="1343160" y="1104840"/>
            <a:ext cx="2766960" cy="210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Объект 12"/>
              <p:cNvSpPr txBox="1"/>
              <p:nvPr/>
            </p:nvSpPr>
            <p:spPr>
              <a:xfrm>
                <a:off x="623880" y="6307200"/>
                <a:ext cx="35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TextBox 13"/>
          <p:cNvSpPr/>
          <p:nvPr/>
        </p:nvSpPr>
        <p:spPr>
          <a:xfrm>
            <a:off x="280080" y="636120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   - кількість ітерацій для найбільш несприятливого випад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2" name="Shape 192"/>
          <p:cNvCxnSpPr/>
          <p:nvPr/>
        </p:nvCxnSpPr>
        <p:spPr>
          <a:xfrm>
            <a:off x="623520" y="980640"/>
            <a:ext cx="1094508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83" name="Shape 19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hape 19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hape 19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hape 19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hape 19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hape 19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hape 19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hape 20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hape 20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hape 20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hape 20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2280" y="177840"/>
            <a:ext cx="11452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Arial"/>
                <a:ea typeface="Arial"/>
              </a:rPr>
              <a:t>Метод підвищення продуктивності зафарбовування за Гуро з використанням сегментації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5" name="Рисунок 15" descr=""/>
          <p:cNvPicPr/>
          <p:nvPr/>
        </p:nvPicPr>
        <p:blipFill>
          <a:blip r:embed="rId1"/>
          <a:stretch/>
        </p:blipFill>
        <p:spPr>
          <a:xfrm>
            <a:off x="839880" y="1413000"/>
            <a:ext cx="4740120" cy="180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897520" y="4881600"/>
            <a:ext cx="5496120" cy="19526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" descr=""/>
          <p:cNvPicPr/>
          <p:nvPr/>
        </p:nvPicPr>
        <p:blipFill>
          <a:blip r:embed="rId3"/>
          <a:stretch/>
        </p:blipFill>
        <p:spPr>
          <a:xfrm>
            <a:off x="5900760" y="1195560"/>
            <a:ext cx="6095880" cy="9745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4"/>
          <a:stretch/>
        </p:blipFill>
        <p:spPr>
          <a:xfrm>
            <a:off x="7716960" y="2309760"/>
            <a:ext cx="1592280" cy="5367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3" descr=""/>
          <p:cNvPicPr/>
          <p:nvPr/>
        </p:nvPicPr>
        <p:blipFill>
          <a:blip r:embed="rId5"/>
          <a:stretch/>
        </p:blipFill>
        <p:spPr>
          <a:xfrm>
            <a:off x="5870520" y="2865600"/>
            <a:ext cx="6095880" cy="2090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0" descr=""/>
          <p:cNvPicPr/>
          <p:nvPr/>
        </p:nvPicPr>
        <p:blipFill>
          <a:blip r:embed="rId6"/>
          <a:stretch/>
        </p:blipFill>
        <p:spPr>
          <a:xfrm>
            <a:off x="144360" y="3733920"/>
            <a:ext cx="2589480" cy="3097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1" descr=""/>
          <p:cNvPicPr/>
          <p:nvPr/>
        </p:nvPicPr>
        <p:blipFill>
          <a:blip r:embed="rId7"/>
          <a:stretch/>
        </p:blipFill>
        <p:spPr>
          <a:xfrm>
            <a:off x="2766960" y="3687840"/>
            <a:ext cx="23335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10"/>
          <p:cNvSpPr/>
          <p:nvPr/>
        </p:nvSpPr>
        <p:spPr>
          <a:xfrm>
            <a:off x="1576440" y="936720"/>
            <a:ext cx="30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Shape 211"/>
          <p:cNvCxnSpPr/>
          <p:nvPr/>
        </p:nvCxnSpPr>
        <p:spPr>
          <a:xfrm>
            <a:off x="550800" y="980640"/>
            <a:ext cx="1101816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0440" y="177840"/>
            <a:ext cx="11371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Arial"/>
                <a:ea typeface="Arial"/>
              </a:rPr>
              <a:t>Метод підвищення продуктивності за Гуро з використанням тріангуляції Серпінського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Рисунок 5" descr=""/>
          <p:cNvPicPr/>
          <p:nvPr/>
        </p:nvPicPr>
        <p:blipFill>
          <a:blip r:embed="rId1"/>
          <a:stretch/>
        </p:blipFill>
        <p:spPr>
          <a:xfrm>
            <a:off x="281160" y="1155600"/>
            <a:ext cx="3914640" cy="22478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7572240" y="1155600"/>
            <a:ext cx="4586400" cy="547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Объект 16"/>
              <p:cNvSpPr txBox="1"/>
              <p:nvPr/>
            </p:nvSpPr>
            <p:spPr>
              <a:xfrm>
                <a:off x="260280" y="3844800"/>
                <a:ext cx="1843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Объект 17"/>
              <p:cNvSpPr txBox="1"/>
              <p:nvPr/>
            </p:nvSpPr>
            <p:spPr>
              <a:xfrm>
                <a:off x="2567160" y="3833640"/>
                <a:ext cx="1766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Объект 18"/>
              <p:cNvSpPr txBox="1"/>
              <p:nvPr/>
            </p:nvSpPr>
            <p:spPr>
              <a:xfrm>
                <a:off x="4800600" y="3855960"/>
                <a:ext cx="1979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20"/>
          <p:cNvSpPr/>
          <p:nvPr/>
        </p:nvSpPr>
        <p:spPr>
          <a:xfrm>
            <a:off x="0" y="342756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Calibri"/>
              </a:rPr>
              <a:t>Інтенсивності кольору додаткових точок К, D, 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9" descr=""/>
          <p:cNvPicPr/>
          <p:nvPr/>
        </p:nvPicPr>
        <p:blipFill>
          <a:blip r:embed="rId3"/>
          <a:stretch/>
        </p:blipFill>
        <p:spPr>
          <a:xfrm>
            <a:off x="909720" y="4248000"/>
            <a:ext cx="5459400" cy="79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"/>
          <p:cNvPicPr/>
          <p:nvPr/>
        </p:nvPicPr>
        <p:blipFill>
          <a:blip r:embed="rId4"/>
          <a:stretch/>
        </p:blipFill>
        <p:spPr>
          <a:xfrm>
            <a:off x="217440" y="5000760"/>
            <a:ext cx="7610400" cy="776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2"/>
              <p:cNvSpPr txBox="1"/>
              <p:nvPr/>
            </p:nvSpPr>
            <p:spPr>
              <a:xfrm>
                <a:off x="2855880" y="5802480"/>
                <a:ext cx="19940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0:49Z</dcterms:created>
  <dc:creator>ОЛЕГ</dc:creator>
  <dc:description/>
  <dc:language>en-US</dc:language>
  <cp:lastModifiedBy>Olha</cp:lastModifiedBy>
  <dcterms:modified xsi:type="dcterms:W3CDTF">2015-11-14T17:28:56Z</dcterms:modified>
  <cp:revision>104</cp:revision>
  <dc:subject/>
  <dc:title>Презентация PowerPoint</dc:title>
</cp:coreProperties>
</file>