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B296-9876-4819-90D8-1DF4CC3E9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F981-09F1-4B65-AB2E-61B018CF9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8D3C-1EC9-4DC7-B0E5-22D8D5AB8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A267-4984-46CE-A408-B4AC303BB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5999-1AF0-4C5D-9888-BB8256EF3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5776-A2B6-4421-8401-16D0DEFA2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8AFE-88FE-40DD-B628-09A0BCE36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3D20-811E-4611-81CF-302573E2A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3CC6-9E34-482B-9071-0B1502457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723D-8BDD-42D0-8621-5FEFDA56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653E-3C05-4193-A6D6-A69CD24B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4AD3-C3D8-4FF4-AE9C-5E4B3295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404F3-CE76-4B9C-A6A3-3B382462B0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59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нницький національний технічний університет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ультет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’ютерних систем і автоматики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федра метрології та промислової автоматики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ійний матеріал до магістерської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іфікаційної роботи на тему:</a:t>
            </a:r>
            <a:br>
              <a:rPr sz="40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ФРОВИЙ АВТОМАТИЗОВАНИЙ ЗМІШУВАЧ ВОДИ</a:t>
            </a:r>
            <a:br>
              <a:rPr sz="2800"/>
            </a:b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-03.МК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00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00.000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рівник роботи: к.т.н., проф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Васілевський О.М.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робив: ст. гр. МВТ-14м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Компанець Д.М. </a:t>
            </a:r>
            <a:br>
              <a:rPr sz="2000"/>
            </a:b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нниця 2015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івняння перетворення вимірювального канал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–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мірювальна температур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температурний коефіцієнт 0,003985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 – джерело напруги 5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 – коефіцієнт підсилення О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o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порна напруга 2,5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рядніс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ЦП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8" descr="Безымянный2.png"/>
          <p:cNvPicPr/>
          <p:nvPr/>
        </p:nvPicPr>
        <p:blipFill>
          <a:blip r:embed="rId1"/>
          <a:stretch/>
        </p:blipFill>
        <p:spPr>
          <a:xfrm>
            <a:off x="3419640" y="1413000"/>
            <a:ext cx="250164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В загальної похибки пристро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д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СКВ похибки первинного датчик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оп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СКВ похибки операційного перетворювач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кв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СКВ похибки квантуванн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мк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СКВ похибки мікроконтролер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3" descr="Безымянный3.png"/>
          <p:cNvPicPr/>
          <p:nvPr/>
        </p:nvPicPr>
        <p:blipFill>
          <a:blip r:embed="rId1"/>
          <a:stretch/>
        </p:blipFill>
        <p:spPr>
          <a:xfrm>
            <a:off x="1332000" y="1125360"/>
            <a:ext cx="5543640" cy="74304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6" descr="Безымянный4.png"/>
          <p:cNvPicPr/>
          <p:nvPr/>
        </p:nvPicPr>
        <p:blipFill>
          <a:blip r:embed="rId2"/>
          <a:stretch/>
        </p:blipFill>
        <p:spPr>
          <a:xfrm>
            <a:off x="1979640" y="4005360"/>
            <a:ext cx="5329080" cy="73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льтиплікативна та адитивна похиб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льтиплікативна похиб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итивна похиб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6" descr="Безымянный6.png"/>
          <p:cNvPicPr/>
          <p:nvPr/>
        </p:nvPicPr>
        <p:blipFill>
          <a:blip r:embed="rId1"/>
          <a:stretch/>
        </p:blipFill>
        <p:spPr>
          <a:xfrm>
            <a:off x="611280" y="2349360"/>
            <a:ext cx="2457360" cy="69552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7" descr="Безымянный5.png"/>
          <p:cNvPicPr/>
          <p:nvPr/>
        </p:nvPicPr>
        <p:blipFill>
          <a:blip r:embed="rId2"/>
          <a:stretch/>
        </p:blipFill>
        <p:spPr>
          <a:xfrm>
            <a:off x="2987640" y="2060640"/>
            <a:ext cx="4362480" cy="1800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3"/>
          <a:stretch/>
        </p:blipFill>
        <p:spPr>
          <a:xfrm>
            <a:off x="826920" y="4581360"/>
            <a:ext cx="1952640" cy="8478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9" descr="Безымянный7.png"/>
          <p:cNvPicPr/>
          <p:nvPr/>
        </p:nvPicPr>
        <p:blipFill>
          <a:blip r:embed="rId4"/>
          <a:stretch/>
        </p:blipFill>
        <p:spPr>
          <a:xfrm>
            <a:off x="2987640" y="4221000"/>
            <a:ext cx="43624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ономічні розрахун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187280" y="1700280"/>
            <a:ext cx="68580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якую за увагу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і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тосування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трою суттєво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меншить витрати вод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більшить зручність користуванням послуг водопостачанн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меншить фінансові витрати населенн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бігатиме забрудненню більшого об'єму вод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дання робо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орення змішувача води, котрий на основі виміряних значень температури води холодної та гарячої магістралей, автоматизовано змішував би потоки води.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ом роботи пристрою є отримання визначеного потоку води: температурою та швидкістю.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15736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 електрична структур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Содержимое 3" descr="Безымянный.bmp"/>
          <p:cNvPicPr/>
          <p:nvPr/>
        </p:nvPicPr>
        <p:blipFill>
          <a:blip r:embed="rId1"/>
          <a:stretch/>
        </p:blipFill>
        <p:spPr>
          <a:xfrm>
            <a:off x="2025720" y="836640"/>
            <a:ext cx="4856040" cy="41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86864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 електрична функціональ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7994520" cy="34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 електрична принцип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826920" y="0"/>
            <a:ext cx="79930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508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у роботи пристро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3" descr="Безымянный3.bmp"/>
          <p:cNvPicPr/>
          <p:nvPr/>
        </p:nvPicPr>
        <p:blipFill>
          <a:blip r:embed="rId1"/>
          <a:stretch/>
        </p:blipFill>
        <p:spPr>
          <a:xfrm>
            <a:off x="1619280" y="189000"/>
            <a:ext cx="568944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515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ок схема роботи пристрою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2700360" y="549360"/>
            <a:ext cx="431964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558972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на реалізація математичної моделі контролю температури у пакеті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PLC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3059280" y="260280"/>
            <a:ext cx="3981240" cy="50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3T02:05:36Z</dcterms:created>
  <dc:creator>Customer</dc:creator>
  <dc:description/>
  <dc:language>en-US</dc:language>
  <cp:lastModifiedBy>moyo</cp:lastModifiedBy>
  <dcterms:modified xsi:type="dcterms:W3CDTF">2015-11-18T16:19:24Z</dcterms:modified>
  <cp:revision>25</cp:revision>
  <dc:subject/>
  <dc:title>Слайд 1</dc:title>
</cp:coreProperties>
</file>