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754-73A8-4962-90FB-A47B98D6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E7F-2893-447D-8759-D8FCBC54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61D-52B1-48C3-AFDB-5AA5C597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D1A-2FD9-4A3D-9E78-0F443205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9F1-7249-4F00-B9D2-F3710325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E9B-5DF9-440C-BDC9-0F3EEB77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8F4-B0A4-4AF3-BA58-B7D99239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DC8-1B25-44B8-9B35-ABBE62D6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CE6-51F1-4EC8-9ED7-433BFE1F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AE5-08E3-4F09-8619-0C187CB4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590-B3DE-479A-8A01-3815806C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1AF-978A-4738-88F9-B8FBEE91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8731-BF06-41A7-BC49-1E6A33721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них систем і автоматик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метрології та промислової автоматик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йний матеріал до магістерськ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аційної роботи на тему: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ИЙ АВТОМАТИЗОВАНИЙ ЗМІШУВАЧ ВОДИ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-03.МК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0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0.000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роботи: к.т.н., проф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Васілевський О.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ив: ст. гр. МВТ-14м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Компанець Д.М. 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2015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няння перетворення вимірювального кана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ірювальна температу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мпературний коефіцієнт 0,00398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– джерело напруги 5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– коефіцієнт підсилення О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порна напруга 2,5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ядні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ЦП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8" descr="Безымянный2.png"/>
          <p:cNvPicPr/>
          <p:nvPr/>
        </p:nvPicPr>
        <p:blipFill>
          <a:blip r:embed="rId1"/>
          <a:stretch/>
        </p:blipFill>
        <p:spPr>
          <a:xfrm>
            <a:off x="3419640" y="1413000"/>
            <a:ext cx="2501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 загальної похибки пристр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КВ похибки первинного датчи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п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КВ похибки операційного перетворювач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к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КВ похибки квантуванн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мк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КВ похибки мікроконтроле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Безымянный3.png"/>
          <p:cNvPicPr/>
          <p:nvPr/>
        </p:nvPicPr>
        <p:blipFill>
          <a:blip r:embed="rId1"/>
          <a:stretch/>
        </p:blipFill>
        <p:spPr>
          <a:xfrm>
            <a:off x="1332000" y="1125360"/>
            <a:ext cx="5543640" cy="743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Безымянный4.png"/>
          <p:cNvPicPr/>
          <p:nvPr/>
        </p:nvPicPr>
        <p:blipFill>
          <a:blip r:embed="rId2"/>
          <a:stretch/>
        </p:blipFill>
        <p:spPr>
          <a:xfrm>
            <a:off x="1979640" y="4005360"/>
            <a:ext cx="532908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плікативна та адитивна похи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плікативна похиб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тивна похиб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6" descr="Безымянный6.png"/>
          <p:cNvPicPr/>
          <p:nvPr/>
        </p:nvPicPr>
        <p:blipFill>
          <a:blip r:embed="rId1"/>
          <a:stretch/>
        </p:blipFill>
        <p:spPr>
          <a:xfrm>
            <a:off x="611280" y="2349360"/>
            <a:ext cx="2457360" cy="695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Безымянный5.png"/>
          <p:cNvPicPr/>
          <p:nvPr/>
        </p:nvPicPr>
        <p:blipFill>
          <a:blip r:embed="rId2"/>
          <a:stretch/>
        </p:blipFill>
        <p:spPr>
          <a:xfrm>
            <a:off x="2987640" y="2060640"/>
            <a:ext cx="4362480" cy="180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826920" y="4581360"/>
            <a:ext cx="1952640" cy="847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Безымянный7.png"/>
          <p:cNvPicPr/>
          <p:nvPr/>
        </p:nvPicPr>
        <p:blipFill>
          <a:blip r:embed="rId4"/>
          <a:stretch/>
        </p:blipFill>
        <p:spPr>
          <a:xfrm>
            <a:off x="2987640" y="4221000"/>
            <a:ext cx="4362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чні розраху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858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і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ування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ою суттєв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ить витрати вод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ільшить зручність користуванням послуг водопостач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ить фінансові витрати населе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бігатиме забрудненню більшого об'єму во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робо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змішувача води, котрий на основі виміряних значень температури води холодної та гарячої магістралей, автоматизовано змішував би потоки води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роботи пристрою є отримання визначеного потоку води: температурою та швидкістю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електрична структу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Безымянный.bmp"/>
          <p:cNvPicPr/>
          <p:nvPr/>
        </p:nvPicPr>
        <p:blipFill>
          <a:blip r:embed="rId1"/>
          <a:stretch/>
        </p:blipFill>
        <p:spPr>
          <a:xfrm>
            <a:off x="2025720" y="836640"/>
            <a:ext cx="48560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6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електрична функціональ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99452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електрична принцип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826920" y="0"/>
            <a:ext cx="79930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у роботи пристр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Безымянный3.bmp"/>
          <p:cNvPicPr/>
          <p:nvPr/>
        </p:nvPicPr>
        <p:blipFill>
          <a:blip r:embed="rId1"/>
          <a:stretch/>
        </p:blipFill>
        <p:spPr>
          <a:xfrm>
            <a:off x="1619280" y="189000"/>
            <a:ext cx="56894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схема роботи пристро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431964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5897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а реалізація математичної моделі контролю температури у пакеті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PL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98124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05:36Z</dcterms:created>
  <dc:creator>Customer</dc:creator>
  <dc:description/>
  <dc:language>en-US</dc:language>
  <cp:lastModifiedBy>moyo</cp:lastModifiedBy>
  <dcterms:modified xsi:type="dcterms:W3CDTF">2015-11-18T16:19:24Z</dcterms:modified>
  <cp:revision>25</cp:revision>
  <dc:subject/>
  <dc:title>Слайд 1</dc:title>
</cp:coreProperties>
</file>