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DD24-7289-4B89-B054-851598B61D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09BF-55C3-4EF5-8C3C-3FE161A06F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8C1-B27F-4FB1-AF9F-9C3DAE2C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F5E-8613-44BD-A891-AC8EEF1B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832-DC25-4F7B-BFCF-5D6CDEAB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4F0-9288-4421-B071-FAAA1F1C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D22-D517-4527-A2F9-384CE9D1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28B-3CE3-4368-A0D5-7A1FAD22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684-9F61-4007-B67F-65E803E6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964-CB7F-4176-8CF4-478A4A07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5E7-5309-48E5-AACB-C382C468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211-5A0F-4A5D-AE96-C6DB8F44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3A5C-20EF-47B4-BCB9-DFC54F2A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528-0C62-449C-BA92-65DB2E65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7E24-5131-4D7D-91C8-88C5DA1868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КРОПРОЦЕСОРНА СИСТЕМА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ЯЧОГО ВОДОПОСТАЧ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000080" y="35712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ністерство освіти і науки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ститут автоматики, електроніки та комп´ютерних систем управл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268360" y="234936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істерська кваліфікаційна робота 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57760" y="52862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ий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: к.т.н.,доцент Возняк О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191120" y="57150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 ст. гр. МВТ-14м Мамчур М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179280" y="620640"/>
            <a:ext cx="8858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ість теми: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 тема є досить актуальною, так я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в’язку з бурхливим розвитком технічних засобів – мікропроцесорної техніки і персональних електронно-обчислювальних машин, функціональні можливості яких дають змогу використовувати найдосконаліші методи  систем контролю температури і управління в системах опалення і гарячого водопостачання. Застосування мікропроцесорної техніки дозволяє підвищити точність контролю температури,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ншити виробничі втрати  продук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робот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мікропроцесорної системи при застосуванні якої знизиться собівартість теплової енергії за рахунок спрощення апаратурної реалізації, вдосконалення системи регулювання, підвищення метрологічних характерист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4"/>
          <p:cNvGraphicFramePr/>
          <p:nvPr/>
        </p:nvGraphicFramePr>
        <p:xfrm>
          <a:off x="98280" y="1413000"/>
          <a:ext cx="462600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1413000"/>
                    <a:ext cx="462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946760" y="2637000"/>
          <a:ext cx="4197240" cy="3954240"/>
        </p:xfrm>
        <a:graphic>
          <a:graphicData uri="http://schemas.openxmlformats.org/drawingml/2006/table">
            <a:tbl>
              <a:tblPr/>
              <a:tblGrid>
                <a:gridCol w="1452600"/>
                <a:gridCol w="1081080"/>
                <a:gridCol w="753840"/>
                <a:gridCol w="909720"/>
              </a:tblGrid>
              <a:tr h="4788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иниця вимірю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ва розроб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0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іапазон вимірювання температу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…+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50…+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54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хибка вимірю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43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о канал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044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дійність (середнє напрацювання на відмовленн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43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пруга живл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54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живана потуж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8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в’язок з 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-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S-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вжина лінії зв’язку з 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 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54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ксплуатаційні витра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н./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5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83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8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і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Объект 9"/>
              <p:cNvSpPr txBox="1"/>
              <p:nvPr/>
            </p:nvSpPr>
            <p:spPr>
              <a:xfrm>
                <a:off x="6831000" y="3284640"/>
                <a:ext cx="25704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Прямоугольник 10"/>
          <p:cNvSpPr/>
          <p:nvPr/>
        </p:nvSpPr>
        <p:spPr>
          <a:xfrm>
            <a:off x="684360" y="333360"/>
            <a:ext cx="80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Порівняльний аналіз технічних показників нової розробки і анало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5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регулюва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0389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мікропроцесорної системи гарячого водопостач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Объект 2"/>
          <p:cNvGraphicFramePr/>
          <p:nvPr/>
        </p:nvGraphicFramePr>
        <p:xfrm>
          <a:off x="760320" y="1413000"/>
          <a:ext cx="7623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1413000"/>
                    <a:ext cx="7623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принципова схема мікропроцесорної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гарячого водопостач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215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7"/>
          <p:cNvSpPr/>
          <p:nvPr/>
        </p:nvSpPr>
        <p:spPr>
          <a:xfrm>
            <a:off x="5148360" y="1062000"/>
            <a:ext cx="7286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няння перетворенн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6443640" y="3262320"/>
            <a:ext cx="306072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I=58 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=100 O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α=0,00428 °С</a:t>
            </a:r>
            <a:r>
              <a:rPr b="0" lang="uk-UA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= 5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=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n=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1" descr=""/>
          <p:cNvPicPr/>
          <p:nvPr/>
        </p:nvPicPr>
        <p:blipFill>
          <a:blip r:embed="rId1"/>
          <a:stretch/>
        </p:blipFill>
        <p:spPr>
          <a:xfrm>
            <a:off x="5979960" y="2219400"/>
            <a:ext cx="2481480" cy="657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90000" y="260280"/>
            <a:ext cx="5330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атчик температури ТСП - 12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42920" y="4221000"/>
            <a:ext cx="55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іапазон вимірювання від -50 °С до +100 °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опір при 0°С дорівнює 100 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бсолютна похибка датчика дорівнює ±0,5°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мір датчика: діаметр 4мм, довжина 30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верхня із нержавіючої стал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мпературний коефіцієнт дорівнює 0,00428 °С</a:t>
            </a:r>
            <a:r>
              <a:rPr b="0" lang="uk-UA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Описание: Описание: http://kip812.ru/kip812_html_m7fb815a2.jpg"/>
          <p:cNvPicPr/>
          <p:nvPr/>
        </p:nvPicPr>
        <p:blipFill>
          <a:blip r:embed="rId2"/>
          <a:stretch/>
        </p:blipFill>
        <p:spPr>
          <a:xfrm>
            <a:off x="378000" y="1681200"/>
            <a:ext cx="37353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"/>
          <p:cNvSpPr/>
          <p:nvPr/>
        </p:nvSpPr>
        <p:spPr>
          <a:xfrm>
            <a:off x="334800" y="101520"/>
            <a:ext cx="865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-схема роботи мікроконтроллера для системи опа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202360" y="1311120"/>
          <a:ext cx="3816360" cy="4464360"/>
        </p:xfrm>
        <a:graphic>
          <a:graphicData uri="http://schemas.openxmlformats.org/drawingml/2006/table">
            <a:tbl>
              <a:tblPr/>
              <a:tblGrid>
                <a:gridCol w="1596960"/>
                <a:gridCol w="2219400"/>
              </a:tblGrid>
              <a:tr h="11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пература води опалення, ˚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пература навколишнього середовища, ˚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40 ≤ Т &lt; + 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3 &lt;  Т ≤ +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45 ≤ Т &lt; + 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 &lt;  Т ≤  +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50 ≤ Т &lt; + 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7 &lt;  Т ≤  -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55 ≤ Т &lt; + 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 &lt;  Т ≤ -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60 ≤ Т &lt; + 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7 &lt;  Т ≤ -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65 ≤ Т &lt; + 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2 &lt;  Т ≤ - 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70 ≤ Т &lt; +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7 &lt;  Т ≤ - 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75 ≤ Т &lt; +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7 &lt;  Т ≤ -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80 ≤ Т &lt; +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 ≤ -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8" name="Picture 42" descr=""/>
          <p:cNvPicPr/>
          <p:nvPr/>
        </p:nvPicPr>
        <p:blipFill>
          <a:blip r:embed="rId1"/>
          <a:stretch/>
        </p:blipFill>
        <p:spPr>
          <a:xfrm>
            <a:off x="0" y="830160"/>
            <a:ext cx="4889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357120" y="21420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чні метрологічні характеристики мікропроцесорно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гарячого водопоста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67200" y="1087560"/>
            <a:ext cx="183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U = І 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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6" descr=""/>
          <p:cNvPicPr/>
          <p:nvPr/>
        </p:nvPicPr>
        <p:blipFill>
          <a:blip r:embed="rId1"/>
          <a:stretch/>
        </p:blipFill>
        <p:spPr>
          <a:xfrm>
            <a:off x="6040440" y="944640"/>
            <a:ext cx="3073320" cy="65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49320" y="1538280"/>
            <a:ext cx="2867040" cy="283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3"/>
          <a:stretch/>
        </p:blipFill>
        <p:spPr>
          <a:xfrm>
            <a:off x="6091200" y="1608120"/>
            <a:ext cx="2838600" cy="2838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4"/>
          <a:stretch/>
        </p:blipFill>
        <p:spPr>
          <a:xfrm>
            <a:off x="2343240" y="4692600"/>
            <a:ext cx="4600440" cy="21258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7" descr=""/>
          <p:cNvPicPr/>
          <p:nvPr/>
        </p:nvPicPr>
        <p:blipFill>
          <a:blip r:embed="rId5"/>
          <a:stretch/>
        </p:blipFill>
        <p:spPr>
          <a:xfrm>
            <a:off x="3943440" y="3840120"/>
            <a:ext cx="10303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Админ</cp:lastModifiedBy>
  <cp:lastPrinted>2015-11-17T21:06:19Z</cp:lastPrinted>
  <dcterms:modified xsi:type="dcterms:W3CDTF">2015-11-18T20:42:51Z</dcterms:modified>
  <cp:revision>78</cp:revision>
  <dc:subject/>
  <dc:title>ІНФОРМАЦІЙНО-ВИМІРЮВАЛЬНА СИСТЕМА КОНТРОЛЮ ТЕМПЕРАТУРИ У КОРПУСАХ ВИПАРНОЇ СТАНЦІЇ</dc:title>
</cp:coreProperties>
</file>