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D28A8-9491-4EB0-9B07-3026E1EDB78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174A3-92F8-4D88-9C33-50DA5877418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D0F9-FB1E-43DC-9D4F-99BEB2BEF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4F68-883F-427D-920C-D77FC9ECB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4A19-AD66-4022-995C-D645F8FC2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260E-4B45-4FEA-8A9F-55739BBED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5D70-3C48-4851-9B48-5C0BA9210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C733-8B51-4873-9780-AAD4EAD69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D802-CC8D-4EBE-B9EB-C059FFCFE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C7CC-C6F3-48AE-9DBD-52872958C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697F-D43E-4512-AE2C-9133A3818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3B23-97FA-4D1E-8D6D-D193AEFD4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3EF7-5D69-4B17-88B8-59CD5B52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F6CA-0C33-4AE6-9072-908803F58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83B5D-4981-4A32-97E3-9D46E93A06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2428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ІКРОПРОЦЕСОРНА СИСТЕМА 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РЯЧОГО ВОДОПОСТАЧАНН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1000080" y="357120"/>
            <a:ext cx="728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іністерство освіти і науки Украї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нницький національний технічний університ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ститут автоматики, електроніки та комп´ютерних систем управлі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2268360" y="2349360"/>
            <a:ext cx="48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істерська кваліфікаційна робота на тем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3857760" y="5286240"/>
            <a:ext cx="528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ковий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рівник: к.т.н.,доцент Возняк О.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4191120" y="571500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онав ст. гр. МВТ-14м Мамчур М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0040" y="242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якую за увагу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3"/>
          <p:cNvSpPr/>
          <p:nvPr/>
        </p:nvSpPr>
        <p:spPr>
          <a:xfrm>
            <a:off x="179280" y="620640"/>
            <a:ext cx="8858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ість теми: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а тема є досить актуальною, так як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зв’язку з бурхливим розвитком технічних засобів – мікропроцесорної техніки і персональних електронно-обчислювальних машин, функціональні можливості яких дають змогу використовувати найдосконаліші методи  систем контролю температури і управління в системах опалення і гарячого водопостачання. Застосування мікропроцесорної техніки дозволяє підвищити точність контролю температури,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меншити виробничі втрати  продукції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 роботи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ворення мікропроцесорної системи при застосуванні якої знизиться собівартість теплової енергії за рахунок спрощення апаратурної реалізації, вдосконалення системи регулювання, підвищення метрологічних характерист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Объект 4"/>
          <p:cNvGraphicFramePr/>
          <p:nvPr/>
        </p:nvGraphicFramePr>
        <p:xfrm>
          <a:off x="98280" y="1413000"/>
          <a:ext cx="4626000" cy="34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280" y="1413000"/>
                    <a:ext cx="4626000" cy="34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4946760" y="2637000"/>
          <a:ext cx="4197240" cy="3954240"/>
        </p:xfrm>
        <a:graphic>
          <a:graphicData uri="http://schemas.openxmlformats.org/drawingml/2006/table">
            <a:tbl>
              <a:tblPr/>
              <a:tblGrid>
                <a:gridCol w="1452600"/>
                <a:gridCol w="1081080"/>
                <a:gridCol w="753840"/>
                <a:gridCol w="909720"/>
              </a:tblGrid>
              <a:tr h="47880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араметр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диниця вимірюва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нало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ова розроб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4900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іапазон вимірювання температур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0…+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50…+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540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хибка вимірюва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8432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Число каналі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3044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дійність (середнє напрацювання на відмовленн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д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8432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пруга живле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540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поживана потужні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8288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Зв’язок з П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S-2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S-4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648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овжина лінії зв’язку з П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о 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540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Експлуатаційні витра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н./ рі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25,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483,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8288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Ці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р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58" name="Объект 9"/>
              <p:cNvSpPr txBox="1"/>
              <p:nvPr/>
            </p:nvSpPr>
            <p:spPr>
              <a:xfrm>
                <a:off x="6831000" y="3284640"/>
                <a:ext cx="25704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" name="Прямоугольник 10"/>
          <p:cNvSpPr/>
          <p:nvPr/>
        </p:nvSpPr>
        <p:spPr>
          <a:xfrm>
            <a:off x="684360" y="333360"/>
            <a:ext cx="8064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Порівняльний аналіз технічних показників нової розробки і аналог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2556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а регулюванн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1908000" y="1341360"/>
            <a:ext cx="503892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на схема мікропроцесорної системи гарячого водопостачанн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Объект 2"/>
          <p:cNvGraphicFramePr/>
          <p:nvPr/>
        </p:nvGraphicFramePr>
        <p:xfrm>
          <a:off x="760320" y="1413000"/>
          <a:ext cx="7623360" cy="504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0320" y="1413000"/>
                    <a:ext cx="7623360" cy="504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ична принципова схема мікропроцесорної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и гарячого водопостачанн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8521560" cy="47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7"/>
          <p:cNvSpPr/>
          <p:nvPr/>
        </p:nvSpPr>
        <p:spPr>
          <a:xfrm>
            <a:off x="5148360" y="1062000"/>
            <a:ext cx="7286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івняння перетворення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9"/>
          <p:cNvSpPr/>
          <p:nvPr/>
        </p:nvSpPr>
        <p:spPr>
          <a:xfrm>
            <a:off x="6443640" y="3262320"/>
            <a:ext cx="3060720" cy="31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I=58 m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uk-UA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=100 O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α=0,00428 °С</a:t>
            </a:r>
            <a:r>
              <a:rPr b="0" lang="uk-UA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uk-UA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= 5 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К=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n=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Прямоугольник 1" descr=""/>
          <p:cNvPicPr/>
          <p:nvPr/>
        </p:nvPicPr>
        <p:blipFill>
          <a:blip r:embed="rId1"/>
          <a:stretch/>
        </p:blipFill>
        <p:spPr>
          <a:xfrm>
            <a:off x="5979960" y="2219400"/>
            <a:ext cx="2481480" cy="65700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2"/>
          <p:cNvSpPr/>
          <p:nvPr/>
        </p:nvSpPr>
        <p:spPr>
          <a:xfrm>
            <a:off x="90000" y="260280"/>
            <a:ext cx="5330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Датчик температури ТСП - 128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3"/>
          <p:cNvSpPr/>
          <p:nvPr/>
        </p:nvSpPr>
        <p:spPr>
          <a:xfrm>
            <a:off x="142920" y="4221000"/>
            <a:ext cx="558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іапазон вимірювання від -50 °С до +100 °С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- опір при 0°С дорівнює 100 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абсолютна похибка датчика дорівнює ±0,5°С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озмір датчика: діаметр 4мм, довжина 30м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оверхня із нержавіючої сталі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емпературний коефіцієнт дорівнює 0,00428 °С</a:t>
            </a:r>
            <a:r>
              <a:rPr b="0" lang="uk-UA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1" descr="Описание: Описание: http://kip812.ru/kip812_html_m7fb815a2.jpg"/>
          <p:cNvPicPr/>
          <p:nvPr/>
        </p:nvPicPr>
        <p:blipFill>
          <a:blip r:embed="rId2"/>
          <a:stretch/>
        </p:blipFill>
        <p:spPr>
          <a:xfrm>
            <a:off x="378000" y="1681200"/>
            <a:ext cx="3735360" cy="19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2"/>
          <p:cNvSpPr/>
          <p:nvPr/>
        </p:nvSpPr>
        <p:spPr>
          <a:xfrm>
            <a:off x="334800" y="101520"/>
            <a:ext cx="865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ок-схема роботи мікроконтроллера для системи опале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5202360" y="1311120"/>
          <a:ext cx="3816360" cy="4464360"/>
        </p:xfrm>
        <a:graphic>
          <a:graphicData uri="http://schemas.openxmlformats.org/drawingml/2006/table">
            <a:tbl>
              <a:tblPr/>
              <a:tblGrid>
                <a:gridCol w="1596960"/>
                <a:gridCol w="2219400"/>
              </a:tblGrid>
              <a:tr h="1116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емпература води опалення, ˚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емпература навколишнього середовища, ˚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 40 ≤ Т &lt; + 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3 &lt;  Т ≤ + 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3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 45 ≤ Т &lt; + 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2 &lt;  Т ≤  +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 50 ≤ Т &lt; + 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7 &lt;  Т ≤  -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 55 ≤ Т &lt; + 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12 &lt;  Т ≤ - 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3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 60 ≤ Т &lt; + 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17 &lt;  Т ≤ - 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 65 ≤ Т &lt; + 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22 &lt;  Т ≤ - 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 70 ≤ Т &lt; + 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27 &lt;  Т ≤ - 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3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 75 ≤ Т &lt; + 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27 &lt;  Т ≤ - 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 80 ≤ Т &lt; + 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 ≤ - 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78" name="Picture 42" descr=""/>
          <p:cNvPicPr/>
          <p:nvPr/>
        </p:nvPicPr>
        <p:blipFill>
          <a:blip r:embed="rId1"/>
          <a:stretch/>
        </p:blipFill>
        <p:spPr>
          <a:xfrm>
            <a:off x="0" y="830160"/>
            <a:ext cx="4889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1"/>
          <p:cNvSpPr/>
          <p:nvPr/>
        </p:nvSpPr>
        <p:spPr>
          <a:xfrm>
            <a:off x="357120" y="214200"/>
            <a:ext cx="857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ичні метрологічні характеристики мікропроцесорної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и гарячого водопостач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4"/>
          <p:cNvSpPr/>
          <p:nvPr/>
        </p:nvSpPr>
        <p:spPr>
          <a:xfrm>
            <a:off x="367200" y="1087560"/>
            <a:ext cx="1835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U = І </a:t>
            </a:r>
            <a:r>
              <a:rPr b="0" lang="uk-UA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uk-UA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Symbol"/>
                <a:ea typeface="Symbol"/>
              </a:rPr>
              <a:t>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Прямоугольник 6" descr=""/>
          <p:cNvPicPr/>
          <p:nvPr/>
        </p:nvPicPr>
        <p:blipFill>
          <a:blip r:embed="rId1"/>
          <a:stretch/>
        </p:blipFill>
        <p:spPr>
          <a:xfrm>
            <a:off x="6040440" y="944640"/>
            <a:ext cx="3073320" cy="658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49320" y="1538280"/>
            <a:ext cx="2867040" cy="28386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3"/>
          <a:stretch/>
        </p:blipFill>
        <p:spPr>
          <a:xfrm>
            <a:off x="6091200" y="1608120"/>
            <a:ext cx="2838600" cy="28386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4"/>
          <a:stretch/>
        </p:blipFill>
        <p:spPr>
          <a:xfrm>
            <a:off x="2343240" y="4692600"/>
            <a:ext cx="4600440" cy="2125800"/>
          </a:xfrm>
          <a:prstGeom prst="rect">
            <a:avLst/>
          </a:prstGeom>
          <a:ln w="0">
            <a:noFill/>
          </a:ln>
        </p:spPr>
      </p:pic>
      <p:pic>
        <p:nvPicPr>
          <p:cNvPr id="85" name="Прямоугольник 7" descr=""/>
          <p:cNvPicPr/>
          <p:nvPr/>
        </p:nvPicPr>
        <p:blipFill>
          <a:blip r:embed="rId5"/>
          <a:stretch/>
        </p:blipFill>
        <p:spPr>
          <a:xfrm>
            <a:off x="3943440" y="3840120"/>
            <a:ext cx="103032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Админ</cp:lastModifiedBy>
  <cp:lastPrinted>2015-11-17T21:06:19Z</cp:lastPrinted>
  <dcterms:modified xsi:type="dcterms:W3CDTF">2015-11-18T20:42:51Z</dcterms:modified>
  <cp:revision>78</cp:revision>
  <dc:subject/>
  <dc:title>ІНФОРМАЦІЙНО-ВИМІРЮВАЛЬНА СИСТЕМА КОНТРОЛЮ ТЕМПЕРАТУРИ У КОРПУСАХ ВИПАРНОЇ СТАНЦІЇ</dc:title>
</cp:coreProperties>
</file>