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4.wmf" ContentType="image/x-wmf"/>
  <Override PartName="/ppt/media/image23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28.png" ContentType="image/png"/>
  <Override PartName="/ppt/media/image31.wmf" ContentType="image/x-wmf"/>
  <Override PartName="/ppt/media/image8.wmf" ContentType="image/x-wmf"/>
  <Override PartName="/ppt/media/image9.wmf" ContentType="image/x-wmf"/>
  <Override PartName="/ppt/media/image27.png" ContentType="image/png"/>
  <Override PartName="/ppt/media/image4.png" ContentType="image/png"/>
  <Override PartName="/ppt/media/image12.wmf" ContentType="image/x-wmf"/>
  <Override PartName="/ppt/media/image7.png" ContentType="image/png"/>
  <Override PartName="/ppt/media/image1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15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5EF7-03E2-477C-BBAA-8214B7569B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4FD3-D9D8-48E8-8CA4-12B0F30AA5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C898-7DD1-404D-8DA8-D85F31AAE2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4488-4AAA-461F-B1A1-ABFD8417F0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95CA-755F-496B-83B1-305528C434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D0DD-4E7E-43E9-99FB-F73D8056DA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36DD-9868-4027-B6DE-4E4F8F9AF3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1A9-5712-435A-95DA-7A3BFE13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9E6-6FE2-42BB-8CE2-559071CE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B17B-1614-46C1-B57C-4AB65CEA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D450-B36D-46DE-BA3A-C2B9E1E7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7D5-022B-41B1-B9E0-B7AE1E92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A2B4-F433-4E07-8494-EBB139A1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952-099C-451A-95F1-A8AF0D21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70C-4EA1-4D4F-B55B-B0D69736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8D9-E6C1-4D81-B2C6-FAB7A015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E9B-354E-4C2B-AA78-41E9D300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18C7-97C9-4426-89C8-FD9521F0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22C-EEC8-4C49-8DBA-578DECF1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09A7-85CB-405D-A835-3FF1EF2BBD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A729-FEB9-4ACC-ADA5-C9A075C8A4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33240" y="160200"/>
            <a:ext cx="584676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21040" indent="-292104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В</a:t>
            </a:r>
            <a:r>
              <a:rPr b="1" lang="uk-UA" sz="1400" spc="-1" strike="noStrike">
                <a:solidFill>
                  <a:srgbClr val="0070c0"/>
                </a:solidFill>
                <a:latin typeface="Arial"/>
              </a:rPr>
              <a:t>інницький національний технічний універси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21040" indent="-292104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70c0"/>
                </a:solidFill>
                <a:latin typeface="Arial"/>
              </a:rPr>
              <a:t>Факультет</a:t>
            </a:r>
            <a:r>
              <a:rPr b="1" lang="uk-UA" sz="1400" spc="-1" strike="noStrike">
                <a:solidFill>
                  <a:srgbClr val="0070c0"/>
                </a:solidFill>
                <a:latin typeface="Arial"/>
              </a:rPr>
              <a:t> комп</a:t>
            </a: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’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ю</a:t>
            </a:r>
            <a:r>
              <a:rPr b="1" lang="uk-UA" sz="1400" spc="-1" strike="noStrike">
                <a:solidFill>
                  <a:srgbClr val="0070c0"/>
                </a:solidFill>
                <a:latin typeface="Arial"/>
              </a:rPr>
              <a:t>терних систем управління та авто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21040" indent="-292104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Arial"/>
              </a:rPr>
              <a:t>Кафедра лазерної та оптикоелектронної техні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21040" indent="-29210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857240" y="4903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2048040"/>
            <a:ext cx="914400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ЦИФРОВА ВОЛОКОННО-ОПТИЧНА СИСТЕМА ПЕРЕДАЧ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2868480" y="4165560"/>
            <a:ext cx="6077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иконав: студент гр. ЛОТ-14м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нцзянь Ху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ерівник: доцент, к.т.н. Тужанський С.Є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349280" cy="134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ods2008"/>
          <p:cNvPicPr/>
          <p:nvPr/>
        </p:nvPicPr>
        <p:blipFill>
          <a:blip r:embed="rId2"/>
          <a:stretch/>
        </p:blipFill>
        <p:spPr>
          <a:xfrm>
            <a:off x="7149960" y="291960"/>
            <a:ext cx="1994040" cy="7891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1671480" y="2093760"/>
            <a:ext cx="5846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21040" indent="-292104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МАГ</a:t>
            </a:r>
            <a:r>
              <a:rPr b="1" lang="uk-UA" sz="1600" spc="-1" strike="noStrike">
                <a:solidFill>
                  <a:srgbClr val="7030a0"/>
                </a:solidFill>
                <a:latin typeface="Arial"/>
              </a:rPr>
              <a:t>І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СТЕРСЬКА КВАЛІФІКАЦІЙНА РОБ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21040" indent="-29210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1257480" y="3244680"/>
            <a:ext cx="74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іальність 8.05100402 – «Лазерна і оптоелектронна техні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316240" y="6099120"/>
            <a:ext cx="469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21040" indent="-292104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Arial"/>
              </a:rPr>
              <a:t>ВІННИЦЯ –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21040" indent="-29210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2554-13DE-43BF-B15E-F107320E3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1"/>
          <p:cNvSpPr/>
          <p:nvPr/>
        </p:nvSpPr>
        <p:spPr>
          <a:xfrm>
            <a:off x="520560" y="482760"/>
            <a:ext cx="828072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Arial"/>
              </a:rPr>
              <a:t>Розрахунок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енергетичного балансу ВО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2"/>
          <p:cNvGraphicFramePr/>
          <p:nvPr/>
        </p:nvGraphicFramePr>
        <p:xfrm>
          <a:off x="2316240" y="1081080"/>
          <a:ext cx="51102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6240" y="1081080"/>
                    <a:ext cx="51102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Прямоугольник 5"/>
          <p:cNvSpPr/>
          <p:nvPr/>
        </p:nvSpPr>
        <p:spPr>
          <a:xfrm>
            <a:off x="428760" y="1587600"/>
            <a:ext cx="833256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енергетичний запас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кілометричний коефіцієнт загасання ОВ (0,2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Б/км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р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коефіцієнт загасання роз'ємних з'єднань (0,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Б);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р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кількість роз'ємних з'єднань, по одному на вході і виході ОВ;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н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коефіцієнт загасання нероз'ємних з'єднань, місця зварки світловодів (0,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Б)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н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кількість нероз'ємних з'єднан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м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коефіцієнт з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асанн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через макровигини(0,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Б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з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запас по з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асанню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…5дБ)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д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ділянка регенерац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16"/>
          <p:cNvGraphicFramePr/>
          <p:nvPr/>
        </p:nvGraphicFramePr>
        <p:xfrm>
          <a:off x="2546280" y="3843360"/>
          <a:ext cx="44308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6280" y="3843360"/>
                    <a:ext cx="44308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8"/>
          <p:cNvGraphicFramePr/>
          <p:nvPr/>
        </p:nvGraphicFramePr>
        <p:xfrm>
          <a:off x="3789360" y="5454720"/>
          <a:ext cx="1541520" cy="50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9360" y="5454720"/>
                    <a:ext cx="15415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Прямоугольник 18"/>
          <p:cNvSpPr/>
          <p:nvPr/>
        </p:nvSpPr>
        <p:spPr>
          <a:xfrm>
            <a:off x="1763640" y="3382920"/>
            <a:ext cx="50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жина регенерац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ної діля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1"/>
          <p:cNvSpPr/>
          <p:nvPr/>
        </p:nvSpPr>
        <p:spPr>
          <a:xfrm>
            <a:off x="797040" y="4672080"/>
            <a:ext cx="74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жина регенерац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ної ділян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з дисперсією, станда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GBASE-L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2C53-4D03-49D8-85CA-578DC527DA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2960640" y="1311120"/>
          <a:ext cx="2408400" cy="5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0640" y="1311120"/>
                    <a:ext cx="240840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2"/>
          <p:cNvGraphicFramePr/>
          <p:nvPr/>
        </p:nvGraphicFramePr>
        <p:xfrm>
          <a:off x="1303200" y="2048040"/>
          <a:ext cx="29556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3200" y="2048040"/>
                    <a:ext cx="295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"/>
          <p:cNvGraphicFramePr/>
          <p:nvPr/>
        </p:nvGraphicFramePr>
        <p:xfrm>
          <a:off x="1671480" y="2462040"/>
          <a:ext cx="190800" cy="1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1480" y="2462040"/>
                    <a:ext cx="1908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4"/>
          <p:cNvSpPr/>
          <p:nvPr/>
        </p:nvSpPr>
        <p:spPr>
          <a:xfrm>
            <a:off x="1211400" y="968760"/>
            <a:ext cx="75499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иця інформаційної ємності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критері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тл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Шенно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 flipV="1" rot="10800000">
            <a:off x="3881520" y="2047320"/>
            <a:ext cx="45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пектральна ширина канал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671480" y="2048400"/>
            <a:ext cx="641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ідношення  сигнал-шу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947960" y="2370600"/>
            <a:ext cx="59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ктральна ефективність систе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8"/>
          <p:cNvGraphicFramePr/>
          <p:nvPr/>
        </p:nvGraphicFramePr>
        <p:xfrm>
          <a:off x="1809720" y="3336840"/>
          <a:ext cx="1530360" cy="70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09720" y="3336840"/>
                    <a:ext cx="15303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4"/>
          <p:cNvSpPr/>
          <p:nvPr/>
        </p:nvSpPr>
        <p:spPr>
          <a:xfrm>
            <a:off x="797040" y="2876760"/>
            <a:ext cx="71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иця чутливості фотоприймач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-i-n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10"/>
          <p:cNvGraphicFramePr/>
          <p:nvPr/>
        </p:nvGraphicFramePr>
        <p:xfrm>
          <a:off x="3835440" y="3382920"/>
          <a:ext cx="2890800" cy="46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35440" y="3382920"/>
                    <a:ext cx="28908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12"/>
          <p:cNvGraphicFramePr/>
          <p:nvPr/>
        </p:nvGraphicFramePr>
        <p:xfrm>
          <a:off x="2546280" y="4626000"/>
          <a:ext cx="3544920" cy="69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46280" y="4626000"/>
                    <a:ext cx="35449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Прямоугольник 17"/>
          <p:cNvSpPr/>
          <p:nvPr/>
        </p:nvSpPr>
        <p:spPr>
          <a:xfrm>
            <a:off x="843120" y="4165560"/>
            <a:ext cx="77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ктральна ефективн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і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з шумами оптичних підсилювачі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8"/>
          <p:cNvSpPr/>
          <p:nvPr/>
        </p:nvSpPr>
        <p:spPr>
          <a:xfrm>
            <a:off x="843120" y="5316480"/>
            <a:ext cx="78721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– кількість волоконних прольотів,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– стала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– коефіцієнт підсилення оптичного підсилювача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– стала Планка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– робоча частота,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– смуга пропускання оптичного волок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428760" y="252360"/>
            <a:ext cx="8280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Arial"/>
              </a:rPr>
              <a:t>Границя інформаційної ємності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ВО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319D-697A-4252-A6EE-1D10BD2D66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1"/>
          <p:cNvGraphicFramePr/>
          <p:nvPr/>
        </p:nvGraphicFramePr>
        <p:xfrm>
          <a:off x="561960" y="892080"/>
          <a:ext cx="8337600" cy="53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892080"/>
                    <a:ext cx="8337600" cy="53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1"/>
          <p:cNvSpPr/>
          <p:nvPr/>
        </p:nvSpPr>
        <p:spPr>
          <a:xfrm>
            <a:off x="566640" y="298440"/>
            <a:ext cx="8280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Arial"/>
              </a:rPr>
              <a:t>Фундаментальні обмеження пропускної здат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97E8-3F03-49A7-91DF-7F1A3CE4F5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8"/>
          <p:cNvGraphicFramePr/>
          <p:nvPr/>
        </p:nvGraphicFramePr>
        <p:xfrm>
          <a:off x="1303200" y="1127160"/>
          <a:ext cx="71121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1127160"/>
                    <a:ext cx="71121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31"/>
          <p:cNvSpPr/>
          <p:nvPr/>
        </p:nvSpPr>
        <p:spPr>
          <a:xfrm>
            <a:off x="566640" y="298440"/>
            <a:ext cx="8280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Arial"/>
              </a:rPr>
              <a:t>Вплив нелінійної дисперсії на пропускну здатність ВО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4BD2-9DDB-4E48-8AFB-A4511A4B05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1257480" y="804960"/>
            <a:ext cx="6419520" cy="54482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0560" y="205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Arial"/>
              </a:rPr>
              <a:t>Топологія цифрової ВОСП (подвійне кільц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D07C-2175-45CC-A19B-BE93CC8F1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Arial"/>
              </a:rPr>
              <a:t>Структурна схема магістралі ВОСП при використанні хвилевого мультиплекс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"/>
          <p:cNvPicPr/>
          <p:nvPr/>
        </p:nvPicPr>
        <p:blipFill>
          <a:blip r:embed="rId1"/>
          <a:stretch/>
        </p:blipFill>
        <p:spPr>
          <a:xfrm>
            <a:off x="228600" y="1920960"/>
            <a:ext cx="83790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ABF5-F65B-4B8C-A59C-E0F5AEE227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Arial"/>
              </a:rPr>
              <a:t>Схема модуля оптичного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DFA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п</a:t>
            </a:r>
            <a:r>
              <a:rPr b="1" lang="uk-UA" sz="2000" spc="-1" strike="noStrike">
                <a:solidFill>
                  <a:srgbClr val="000099"/>
                </a:solidFill>
                <a:latin typeface="Arial"/>
              </a:rPr>
              <a:t>ідсилюв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6"/>
          <p:cNvGraphicFramePr/>
          <p:nvPr/>
        </p:nvGraphicFramePr>
        <p:xfrm>
          <a:off x="1371600" y="1279440"/>
          <a:ext cx="6537240" cy="43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79440"/>
                    <a:ext cx="653724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Picture 8" descr=""/>
          <p:cNvPicPr/>
          <p:nvPr/>
        </p:nvPicPr>
        <p:blipFill>
          <a:blip r:embed="rId3"/>
          <a:stretch/>
        </p:blipFill>
        <p:spPr>
          <a:xfrm>
            <a:off x="1266840" y="1157400"/>
            <a:ext cx="66103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80F7-CF2A-4D9B-B79F-5071388DD6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1050840" y="182520"/>
            <a:ext cx="68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исн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12"/>
          <p:cNvGraphicFramePr/>
          <p:nvPr/>
        </p:nvGraphicFramePr>
        <p:xfrm>
          <a:off x="797040" y="574560"/>
          <a:ext cx="7654680" cy="569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574560"/>
                    <a:ext cx="7654680" cy="569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99"/>
                </a:solidFill>
                <a:latin typeface="Arial"/>
              </a:rPr>
              <a:t>ДЯКУЮ ЗА УВАГ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70D0-39B7-4211-A297-053AD6D2F2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5" descr="stuff_46.jpg"/>
          <p:cNvPicPr/>
          <p:nvPr/>
        </p:nvPicPr>
        <p:blipFill>
          <a:blip r:embed="rId1"/>
          <a:stretch/>
        </p:blipFill>
        <p:spPr>
          <a:xfrm>
            <a:off x="2149560" y="22860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9872-3414-48BB-921E-07AEC6305C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3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Актуальність теми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ростання обсягів інформації, що передається у комп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терних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режа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 розвитку волоконно-оптичних систем, які є основою сучасних магістралей (Internet та ін.). Цифрові волоконно-оптичні технології є найбільш перспективними для систем передачі, оскільки забезпечують максимальну пропускну здатність і дальність зв’язку. Виконання сучасних стандартів передачі для волоконних мереж накладає нові обмеження на енергетичний баланс (зменшує максимальну дальність зв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ку)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Розвиток інформаційних технологій потребує удосконалення  засобів організації волоконно-оптичного цифрового зв’язку з урахуванням нових стандартів і обладнання, яке здатне працювати на великих швидкостях передачі даних. Існує значна кількість факторів і фізичних явищ, які  обмежують пропускну здатність таких ВОСП (дисперсія, загасання, втрати на з’єднаннях). Мінімізація їх впливу  дозволить розробити системи із оптимальною дальністю і швидкістю передачі з урахуванням можливої кількості вузлів і архітектури мережі. Таким чином, розробка цифрових волоконно-оптичних системи передачі (ВОСП) із підвищеною пропускною здатністю є актуальною науково-технічною задачею сьогодення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Мета роботи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ою магістерської кваліфікаційної роботи є підвищення пропускної здатності цифрової волоконно-оптичної системи передачі, моделювання і аналіз характеристик вдосконаленої системи передач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0787-7931-448E-A72F-27D8BB9498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520560" y="68400"/>
            <a:ext cx="835200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сновні завдання дослідже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наліз існуючих засобів, елементної бази і технологій цифрових волоконно-оптичних мереж передачі дан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аналізувати основні фактори, що впливають на пропускну здатність і дальність зв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ку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ифрових волоконно-оптичних систе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ахувати енергетичний баланс системи та умови його забезпечення на вказаній відстані з урахуванням топології і кількості кінцевих користувач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роектувати і проаналізувати роботу лінійного оптичного тракту ВОСП та його основних компонент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обити структурну схему цифрової ВОСП з оптимальним набором компонентів для забезпечення 4-кратного запасу пропускної здатності мережі у майбутньо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досконалити схеми основних активних елементів лінійного оптичного тракту ВОСП на основі сучасної елементної баз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дійснити ком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’ютерне моделювання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оретичної границі пропускної здатності ВОС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Об’єкт дослідження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цеси передачі інформації у цифрових волоконно-оптичних систе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Предмет дослідження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тоди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і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 засоби організації зв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ку у цифрових волоконно-оптичних системах передач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AF63-3C32-4BCC-BA24-DAA6CF497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0" y="371520"/>
            <a:ext cx="8991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1280" indent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Наукова новизна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істав подальшого розвитку метод організації волоконно-оптичного зв’язку для в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ів ВОСП із синхронною цифровою ієрархією, який базується на аналізі енергетичного балансу системи із урахуванням ресурсу інформаційної ємності (чинників фундаментальних обмежень волокна, лазерів і   фотоприймачів), що дозволило підвищити ефективність використання активного мережевого обладнання і ресурсів оптичного кабелю (за рахунок мінімізації потрібної кількості оптичних волокон) з урахуванням запасу для потенційного збільшення пропускної здатності спроектованої ВОС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актичне значенн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одержаних результатів полягає в тому, що на основі отриманих теоретичних положень розроблено структурну організацію і вдосконалено роботу цифрової ВОСП, зокре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лено структурну схему організації цифрової волоконно-оптичної мережі із оптимальним вибором елементів, яка враховує попередній теоретичний аналіз інформаційної ємності оптичного кабелю та перспективи підвищення пропускної здатності в майбутньо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досконалено комп’ютерну модель для оцінювання спектральної ефективності хвилевого ущільнення для цифрових систем волоконно-оптичного зв’язку, що дозволяє оптимізувати вибір кількості каналів WDM (аб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WDM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для ефективного використання ресурсу смуги пропускання оптичного кабелю з урахуванням особливостей конкретної цифрової ВОСП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D9D9-27A9-4541-AD51-B8C6266444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457200" y="274680"/>
            <a:ext cx="835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наліз технолог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ій волоконно-оптичних мере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804600"/>
            <a:ext cx="9144000" cy="3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сновні топології ВОС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кільцева, лінійна (магістральна)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іркоподіб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290520" y="3935520"/>
            <a:ext cx="8643960" cy="22986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8"/>
          <p:cNvSpPr/>
          <p:nvPr/>
        </p:nvSpPr>
        <p:spPr>
          <a:xfrm>
            <a:off x="520560" y="3382920"/>
            <a:ext cx="842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олоконно-оптична мережа передачі да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з часовим мультиплексування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2"/>
          <a:stretch/>
        </p:blipFill>
        <p:spPr>
          <a:xfrm>
            <a:off x="474840" y="1219320"/>
            <a:ext cx="7953120" cy="15811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8"/>
          <p:cNvSpPr/>
          <p:nvPr/>
        </p:nvSpPr>
        <p:spPr>
          <a:xfrm>
            <a:off x="290520" y="2784600"/>
            <a:ext cx="86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г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ль (двостороння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ір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війне кільц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88D7-BBD3-4AC4-A50D-CF1B88B4C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11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Технологія хвилевого мультиплексування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DM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12600" y="2048040"/>
            <a:ext cx="9025200" cy="26985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6"/>
          <p:cNvSpPr/>
          <p:nvPr/>
        </p:nvSpPr>
        <p:spPr>
          <a:xfrm>
            <a:off x="1994040" y="1311120"/>
            <a:ext cx="55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олоконно-оптична система цифрової передачі даних із хвилевим мультиплексуванн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474840" y="4902120"/>
            <a:ext cx="810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UX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тичний мультиплексор ведення/виведення, М – мультиплексор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М – демультиплексори, Ф – фільтри, ЛП – лінійний підсилювач, ПП – попередній підсилювач, ОЛТ – оптичний лінійний тр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F2A1-D34E-47EF-B03B-B79C63243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539640" y="115920"/>
            <a:ext cx="8406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наліз характеристик оптичних волокон для ВОЛ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1"/>
          <a:stretch/>
        </p:blipFill>
        <p:spPr>
          <a:xfrm>
            <a:off x="1924200" y="758880"/>
            <a:ext cx="6699240" cy="24858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5"/>
          <p:cNvSpPr/>
          <p:nvPr/>
        </p:nvSpPr>
        <p:spPr>
          <a:xfrm>
            <a:off x="438120" y="1631880"/>
            <a:ext cx="14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ласні втрати 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8"/>
          <p:cNvGraphicFramePr/>
          <p:nvPr/>
        </p:nvGraphicFramePr>
        <p:xfrm>
          <a:off x="1994040" y="3429000"/>
          <a:ext cx="6400800" cy="257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4040" y="3429000"/>
                    <a:ext cx="6400800" cy="25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Прямоугольник 15"/>
          <p:cNvSpPr/>
          <p:nvPr/>
        </p:nvSpPr>
        <p:spPr>
          <a:xfrm>
            <a:off x="520560" y="3935520"/>
            <a:ext cx="14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исперсія 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1FF4-9CBC-4B7A-9F5B-9918731AE5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457200" y="92160"/>
            <a:ext cx="82296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озробка і аналіз роботи ВО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750960" y="666720"/>
            <a:ext cx="78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бір елементів трансів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0"/>
          <p:cNvSpPr/>
          <p:nvPr/>
        </p:nvSpPr>
        <p:spPr>
          <a:xfrm>
            <a:off x="1533600" y="5869080"/>
            <a:ext cx="63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FP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xGate X2d-DWDM-2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65320" y="1127160"/>
          <a:ext cx="6813360" cy="4694040"/>
        </p:xfrm>
        <a:graphic>
          <a:graphicData uri="http://schemas.openxmlformats.org/drawingml/2006/table">
            <a:tbl>
              <a:tblPr/>
              <a:tblGrid>
                <a:gridCol w="2076480"/>
                <a:gridCol w="1501560"/>
                <a:gridCol w="1617840"/>
                <a:gridCol w="1617480"/>
              </a:tblGrid>
              <a:tr h="213480">
                <a:tc row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лазер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для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FP-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ду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DSU 54TM-3XY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yOp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LK3C8CAK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іапазон робочих довжин хвиль, н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0-15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0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0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тужність, дБ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…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…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оговий струм накачки, 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…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…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…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івень подавлення бічних мод, 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 наростання/ спаду, 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ксимальна швидкість передачі, Гбіт/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EA38-D869-488F-B329-808626E479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1"/>
          <p:cNvSpPr/>
          <p:nvPr/>
        </p:nvSpPr>
        <p:spPr>
          <a:xfrm>
            <a:off x="566640" y="252360"/>
            <a:ext cx="8280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Arial"/>
              </a:rPr>
              <a:t>Розрахунок характеристик і вибір оптичного каб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3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8"/>
          <p:cNvGraphicFramePr/>
          <p:nvPr/>
        </p:nvGraphicFramePr>
        <p:xfrm>
          <a:off x="4435560" y="804960"/>
          <a:ext cx="204948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35560" y="804960"/>
                    <a:ext cx="20494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612720" y="868320"/>
            <a:ext cx="54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ельна апертура 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566640" y="1417680"/>
            <a:ext cx="54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рати (поперечний зсув 0,5 мк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2"/>
          <p:cNvGraphicFramePr/>
          <p:nvPr/>
        </p:nvGraphicFramePr>
        <p:xfrm>
          <a:off x="4896000" y="1219320"/>
          <a:ext cx="346680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96000" y="1219320"/>
                    <a:ext cx="34668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Прямоугольник 15"/>
          <p:cNvSpPr/>
          <p:nvPr/>
        </p:nvSpPr>
        <p:spPr>
          <a:xfrm>
            <a:off x="520560" y="2001960"/>
            <a:ext cx="54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рати (кутовий зсув 0,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4"/>
          <p:cNvGraphicFramePr/>
          <p:nvPr/>
        </p:nvGraphicFramePr>
        <p:xfrm>
          <a:off x="4041720" y="1874880"/>
          <a:ext cx="4546800" cy="72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41720" y="1874880"/>
                    <a:ext cx="45468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5"/>
          <p:cNvSpPr/>
          <p:nvPr/>
        </p:nvSpPr>
        <p:spPr>
          <a:xfrm>
            <a:off x="4393800" y="2692440"/>
            <a:ext cx="423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Arial"/>
              </a:rPr>
              <a:t>rel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Arial"/>
              </a:rPr>
              <a:t>OH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) + Ce</a:t>
            </a:r>
            <a:r>
              <a:rPr b="0" i="1" lang="uk-UA" sz="1800" spc="-1" strike="noStrike" baseline="30000">
                <a:solidFill>
                  <a:srgbClr val="000000"/>
                </a:solidFill>
                <a:latin typeface="Arial"/>
              </a:rPr>
              <a:t>–k/</a:t>
            </a:r>
            <a:r>
              <a:rPr b="0" i="1" lang="uk-UA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Б/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5"/>
          <p:cNvSpPr/>
          <p:nvPr/>
        </p:nvSpPr>
        <p:spPr>
          <a:xfrm>
            <a:off x="520560" y="264636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ефіцієнт втрат (загасання 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25"/>
          <p:cNvGraphicFramePr/>
          <p:nvPr/>
        </p:nvGraphicFramePr>
        <p:xfrm>
          <a:off x="4387680" y="3244680"/>
          <a:ext cx="2395800" cy="33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87680" y="3244680"/>
                    <a:ext cx="239580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4"/>
          <p:cNvGraphicFramePr/>
          <p:nvPr/>
        </p:nvGraphicFramePr>
        <p:xfrm>
          <a:off x="4802040" y="3889440"/>
          <a:ext cx="2878200" cy="30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2040" y="3889440"/>
                    <a:ext cx="287820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26"/>
          <p:cNvSpPr/>
          <p:nvPr/>
        </p:nvSpPr>
        <p:spPr>
          <a:xfrm>
            <a:off x="0" y="3245400"/>
            <a:ext cx="37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атична дисперсія 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245160" y="3844080"/>
            <a:ext cx="41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яризаційна модова дисперсія 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4465440" y="9172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29"/>
          <p:cNvGraphicFramePr/>
          <p:nvPr/>
        </p:nvGraphicFramePr>
        <p:xfrm>
          <a:off x="3538440" y="4395960"/>
          <a:ext cx="2347920" cy="529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38440" y="4395960"/>
                    <a:ext cx="234792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27"/>
          <p:cNvSpPr/>
          <p:nvPr/>
        </p:nvSpPr>
        <p:spPr>
          <a:xfrm>
            <a:off x="246240" y="448848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муга пропускання 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0" y="563940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волокн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ning Truwave SMF-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6"/>
          <p:cNvSpPr/>
          <p:nvPr/>
        </p:nvSpPr>
        <p:spPr>
          <a:xfrm>
            <a:off x="588240" y="5132520"/>
            <a:ext cx="54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ний кабель (4 жили)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R-FOCA-UT4-04-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2" descr="Кабель оптический SNR-FOCA-UT4-04-C Corning SMF-28 Ultra"/>
          <p:cNvPicPr/>
          <p:nvPr/>
        </p:nvPicPr>
        <p:blipFill>
          <a:blip r:embed="rId13"/>
          <a:stretch/>
        </p:blipFill>
        <p:spPr>
          <a:xfrm>
            <a:off x="5999040" y="4809960"/>
            <a:ext cx="253224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2:40:26Z</dcterms:created>
  <dc:creator>ACER</dc:creator>
  <dc:description/>
  <dc:language>en-US</dc:language>
  <cp:lastModifiedBy>User</cp:lastModifiedBy>
  <dcterms:modified xsi:type="dcterms:W3CDTF">2015-11-23T04:49:55Z</dcterms:modified>
  <cp:revision>155</cp:revision>
  <dc:subject/>
  <dc:title>ОПТИКО-ЭЛЕКТРОННЫЙ АНАЛИЗАТОР ДЛЯ КОНТРОЛЯ  УРОВНЯ ПЕРИФЕРИЧЕСКОЙ МИКРОЦИРКУЛЯЦИИ</dc:title>
</cp:coreProperties>
</file>