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8.wmf" ContentType="image/x-wmf"/>
  <Override PartName="/ppt/media/image9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15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FB5-E0BA-40C8-97C6-C753AE04B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9C7E-45D8-4DB3-B978-87CCB8A23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96E-C931-4603-B1C8-34408BB39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E72-0938-4F13-87B3-1D870A1F0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3E7B-DAEC-42F3-B4D6-A52A12C5A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CC11-7503-481F-8571-D009FCF63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7C4-827A-4031-95DA-1044F7843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102-49E1-4467-8228-188B8D7A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D9E-AE74-4CF8-879F-CCB045D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811-328C-4EBD-8156-2A1CF8DC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E99-E6CE-496E-88A7-670C5AD6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5A2-C1C0-4899-9766-EE4992AA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425-1D23-4C4C-8ED3-347C6C20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DBF-84A4-49D9-9377-BDE92CC5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F45-A7CC-476D-B59F-91A88DBF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6DA-6ED7-4658-8B4B-CDAD38A7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8F8-E02A-4878-B772-0D9B5B7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CAA-97A2-4D65-8728-AE9BAC7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B12-6ABC-40AD-B487-A7AAA8C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CC49-305C-40B7-845D-D0E72441F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35B0-DD67-495F-B819-910BD5512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33240" y="160200"/>
            <a:ext cx="5846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В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інницький національний технічний універс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70c0"/>
                </a:solidFill>
                <a:latin typeface="Arial"/>
              </a:rPr>
              <a:t>Факультет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 комп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’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ю</a:t>
            </a: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терних систем управління та авто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Arial"/>
              </a:rPr>
              <a:t>Кафедра лазерної та оптикоелектронн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57240" y="490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2048040"/>
            <a:ext cx="9144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ЦИФРОВА ВОЛОКОННО-ОПТИЧНА СИСТЕМА ПЕРЕДА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868480" y="4165560"/>
            <a:ext cx="60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онав: студент гр. ЛОТ-14м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нцзянь Х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ерівник: доцент, к.т.н. Тужанський С.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49280" cy="134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ods2008"/>
          <p:cNvPicPr/>
          <p:nvPr/>
        </p:nvPicPr>
        <p:blipFill>
          <a:blip r:embed="rId2"/>
          <a:stretch/>
        </p:blipFill>
        <p:spPr>
          <a:xfrm>
            <a:off x="7149960" y="291960"/>
            <a:ext cx="1994040" cy="789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671480" y="2093760"/>
            <a:ext cx="5846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АГ</a:t>
            </a:r>
            <a:r>
              <a:rPr b="1" lang="uk-UA" sz="1600" spc="-1" strike="noStrike">
                <a:solidFill>
                  <a:srgbClr val="7030a0"/>
                </a:solidFill>
                <a:latin typeface="Arial"/>
              </a:rPr>
              <a:t>І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СТЕРСЬКА КВАЛІФІКАЦІЙНА РО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1257480" y="3244680"/>
            <a:ext cx="74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іальність 8.05100402 – «Лазерна і оптоелектронна техні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316240" y="6099120"/>
            <a:ext cx="469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21040" indent="-292104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Arial"/>
              </a:rPr>
              <a:t>ВІННИЦЯ –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21040" indent="-29210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3B30-8013-404E-BACD-02A066E0F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20560" y="482760"/>
            <a:ext cx="82807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Розрахунок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енергетичного балансу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2316240" y="1081080"/>
          <a:ext cx="51102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1081080"/>
                    <a:ext cx="5110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Прямоугольник 5"/>
          <p:cNvSpPr/>
          <p:nvPr/>
        </p:nvSpPr>
        <p:spPr>
          <a:xfrm>
            <a:off x="428760" y="1587600"/>
            <a:ext cx="83325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енергетичний запас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ометричний коефіцієнт загасання ОВ (0,2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Б/к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р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гасання роз'ємних з'єднань 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Б)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р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ькість роз'ємних з'єднань, по одному на вході і виході ОВ;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н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гасання нероз'ємних з'єднань, місця зварки світловодів 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Б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н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ількість нероз'ємних з'єднан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м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коефіцієнт з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асан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макровигини(0,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Б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з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запас по з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асанню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…5дБ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д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ділянка регенера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6"/>
          <p:cNvGraphicFramePr/>
          <p:nvPr/>
        </p:nvGraphicFramePr>
        <p:xfrm>
          <a:off x="2546280" y="3843360"/>
          <a:ext cx="44308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6280" y="3843360"/>
                    <a:ext cx="44308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8"/>
          <p:cNvGraphicFramePr/>
          <p:nvPr/>
        </p:nvGraphicFramePr>
        <p:xfrm>
          <a:off x="3789360" y="5454720"/>
          <a:ext cx="154152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9360" y="5454720"/>
                    <a:ext cx="1541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Прямоугольник 18"/>
          <p:cNvSpPr/>
          <p:nvPr/>
        </p:nvSpPr>
        <p:spPr>
          <a:xfrm>
            <a:off x="1763640" y="3382920"/>
            <a:ext cx="50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жина регенера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ної діля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1"/>
          <p:cNvSpPr/>
          <p:nvPr/>
        </p:nvSpPr>
        <p:spPr>
          <a:xfrm>
            <a:off x="797040" y="4672080"/>
            <a:ext cx="74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жина регенера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ної діля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з дисперсією, станда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-L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C9E-6AB9-4C72-82A8-DE1EAA6AA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2960640" y="1311120"/>
          <a:ext cx="240840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0640" y="1311120"/>
                    <a:ext cx="24084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"/>
          <p:cNvGraphicFramePr/>
          <p:nvPr/>
        </p:nvGraphicFramePr>
        <p:xfrm>
          <a:off x="1303200" y="2048040"/>
          <a:ext cx="2955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3200" y="2048040"/>
                    <a:ext cx="295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"/>
          <p:cNvGraphicFramePr/>
          <p:nvPr/>
        </p:nvGraphicFramePr>
        <p:xfrm>
          <a:off x="1671480" y="2462040"/>
          <a:ext cx="190800" cy="1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1480" y="2462040"/>
                    <a:ext cx="1908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4"/>
          <p:cNvSpPr/>
          <p:nvPr/>
        </p:nvSpPr>
        <p:spPr>
          <a:xfrm>
            <a:off x="1211400" y="968760"/>
            <a:ext cx="7549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я інформаційної ємност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критері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т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енно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flipV="1" rot="10800000">
            <a:off x="3881520" y="2047320"/>
            <a:ext cx="45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пектральна ширина канал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1480" y="2048400"/>
            <a:ext cx="641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ношення  сигнал-шу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947960" y="2370600"/>
            <a:ext cx="59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альна ефективність систе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1809720" y="3336840"/>
          <a:ext cx="153036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9720" y="3336840"/>
                    <a:ext cx="1530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4"/>
          <p:cNvSpPr/>
          <p:nvPr/>
        </p:nvSpPr>
        <p:spPr>
          <a:xfrm>
            <a:off x="797040" y="2876760"/>
            <a:ext cx="71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я чутливості фотоприймач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-i-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3835440" y="3382920"/>
          <a:ext cx="289080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5440" y="3382920"/>
                    <a:ext cx="28908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2"/>
          <p:cNvGraphicFramePr/>
          <p:nvPr/>
        </p:nvGraphicFramePr>
        <p:xfrm>
          <a:off x="2546280" y="4626000"/>
          <a:ext cx="3544920" cy="69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6280" y="4626000"/>
                    <a:ext cx="3544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17"/>
          <p:cNvSpPr/>
          <p:nvPr/>
        </p:nvSpPr>
        <p:spPr>
          <a:xfrm>
            <a:off x="843120" y="4165560"/>
            <a:ext cx="77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альна ефективн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і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з шумами оптичних підсилювач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43120" y="5316480"/>
            <a:ext cx="7872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кількість волоконних прольотів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тал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коефіцієнт підсилення оптичного підсилювач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тала Планка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робоча частота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смуга пропускання оптичного вол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28760" y="25236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Границя інформаційної ємності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A14-C9F0-4398-988F-D1279D9E8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"/>
          <p:cNvGraphicFramePr/>
          <p:nvPr/>
        </p:nvGraphicFramePr>
        <p:xfrm>
          <a:off x="561960" y="892080"/>
          <a:ext cx="8337600" cy="53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892080"/>
                    <a:ext cx="8337600" cy="53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1"/>
          <p:cNvSpPr/>
          <p:nvPr/>
        </p:nvSpPr>
        <p:spPr>
          <a:xfrm>
            <a:off x="566640" y="29844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Фундаментальні обмеження пропускної здат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EF86-BE8D-4A53-9B8C-92347CD23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8"/>
          <p:cNvGraphicFramePr/>
          <p:nvPr/>
        </p:nvGraphicFramePr>
        <p:xfrm>
          <a:off x="1303200" y="1127160"/>
          <a:ext cx="71121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27160"/>
                    <a:ext cx="71121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31"/>
          <p:cNvSpPr/>
          <p:nvPr/>
        </p:nvSpPr>
        <p:spPr>
          <a:xfrm>
            <a:off x="566640" y="29844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Вплив нелінійної дисперсії на пропускну здатність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D4A-693D-46DD-8985-5E358A851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1257480" y="804960"/>
            <a:ext cx="6419520" cy="54482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0560" y="205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Топологія цифрової ВОСП (подвійне кіль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2BA-9AA8-4A4E-B071-E9FC264B1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Структурна схема магістралі ВОСП при використанні хвилевого мультиплекс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228600" y="1920960"/>
            <a:ext cx="8379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AB4-6EEA-4F2D-9D2A-E719F4487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Схема модуля оптичного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FA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п</a:t>
            </a: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ідсилю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1371600" y="1279440"/>
          <a:ext cx="653724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79440"/>
                    <a:ext cx="653724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8" descr=""/>
          <p:cNvPicPr/>
          <p:nvPr/>
        </p:nvPicPr>
        <p:blipFill>
          <a:blip r:embed="rId3"/>
          <a:stretch/>
        </p:blipFill>
        <p:spPr>
          <a:xfrm>
            <a:off x="1266840" y="1157400"/>
            <a:ext cx="661032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CAE-7114-422C-8123-8424FA888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050840" y="182520"/>
            <a:ext cx="68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ис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2"/>
          <p:cNvGraphicFramePr/>
          <p:nvPr/>
        </p:nvGraphicFramePr>
        <p:xfrm>
          <a:off x="797040" y="574560"/>
          <a:ext cx="7654680" cy="569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574560"/>
                    <a:ext cx="7654680" cy="56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AA4-BFB1-48CA-A6EC-4108933D8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stuff_46.jpg"/>
          <p:cNvPicPr/>
          <p:nvPr/>
        </p:nvPicPr>
        <p:blipFill>
          <a:blip r:embed="rId1"/>
          <a:stretch/>
        </p:blipFill>
        <p:spPr>
          <a:xfrm>
            <a:off x="2149560" y="2286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8B5B-DC97-4809-AB03-98118AA53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3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Актуальність тем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остання обсягів інформації, що передається у комп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ерних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реж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 розвитку волоконно-оптичних систем, які є основою сучасних магістралей (Internet та ін.). Цифрові волоконно-оптичні технології є найбільш перспективними для систем передачі, оскільки забезпечують максимальну пропускну здатність і дальність зв’язку. Виконання сучасних стандартів передачі для волоконних мереж накладає нові обмеження на енергетичний баланс (зменшує максимальну дальність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Розвиток інформаційних технологій потребує удосконалення  засобів організації волоконно-оптичного цифрового зв’язку з урахуванням нових стандартів і обладнання, яке здатне працювати на великих швидкостях передачі даних. Існує значна кількість факторів і фізичних явищ, які  обмежують пропускну здатність таких ВОСП (дисперсія, загасання, втрати на з’єднаннях). Мінімізація їх впливу  дозволить розробити системи із оптимальною дальністю і швидкістю передачі з урахуванням можливої кількості вузлів і архітектури мережі. Таким чином, розробка цифрових волоконно-оптичних системи передачі (ВОСП) із підвищеною пропускною здатністю є актуальною науково-технічною задачею сьогодення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Мета роботи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ю магістерської кваліфікаційної роботи є підвищення пропускної здатності цифрової волоконно-оптичної системи передачі, моделювання і аналіз характеристик вдосконаленої системи передач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57E9-1A6F-4736-81C9-F2B8A9F0F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20560" y="68400"/>
            <a:ext cx="835200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новні завдання дослідже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із існуючих засобів, елементної бази і технологій цифрових волоконно-оптичних мереж передачі да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аналізувати основні фактори, що впливають на пропускну здатність і дальність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ифрових волоконно-оптичних сист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ахувати енергетичний баланс системи та умови його забезпечення на вказаній відстані з урахуванням топології і кількості кінцевих користувач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оектувати і проаналізувати роботу лінійного оптичного тракту ВОСП та його основних компонент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ити структурну схему цифрової ВОСП з оптимальним набором компонентів для забезпечення 4-кратного запасу пропускної здатності мережі у майбутнь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досконалити схеми основних активних елементів лінійного оптичного тракту ВОСП на основі сучасної елементної баз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ити ко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’ютерне моделю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оретичної границі пропускної здатності ВО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Об’єкт дослідженн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цеси передачі інформації у цифрових волоконно-оптичних систе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Предмет дослідження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тод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засоби організації зв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ку у цифрових волоконно-оптичних системах передач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28C8-B6CF-4E69-964A-3940D0983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0" y="37152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аукова новизна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істав подальшого розвитку метод організації волоконно-оптичного зв’язку для 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ів ВОСП із синхронною цифровою ієрархією, який базується на аналізі енергетичного балансу системи із урахуванням ресурсу інформаційної ємності (чинників фундаментальних обмежень волокна, лазерів і   фотоприймачів), що дозволило підвищити ефективність використання активного мережевого обладнання і ресурсів оптичного кабелю (за рахунок мінімізації потрібної кількості оптичних волокон) з урахуванням запасу для потенційного збільшення пропускної здатності спроектованої ВО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актичне знач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ржаних результатів полягає в тому, що на основі отриманих теоретичних положень розроблено структурну організацію і вдосконалено роботу цифрової ВОСП, зокр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лено структурну схему організації цифрової волоконно-оптичної мережі із оптимальним вибором елементів, яка враховує попередній теоретичний аналіз інформаційної ємності оптичного кабелю та перспективи підвищення пропускної здатності в майбутнь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сконалено комп’ютерну модель для оцінювання спектральної ефективності хвилевого ущільнення для цифрових систем волоконно-оптичного зв’язку, що дозволяє оптимізувати вибір кількості каналів WDM (аб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WDM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для ефективного використання ресурсу смуги пропускання оптичного кабелю з урахуванням особливостей конкретної цифрової ВОСП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AD95-DE1D-4FC9-9BB9-30E457A05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457200" y="274680"/>
            <a:ext cx="835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наліз технолог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ій волоконно-оптичних мер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804600"/>
            <a:ext cx="9144000" cy="3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топології ВОС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кільцева, лінійна (магістральна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іркоподіб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290520" y="3935520"/>
            <a:ext cx="8643960" cy="2298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8"/>
          <p:cNvSpPr/>
          <p:nvPr/>
        </p:nvSpPr>
        <p:spPr>
          <a:xfrm>
            <a:off x="520560" y="338292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олоконно-оптична мережа передачі да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з часовим мультиплексування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474840" y="1219320"/>
            <a:ext cx="7953120" cy="15811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290520" y="2784600"/>
            <a:ext cx="86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ль (двостороння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і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війне кіль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2B8-B03C-4641-9EE4-3512BDA69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Технологія хвилевого мультиплексування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DM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2600" y="2048040"/>
            <a:ext cx="9025200" cy="269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1994040" y="1311120"/>
            <a:ext cx="55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локонно-оптична система цифрової передачі даних із хвилевим мультиплексу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474840" y="49021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UX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чний мультиплексор ведення/виведення, М – мультиплексор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М – демультиплексори, Ф – фільтри, ЛП – лінійний підсилювач, ПП – попередній підсилювач, ОЛТ – оптичний лінійний тр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41EA-3461-47D8-8721-6C151F568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39640" y="115920"/>
            <a:ext cx="840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аліз характеристик оптичних волокон для ВОЛ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tretch/>
        </p:blipFill>
        <p:spPr>
          <a:xfrm>
            <a:off x="1924200" y="758880"/>
            <a:ext cx="6699240" cy="2485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5"/>
          <p:cNvSpPr/>
          <p:nvPr/>
        </p:nvSpPr>
        <p:spPr>
          <a:xfrm>
            <a:off x="438120" y="163188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ласні втрати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994040" y="3429000"/>
          <a:ext cx="6400800" cy="25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3429000"/>
                    <a:ext cx="640080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15"/>
          <p:cNvSpPr/>
          <p:nvPr/>
        </p:nvSpPr>
        <p:spPr>
          <a:xfrm>
            <a:off x="520560" y="3935520"/>
            <a:ext cx="14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7C69-F804-46ED-B002-BFB8AD9D1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57200" y="92160"/>
            <a:ext cx="8229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озробка і аналіз роботи ВО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750960" y="666720"/>
            <a:ext cx="78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бір елементів трансів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1533600" y="5869080"/>
            <a:ext cx="63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FP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xGate X2d-DWDM-2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65320" y="1127160"/>
          <a:ext cx="6813360" cy="4694040"/>
        </p:xfrm>
        <a:graphic>
          <a:graphicData uri="http://schemas.openxmlformats.org/drawingml/2006/table">
            <a:tbl>
              <a:tblPr/>
              <a:tblGrid>
                <a:gridCol w="2076480"/>
                <a:gridCol w="1501560"/>
                <a:gridCol w="1617840"/>
                <a:gridCol w="1617480"/>
              </a:tblGrid>
              <a:tr h="213480"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лазе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FP-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у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DSU 54TM-3XY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Op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K3C8CAK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іапазон робочих довжин хвиль,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-1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0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0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тужність, дБ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…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…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оговий струм накачки, 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…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…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…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ень подавлення бічних мод, 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 наростання/ спаду, 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симальна швидкість передачі, Гбіт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5B5-E515-406C-B0D1-86F86395E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566640" y="252360"/>
            <a:ext cx="828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Arial"/>
              </a:rPr>
              <a:t>Розрахунок характеристик і вибір оптичного каб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3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4435560" y="804960"/>
          <a:ext cx="20494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5560" y="804960"/>
                    <a:ext cx="2049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12720" y="86832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ельна апертура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566640" y="141768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рати (поперечний зсув 0,5 мк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2"/>
          <p:cNvGraphicFramePr/>
          <p:nvPr/>
        </p:nvGraphicFramePr>
        <p:xfrm>
          <a:off x="4896000" y="1219320"/>
          <a:ext cx="346680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1219320"/>
                    <a:ext cx="3466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Прямоугольник 15"/>
          <p:cNvSpPr/>
          <p:nvPr/>
        </p:nvSpPr>
        <p:spPr>
          <a:xfrm>
            <a:off x="520560" y="2001960"/>
            <a:ext cx="54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рати (кутовий зсув 0,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4"/>
          <p:cNvGraphicFramePr/>
          <p:nvPr/>
        </p:nvGraphicFramePr>
        <p:xfrm>
          <a:off x="4041720" y="1874880"/>
          <a:ext cx="4546800" cy="72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1720" y="1874880"/>
                    <a:ext cx="45468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5"/>
          <p:cNvSpPr/>
          <p:nvPr/>
        </p:nvSpPr>
        <p:spPr>
          <a:xfrm>
            <a:off x="4393800" y="2692440"/>
            <a:ext cx="423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Arial"/>
              </a:rPr>
              <a:t>rel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uk-UA" sz="18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) + Ce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Arial"/>
              </a:rPr>
              <a:t>–k/</a:t>
            </a:r>
            <a:r>
              <a:rPr b="0" i="1" lang="uk-UA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Б/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"/>
          <p:cNvSpPr/>
          <p:nvPr/>
        </p:nvSpPr>
        <p:spPr>
          <a:xfrm>
            <a:off x="520560" y="26463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ефіцієнт втрат (загасання 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5"/>
          <p:cNvGraphicFramePr/>
          <p:nvPr/>
        </p:nvGraphicFramePr>
        <p:xfrm>
          <a:off x="4387680" y="3244680"/>
          <a:ext cx="239580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87680" y="3244680"/>
                    <a:ext cx="23958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4"/>
          <p:cNvGraphicFramePr/>
          <p:nvPr/>
        </p:nvGraphicFramePr>
        <p:xfrm>
          <a:off x="4802040" y="3889440"/>
          <a:ext cx="2878200" cy="30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2040" y="3889440"/>
                    <a:ext cx="287820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26"/>
          <p:cNvSpPr/>
          <p:nvPr/>
        </p:nvSpPr>
        <p:spPr>
          <a:xfrm>
            <a:off x="0" y="32454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атична 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245160" y="384408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яризаційна модова дисперсі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4465440" y="9172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9"/>
          <p:cNvGraphicFramePr/>
          <p:nvPr/>
        </p:nvGraphicFramePr>
        <p:xfrm>
          <a:off x="3538440" y="4395960"/>
          <a:ext cx="2347920" cy="52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8440" y="4395960"/>
                    <a:ext cx="23479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27"/>
          <p:cNvSpPr/>
          <p:nvPr/>
        </p:nvSpPr>
        <p:spPr>
          <a:xfrm>
            <a:off x="246240" y="44884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уга пропускання 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0" y="563940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волокн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ning Truwave SMF-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6"/>
          <p:cNvSpPr/>
          <p:nvPr/>
        </p:nvSpPr>
        <p:spPr>
          <a:xfrm>
            <a:off x="588240" y="513252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ний кабель (4 жили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R-FOCA-UT4-04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2" descr="Кабель оптический SNR-FOCA-UT4-04-C Corning SMF-28 Ultra"/>
          <p:cNvPicPr/>
          <p:nvPr/>
        </p:nvPicPr>
        <p:blipFill>
          <a:blip r:embed="rId13"/>
          <a:stretch/>
        </p:blipFill>
        <p:spPr>
          <a:xfrm>
            <a:off x="5999040" y="4809960"/>
            <a:ext cx="25322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40:26Z</dcterms:created>
  <dc:creator>ACER</dc:creator>
  <dc:description/>
  <dc:language>en-US</dc:language>
  <cp:lastModifiedBy>User</cp:lastModifiedBy>
  <dcterms:modified xsi:type="dcterms:W3CDTF">2015-11-23T04:49:55Z</dcterms:modified>
  <cp:revision>155</cp:revision>
  <dc:subject/>
  <dc:title>ОПТИКО-ЭЛЕКТРОННЫЙ АНАЛИЗАТОР ДЛЯ КОНТРОЛЯ  УРОВНЯ ПЕРИФЕРИЧЕСКОЙ МИКРОЦИРКУЛЯЦИИ</dc:title>
</cp:coreProperties>
</file>