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B56-5823-458E-903B-216CF598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362-4355-459F-A938-E438CD36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DFC-0FCD-468F-96BD-2EB5759E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71B-B3A7-4502-97B7-7274E1E9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DEE-C2B9-4B4F-B474-26B12DEF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583-0510-425F-8856-6296F65C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33B-5DB9-4630-9B84-D20E2F09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9BA-D738-44EC-9A26-3E3D40C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6CC-4B40-4D2D-A9DC-2E46B2A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66F-0B25-4F9D-A8AA-EC43FBD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B15-3ED1-4024-B218-63EE02E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FE7-C1A0-47DA-A2E1-988C910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DB96-B013-4D97-A4FE-C87D5456827F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89000"/>
            <a:ext cx="83041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автомобілів та транспортного менеджменту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робота на тему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ЩЕННЯ ЕКОЛОГІЧНИХ ПОКАЗНИКІВ ВАНТАЖНИХ АВТОМОБІЛІВ ПЕРЕОБЛАДНАННЯМ ДИЗЕЛЯ В ГАЗОДИЗЕЛ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н., професор А.П.Поляков                                 .  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у викона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.С.Коробо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а група 1АТ-14мн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масових викидів N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цикл, в залежності від завантаження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74800" y="0"/>
            <a:ext cx="82548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масових викидів твердих частинок С за цикл, в залежності від завантаження 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33320" y="189000"/>
            <a:ext cx="8415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сумарних питомих викидів приведених до СО за їздовий цикл, в залежності від положення важеля паливоподачі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98848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и грн/добу в залежності від пробігу та завантаження автомобі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4"/>
          <p:cNvPicPr/>
          <p:nvPr/>
        </p:nvPicPr>
        <p:blipFill>
          <a:blip r:embed="rId1"/>
          <a:stretch/>
        </p:blipFill>
        <p:spPr>
          <a:xfrm>
            <a:off x="1116000" y="272880"/>
            <a:ext cx="6696000" cy="516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максимально допустимої вартості СПГ при які доцільне переобладнання в залежності від вартості дизельного пал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4"/>
          <p:cNvPicPr/>
          <p:nvPr/>
        </p:nvPicPr>
        <p:blipFill>
          <a:blip r:embed="rId1"/>
          <a:stretch/>
        </p:blipFill>
        <p:spPr>
          <a:xfrm>
            <a:off x="900000" y="549360"/>
            <a:ext cx="7596360" cy="466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економічний збиток при русі містом на 100 км пробі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13"/>
          <p:cNvPicPr/>
          <p:nvPr/>
        </p:nvPicPr>
        <p:blipFill>
          <a:blip r:embed="rId1"/>
          <a:stretch/>
        </p:blipFill>
        <p:spPr>
          <a:xfrm>
            <a:off x="826920" y="404640"/>
            <a:ext cx="77122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400"/>
            </a:b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рахунком на математичній моделі при русі автомобіля міським їздовим циклом за ГОСТ 20306-90 з використанням нижчої теплоти згоряння дизельного палива та СПГ була отримана залежність теплоти згоряння для отримання одиниці енергії при роботі за дизельним і газодизельним циклами при різних завантаженнях автомобіля. При роботі двигуна за газодизельним циклом теплота згоряння більша ніж при роботі за дизельним циклом при завантаженні Мb = 0 кг різниця становить 6%, а при максимальному навантаженні, Мb = 4000 кг, різниця становить 0,6%.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зультат розрахунків економічної доцільності переобладнання вантажного автомобіля ГАЗ-3309 для роботи за газодизельним циклом показав, що навіть при неповному завантаженні автомобіля (2000 - 3000 кг) і добовому пробігу 225-250 км окупність переобладнання відбудеться через 16-20 місяців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дені розрахунки свідчать, що соціально-економічний збиток від переобладнання дизеля в газодизель зменшиться від 18,6 до 21% на 100 км пробігу в залежності від завантаження  автомобі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3"/>
          <p:cNvSpPr/>
          <p:nvPr/>
        </p:nvSpPr>
        <p:spPr>
          <a:xfrm>
            <a:off x="539640" y="981000"/>
            <a:ext cx="82155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</a:t>
            </a: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вагу 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04840" y="333000"/>
            <a:ext cx="4043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000" y="1239480"/>
            <a:ext cx="8264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452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дизельного палива та зменшення шкідливих викидів вантажних автомобілів з дизелями шляхом переобладнанням дизелів в газодизел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2700360" y="2379600"/>
            <a:ext cx="460836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10"/>
          <p:cNvSpPr/>
          <p:nvPr/>
        </p:nvSpPr>
        <p:spPr>
          <a:xfrm>
            <a:off x="2700360" y="341280"/>
            <a:ext cx="4608360" cy="6476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Заголовок 5"/>
          <p:cNvSpPr/>
          <p:nvPr/>
        </p:nvSpPr>
        <p:spPr>
          <a:xfrm>
            <a:off x="2771640" y="242100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слідженн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Объект 6"/>
          <p:cNvSpPr/>
          <p:nvPr/>
        </p:nvSpPr>
        <p:spPr>
          <a:xfrm>
            <a:off x="755640" y="321300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результатів виконаних робіт з можливих переобладнань дизелів в умовах експлуатації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робка методики визначення доцільності переобладнання дизеля для роботи за газодизельним циклом з врахуванням зміни показників двигуна та умов експлуатації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точнення математичної моделі руху автомобіля за їздовим циклом при роботі двигуна за дизельним і газодизельним цикла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ведення розрахунків на математичній моделі з визначенням паливної економічності та екологічних показників при роботі двигуна за дизельним і газодизельним цикла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ґрунтування рекомендацій стосовно доцільності конвертації дизеля в газодизель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УКОВА НОВИЗНА РОБОТ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83808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а методика, яка дозволяє обґрунтувати доцільність переобладнання дизеля вантажного автомобіля для роботи за газодизельним циклом в умовах експлуатації з урахуванням викидів ШР, витрат на паливо та соціально-економічного збит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о математичну модель, яка дозволяє імітувати рух вантажного автомобіля з двигуном, переобладнаним для роботи за дизельним і газодизельним циклами, за режимами їздового цик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ґрунтована доцільність переобладнання дизеля вантажного автомобіля для роботи за газодизельним циклом в умовах експлуат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5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увальні характеристики газодизеля ЯМЗ-236ГД при роботі за дизельним і газодизельним (30% запальна доза) циклами, 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00 хв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93600"/>
            <a:ext cx="3816360" cy="513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0" r="0" b="6241"/>
          <a:stretch/>
        </p:blipFill>
        <p:spPr>
          <a:xfrm>
            <a:off x="5219640" y="115920"/>
            <a:ext cx="3408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ивна характеристика руху газодизельного автомобіля КрАЗ-256 Б1-ГД при роботі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005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блок-схема методики визначення дослідження конвертації дизеля в газодизел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69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итрати дизельного палива при роботі двигуна за дизельним та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4799160" cy="399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414680" y="297000"/>
            <a:ext cx="48373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ність ВГ двигуна при роботі дизельним та газодизельним циклам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4533840" cy="404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68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швидкості руху автомобіля ГАЗ 3309 в їздовому циклі при роботі двигуна за дизельним і газодизельним циклами при різних завантаженн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6310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02:08Z</dcterms:created>
  <dc:creator>Customer</dc:creator>
  <dc:description/>
  <dc:language>en-US</dc:language>
  <cp:lastModifiedBy>Олешко</cp:lastModifiedBy>
  <cp:lastPrinted>2015-11-20T04:07:44Z</cp:lastPrinted>
  <dcterms:modified xsi:type="dcterms:W3CDTF">2015-11-20T04:07:48Z</dcterms:modified>
  <cp:revision>352</cp:revision>
  <dc:subject/>
  <dc:title>Слайд 1</dc:title>
</cp:coreProperties>
</file>