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2CC-C1C3-4985-9298-C55EF812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831-774C-4484-B489-4EC73578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468-1F3E-4943-89A1-92FB53C0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29C-E90C-4D78-A574-D79541D8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5F7-7F47-4816-82E4-34673EE2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E7C-11E9-4286-885C-330A34A4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6D2-E5F6-46A7-A73A-A9DA5FDE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D23-E47D-4763-9C7C-073AF754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B7F-6BCC-4A15-A88D-089D4584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8A3-DD98-4F1D-A535-F9BD021F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41E-471E-4A67-9B8E-E4BD25A3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E27-7356-47EC-BF64-70FFF6D8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6273-A3B3-4785-B44F-F7BEB32F9B3B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89000"/>
            <a:ext cx="83041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 машинобудування та транспорт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автомобілів та транспортного менеджменту</a:t>
            </a: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істерська робота на тему: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АЩЕННЯ ЕКОЛОГІЧНИХ ПОКАЗНИКІВ ВАНТАЖНИХ АВТОМОБІЛІВ ПЕРЕОБЛАДНАННЯМ ДИЗЕЛЯ В ГАЗОДИЗЕЛЬ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т.н., професор А.П.Поляков                                 .  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у викона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.С.Коробо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а група 1АТ-14мн 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масових викидів N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цикл, в залежності від завантаження при роботі двигуна за дизельним і газодизельним цик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874800" y="0"/>
            <a:ext cx="82548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масових викидів твердих частинок С за цикл, в залежності від завантаження  при роботі двигуна за дизельним і газодизельним цик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33320" y="189000"/>
            <a:ext cx="8415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сумарних питомих викидів приведених до СО за їздовий цикл, в залежності від положення важеля паливоподачі при роботі двигуна за дизельним і газодизельним цик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98848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рати грн/добу в залежності від пробігу та завантаження автомобіл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4"/>
          <p:cNvPicPr/>
          <p:nvPr/>
        </p:nvPicPr>
        <p:blipFill>
          <a:blip r:embed="rId1"/>
          <a:stretch/>
        </p:blipFill>
        <p:spPr>
          <a:xfrm>
            <a:off x="1116000" y="272880"/>
            <a:ext cx="6696000" cy="516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ня максимально допустимої вартості СПГ при які доцільне переобладнання в залежності від вартості дизельного пал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4"/>
          <p:cNvPicPr/>
          <p:nvPr/>
        </p:nvPicPr>
        <p:blipFill>
          <a:blip r:embed="rId1"/>
          <a:stretch/>
        </p:blipFill>
        <p:spPr>
          <a:xfrm>
            <a:off x="900000" y="549360"/>
            <a:ext cx="7596360" cy="4668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о-економічний збиток при русі містом на 100 км пробі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13"/>
          <p:cNvPicPr/>
          <p:nvPr/>
        </p:nvPicPr>
        <p:blipFill>
          <a:blip r:embed="rId1"/>
          <a:stretch/>
        </p:blipFill>
        <p:spPr>
          <a:xfrm>
            <a:off x="826920" y="404640"/>
            <a:ext cx="77122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400"/>
            </a:b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озрахунком на математичній моделі при русі автомобіля міським їздовим циклом за ГОСТ 20306-90 з використанням нижчої теплоти згоряння дизельного палива та СПГ була отримана залежність теплоти згоряння для отримання одиниці енергії при роботі за дизельним і газодизельним циклами при різних завантаженнях автомобіля. При роботі двигуна за газодизельним циклом теплота згоряння більша ніж при роботі за дизельним циклом при завантаженні Мb = 0 кг різниця становить 6%, а при максимальному навантаженні, Мb = 4000 кг, різниця становить 0,6%.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зультат розрахунків економічної доцільності переобладнання вантажного автомобіля ГАЗ-3309 для роботи за газодизельним циклом показав, що навіть при неповному завантаженні автомобіля (2000 - 3000 кг) і добовому пробігу 225-250 км окупність переобладнання відбудеться через 16-20 місяців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ведені розрахунки свідчать, що соціально-економічний збиток від переобладнання дизеля в газодизель зменшиться від 18,6 до 21% на 100 км пробігу в залежності від завантаження  автомобіл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Скругленный прямоугольник 3"/>
          <p:cNvSpPr/>
          <p:nvPr/>
        </p:nvSpPr>
        <p:spPr>
          <a:xfrm>
            <a:off x="539640" y="981000"/>
            <a:ext cx="82155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</a:t>
            </a:r>
            <a:br>
              <a:rPr sz="8000"/>
            </a:br>
            <a:r>
              <a:rPr b="1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вагу !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04840" y="333000"/>
            <a:ext cx="4043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000" y="1239480"/>
            <a:ext cx="826452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4525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я дизельного палива та зменшення шкідливих викидів вантажних автомобілів з дизелями шляхом переобладнанням дизелів в газодизел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2700360" y="2379600"/>
            <a:ext cx="4608360" cy="64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10"/>
          <p:cNvSpPr/>
          <p:nvPr/>
        </p:nvSpPr>
        <p:spPr>
          <a:xfrm>
            <a:off x="2700360" y="341280"/>
            <a:ext cx="4608360" cy="64764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Заголовок 5"/>
          <p:cNvSpPr/>
          <p:nvPr/>
        </p:nvSpPr>
        <p:spPr>
          <a:xfrm>
            <a:off x="2771640" y="2421000"/>
            <a:ext cx="46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дослідженн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Объект 6"/>
          <p:cNvSpPr/>
          <p:nvPr/>
        </p:nvSpPr>
        <p:spPr>
          <a:xfrm>
            <a:off x="755640" y="321300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із результатів виконаних робіт з можливих переобладнань дизелів в умовах експлуатації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робка методики визначення доцільності переобладнання дизеля для роботи за газодизельним циклом з врахуванням зміни показників двигуна та умов експлуатації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точнення математичної моделі руху автомобіля за їздовим циклом при роботі двигуна за дизельним і газодизельним цикла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ведення розрахунків на математичній моделі з визначенням паливної економічності та екологічних показників при роботі двигуна за дизельним і газодизельним цикла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ґрунтування рекомендацій стосовно доцільності конвертації дизеля в газодизель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УКОВА НОВИЗНА РОБОТ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838080"/>
            <a:ext cx="8353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а методика, яка дозволяє обґрунтувати доцільність переобладнання дизеля вантажного автомобіля для роботи за газодизельним циклом в умовах експлуатації з урахуванням викидів ШР, витрат на паливо та соціально-економічного збит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о математичну модель, яка дозволяє імітувати рух вантажного автомобіля з двигуном, переобладнаним для роботи за дизельним і газодизельним циклами, за режимами їздового цик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ґрунтована доцільність переобладнання дизеля вантажного автомобіля для роботи за газодизельним циклом в умовах експлуатац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852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антажувальні характеристики газодизеля ЯМЗ-236ГД при роботі за дизельним і газодизельним (30% запальна доза) циклами, пр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500 хв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8360" y="93600"/>
            <a:ext cx="3816360" cy="513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0" t="0" r="0" b="6241"/>
          <a:stretch/>
        </p:blipFill>
        <p:spPr>
          <a:xfrm>
            <a:off x="5219640" y="115920"/>
            <a:ext cx="3408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ивна характеристика руху газодизельного автомобіля КрАЗ-256 Б1-ГД при роботі за дизельним і газодизельним цик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5005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блок-схема методики визначення дослідження конвертації дизеля в газодизел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9690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витрати дизельного палива при роботі двигуна за дизельним та газодизельним цик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476280"/>
            <a:ext cx="4799160" cy="3997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414680" y="297000"/>
            <a:ext cx="483732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ність ВГ двигуна при роботі дизельним та газодизельним циклам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4533840" cy="404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500720" y="476280"/>
            <a:ext cx="46432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68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швидкості руху автомобіля ГАЗ 3309 в їздовому циклі при роботі двигуна за дизельним і газодизельним циклами при різних завантаженн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547640" y="0"/>
            <a:ext cx="6310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2:02:08Z</dcterms:created>
  <dc:creator>Customer</dc:creator>
  <dc:description/>
  <dc:language>en-US</dc:language>
  <cp:lastModifiedBy>Олешко</cp:lastModifiedBy>
  <cp:lastPrinted>2015-11-20T04:07:44Z</cp:lastPrinted>
  <dcterms:modified xsi:type="dcterms:W3CDTF">2015-11-20T04:07:48Z</dcterms:modified>
  <cp:revision>352</cp:revision>
  <dc:subject/>
  <dc:title>Слайд 1</dc:title>
</cp:coreProperties>
</file>