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9FC-4B24-47BA-A5C0-6F927CEF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65A-E75A-4AF4-9BC2-A9DCCD0C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54C-CE14-450A-9AB7-29D39736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82E-0F3A-4262-873D-0D2F31E2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13D3-0BB7-496A-977A-9A9EB75A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1D6B-BF87-4E15-B6D7-A258935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A8A6-C5D4-4A0A-904B-739DA2C0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2DD-9C3E-4681-8EE8-2296385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790E-C529-48EA-97A2-9A5B3E8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2AC-9B76-45CB-8626-2BE2779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4B22-8614-4A86-8448-BEFE010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6B4-2BDF-43D6-8A32-DC96F876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2315-3533-4C16-B115-35AD17B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06A8-FA2F-4634-A652-84BFC5D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F568-4C70-4275-B065-32D5822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6FB-905D-4B3B-AC9B-04B61828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FC43-3971-43D7-BECB-CA16FE98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729A-9C76-4A50-8DEC-747E218D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1E32F-77F4-441E-9650-B218C6C2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FB57-183C-428B-9689-13349BCD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D1F6-CA2E-44DD-B40C-BF3534C2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BB4F-726E-4C2C-B084-857207F6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FF4-8C43-4ECC-BB96-C887BFA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6381-9196-4439-9EE6-19AD85F4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CBED-778D-4392-8532-CF908BB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051E-BA8E-4078-BBC6-38D893C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32D8-811A-4ACA-B381-08D8379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7747-B69E-4A0D-BFEA-2F8B5555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47E5-1F38-4A12-B0F4-2520778F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47FB-B40F-4C7C-A792-A328A3AA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88B8-995F-4BC8-BEBF-B0AD7B0C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044B-F3AF-4D56-84D3-5F56690E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5199-7AC1-48DF-BF3D-4F434BE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D52-31D9-44C2-A2D4-3F5A639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17EA-3C9C-4A7C-B7B8-FB10515B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6590-5664-4053-B31D-10CB9525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0CDF-58D2-4599-B994-01A910A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81A3-B1ED-4C08-A503-2B79283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59B9-FC2F-4554-9964-57533DE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50DD-69C7-405C-98E4-EC4B846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6A79-62FC-4A6A-A725-BEFF0ED2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7E49-69FC-41CA-B27C-F7E4FF2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0FDA-51A3-4BA1-821C-5D44C73E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3B55-086C-4043-8DFD-384BE42A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7D3-D2F3-4E4D-B96D-BD0C6D29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628F-7144-451D-BE83-66228AF4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B26FD-48FC-4612-83DC-E40BE551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9D719-65C7-4CFE-87AC-9CBF4950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5E73-DD0D-49E7-83BF-522F8C36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BEEE-CC83-4C90-9F68-55B1B7F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DBB9-818F-42D0-8237-B5AD0F4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509F-992C-4DC7-B9FB-F304D5D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B7C6-91AA-4813-BC60-C22BD40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FA67-E0BA-490E-ABF4-2F7B57F1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6D85-62FF-4CB4-9081-3B9353A6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611-6260-447A-A691-4E300603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1AC0-9E91-46D7-8098-79D6E196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9A9A-FC9E-42CF-B53F-DF7B17BE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F0598-45FB-42B0-B61C-76CD5CA7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9DB9-693F-4037-98B0-155E53B0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5140-C84B-471B-B56B-4E947B1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6B53-79A5-44C0-82D4-F878315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0201-D682-4204-8CB7-6B49B923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D4827-0F08-4A8E-8D55-62BF164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FC0A-D92B-4F2B-9326-6294A92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EE128-178D-43E5-8257-B15B04DC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335-E617-41DC-9D7A-6286F11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C9980-A747-4E4C-A5C2-C0E4DB0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1022-4FAC-4C73-ABCB-7B422994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993F-D590-4C24-8C7E-20D4B1C8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67C9A-F62B-4D06-BC6D-BEFE2B74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7245-9538-4C55-9B33-D752D82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7378-9648-48AB-A2B8-DFC084F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621E-D81F-4FE7-BF00-947269C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A539-4766-494F-BEB1-88CEA19A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D953-1139-42C1-90B0-E5CC355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5645-73CF-491A-BA2E-935663D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F72-2C84-4A9D-B40E-8F8F629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2B867-2B1A-4287-A3B9-A81A626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4823-7401-489E-AEB0-B267BEE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B993-53E7-40D8-A004-2800DB2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A94DE-E1BE-4F6A-A188-FB38AC52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1C0B6-78EF-49BC-AC24-81018A62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392-E16A-4263-9920-2073295A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A117-7276-4C77-8D85-118E49F53C72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5870-A9D8-42D0-829A-ACAC3C1D5191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E1D1-F80C-4681-87A2-AFB4AECFC0AE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53E9-1398-4657-BBD0-21BF109ED44A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9066-B862-46A6-8464-846D54809EFD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E205-AA3A-42DE-B76F-82D51A353480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C6C-8A61-4E2C-A932-055B5CE002BA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56760" y="189000"/>
            <a:ext cx="83041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ультет машинобудування та транспор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автомобілів та транспортного менеджменту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робота на тему: </a:t>
            </a:r>
            <a:r>
              <a:rPr b="0" lang="uk-U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ІДВИЩЕННЯ НАДІЙНОСТІ ОБЛАДНАННЯ СПЕЦІАЛЬНОГО РУХОМОГО СКЛАДУ ПРОГНОЗУВАННЯМ НОМЕНКЛАТУРИ ТА КІЛЬКОСТІ ЗАПАСНИХ ЧАСТИН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т.н., професор А.П.Поляков                                 .  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у викона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.С.Маріянко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а група 1АТ-14мн 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24000" y="833400"/>
            <a:ext cx="4047840" cy="3951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) нормальний розподіл                   б) розподіл Вейбулла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коефіцієнта потреби в запасних частинах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з 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від коефіцієнта варіації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V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і відносного часу прогнозу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в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1590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627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84720" y="1197000"/>
            <a:ext cx="28800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реалiзацiї методу визначення рацiональної номенклатури та кількості запасних частин для проведення робіт з ТО і ремонту обладнання 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ого рухомого складу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72680" cy="4811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 визначення ймовірності безвідмовної роботи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317920" cy="54356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мограма для визначення  ймовірності безвідмовної роботи  та коефіцієнтів для нормального розподіл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3816360" cy="64609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19640" y="475920"/>
            <a:ext cx="3348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мограма для визначення ймовірності безвідмовної роботи  та коефіцієнтів і  при  розподілі Вейбулл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599080" cy="5327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4000" y="558936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відносної похибки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в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від параметра форми 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розподілу Вейбулла та відносного  часу прогнозу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в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при заміні розподілу Вейбулла експоненціальним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490680"/>
            <a:ext cx="8945640" cy="40906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7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результатів розрахунку кількості запасних частин за розробленою методикою і методикою ГОСНИТ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801720" y="4441680"/>
            <a:ext cx="8085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79280" y="692280"/>
            <a:ext cx="88567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1. В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у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ики п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у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ня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би в з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их ч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и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х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л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ичну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ь з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з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ними ф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и: 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ь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ь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их 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й 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 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й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ши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; 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ь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ь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их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шин; з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у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 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й 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й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ри; й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ь б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ї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и,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ж ч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п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у,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ий у ч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х г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-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c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2. Рoзрoблeнa мeтoдикa визнaчeння пoтрeби в зaпacних чacтинaх, нa вiдмiну вiд icнуючих, врaхoвує зaлeжнicть пoкaзникiв нaдiйнocтi вiд пaрaмeтрiв тeхнiчнoгo cтaну oблaднaння cпeцiaльнoгo рухoмoгo cклaду, щo дaє змoгу утoчнити нoмeнклaтуру i нoрми витрaт зaпacних чacтин, cкoрoтивши нecтaчу дeфiцитних вузлiв i дeтaлeй нa 8-11 % i нaдлишoк дeтaлeй, якi з чacoм пeрeтвoрюютьcя нa нeлiквiди, нa 8-10 %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3. Впрoвaджeння у вирoбництвo рoзрoблeнoї мeтoдики дacть змoгу зaбeзпeчити роботи з технічного обслуговування і ремонту oблaднaння cпeцiaльнoгo рухoмoгo cклaду дocтaтньoю кiлькicтю зaпacних чacтин. Пiдвищeнням кoeфiцiєнтa oпeрaтивнoї гoтoвнocтi нa 15 ‑ 16 % мoжнa збiльшити eфeктивнicть рoбoти oблaднaння нa 12 ‑ 13 %, пiдвищити йoгo прoдуктивнicть нa 16 - 17 %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ndara"/>
              </a:rPr>
              <a:t>Висновк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кругленный прямоугольник 3"/>
          <p:cNvSpPr/>
          <p:nvPr/>
        </p:nvSpPr>
        <p:spPr>
          <a:xfrm>
            <a:off x="539640" y="981000"/>
            <a:ext cx="82155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</a:t>
            </a:r>
            <a:br>
              <a:rPr sz="8000"/>
            </a:b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вагу 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99840" y="1125360"/>
            <a:ext cx="826452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ідвищення експлуатаційної надійності обладнання спеціального рухомого складу шляхом розробки системного підходу і практичних рекомендацій з прогнозування кількісного і номенклатурного складу запасних частин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04840" y="333000"/>
            <a:ext cx="4043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 робот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Скругленный прямоугольник 7"/>
          <p:cNvSpPr/>
          <p:nvPr/>
        </p:nvSpPr>
        <p:spPr>
          <a:xfrm>
            <a:off x="2700360" y="2565360"/>
            <a:ext cx="4608360" cy="64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0"/>
          <p:cNvSpPr/>
          <p:nvPr/>
        </p:nvSpPr>
        <p:spPr>
          <a:xfrm>
            <a:off x="2700360" y="341280"/>
            <a:ext cx="4608360" cy="647640"/>
          </a:xfrm>
          <a:prstGeom prst="roundRect">
            <a:avLst>
              <a:gd name="adj" fmla="val 50000"/>
            </a:avLst>
          </a:prstGeom>
          <a:noFill/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1"/>
          <p:cNvSpPr/>
          <p:nvPr/>
        </p:nvSpPr>
        <p:spPr>
          <a:xfrm>
            <a:off x="2700360" y="4581360"/>
            <a:ext cx="4608360" cy="648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Заголовок 5"/>
          <p:cNvSpPr/>
          <p:nvPr/>
        </p:nvSpPr>
        <p:spPr>
          <a:xfrm>
            <a:off x="2771640" y="2565360"/>
            <a:ext cx="46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дослідженн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Заголовок 5"/>
          <p:cNvSpPr/>
          <p:nvPr/>
        </p:nvSpPr>
        <p:spPr>
          <a:xfrm>
            <a:off x="2771640" y="458136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 дослідженн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Объект 6"/>
          <p:cNvSpPr/>
          <p:nvPr/>
        </p:nvSpPr>
        <p:spPr>
          <a:xfrm>
            <a:off x="755640" y="342900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ірності зміни технічного стану обладнання спеціального рухомого складу, що вплив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итрати запасних частин у процесі їх експлуатації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Объект 6"/>
          <p:cNvSpPr/>
          <p:nvPr/>
        </p:nvSpPr>
        <p:spPr>
          <a:xfrm>
            <a:off x="776160" y="5373720"/>
            <a:ext cx="8209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цес експлуатації обладнання спеціального рухомого складу, що призводить до виникнення дефектів та відмов і визначає завдання прогнозування кількісного й номенклатурного складу запасних частин для підвищення експлуатаційної надійності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425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ОСЯГНЕННЯ ПОСТАВЛЕНОЇ МЕТИ НЕОБХІДНО ВИРІІШИТИ НАСТУПНІ ЧАСТКОВІ ЗАВДАННЯ ДОСЛІДЖЕННЯ: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чити й уточнити номенклатуру відмов обладнання спеціального рухомого складу під час експлуатації, встановити частку кожної з них у загальному числі відмов, розробити класифікацію запасних частин за законами розподілу ресурс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методику визначення потреби в запасних частинах для обладнання спеціального рухомого складу з урахуванням закону розподілу ресурсу їх вузлів і деталей, яка б забезпечувала заданий рівень надійності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ґрунтувати коефіцієнт потреби в запасних частинах залежно від вимог до надійності обладнання спеціального рухомого складу у процесі експлуатації та коефіцієнт для визначення гамма-відсоткового ресурс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значити економічну ефективність від впровадження методи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значення потреби в запасних частинах для обладнання спеціального рухомого склад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08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УКОВА НОВИЗНА РОБОТИ: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78920" y="620640"/>
            <a:ext cx="87138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оретично обґрунтовано математичну модель, яка з урахуванням кількості однойменних деталей на одній машині, кількості однакових машин, закону розподілу вузлів і деталей та його параметрів, ймовірності безвідмовної роботи, а також часу прогнозу, поданого у частках гамма-відсоткового ресурсу, дає змогу гарантувати достатність кількості запасних частин для обладнання спеціального рухомого склад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істало подальшого розвитку обґрунтування коефіцієнта потреби в запасних частинах залежно від відносного часу прогнозу та коефіцієнта варіації нормального розподілу і параметра форми розподілу Вейбулла, за допомогою якого можна визначити потребу в запасних частинах обладнання спеціального рухомого складу у будь-якому інтервалі напрацюванн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ґрунтовано коефіцієнт для визначення гамма-відсоткового ресурсу, виведено залежність його від коефіцієнта варіації нормального розподілу і параметра форми розподілу Вейбулла за різних значень ймовірності безвідмовної роботи обладнання спеціального рухомого склад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имано залежність ймовірності безвідмовної роботи від довірчої ймовірності, розміру вибірки і коефіцієнта варіації нормального розподілу та параметра форми розподілу Вейбулла, що дає змогу визначити необхідну ймовірність безвідмовної роботи обладнання спеціального рухомого складу, яку треба задавати при прогнозуванні потреби в запасних частина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extBox 3" descr=""/>
          <p:cNvPicPr/>
          <p:nvPr/>
        </p:nvPicPr>
        <p:blipFill>
          <a:blip r:embed="rId1"/>
          <a:stretch/>
        </p:blipFill>
        <p:spPr>
          <a:xfrm>
            <a:off x="712800" y="219240"/>
            <a:ext cx="8004240" cy="4759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98360" y="709560"/>
            <a:ext cx="8858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виведено розрахункові формули з визначення потреби в запасних частинах для найбільш поширених закономірностей розподілу ресурсу вузлів і детал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нання спеціального рухомого склад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 одночасного й почергового варіантів введення її в експлуатацію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доведено, що використання гамма-відсоткового ресурсу замість середнього дає змогу з відповідною ймовірністю гарантувати достатню кількість запасних частин для усієї генеральної сукупності досліджуваних виробів, у тім числі з найгіршими умовами експлуатації обладнання спеціального рухомого складу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озроблено алгоритм та програмну реалізацію розрахунку на персональному комп’ютері, а також номограми для визначення потреби в запасних частинах при розподілі ресурсу вузлів і деталей обладнання спеціального рухомого складу за законами нормальним і Вейбулла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за результатами досліджень експлуатаційної надійності обладнання спеціального рухомого складу визначено показники його безвідмовності та ремонтопридатності, а також закономірності розподілу ресурсу основних вузлів і деталей, їх параметри, на основі яких за розробленою методикою розраховано потребу в запасних частина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48360" cy="4535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ймовірності безвідмовної роботи  від  параметра форми </a:t>
            </a:r>
            <a:r>
              <a:rPr b="0" i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 </a:t>
            </a: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розподілу Вейбулл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496200" cy="4756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гнозування потреби в запасних частинах за  гамма-відсотковим ресурсом (нормальний розподіл)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5585040" cy="2774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2360" y="6021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коефіцієнта гамма-відсоткового ресурсу 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</a:t>
            </a:r>
            <a:r>
              <a:rPr b="0" i="1" lang="ru-RU" sz="18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g</a:t>
            </a:r>
            <a:r>
              <a:rPr b="0" i="1" lang="uk-UA" sz="18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від коефіцієнта варіації 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V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ля нормального розподілу (а)   і параметра форми 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ля розподілу Вейбулла (б) при різних значеннях ймовірності безвідмовної роботи , %</a:t>
            </a:r>
            <a:br>
              <a:rPr sz="4000"/>
            </a:b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1908000" y="2908440"/>
            <a:ext cx="5475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377040" cy="4216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параметра масштабу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α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о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   параметра форми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ля розподілу  Вейбулла</a:t>
            </a:r>
            <a:br>
              <a:rPr sz="40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2:02:08Z</dcterms:created>
  <dc:creator>Customer</dc:creator>
  <dc:description/>
  <dc:language>en-US</dc:language>
  <cp:lastModifiedBy>BLACKEDITION</cp:lastModifiedBy>
  <cp:lastPrinted>2015-11-19T16:05:04Z</cp:lastPrinted>
  <dcterms:modified xsi:type="dcterms:W3CDTF">2015-11-19T19:14:42Z</dcterms:modified>
  <cp:revision>357</cp:revision>
  <dc:subject/>
  <dc:title>Слайд 1</dc:title>
</cp:coreProperties>
</file>