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444-090C-4C0D-9F2F-51681391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D45-59AD-4FF5-8C70-F52CA604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820-14E6-4FB0-BAC1-D002DCFA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D1B-8117-4D7D-9BA0-D6B493DF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D278-293F-4B8C-9CBD-08AF93E3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CD12-57BC-4626-8EEA-861E242A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4C79-DD80-4451-86D6-01742938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790E-E343-48E9-AB2B-68E58F2F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E2B8-E4D7-4D4E-9B3A-F879CCB8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2FF3-AF7E-41E3-9155-CDBA67AC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A8B0-DCE1-4642-8DBA-9DE891DE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C3E-85B0-4C21-8CAD-BF4FEFE9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6FAB-C4F1-4A70-8E7F-04B0738B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9F9E-6C23-4D3E-8CC4-FA44D7D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6388-B110-4033-87B4-4F55F51D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42A9-9569-49C7-A7BF-F564FA5B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C5E7-4992-459F-8C54-353B6C52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8809-F946-4334-B3BB-3CC17494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A5E26-FDA4-48BF-A390-D83054B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109E-427E-4224-90A0-42F0453C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9381-81DD-4244-B0FA-5275ABE8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7DF2-D0FE-4438-99EE-DF9DF9EB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372-EAA3-4F56-9B16-757D5C2E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5017-A10A-4CA0-BE31-9BEE61B8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41CC-C399-447C-83AD-EC5672A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23BAA-A7EF-4191-852A-058457F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9368C-AA6D-4AD0-A4EF-F0717C03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6CFC-4137-4003-AAAA-856AE8B3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0119-4342-47DB-997B-F921F0B9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CD8C-EB30-42A7-B090-A0DAA202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F3E45-9F44-4C69-AEBA-397CAEA9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1415E-5DE7-4B39-9085-66018C1B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403D2-5D76-41EE-9BB7-13163506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AE7-A722-4175-BE86-5ADE001B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408D-449A-4AB1-BAD7-1C750B89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B4712-AF7E-4A8C-BE47-38296488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C048-91E6-4EFD-9888-CDC5CDAE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6C627-487A-481B-B6E0-180CBCA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B288-0FE9-496D-8809-C16D0B2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6E289-6DE7-42FD-802F-33BA7090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6A180-0796-4DE8-A647-A6113F54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EF15-DC42-4F76-B248-2CE54BB2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39D90-C29B-4697-8B30-6B70B9B3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37199-19BB-4056-8FBB-6B7FAAE3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127-AA74-4A56-90FD-505A5B94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26B09-4618-4ED8-9B8B-1DFC2796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6AAAA-459B-4004-92C9-9C258943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A42ED-01DB-48D3-8B2D-64E5C58E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CE39-C7A7-4E78-A376-D54EEBCE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54815-A664-4C2D-A1E5-EFF38B66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02B5-904F-49F2-8836-52F11FB5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56458-D710-4116-BE90-DAD8291B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DD16-D0B6-4760-8BFB-374AD9EC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FC244-EE2B-408B-9161-67279236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BCA68-12EF-45D2-A00D-BAF837EC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7A5-2698-4F33-8C80-677E8D5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1149-70C3-4BF4-A77F-C9A7ED64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FBDDE-3681-4F49-BDF8-364A45F6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FF7D7-C914-437E-84F4-92A8D31D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3D7EC-21C2-48BF-AC21-C3A3D7B3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9F26D-D16C-4CE0-985E-50ACD07A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D7969-66BD-401D-AACA-15BD54D3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AB021-6CCA-486A-929E-AB931970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A1520-F277-4E27-89DC-F537C11D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F3AD-E87B-4DAD-9720-F6697113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92ABB-3FB2-44AC-8584-048940A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D0C-CA75-4E4A-9D03-CA3A011E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3E061-60B2-42AC-968B-85EBB141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AEEF8-FB1D-46C5-8220-D8CB8EC4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C20EA-F292-4853-B300-612E510E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76F39-4B54-40E2-8CC1-AA6EBF84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60132-8BF3-4C2E-BC89-D5F60354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554DE-420E-4E18-8C6A-8A7FF8DF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DAE82-1E96-4AE7-BF54-8C803605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6807E-9C05-46B7-8E83-E8AC0AB3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DACC8-842F-444A-BD0B-61C837B9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B3D28-BEC9-4A49-90C1-C38D1E9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245-6A9A-4E1D-92F5-578B1EB8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5549-CEFA-47D9-83D8-DDB0ADAF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3D9EC-6CC6-41F7-8C39-00FBC52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F9F64-18E6-4B0D-B985-B5E2538F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AF31F-0838-4BCA-8BD8-243DD081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E5BFA-200B-4B31-8266-FEFD73AD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AA4-5F6E-44CE-A133-1F354FE7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D999-319D-4372-8157-D36A91C9F850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C945-A1D4-47D8-A4B2-CDB0A69EF615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4F43-E1EB-4B28-AA2E-5CEFBFE83BC7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B4AE-AFD7-41A6-BE6F-FE50A0377CAF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3851-ECFE-4280-8B41-93A573B45A42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25D2-1D98-4BD9-A70E-CD270C5CFC3A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465E-5C98-4F2E-AA43-0BA3613BFE27}" type="slidenum">
              <a:rPr b="1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56760" y="189000"/>
            <a:ext cx="83041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br>
              <a:rPr sz="1800"/>
            </a:b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ультет машинобудування та транспорт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автомобілів та транспортного менеджменту</a:t>
            </a: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ерська робота на тему: </a:t>
            </a:r>
            <a:r>
              <a:rPr b="0" lang="uk-UA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ІДВИЩЕННЯ НАДІЙНОСТІ ОБЛАДНАННЯ СПЕЦІАЛЬНОГО РУХОМОГО СКЛАДУ ПРОГНОЗУВАННЯМ НОМЕНКЛАТУРИ ТА КІЛЬКОСТІ ЗАПАСНИХ ЧАСТИН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т.н., професор А.П.Поляков                                 .  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у викона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.С.Маріянко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а група 1АТ-14мн </a:t>
            </a: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2015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324000" y="833400"/>
            <a:ext cx="4047840" cy="39513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) нормальний розподіл                   б) розподіл Вейбулла</a:t>
            </a:r>
            <a:br>
              <a:rPr sz="2200"/>
            </a:br>
            <a:br>
              <a:rPr sz="2200"/>
            </a:b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лежність коефіцієнта потреби в запасних частинах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K</a:t>
            </a:r>
            <a:r>
              <a:rPr b="0" i="1" lang="uk-UA" sz="22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з 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від коефіцієнта варіації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V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і відносного часу прогнозу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в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15908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06276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84720" y="1197000"/>
            <a:ext cx="28800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реалiзацiї методу визначення рацiональної номенклатури та кількості запасних частин для проведення робіт з ТО і ремонту обладнання 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іального рухомого складу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672680" cy="4811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о визначення ймовірності безвідмовної роботи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317920" cy="54356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5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мограма для визначення  ймовірності безвідмовної роботи  та коефіцієнтів для нормального розподілу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3816360" cy="64609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219640" y="475920"/>
            <a:ext cx="33480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мограма для визначення ймовірності безвідмовної роботи  та коефіцієнтів і  при  розподілі Вейбулла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599080" cy="53276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4000" y="558936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лежність відносної похибки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</a:t>
            </a:r>
            <a:r>
              <a:rPr b="0" i="1" lang="uk-UA" sz="22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в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від параметра форми 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розподілу Вейбулла та відносного  часу прогнозу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t</a:t>
            </a:r>
            <a:r>
              <a:rPr b="0" i="1" lang="uk-UA" sz="22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в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при заміні розподілу Вейбулла експоненціальним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490680"/>
            <a:ext cx="8945640" cy="40906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72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ння результатів розрахунку кількості запасних частин за розробленою методикою і методикою ГОСНИТ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801720" y="4441680"/>
            <a:ext cx="80852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79280" y="692280"/>
            <a:ext cx="88567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1. В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у 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ики п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г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зув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ня 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би в з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их ч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и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х 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л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ичну 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ь з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з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ними ф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ми: 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ь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ь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их 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й 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 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й 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ши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; 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ь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ь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их 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шин; з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 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з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у 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у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у 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л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й 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й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ри; й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р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ь б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зв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ї 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б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и, 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т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ж ч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п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гн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зу, п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ний у ч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х г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мм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a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-в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i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c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тк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в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г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o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 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e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ур</a:t>
            </a:r>
            <a:r>
              <a:rPr b="0" lang="ru-RU" sz="21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у.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2. Рoзрoблeнa мeтoдикa визнaчeння пoтрeби в зaпacних чacтинaх, нa вiдмiну вiд icнуючих, врaхoвує зaлeжнicть пoкaзникiв нaдiйнocтi вiд пaрaмeтрiв тeхнiчнoгo cтaну oблaднaння cпeцiaльнoгo рухoмoгo cклaду, щo дaє змoгу утoчнити нoмeнклaтуру i нoрми витрaт зaпacних чacтин, cкoрoтивши нecтaчу дeфiцитних вузлiв i дeтaлeй нa 8-11 % i нaдлишoк дeтaлeй, якi з чacoм пeрeтвoрюютьcя нa нeлiквiди, нa 8-10 %.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ndara"/>
              </a:rPr>
              <a:t>3. Впрoвaджeння у вирoбництвo рoзрoблeнoї мeтoдики дacть змoгу зaбeзпeчити роботи з технічного обслуговування і ремонту oблaднaння cпeцiaльнoгo рухoмoгo cклaду дocтaтньoю кiлькicтю зaпacних чacтин. Пiдвищeнням кoeфiцiєнтa oпeрaтивнoї гoтoвнocтi нa 15 ‑ 16 % мoжнa збiльшити eфeктивнicть рoбoти oблaднaння нa 12 ‑ 13 %, пiдвищити йoгo прoдуктивнicть нa 16 - 17 %.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5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ndara"/>
              </a:rPr>
              <a:t>Висновк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Скругленный прямоугольник 3"/>
          <p:cNvSpPr/>
          <p:nvPr/>
        </p:nvSpPr>
        <p:spPr>
          <a:xfrm>
            <a:off x="539640" y="981000"/>
            <a:ext cx="82155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</a:t>
            </a:r>
            <a:br>
              <a:rPr sz="8000"/>
            </a:br>
            <a:r>
              <a:rPr b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вагу !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99840" y="1125360"/>
            <a:ext cx="8264520" cy="9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ідвищення експлуатаційної надійності обладнання спеціального рухомого складу шляхом розробки системного підходу і практичних рекомендацій з прогнозування кількісного і номенклатурного складу запасних частин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904840" y="333000"/>
            <a:ext cx="4043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 робот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Скругленный прямоугольник 7"/>
          <p:cNvSpPr/>
          <p:nvPr/>
        </p:nvSpPr>
        <p:spPr>
          <a:xfrm>
            <a:off x="2700360" y="2565360"/>
            <a:ext cx="4608360" cy="64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0"/>
          <p:cNvSpPr/>
          <p:nvPr/>
        </p:nvSpPr>
        <p:spPr>
          <a:xfrm>
            <a:off x="2700360" y="341280"/>
            <a:ext cx="4608360" cy="647640"/>
          </a:xfrm>
          <a:prstGeom prst="roundRect">
            <a:avLst>
              <a:gd name="adj" fmla="val 50000"/>
            </a:avLst>
          </a:prstGeom>
          <a:noFill/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1"/>
          <p:cNvSpPr/>
          <p:nvPr/>
        </p:nvSpPr>
        <p:spPr>
          <a:xfrm>
            <a:off x="2700360" y="4581360"/>
            <a:ext cx="4608360" cy="648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Заголовок 5"/>
          <p:cNvSpPr/>
          <p:nvPr/>
        </p:nvSpPr>
        <p:spPr>
          <a:xfrm>
            <a:off x="2771640" y="2565360"/>
            <a:ext cx="46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дослідженн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Заголовок 5"/>
          <p:cNvSpPr/>
          <p:nvPr/>
        </p:nvSpPr>
        <p:spPr>
          <a:xfrm>
            <a:off x="2771640" y="458136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 дослідженн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Объект 6"/>
          <p:cNvSpPr/>
          <p:nvPr/>
        </p:nvSpPr>
        <p:spPr>
          <a:xfrm>
            <a:off x="755640" y="342900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мірності зміни технічного стану обладнання спеціального рухомого складу, що вплив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итрати запасних частин у процесі їх експлуатації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Объект 6"/>
          <p:cNvSpPr/>
          <p:nvPr/>
        </p:nvSpPr>
        <p:spPr>
          <a:xfrm>
            <a:off x="776160" y="5373720"/>
            <a:ext cx="8209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цес експлуатації обладнання спеціального рухомого складу, що призводить до виникнення дефектів та відмов і визначає завдання прогнозування кількісного й номенклатурного складу запасних частин для підвищення експлуатаційної надійності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425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ОСЯГНЕННЯ ПОСТАВЛЕНОЇ МЕТИ НЕОБХІДНО ВИРІІШИТИ НАСТУПНІ ЧАСТКОВІ ЗАВДАННЯ ДОСЛІДЖЕННЯ: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79280" y="1915920"/>
            <a:ext cx="885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вчити й уточнити номенклатуру відмов обладнання спеціального рухомого складу під час експлуатації, встановити частку кожної з них у загальному числі відмов, розробити класифікацію запасних частин за законами розподілу ресурсу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ити методику визначення потреби в запасних частинах для обладнання спеціального рухомого складу з урахуванням закону розподілу ресурсу їх вузлів і деталей, яка б забезпечувала заданий рівень надійності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ґрунтувати коефіцієнт потреби в запасних частинах залежно від вимог до надійності обладнання спеціального рухомого складу у процесі експлуатації та коефіцієнт для визначення гамма-відсоткового ресурсу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значити економічну ефективність від впровадження методи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значення потреби в запасних частинах для обладнання спеціального рухомого склад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08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АУКОВА НОВИЗНА РОБОТИ: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78920" y="620640"/>
            <a:ext cx="87138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оретично обґрунтовано математичну модель, яка з урахуванням кількості однойменних деталей на одній машині, кількості однакових машин, закону розподілу вузлів і деталей та його параметрів, ймовірності безвідмовної роботи, а також часу прогнозу, поданого у частках гамма-відсоткового ресурсу, дає змогу гарантувати достатність кількості запасних частин для обладнання спеціального рухомого складу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істало подальшого розвитку обґрунтування коефіцієнта потреби в запасних частинах залежно від відносного часу прогнозу та коефіцієнта варіації нормального розподілу і параметра форми розподілу Вейбулла, за допомогою якого можна визначити потребу в запасних частинах обладнання спеціального рухомого складу у будь-якому інтервалі напрацюванн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ґрунтовано коефіцієнт для визначення гамма-відсоткового ресурсу, виведено залежність його від коефіцієнта варіації нормального розподілу і параметра форми розподілу Вейбулла за різних значень ймовірності безвідмовної роботи обладнання спеціального рухомого складу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имано залежність ймовірності безвідмовної роботи від довірчої ймовірності, розміру вибірки і коефіцієнта варіації нормального розподілу та параметра форми розподілу Вейбулла, що дає змогу визначити необхідну ймовірність безвідмовної роботи обладнання спеціального рухомого складу, яку треба задавати при прогнозуванні потреби в запасних частинах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extBox 3" descr=""/>
          <p:cNvPicPr/>
          <p:nvPr/>
        </p:nvPicPr>
        <p:blipFill>
          <a:blip r:embed="rId1"/>
          <a:stretch/>
        </p:blipFill>
        <p:spPr>
          <a:xfrm>
            <a:off x="712800" y="219240"/>
            <a:ext cx="8004240" cy="4759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198360" y="709560"/>
            <a:ext cx="8858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виведено розрахункові формули з визначення потреби в запасних частинах для найбільш поширених закономірностей розподілу ресурсу вузлів і детал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днання спеціального рухомого складу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 одночасного й почергового варіантів введення її в експлуатацію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доведено, що використання гамма-відсоткового ресурсу замість середнього дає змогу з відповідною ймовірністю гарантувати достатню кількість запасних частин для усієї генеральної сукупності досліджуваних виробів, у тім числі з найгіршими умовами експлуатації обладнання спеціального рухомого складу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озроблено алгоритм та програмну реалізацію розрахунку на персональному комп’ютері, а також номограми для визначення потреби в запасних частинах при розподілі ресурсу вузлів і деталей обладнання спеціального рухомого складу за законами нормальним і Вейбулла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за результатами досліджень експлуатаційної надійності обладнання спеціального рухомого складу визначено показники його безвідмовності та ремонтопридатності, а також закономірності розподілу ресурсу основних вузлів і деталей, їх параметри, на основі яких за розробленою методикою розраховано потребу в запасних частина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948360" cy="4535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лежність ймовірності безвідмовної роботи  від  параметра форми </a:t>
            </a:r>
            <a:r>
              <a:rPr b="0" i="1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 </a:t>
            </a: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розподілу Вейбулла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496200" cy="47563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гнозування потреби в запасних частинах за  гамма-відсотковим ресурсом (нормальний розподіл)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763640" y="115920"/>
            <a:ext cx="5585040" cy="27748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2360" y="6021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лежність коефіцієнта гамма-відсоткового ресурсу </a:t>
            </a: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</a:t>
            </a:r>
            <a:r>
              <a:rPr b="0" i="1" lang="ru-RU" sz="18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g</a:t>
            </a:r>
            <a:r>
              <a:rPr b="0" i="1" lang="uk-UA" sz="18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від коефіцієнта варіації </a:t>
            </a: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V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для нормального розподілу (а)   і параметра форми </a:t>
            </a:r>
            <a:r>
              <a:rPr b="0" i="1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для розподілу Вейбулла (б) при різних значеннях ймовірності безвідмовної роботи , %</a:t>
            </a:r>
            <a:br>
              <a:rPr sz="4000"/>
            </a:b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1908000" y="2908440"/>
            <a:ext cx="5475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377040" cy="42163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лежність параметра масштабу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α</a:t>
            </a:r>
            <a:r>
              <a:rPr b="0" i="1" lang="uk-UA" sz="2200" spc="-1" strike="noStrike" baseline="-25000">
                <a:solidFill>
                  <a:srgbClr val="262626"/>
                </a:solidFill>
                <a:latin typeface="Times New Roman"/>
                <a:ea typeface="Times New Roman"/>
              </a:rPr>
              <a:t>о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ід   параметра форми </a:t>
            </a:r>
            <a:r>
              <a:rPr b="0" i="1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</a:t>
            </a:r>
            <a:r>
              <a:rPr b="0" lang="uk-UA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для розподілу  Вейбулла</a:t>
            </a:r>
            <a:br>
              <a:rPr sz="40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2:02:08Z</dcterms:created>
  <dc:creator>Customer</dc:creator>
  <dc:description/>
  <dc:language>en-US</dc:language>
  <cp:lastModifiedBy>BLACKEDITION</cp:lastModifiedBy>
  <cp:lastPrinted>2015-11-19T16:05:04Z</cp:lastPrinted>
  <dcterms:modified xsi:type="dcterms:W3CDTF">2015-11-19T19:14:42Z</dcterms:modified>
  <cp:revision>357</cp:revision>
  <dc:subject/>
  <dc:title>Слайд 1</dc:title>
</cp:coreProperties>
</file>