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67-D5BB-41E1-8BB4-C86FFFB1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BF2-F2B1-4596-8A4F-7880540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7E7-3090-4E43-AED0-72F787DF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E97-40F3-4B46-A600-4D244A0F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977-8CD9-4B3F-A275-05A1F4D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020-30B1-487A-9088-4F8D739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DE8-EAD4-4BE6-890A-734FBEA7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CFA-5077-4D64-A64B-86D3D385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2BC-54B4-4ADD-911C-9272221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F14-C0DB-4CB3-8759-C685205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D43-27F2-4001-89A3-7E500C3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03D-7FF6-44D6-9157-6EA8F0E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9D70-5541-4B59-A871-12611525F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34000" y="438120"/>
            <a:ext cx="52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нницький національний технічних університ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8680" y="1268280"/>
            <a:ext cx="58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федра автомобілів та транспортного менеджмен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253520" y="2852640"/>
            <a:ext cx="66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досконалення методики діагностув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альмівної системи легкового автомобі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463120" y="1959120"/>
            <a:ext cx="41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ий матеріал д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гістерської кваліфікаційної робо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932720" y="414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ив: ст. гр. 1АТ-14м з/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качук Б.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797080" y="5013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ерівник: к.т.н., доц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шканов В. 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0760" y="60930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нниця – 2015 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222640" y="83016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акультет машинобудування та транспорт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900000" y="533520"/>
            <a:ext cx="77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і  характерні  види  нелінійності  характеристик  гальмівних  механізмів, обумовлені їх технічним стано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587520" y="1135080"/>
            <a:ext cx="8245440" cy="4405320"/>
            <a:chOff x="587520" y="1135080"/>
            <a:chExt cx="8245440" cy="4405320"/>
          </a:xfrm>
        </p:grpSpPr>
        <p:pic>
          <p:nvPicPr>
            <p:cNvPr id="131" name="Picture 3" descr=""/>
            <p:cNvPicPr/>
            <p:nvPr/>
          </p:nvPicPr>
          <p:blipFill>
            <a:blip r:embed="rId1"/>
            <a:srcRect l="15225" t="0" r="31483" b="4402"/>
            <a:stretch/>
          </p:blipFill>
          <p:spPr>
            <a:xfrm>
              <a:off x="587520" y="1170000"/>
              <a:ext cx="3206520" cy="43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"/>
            <p:cNvPicPr/>
            <p:nvPr/>
          </p:nvPicPr>
          <p:blipFill>
            <a:blip r:embed="rId2"/>
            <a:srcRect l="16317" t="0" r="27934" b="4921"/>
            <a:stretch/>
          </p:blipFill>
          <p:spPr>
            <a:xfrm>
              <a:off x="5511960" y="1135080"/>
              <a:ext cx="3321000" cy="43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Прямоугольник 4"/>
          <p:cNvSpPr/>
          <p:nvPr/>
        </p:nvSpPr>
        <p:spPr>
          <a:xfrm>
            <a:off x="755640" y="5570640"/>
            <a:ext cx="38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інійність характеристик, обумовлена змінюванням характеру розподілу питомого тиску в контакті накладка-гальмовий барабан в процесі загальмовуванн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5245200" y="5540400"/>
            <a:ext cx="3719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інійність характеристики, обувлена нерівномірним зношуваннясм поверхні гальмового барабана (овальність) чи порушенням технології розточуванн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8599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863640" y="37296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ливості  реалізації  характеристик  гальмівних  механізмів,  виходячи  з  умов зчеплення  колеса  з  опорною поверхнею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3924000" cy="4505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611280" y="56516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лив на гальмівну характеристику нормальної складової навантаження на колес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Объект 45056"/>
          <p:cNvGraphicFramePr/>
          <p:nvPr/>
        </p:nvGraphicFramePr>
        <p:xfrm>
          <a:off x="4235400" y="1413000"/>
          <a:ext cx="4876920" cy="23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Объект 450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35400" y="1413000"/>
                    <a:ext cx="487692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45064"/>
          <p:cNvGraphicFramePr/>
          <p:nvPr/>
        </p:nvGraphicFramePr>
        <p:xfrm>
          <a:off x="4248000" y="3860640"/>
          <a:ext cx="4795920" cy="151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Объект 450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48000" y="3860640"/>
                    <a:ext cx="47959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763640" y="565200"/>
            <a:ext cx="60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значення гальмівного шляху автомобіл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Объект 3"/>
          <p:cNvGraphicFramePr/>
          <p:nvPr/>
        </p:nvGraphicFramePr>
        <p:xfrm>
          <a:off x="1914480" y="1125360"/>
          <a:ext cx="53150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125360"/>
                    <a:ext cx="53150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Прямоугольник 4"/>
          <p:cNvSpPr/>
          <p:nvPr/>
        </p:nvSpPr>
        <p:spPr>
          <a:xfrm>
            <a:off x="1388160" y="32446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гальмівний момен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Объект 6"/>
          <p:cNvGraphicFramePr/>
          <p:nvPr/>
        </p:nvGraphicFramePr>
        <p:xfrm>
          <a:off x="3622680" y="3716280"/>
          <a:ext cx="2085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2680" y="3716280"/>
                    <a:ext cx="2085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Прямоугольник 10"/>
          <p:cNvSpPr/>
          <p:nvPr/>
        </p:nvSpPr>
        <p:spPr>
          <a:xfrm>
            <a:off x="1187280" y="4376880"/>
            <a:ext cx="695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омент інерції колеса описується наступним апроксимуючим поліномо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Объект 12"/>
          <p:cNvGraphicFramePr/>
          <p:nvPr/>
        </p:nvGraphicFramePr>
        <p:xfrm>
          <a:off x="3395520" y="5013360"/>
          <a:ext cx="270540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5013360"/>
                    <a:ext cx="27054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1042920" y="476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орівняння результату приведення даних стендови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пробувань автомобіля Daewoo Lanos до умов дорожніх випробуван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519200" y="1052640"/>
            <a:ext cx="6105600" cy="39034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966960" y="4653000"/>
            <a:ext cx="8142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поточні значення приводного зусилля на педалі, одержані під час дорожніх випробувань;     2 – характеристика приводного зусилля на педалі, отримана за результатами апроксимації експериментальних даних; 3 – поточні значення швидкості автомобіля, визначені експериментально; 4 – поточні значення швидкості автомобіля; 5 – поточні значення сповільнення автомобіля, одержані експериментально; 6 – поточні значення сповільнення автомобіля, розраховані за допомогою математичної моделі; 7 – результати розрахунку гальмівного шляху у графічній формі; 8 – порівняння результатів експериментальних та теоретичних досліджень з основною приведеною похибкою по відношенні до результату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8536320" y="1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042920" y="4762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новні висновки по роботі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539640" y="1125360"/>
            <a:ext cx="8334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результатами експериментальних і статистичних досліджень процесу гальмування на роликових гальмівних стендах силового типу розроблені наукові основи та методику автоматизованого визначення характеристик: приведення в дію гальмівної педалі в режимі екстреного гальмування; гальмівного механізма кожного колеса автомобіля з гідроприводом як в режимі екстреного, так і повільного гальмування; системи "колесо - опорна поверхня". Характеристики дозволяють прогнозувати показники ефективності гальмування такого автомобіля у стані завантаження до повної маси як на стенді, так і на дорожньому покритті з заданими значеннями коефіцієнта зчепленн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роблено математичну модель гальмування легкового автомобіля на дорожньому покритті за характеристиками, що визначені на стенді, з врахуванням його завантаження, параметрів режиму гальмування та зчіпних властивостей дорожньої поверхні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використанням визначених на стенді характеристик та математичної моделі процесу гальмування автомобіля розроблено методику, яка дозволяє на підставі випробувань конкретного автомобіля на роликовому гальмівному стенді силового типу в спорядженому стані прогнозувати його гальмівні властивості для умов гальмування з повною масою як на стенді, так і на дорозі, що забезпечує можливість випробовувати автомобілі з гідроприводом у спорядженому стані, при цьому похибка прогнозу не перевищує 5%, що менше від нормативних вимог (не більше 10%), встановлених в ДСТУ 3333-96 та ДСТУ 3649-97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зроблені рекомендації щодо використання методики діагностування гальмівних систем на виробництві. Науково обґрунтовані і сформульовані вимоги до діагностичного обладнання, необхідного для реалізації запропонованої методики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41440" y="407520"/>
            <a:ext cx="8351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38200" indent="-1438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а робот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досконалення методики діагностування гальмівних систем легкових автомобілів на роликових гальмівних стендах силового типу за рахунок підвищення ступеню адекватності одержуваних результат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 результатів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42800" y="1430640"/>
            <a:ext cx="842508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б’єкт дослідження –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процеси діагностування гальмівних систем автомобілів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        методами дорожніх і стендови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едмет дослідження – </a:t>
            </a:r>
            <a:r>
              <a:rPr b="0" lang="uk-UA" sz="1400" spc="-1" strike="noStrike">
                <a:solidFill>
                  <a:srgbClr val="0070c0"/>
                </a:solidFill>
                <a:latin typeface="Arial"/>
              </a:rPr>
              <a:t>методи і засоби вдосконалення процесу діагностування, спрямовані                    на підвищення адекватності результатів діагностування автомобілів на стендах з результатами його випробувань на дороз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етоди дослідження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результатами системного аналізу сучасних методів і засобів діагностування гальмівних систем визначені шляхи вдосконалення методики діагностування на роликових гальмівних стендах. Дослідження процесів гальмування автомобіля на стенді та на дорозі виконані за результатами аналізу експериментальних даних з застосуванням методів математичної статистики для подальшого прогнозування процесів гальмування в інших умова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дання дослідження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. Розробити методику прогнозування гальмівних властивостей автомобілів повної маси за результатами випробувань автомобілів спорядженої мас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. Розробити математичну модель гальмування легкового автомобіля на дорожньому покритті за характеристиками, що визначені на стенді, з врахуванням його завантаження, параметрів режиму гальмування та зчіпних властивостей дорожньої поверхн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3. Провести визначення адекватності результатів діагностування, одержуваних за допомогою стендових випробувань, до результатів дорожніх випробу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4. Розробити практичні рекомендації для застосування запропонованої методики діагностування гальмівної системи і вимог до засобів для її реалізації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68360" y="1001880"/>
            <a:ext cx="822636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 результатами експериментальних і статистичних досліджень процесу гальмування на роликових гальмівних стендах силового типу удосконалені наукові основи та методики визначення характеристик приведення в дію гальмівної педалі в режимі екстреного гальмування, гальмівного механізму кожного колеса ДТЗ з гідроприводом як в режимі екстреного, так і повільного гальмування, системи "колесо - опорна поверхня"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– 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досконалено наукові основи емпіричного визначення характеристик гальмівної системи за результатами стендових випробувань ДТЗ і прогнозування цих характеристик для умов стендових і дорожніх випробува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актичне значення одержаних результаті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лені і експериментально перевірені методики для емпіричного визначення характеристик привода і гальмівних механізмів у процесі випробувань легкового автомобіля, за якими можна прогнозувати показники ефективності гальмування цього ж автомобіля як на стенді, так і на дорожньому покритті з заданими значеннями коефіцієнта зчепленн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лені рекомендації щодо впровадження зазначених методик на виробництві для діагностування гальмівних систем, науково обґрунтовані і сформульовані вимоги до діагностичного обладнання для можливості реалізації запропонованої методик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161000" y="262080"/>
            <a:ext cx="702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та недоліки дорожніх та стендових методів випробуван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00560" y="1003320"/>
            <a:ext cx="7160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дорожнього метод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дповідає режиму роботи гальмівної систем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мовах експлуатації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86520" y="1612800"/>
            <a:ext cx="8142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доліки дорожнього метод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остійний контроль стану ділянки дороги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високі метрологічні вимоги до засобів вимірю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проблеми нор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не вказують на несправність, а вказують на відповідніст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бо невідповідність показників ефективності гальмування вимогам безпеки дорожнього рух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07760" y="2828880"/>
            <a:ext cx="6628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ереваги стендових метод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орна поверхня не потребує спеціального обслуговування і підтри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ють локалізувати відкази або відшукати несправност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ють кількісно оцінювати нерівномірність гальмівних сил коліс осі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44400" y="3973680"/>
            <a:ext cx="7862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доліки стендових метод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уднощі у вирішенні проблеми нормування двох і більше взаємопов'язани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 взаємодоповнюючих параметрів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зультати випробувань ДТЗ у двох станах завантаження не завжди адекватні між собою і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асто неадекватні результатам дорожніх випробувань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плив на результат діагностування невідповідності режимів діагностування і експлуатації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втомобілі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   опорні поверхні мають характеристики, відмінні від характеристик дорожнього покритт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900000" y="68580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араметри, які необхідно контролювати під час періодичних випробувань робочих гальмівних систе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235160" y="1844640"/>
            <a:ext cx="80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Узагальнюючі параметри, які характеризують гальмівну систему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258920" y="2552760"/>
            <a:ext cx="6192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гальмівний шлях автомобіля, який характеризує ефективність галь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відхилення від коридору руху встановленої ширини, яке характеризує стійкість автомобіля в процесі гальмува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- витрата енергії або робочого тіла в процесі гальмування, а також за відсутності гальмування, що характеризує конструктивні характеристики привода і його герметичність в експлуатації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 тривалість досягнення в приводі встановленого тиску робочого тіла і його максимальне значення, що характеризує продуктивність привода та його технічний стан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3"/>
          <p:cNvSpPr/>
          <p:nvPr/>
        </p:nvSpPr>
        <p:spPr>
          <a:xfrm>
            <a:off x="1643040" y="542160"/>
            <a:ext cx="58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еобхідні вимірювані параметри діагностування гальмівних систем автомобілів на роликових стендах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5640" y="1268280"/>
            <a:ext cx="77281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У процесі діагностування гальмівних систем автомобілів на роликових стендах у відповідності до ДСТУ 3649-97 вимірюють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ксимальні значення гальмівних си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які досягаються на кожному з коліс автомобіля, за умови відсутності їх блокування або за умови не перевершування приводного зусилля на органі керування p</a:t>
            </a:r>
            <a:r>
              <a:rPr b="0" lang="uk-UA" sz="1400" spc="-1" strike="noStrike" baseline="-25000">
                <a:solidFill>
                  <a:srgbClr val="000000"/>
                </a:solidFill>
                <a:latin typeface="Arial"/>
              </a:rPr>
              <a:t>п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ормативного значе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ривалість спрацьов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для кожного колеса, а для ДТЗ береться значення для того з коліс, виконавчий механізм якого знаходиться у найгірших умовах – тобто береться найбільше з визначених значенн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максимальне значення приводного зусилля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екстреного режиму гальмування темп приведення не повинен перевершувати 0,2 с; для режиму плавного приведення темп приведення знаходиться в межах від 2 до 10 с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еличину відносного ковзання коліс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застосовується для запобігання блокуванню коліс на роликах стенда або сигналізації про його виникнення для того, щоб уникнути небажаного місцевого зношування протектора шини в процесі випробувань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5640" y="5283360"/>
            <a:ext cx="783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ля того, щоб оцінити ефективність гальмування автомобіля в процесі гальмування за результатами стендових випробувань необхідно, виходячи з виміряних на стенді параметрів і характеристик, визначити розрахунковим шляхом такі параметри, як гальмівний шлях автомобіля або його сповільнення в функції часу, або сумарну гальмівну силу в функції часу, приведену до умов гальмування на дорожньому покритті з заданими характеристикам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3"/>
          <p:cNvSpPr/>
          <p:nvPr/>
        </p:nvSpPr>
        <p:spPr>
          <a:xfrm>
            <a:off x="1643040" y="542160"/>
            <a:ext cx="58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алізація удосконаленої методики діагностування гальмівних систем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684360" y="1916280"/>
            <a:ext cx="8148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не зусилля у функції часу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значення на стенді поточних значень гальмівних сил в залежності від приводного зусилл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антаження на кожне колесо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 спрацьовування для кожного коле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3"/>
          <p:cNvSpPr/>
          <p:nvPr/>
        </p:nvSpPr>
        <p:spPr>
          <a:xfrm>
            <a:off x="1668600" y="1452960"/>
            <a:ext cx="58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имірюється на роликовому стенді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3"/>
          <p:cNvSpPr/>
          <p:nvPr/>
        </p:nvSpPr>
        <p:spPr>
          <a:xfrm>
            <a:off x="1817640" y="3537360"/>
            <a:ext cx="58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Розраховується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684360" y="3860640"/>
            <a:ext cx="8148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  Апроксимується зареєстроване приводне зусилл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 Визначається зусилля прокручування незагальмованого колеса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алізуєма гальмівна сила, в залежності від значень коефіцієнта зчеплення, нормальних реакцій та відносного ковзання коліс при гальмуванні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альмівні моменти на колесах автомобіл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нозована величина гальмівного шляху автомобіл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1187280" y="105264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иск в приводі можна описати експоненціальною залежністю в функції часу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Объект 3"/>
          <p:cNvGraphicFramePr/>
          <p:nvPr/>
        </p:nvGraphicFramePr>
        <p:xfrm>
          <a:off x="3492360" y="1557360"/>
          <a:ext cx="183852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18385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4"/>
          <p:cNvGraphicFramePr/>
          <p:nvPr/>
        </p:nvGraphicFramePr>
        <p:xfrm>
          <a:off x="684360" y="1989000"/>
          <a:ext cx="38088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3808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5"/>
          <p:cNvGraphicFramePr/>
          <p:nvPr/>
        </p:nvGraphicFramePr>
        <p:xfrm>
          <a:off x="395280" y="2419200"/>
          <a:ext cx="304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419200"/>
                    <a:ext cx="304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24"/>
          <p:cNvSpPr/>
          <p:nvPr/>
        </p:nvSpPr>
        <p:spPr>
          <a:xfrm>
            <a:off x="30240" y="1965600"/>
            <a:ext cx="81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         - максимальне значення приводного зусилля на органі керування або тиску в приводі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715320" y="2129760"/>
            <a:ext cx="82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мпіричні коефіцієнти,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аються із умов додержування заданого максимального зусилля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мпу його наростання в часі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611280" y="476280"/>
            <a:ext cx="79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значення тиску в гідроприводі гальмівної системи автомобіл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844560" y="6002280"/>
            <a:ext cx="80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 – тиск у приводі гальм коліс другої осі за результатами вимірювань. 2 – результат апроксимації залежності тиску у приводі гальм коліс другої осі у функції час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9" descr=""/>
          <p:cNvPicPr/>
          <p:nvPr/>
        </p:nvPicPr>
        <p:blipFill>
          <a:blip r:embed="rId7"/>
          <a:stretch/>
        </p:blipFill>
        <p:spPr>
          <a:xfrm>
            <a:off x="2050920" y="2814480"/>
            <a:ext cx="52786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867852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24000" y="476280"/>
            <a:ext cx="859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актерні  точки  типових  гальмівних  діаграм  автомобілів  з  гідравлічним  приводо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rcRect l="16067" t="0" r="30323" b="4282"/>
          <a:stretch/>
        </p:blipFill>
        <p:spPr>
          <a:xfrm>
            <a:off x="4743360" y="1268280"/>
            <a:ext cx="3951360" cy="41356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1"/>
          <p:cNvSpPr/>
          <p:nvPr/>
        </p:nvSpPr>
        <p:spPr>
          <a:xfrm>
            <a:off x="4830840" y="5573880"/>
            <a:ext cx="41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истика з вакуумним підсилювачем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rcRect l="15162" t="0" r="28965" b="3822"/>
          <a:stretch/>
        </p:blipFill>
        <p:spPr>
          <a:xfrm>
            <a:off x="826920" y="1300320"/>
            <a:ext cx="3422880" cy="4113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2"/>
          <p:cNvSpPr/>
          <p:nvPr/>
        </p:nvSpPr>
        <p:spPr>
          <a:xfrm>
            <a:off x="539640" y="5403960"/>
            <a:ext cx="410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истика без апаратів трансформації тиску в приводі (вакуумних підсилювачів, обмежувачів тиску, автоматичних регуляторів гальмівних си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3:37:56Z</dcterms:created>
  <dc:creator>User</dc:creator>
  <dc:description/>
  <dc:language>en-US</dc:language>
  <cp:lastModifiedBy>Dbnfkbq</cp:lastModifiedBy>
  <dcterms:modified xsi:type="dcterms:W3CDTF">2015-11-19T23:25:30Z</dcterms:modified>
  <cp:revision>104</cp:revision>
  <dc:subject/>
  <dc:title>Слайд 1</dc:title>
</cp:coreProperties>
</file>