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8.jpeg" ContentType="image/jpeg"/>
  <Override PartName="/ppt/media/image5.png" ContentType="image/png"/>
  <Override PartName="/ppt/media/image11.png" ContentType="image/png"/>
  <Override PartName="/ppt/media/image17.png" ContentType="image/png"/>
  <Override PartName="/ppt/media/image16.png" ContentType="image/png"/>
  <Override PartName="/ppt/media/image15.png" ContentType="image/png"/>
  <Override PartName="/ppt/media/image1.jpeg" ContentType="image/jpe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14.wmf" ContentType="image/x-wmf"/>
  <Override PartName="/ppt/media/image6.png" ContentType="image/png"/>
  <Override PartName="/ppt/media/image7.jpeg" ContentType="image/jpeg"/>
  <Override PartName="/ppt/media/image1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190BD-AF25-4DEA-8705-6435C62D8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15B32-6A50-4C0E-A437-9B3C96136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78F110-C093-42DA-96A4-0B6F1E349B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946F2F-D20C-46B0-8B6C-85120A2598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98BC00-8ED2-4C42-8833-0D487F39A2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C60E4D-BAD9-4C2C-BAAE-C04F1F2926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6E98D7-4BD3-43D5-B8BA-CA3634F77C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07EC71-30C6-4C29-9D8E-24718A2322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F38F25-792C-4093-8E10-23281774AB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BFD409-18ED-4866-A65D-B33E5EF7EC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4C49FD-6CB4-4C1F-9988-972677A9A0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1627D-BF85-429B-A604-F6C6A97A8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AADD0-DC3C-4593-A577-F4A67ED5E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D3238-F285-411E-B4D6-D8EFE099F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B2B66-F6F0-4E31-83AB-D113DB267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CF13D-2212-4AE8-93BF-3DB48056D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047EC-38F6-4C66-814C-6A0A4A002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1F13A-352C-4600-89C2-F1A8F691D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BB821-D4C6-473E-80BB-62764D660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4B1AA-1BB3-403C-99BC-3BA9C5DC4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9AB17-ACF8-44E1-81A8-01321BADC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4FD9D-1FA2-4C16-960E-863FB0BD4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04B45-F728-41FB-AF93-DE45AFD90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0B1A2-90FF-456D-9923-D52181C14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D77FE-4DEB-4F70-9857-4400BD069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110D36-F371-4712-A148-118B38E10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2EE1DF-2A62-473B-A2C4-D5FBF3472E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A6D72B-3862-4DC3-B45C-3EAC75679E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D7D15C-ADA9-4401-88E2-06E7CE5A19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BB29E9-FA8C-42FC-81C5-945ECFDBA0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46E272-1109-440E-88BC-1A78121032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346BD-EB18-4ACF-B736-89CA7A4A7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932E2E-C427-4864-A783-212F22DFAC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7425F2-A48D-46E7-8376-424D18A29A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57E81-7D5F-4E72-98DC-F7BD9C07D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7F0B0-C8A6-431E-A89C-FF82DEF0E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2EF6BA-438B-4EF5-AAF5-FF4D929E00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FFCDF6-DFC8-47D2-9103-F53596235B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712EBF-B5DB-4119-B797-F688D72190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E87653-1537-4E5B-A42A-30C983CA0A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004833-12AA-4B3E-B9A8-7348454E39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9FB94D-12FB-4084-B9D7-5CF11A7E4C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7FE51-9666-474A-893B-E76EF56AE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2B00CC-B388-48B3-8D21-B8D9B39D71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B84290-90AD-4B6F-ACC3-A86DFB4F83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AE6887-1E61-4A3F-87F1-15A34CC57D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3AE6F6-673B-4022-8616-8320A3829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9557E8-95C7-4897-9EA5-CFEA5E4E87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2B48EB-F49C-456E-8029-64B372354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ACCCB1-2F61-4E41-8ABF-E502246169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C1C44F-6813-4E78-8374-247DBD84F7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ECE7E5-31D8-41EF-8E76-6DC0A4E17E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3EAFD2-20AB-481A-B624-A9428A5896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766B8-B428-4570-84A2-43438A657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727B2B-0383-4089-87AB-9CAC68BE0B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6ADEF9-D733-4734-94F8-272CBB965D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D8A3B0-1E48-45B1-9AD3-9D424EC884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FA7C5B-FE44-4AEF-80D5-AAEDDDF2BE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94BD6D-8030-4F7B-A203-8F31F84FE1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8DF1E-66E6-4CBA-8E8F-AA37F751AF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16788D-3D30-4441-9C3B-C4637D5A68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168D2A-A24D-4EF4-83F4-1249C98923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13BB32-3348-449F-9EA9-A27549A244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3FD0EA-AD88-4E62-88D9-CEBB90B71A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CBF6A-10D8-4354-81E5-86DA6F3D6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93DD95-5578-4E8C-A595-A2CE426E8F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46F07C-BF6B-4BF3-A4A5-F2BC3667E8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357F0A-8E84-4DC0-9355-66716B695C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5551B6-4F29-48F8-A087-AA3F76B557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D7C6A8-3FFA-462F-A3B3-A9044C51AA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76D638-DBBC-4647-A9E6-0A4C9FAAA0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CDAB31-59B0-4528-97AD-2851800CBC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171F0F-9582-4602-AF10-FAC39CC09D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F211BC-B4ED-4E0F-A64E-C96838A918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7A132F-6D21-4B2C-93EC-988A126D40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C5D30-B31F-47FD-ACED-F5ED40445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DD1A84-6148-4E8F-99CB-7A2C3E647D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4127A9-626D-4DB5-A4C0-7452F8C8C5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EB815F-2ABD-46D9-A78A-E1DB2F4DA8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0FDB35-5BFE-42EF-85FF-60C4A955F5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59BECB-6A5B-4018-8AEA-3C06A38CC7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FEDA95-9930-432A-A028-D0AC247CE3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BABF6C-230C-4CBC-8910-271412A87C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AF5717-4977-4E8C-BE43-6833D15D33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7BF431-5EEB-4CBA-BDA5-2F5DCA24E0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4DE92-24D8-40FC-AEE1-0A0C5829C8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C03B5-FF05-4AB0-BC38-87400A005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EC5A4D-9D8F-44F1-BB07-622A276D26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87CFCA-426B-4125-A0F6-857D4F3E38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3BF3F0-17D9-4F7A-A1C3-86C7FFEED5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4A724C-66F9-464E-ADC1-D86D76687F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5027E6-2A11-43AB-9C1A-C3E3890FD3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25743C-ECD5-4231-876D-D15CCA3CF8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520455-C603-491D-B0A3-E8940A48D7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F157BF-86B7-41EA-B795-32C3CFC52E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67A440-511D-4812-B5F3-DEA75D5400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BB109B-0352-432F-8B83-AA31083311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F8776-A1E5-487A-8253-24E1FCC36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EAA882-81B8-4959-A358-1416919D0D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9338B9-9181-498F-A4DA-A07AB382A8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159C3B-705E-4D8E-95E6-70EDB25557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C17D4B-C446-4896-90EB-3EB8377853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5845DC-45DA-41CA-B3C6-F65691FF9E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35B38F-0352-492D-91FF-3A41C3F66E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D8CA75-EE31-4A3A-9903-2702095DD4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BD0EB5-3A42-4C3A-AFDC-A67A64AF1D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270017-47E0-4407-9EAD-AC70C03203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676d"/>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676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FD7661-0701-429D-87A8-A959884FFB2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A4B8-A973-4A4C-B41A-F7361DEA5A5D}"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FEBE-8D9D-4BB0-AC02-D0D96BA37ABC}"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CAB2-CA57-4409-B698-A9C1E1720DB2}"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Click to edit the outline text format</a:t>
            </a:r>
            <a:endParaRPr b="0" lang="en-US" sz="3200" spc="-1" strike="noStrike">
              <a:solidFill>
                <a:srgbClr val="c9c2d1"/>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Second Outline Level</a:t>
            </a:r>
            <a:endParaRPr b="0" lang="en-US" sz="3200" spc="-1" strike="noStrike">
              <a:solidFill>
                <a:srgbClr val="c9c2d1"/>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Third Outline Level</a:t>
            </a:r>
            <a:endParaRPr b="0" lang="en-US" sz="3200" spc="-1" strike="noStrike">
              <a:solidFill>
                <a:srgbClr val="c9c2d1"/>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Fourth Outline Level</a:t>
            </a:r>
            <a:endParaRPr b="0" lang="en-US" sz="3200" spc="-1" strike="noStrike">
              <a:solidFill>
                <a:srgbClr val="c9c2d1"/>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Fifth Outline Level</a:t>
            </a:r>
            <a:endParaRPr b="0" lang="en-US" sz="3200" spc="-1" strike="noStrike">
              <a:solidFill>
                <a:srgbClr val="c9c2d1"/>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Sixth Outline Level</a:t>
            </a:r>
            <a:endParaRPr b="0" lang="en-US" sz="3200" spc="-1" strike="noStrike">
              <a:solidFill>
                <a:srgbClr val="c9c2d1"/>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c2d1"/>
                </a:solidFill>
                <a:latin typeface="Franklin Gothic Book"/>
              </a:rPr>
              <a:t>Seventh Outline Level</a:t>
            </a:r>
            <a:endParaRPr b="0" lang="en-US" sz="3200" spc="-1" strike="noStrike">
              <a:solidFill>
                <a:srgbClr val="c9c2d1"/>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9c2d1"/>
                </a:solidFill>
                <a:latin typeface="Franklin Gothic Medium"/>
              </a:rPr>
              <a:t>Click to edit the title text format</a:t>
            </a:r>
            <a:endParaRPr b="0" lang="en-US" sz="3600" spc="-1" strike="noStrike">
              <a:solidFill>
                <a:srgbClr val="c9c2d1"/>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A305-2CF1-45B3-9F9C-7492E23DCBDB}"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EED4-E3B8-413D-B251-F23C6281A043}"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8708-A5A9-4BFA-B310-EDF8FF4470A6}"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DE70-A59D-439C-BE52-15CCA3511ED7}"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DC2D-9EEC-4E4D-8CEB-2C9A835360FF}"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Click to edit the outline text format</a:t>
            </a:r>
            <a:endParaRPr b="0" lang="en-US" sz="3200" spc="-1" strike="noStrike">
              <a:solidFill>
                <a:srgbClr val="69676d"/>
              </a:solidFill>
              <a:latin typeface="Franklin Gothic Book"/>
            </a:endParaRPr>
          </a:p>
          <a:p>
            <a:pPr lvl="1" marL="743040" indent="-28584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cond Outline Level</a:t>
            </a:r>
            <a:endParaRPr b="0" lang="en-US" sz="3200" spc="-1" strike="noStrike">
              <a:solidFill>
                <a:srgbClr val="69676d"/>
              </a:solidFill>
              <a:latin typeface="Franklin Gothic Book"/>
            </a:endParaRPr>
          </a:p>
          <a:p>
            <a:pPr lvl="2" marL="11430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Third Outline Level</a:t>
            </a:r>
            <a:endParaRPr b="0" lang="en-US" sz="3200" spc="-1" strike="noStrike">
              <a:solidFill>
                <a:srgbClr val="69676d"/>
              </a:solidFill>
              <a:latin typeface="Franklin Gothic Book"/>
            </a:endParaRPr>
          </a:p>
          <a:p>
            <a:pPr lvl="3" marL="1600200" indent="-228600">
              <a:spcBef>
                <a:spcPts val="799"/>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ourth Outline Level</a:t>
            </a:r>
            <a:endParaRPr b="0" lang="en-US" sz="3200" spc="-1" strike="noStrike">
              <a:solidFill>
                <a:srgbClr val="69676d"/>
              </a:solidFill>
              <a:latin typeface="Franklin Gothic Book"/>
            </a:endParaRPr>
          </a:p>
          <a:p>
            <a:pPr lvl="4" marL="2057400" indent="-228600">
              <a:spcBef>
                <a:spcPts val="799"/>
              </a:spcBef>
              <a:buClr>
                <a:srgbClr val="ceb96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Fifth Outline Level</a:t>
            </a:r>
            <a:endParaRPr b="0" lang="en-US" sz="3200" spc="-1" strike="noStrike">
              <a:solidFill>
                <a:srgbClr val="69676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ixth Outline Level</a:t>
            </a:r>
            <a:endParaRPr b="0" lang="en-US" sz="3200" spc="-1" strike="noStrike">
              <a:solidFill>
                <a:srgbClr val="69676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76d"/>
                </a:solidFill>
                <a:latin typeface="Franklin Gothic Book"/>
              </a:rPr>
              <a:t>Seventh Outline Level</a:t>
            </a:r>
            <a:endParaRPr b="0" lang="en-US" sz="3200" spc="-1" strike="noStrike">
              <a:solidFill>
                <a:srgbClr val="69676d"/>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Franklin Gothic Medium"/>
              </a:rPr>
              <a:t>Click to edit the title text format</a:t>
            </a:r>
            <a:endParaRPr b="0" lang="en-US" sz="3600" spc="-1" strike="noStrike">
              <a:solidFill>
                <a:srgbClr val="69676d"/>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3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CE89F-856D-4A81-895C-F36CF0B95046}" type="slidenum">
              <a:rPr b="0" lang="ru-RU" sz="1200" spc="-1" strike="noStrike">
                <a:solidFill>
                  <a:srgbClr val="b5a3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oleObject" Target="../embeddings/oleObject2.bin"/><Relationship Id="rId6" Type="http://schemas.openxmlformats.org/officeDocument/2006/relationships/image" Target="../media/image14.wmf"/><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2" descr=""/>
          <p:cNvPicPr/>
          <p:nvPr/>
        </p:nvPicPr>
        <p:blipFill>
          <a:blip r:embed="rId1"/>
          <a:stretch/>
        </p:blipFill>
        <p:spPr>
          <a:xfrm>
            <a:off x="-6480" y="-6480"/>
            <a:ext cx="9156960" cy="1676520"/>
          </a:xfrm>
          <a:prstGeom prst="rect">
            <a:avLst/>
          </a:prstGeom>
          <a:ln w="0">
            <a:noFill/>
          </a:ln>
        </p:spPr>
      </p:pic>
      <p:sp>
        <p:nvSpPr>
          <p:cNvPr id="400" name="Rectangle 4"/>
          <p:cNvSpPr/>
          <p:nvPr/>
        </p:nvSpPr>
        <p:spPr>
          <a:xfrm>
            <a:off x="2514600" y="4038480"/>
            <a:ext cx="6095880" cy="1676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Виконав: ст. гр. РТ-14м з/в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Демчук Т.О.</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Керівник: к.т.н., доцент</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Криночкін Р.В.</a:t>
            </a:r>
            <a:endParaRPr b="0" lang="en-US" sz="2400" spc="-1" strike="noStrike">
              <a:solidFill>
                <a:srgbClr val="000000"/>
              </a:solidFill>
              <a:latin typeface="Times New Roman"/>
            </a:endParaRPr>
          </a:p>
        </p:txBody>
      </p:sp>
      <p:sp>
        <p:nvSpPr>
          <p:cNvPr id="401" name="Rectangle 5"/>
          <p:cNvSpPr/>
          <p:nvPr/>
        </p:nvSpPr>
        <p:spPr>
          <a:xfrm>
            <a:off x="628560" y="1905120"/>
            <a:ext cx="8325000" cy="21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Rectangle 6"/>
          <p:cNvSpPr/>
          <p:nvPr/>
        </p:nvSpPr>
        <p:spPr>
          <a:xfrm>
            <a:off x="3669840" y="6024600"/>
            <a:ext cx="217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Вінниця – 2015</a:t>
            </a:r>
            <a:endParaRPr b="0" lang="en-US" sz="2400" spc="-1" strike="noStrike">
              <a:solidFill>
                <a:srgbClr val="000000"/>
              </a:solidFill>
              <a:latin typeface="Times New Roman"/>
            </a:endParaRPr>
          </a:p>
        </p:txBody>
      </p:sp>
      <p:sp>
        <p:nvSpPr>
          <p:cNvPr id="403" name="Rectangle 6"/>
          <p:cNvSpPr/>
          <p:nvPr/>
        </p:nvSpPr>
        <p:spPr>
          <a:xfrm flipV="1" rot="10800000">
            <a:off x="445680" y="2418840"/>
            <a:ext cx="82882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Радіовимірювальні сенсори магнітного поля на основі транзисторних структур з від</a:t>
            </a:r>
            <a:r>
              <a:rPr b="1" lang="ru-RU" sz="2000" spc="-1" strike="noStrike">
                <a:solidFill>
                  <a:srgbClr val="000000"/>
                </a:solidFill>
                <a:latin typeface="Times New Roman"/>
              </a:rPr>
              <a:t>’</a:t>
            </a:r>
            <a:r>
              <a:rPr b="1" lang="uk-UA" sz="2000" spc="-1" strike="noStrike">
                <a:solidFill>
                  <a:srgbClr val="000000"/>
                </a:solidFill>
                <a:latin typeface="Times New Roman"/>
              </a:rPr>
              <a:t>ємним опоро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Прямоугольник 3"/>
          <p:cNvSpPr/>
          <p:nvPr/>
        </p:nvSpPr>
        <p:spPr>
          <a:xfrm>
            <a:off x="1395360" y="617400"/>
            <a:ext cx="719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Наукова новизна одержаних результатів</a:t>
            </a:r>
            <a:endParaRPr b="0" lang="en-US" sz="2000" spc="-1" strike="noStrike">
              <a:solidFill>
                <a:srgbClr val="000000"/>
              </a:solidFill>
              <a:latin typeface="Times New Roman"/>
            </a:endParaRPr>
          </a:p>
        </p:txBody>
      </p:sp>
      <p:sp>
        <p:nvSpPr>
          <p:cNvPr id="437" name="Rectangle 1"/>
          <p:cNvSpPr/>
          <p:nvPr/>
        </p:nvSpPr>
        <p:spPr>
          <a:xfrm>
            <a:off x="774720" y="1614960"/>
            <a:ext cx="7886520" cy="40564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1. Вперше розроблено магніточастотні перетворювачі на основі сенсорів Холла, які на відміну від існуючих дають можливість розрахувати їх повний опір та основні параметри залежно від зміни напруги живлення і керування.</a:t>
            </a:r>
            <a:endParaRPr b="0" lang="en-US" sz="2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2. Отримано нові аналітичні вирази для опису частотних залежностей дійсної та уявної складових повного опору, що забезпечують можливість оцінювати вплив індукції магнітного поля на частотні перетворювачі.</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1"/>
          <p:cNvSpPr/>
          <p:nvPr/>
        </p:nvSpPr>
        <p:spPr>
          <a:xfrm flipV="1" rot="10800000">
            <a:off x="519120" y="448920"/>
            <a:ext cx="77407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ВИСНОВКИ</a:t>
            </a:r>
            <a:endParaRPr b="0" lang="en-US" sz="2000" spc="-1" strike="noStrike">
              <a:solidFill>
                <a:srgbClr val="000000"/>
              </a:solidFill>
              <a:latin typeface="Times New Roman"/>
            </a:endParaRPr>
          </a:p>
        </p:txBody>
      </p:sp>
      <p:sp>
        <p:nvSpPr>
          <p:cNvPr id="439" name="Rectangle 2"/>
          <p:cNvSpPr/>
          <p:nvPr/>
        </p:nvSpPr>
        <p:spPr>
          <a:xfrm>
            <a:off x="372960" y="1359360"/>
            <a:ext cx="8580600" cy="48394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 магістерській кваліфікаційній роботі розв’язана задача підвищення завадостійкості, чутливості та точності радіовимірювальних сенсорів магнітного поля на основі сенсорів Холла. Огляд наукової літератури показав, що на сьогодні дана задача залишається розв’язаною частково, для окремих типів приладів. Причому більшість існуючих на сьогодні схем орієнтована на покращення швидкодії, чутливість розглядається рідко.</a:t>
            </a:r>
            <a:endParaRPr b="0" lang="en-US" sz="16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Досліджено радіовимірювальні сенсори магнітного поля з активним індуктивним елементом. Встановлено, що </a:t>
            </a:r>
            <a:r>
              <a:rPr b="0" lang="uk-UA" sz="1600" spc="-1" strike="noStrike">
                <a:solidFill>
                  <a:srgbClr val="000000"/>
                </a:solidFill>
                <a:latin typeface="Times New Roman"/>
                <a:ea typeface="Times New Roman"/>
              </a:rPr>
              <a:t>виникнення індуктивних властивостей в біполярних структурах зв'язано з кінцевою швидкістю руху носіїв заря­ду у базовій області. Показана можливість перетворення магнітної індукції у частотний сигнал на основі гібридної інтегральної схеми, яка складається з двох біполярних і польового тран­зисторів, а також магиіточутливого елемента Холла. Отримані аналітичні залежності функції перетворення та рівняння чутливості. Теоретичні та експериментальні дослі­дження показали, що чутливість розробленого перетворювача магнітного поля складає 300 Гц/мТ.</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1052280"/>
            <a:ext cx="8229600" cy="43210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9676d"/>
              </a:solidFill>
              <a:latin typeface="Franklin Gothic Book"/>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9676d"/>
              </a:solidFill>
              <a:latin typeface="Franklin Gothic Book"/>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69676d"/>
                </a:solidFill>
                <a:latin typeface="Edwardian Script ITC"/>
              </a:rPr>
              <a:t>Дякую за увагу!!!</a:t>
            </a:r>
            <a:endParaRPr b="0" lang="en-US" sz="4800" spc="-1" strike="noStrike">
              <a:solidFill>
                <a:srgbClr val="69676d"/>
              </a:solidFill>
              <a:latin typeface="Franklin Gothic Book"/>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2" descr=""/>
          <p:cNvPicPr/>
          <p:nvPr/>
        </p:nvPicPr>
        <p:blipFill>
          <a:blip r:embed="rId1"/>
          <a:stretch/>
        </p:blipFill>
        <p:spPr>
          <a:xfrm>
            <a:off x="347760" y="1127160"/>
            <a:ext cx="8272440" cy="1116000"/>
          </a:xfrm>
          <a:prstGeom prst="rect">
            <a:avLst/>
          </a:prstGeom>
          <a:ln w="0">
            <a:noFill/>
          </a:ln>
        </p:spPr>
      </p:pic>
      <p:sp>
        <p:nvSpPr>
          <p:cNvPr id="405" name="Прямоугольник 8"/>
          <p:cNvSpPr/>
          <p:nvPr/>
        </p:nvSpPr>
        <p:spPr>
          <a:xfrm>
            <a:off x="665280" y="216000"/>
            <a:ext cx="80326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Радіовимірювальні сенсори магнітного поля на основі транзисторних структур з від</a:t>
            </a:r>
            <a:r>
              <a:rPr b="1" lang="ru-RU" sz="2000" spc="-1" strike="noStrike">
                <a:solidFill>
                  <a:srgbClr val="000000"/>
                </a:solidFill>
                <a:latin typeface="Times New Roman"/>
              </a:rPr>
              <a:t>’</a:t>
            </a:r>
            <a:r>
              <a:rPr b="1" lang="uk-UA" sz="2000" spc="-1" strike="noStrike">
                <a:solidFill>
                  <a:srgbClr val="000000"/>
                </a:solidFill>
                <a:latin typeface="Times New Roman"/>
              </a:rPr>
              <a:t>ємним опором</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6" name="Rectangle 10"/>
          <p:cNvSpPr/>
          <p:nvPr/>
        </p:nvSpPr>
        <p:spPr>
          <a:xfrm>
            <a:off x="263520" y="2341440"/>
            <a:ext cx="8543880" cy="155412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Об’єктом дослідження</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є </a:t>
            </a:r>
            <a:r>
              <a:rPr b="0" lang="uk-UA" sz="1600" spc="-1" strike="noStrike">
                <a:solidFill>
                  <a:srgbClr val="000000"/>
                </a:solidFill>
                <a:latin typeface="Times New Roman"/>
              </a:rPr>
              <a:t>процеси перетворення магнітної індукції в частоту в магніто-частотних перетворювачах на основі сенсорів Холла.</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Предметом дослідження</a:t>
            </a:r>
            <a:r>
              <a:rPr b="1" lang="uk-UA"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є </a:t>
            </a:r>
            <a:r>
              <a:rPr b="0" lang="uk-UA" sz="1600" spc="-1" strike="noStrike">
                <a:solidFill>
                  <a:srgbClr val="000000"/>
                </a:solidFill>
                <a:latin typeface="Times New Roman"/>
              </a:rPr>
              <a:t>показники  точності та чутливості перетворювачів.</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7" name="Rectangle 11"/>
          <p:cNvSpPr/>
          <p:nvPr/>
        </p:nvSpPr>
        <p:spPr>
          <a:xfrm>
            <a:off x="263520" y="3754080"/>
            <a:ext cx="8543880" cy="2770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Розв’язуються такі </a:t>
            </a:r>
            <a:r>
              <a:rPr b="1" i="1" lang="uk-UA" sz="1600" spc="-1" strike="noStrike">
                <a:solidFill>
                  <a:srgbClr val="000000"/>
                </a:solidFill>
                <a:latin typeface="Times New Roman"/>
                <a:ea typeface="Times New Roman"/>
              </a:rPr>
              <a:t>задачі</a:t>
            </a:r>
            <a:r>
              <a:rPr b="1" lang="uk-U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1) проаналізувати існуючі сенсори магнітного поля та обґрунтувати переваги перетворювачів індукції магнітного поля з частотним виходом по відношенню до існуючих;</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2) побудувати математичні моделі магніточастотних перетворювачів на основі біполярних транзисторів та здійснити їх аналіз;</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 </a:t>
            </a:r>
            <a:r>
              <a:rPr b="0" lang="uk-UA" sz="1600" spc="-1" strike="noStrike">
                <a:solidFill>
                  <a:srgbClr val="000000"/>
                </a:solidFill>
                <a:latin typeface="Times New Roman"/>
              </a:rPr>
              <a:t>3) здійснити метрологічну оцінку похибок вимірювання магнітного поля та розглянути можливість їх застосування при вирішенні прикладних задач.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Прямоугольник 3"/>
          <p:cNvSpPr/>
          <p:nvPr/>
        </p:nvSpPr>
        <p:spPr>
          <a:xfrm>
            <a:off x="1187280" y="260280"/>
            <a:ext cx="7705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имірювальний перетворювач магнітного поля</a:t>
            </a:r>
            <a:endParaRPr b="0" lang="en-US" sz="2000" spc="-1" strike="noStrike">
              <a:solidFill>
                <a:srgbClr val="000000"/>
              </a:solidFill>
              <a:latin typeface="Times New Roman"/>
            </a:endParaRPr>
          </a:p>
        </p:txBody>
      </p:sp>
      <p:pic>
        <p:nvPicPr>
          <p:cNvPr id="409" name="Picture 2" descr=""/>
          <p:cNvPicPr/>
          <p:nvPr/>
        </p:nvPicPr>
        <p:blipFill>
          <a:blip r:embed="rId1"/>
          <a:stretch/>
        </p:blipFill>
        <p:spPr>
          <a:xfrm>
            <a:off x="1457280" y="1343160"/>
            <a:ext cx="3492720" cy="2628720"/>
          </a:xfrm>
          <a:prstGeom prst="rect">
            <a:avLst/>
          </a:prstGeom>
          <a:ln w="0">
            <a:noFill/>
          </a:ln>
        </p:spPr>
      </p:pic>
      <p:pic>
        <p:nvPicPr>
          <p:cNvPr id="410" name="Picture 3" descr=""/>
          <p:cNvPicPr/>
          <p:nvPr/>
        </p:nvPicPr>
        <p:blipFill>
          <a:blip r:embed="rId2"/>
          <a:stretch/>
        </p:blipFill>
        <p:spPr>
          <a:xfrm>
            <a:off x="5327640" y="2946240"/>
            <a:ext cx="2844720" cy="843120"/>
          </a:xfrm>
          <a:prstGeom prst="rect">
            <a:avLst/>
          </a:prstGeom>
          <a:ln w="0">
            <a:noFill/>
          </a:ln>
        </p:spPr>
      </p:pic>
      <p:sp>
        <p:nvSpPr>
          <p:cNvPr id="411" name="Прямоугольник 4"/>
          <p:cNvSpPr/>
          <p:nvPr/>
        </p:nvSpPr>
        <p:spPr>
          <a:xfrm>
            <a:off x="1008000" y="4797360"/>
            <a:ext cx="7740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1 напівпровідникова робоча область; 2 - зовнішня ізолююча область; 3, 4, 5, 6 - чотири струмові кон­такти; 7, 8, 9, 10 - чотири потенційні контакти; 11 - внутрішня ізолююча область.</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Прямоугольник 3"/>
          <p:cNvSpPr/>
          <p:nvPr/>
        </p:nvSpPr>
        <p:spPr>
          <a:xfrm>
            <a:off x="1042920" y="260280"/>
            <a:ext cx="741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хема вимірювального перетворювача магнітного поля</a:t>
            </a:r>
            <a:endParaRPr b="0" lang="en-US" sz="2000" spc="-1" strike="noStrike">
              <a:solidFill>
                <a:srgbClr val="000000"/>
              </a:solidFill>
              <a:latin typeface="Times New Roman"/>
            </a:endParaRPr>
          </a:p>
        </p:txBody>
      </p:sp>
      <p:pic>
        <p:nvPicPr>
          <p:cNvPr id="413" name="Picture 2" descr=""/>
          <p:cNvPicPr/>
          <p:nvPr/>
        </p:nvPicPr>
        <p:blipFill>
          <a:blip r:embed="rId1"/>
          <a:stretch/>
        </p:blipFill>
        <p:spPr>
          <a:xfrm>
            <a:off x="2513160" y="1160640"/>
            <a:ext cx="5011560" cy="2916000"/>
          </a:xfrm>
          <a:prstGeom prst="rect">
            <a:avLst/>
          </a:prstGeom>
          <a:ln w="0">
            <a:noFill/>
          </a:ln>
        </p:spPr>
      </p:pic>
      <p:sp>
        <p:nvSpPr>
          <p:cNvPr id="414" name="Прямоугольник 4"/>
          <p:cNvSpPr/>
          <p:nvPr/>
        </p:nvSpPr>
        <p:spPr>
          <a:xfrm flipV="1" rot="10800000">
            <a:off x="1042560" y="5139360"/>
            <a:ext cx="7993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1 - підкладка; 2, 3, 4 та 5 - чотири плеча хрестовидної фігури, яка утворена перехрещенням двох напівпровідникових областей вертикальних перетворювачів Холла; 6, 7, 8 та 9 - струмові контакти; 10, 11, 12 та 13 - по­тенційні контакти; 14 - напівпровідникова область горизонтального перетворювача Холла.</a:t>
            </a:r>
            <a:endParaRPr b="0" lang="en-US" sz="1600" spc="-1" strike="noStrike">
              <a:solidFill>
                <a:srgbClr val="000000"/>
              </a:solidFill>
              <a:latin typeface="Times New Roman"/>
            </a:endParaRPr>
          </a:p>
        </p:txBody>
      </p:sp>
      <p:sp>
        <p:nvSpPr>
          <p:cNvPr id="415" name="Прямоугольник 5"/>
          <p:cNvSpPr/>
          <p:nvPr/>
        </p:nvSpPr>
        <p:spPr>
          <a:xfrm>
            <a:off x="2808360" y="4029120"/>
            <a:ext cx="48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                                               б)</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Прямоугольник 1"/>
          <p:cNvSpPr/>
          <p:nvPr/>
        </p:nvSpPr>
        <p:spPr>
          <a:xfrm>
            <a:off x="701640" y="398520"/>
            <a:ext cx="785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хема частотного магнітного перетворювача </a:t>
            </a:r>
            <a:endParaRPr b="0" lang="en-US" sz="2000" spc="-1" strike="noStrike">
              <a:solidFill>
                <a:srgbClr val="000000"/>
              </a:solidFill>
              <a:latin typeface="Times New Roman"/>
            </a:endParaRPr>
          </a:p>
        </p:txBody>
      </p:sp>
      <p:pic>
        <p:nvPicPr>
          <p:cNvPr id="417" name="Picture 1" descr="без інд 2"/>
          <p:cNvPicPr/>
          <p:nvPr/>
        </p:nvPicPr>
        <p:blipFill>
          <a:blip r:embed="rId1"/>
          <a:stretch/>
        </p:blipFill>
        <p:spPr>
          <a:xfrm>
            <a:off x="1143000" y="1479600"/>
            <a:ext cx="6751800" cy="403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
          <p:cNvSpPr/>
          <p:nvPr/>
        </p:nvSpPr>
        <p:spPr>
          <a:xfrm>
            <a:off x="190440" y="1036080"/>
            <a:ext cx="40165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Теоретичні і експериментальні залежності частоти генерації від магнітної індукції</a:t>
            </a:r>
            <a:endParaRPr b="0" lang="en-US" sz="1600" spc="-1" strike="noStrike">
              <a:solidFill>
                <a:srgbClr val="000000"/>
              </a:solidFill>
              <a:latin typeface="Times New Roman"/>
            </a:endParaRPr>
          </a:p>
        </p:txBody>
      </p:sp>
      <p:pic>
        <p:nvPicPr>
          <p:cNvPr id="419" name="Picture 2" descr="Рис 2"/>
          <p:cNvPicPr/>
          <p:nvPr/>
        </p:nvPicPr>
        <p:blipFill>
          <a:blip r:embed="rId1"/>
          <a:stretch/>
        </p:blipFill>
        <p:spPr>
          <a:xfrm>
            <a:off x="409680" y="1749600"/>
            <a:ext cx="3628800" cy="2884320"/>
          </a:xfrm>
          <a:prstGeom prst="rect">
            <a:avLst/>
          </a:prstGeom>
          <a:ln w="0">
            <a:noFill/>
          </a:ln>
        </p:spPr>
      </p:pic>
      <p:sp>
        <p:nvSpPr>
          <p:cNvPr id="42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21" name="Object 3"/>
          <p:cNvGraphicFramePr/>
          <p:nvPr/>
        </p:nvGraphicFramePr>
        <p:xfrm>
          <a:off x="592200" y="5145120"/>
          <a:ext cx="3301920" cy="725400"/>
        </p:xfrm>
        <a:graphic>
          <a:graphicData uri="http://schemas.openxmlformats.org/presentationml/2006/ole">
            <p:oleObj r:id="rId2" spid="">
              <p:embed/>
              <p:pic>
                <p:nvPicPr>
                  <p:cNvPr id="422" name="Object 3" descr=""/>
                  <p:cNvPicPr/>
                  <p:nvPr/>
                </p:nvPicPr>
                <p:blipFill>
                  <a:blip r:embed="rId3"/>
                  <a:stretch/>
                </p:blipFill>
                <p:spPr>
                  <a:xfrm>
                    <a:off x="592200" y="5145120"/>
                    <a:ext cx="3301920" cy="725400"/>
                  </a:xfrm>
                  <a:prstGeom prst="rect">
                    <a:avLst/>
                  </a:prstGeom>
                  <a:ln w="0">
                    <a:noFill/>
                  </a:ln>
                </p:spPr>
              </p:pic>
            </p:oleObj>
          </a:graphicData>
        </a:graphic>
      </p:graphicFrame>
      <p:pic>
        <p:nvPicPr>
          <p:cNvPr id="423" name="Picture 6" descr="Рис 2"/>
          <p:cNvPicPr/>
          <p:nvPr/>
        </p:nvPicPr>
        <p:blipFill>
          <a:blip r:embed="rId4"/>
          <a:stretch/>
        </p:blipFill>
        <p:spPr>
          <a:xfrm>
            <a:off x="5083200" y="1785960"/>
            <a:ext cx="3697200" cy="2738520"/>
          </a:xfrm>
          <a:prstGeom prst="rect">
            <a:avLst/>
          </a:prstGeom>
          <a:ln w="0">
            <a:noFill/>
          </a:ln>
        </p:spPr>
      </p:pic>
      <p:sp>
        <p:nvSpPr>
          <p:cNvPr id="424" name="Прямоугольник 6"/>
          <p:cNvSpPr/>
          <p:nvPr/>
        </p:nvSpPr>
        <p:spPr>
          <a:xfrm>
            <a:off x="4645080" y="1128600"/>
            <a:ext cx="4308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Залежність чутливості  перетворювача від магнітної індукції</a:t>
            </a:r>
            <a:endParaRPr b="0" lang="en-US" sz="1600" spc="-1" strike="noStrike">
              <a:solidFill>
                <a:srgbClr val="000000"/>
              </a:solidFill>
              <a:latin typeface="Times New Roman"/>
            </a:endParaRPr>
          </a:p>
        </p:txBody>
      </p:sp>
      <p:sp>
        <p:nvSpPr>
          <p:cNvPr id="425"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26" name="Object 7"/>
          <p:cNvGraphicFramePr/>
          <p:nvPr/>
        </p:nvGraphicFramePr>
        <p:xfrm>
          <a:off x="4791240" y="4743360"/>
          <a:ext cx="4162320" cy="1724040"/>
        </p:xfrm>
        <a:graphic>
          <a:graphicData uri="http://schemas.openxmlformats.org/presentationml/2006/ole">
            <p:oleObj r:id="rId5" spid="">
              <p:embed/>
              <p:pic>
                <p:nvPicPr>
                  <p:cNvPr id="427" name="Object 7" descr=""/>
                  <p:cNvPicPr/>
                  <p:nvPr/>
                </p:nvPicPr>
                <p:blipFill>
                  <a:blip r:embed="rId6"/>
                  <a:stretch/>
                </p:blipFill>
                <p:spPr>
                  <a:xfrm>
                    <a:off x="4791240" y="4743360"/>
                    <a:ext cx="4162320" cy="172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Прямоугольник 3"/>
          <p:cNvSpPr/>
          <p:nvPr/>
        </p:nvSpPr>
        <p:spPr>
          <a:xfrm>
            <a:off x="811080" y="398520"/>
            <a:ext cx="785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хема частотного магнітного перетворювача</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429" name="Picture 1" descr="Без інд 3"/>
          <p:cNvPicPr/>
          <p:nvPr/>
        </p:nvPicPr>
        <p:blipFill>
          <a:blip r:embed="rId1"/>
          <a:stretch/>
        </p:blipFill>
        <p:spPr>
          <a:xfrm>
            <a:off x="1870200" y="1603440"/>
            <a:ext cx="5281560" cy="390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
          <p:cNvSpPr/>
          <p:nvPr/>
        </p:nvSpPr>
        <p:spPr>
          <a:xfrm>
            <a:off x="519120" y="420120"/>
            <a:ext cx="39067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Теоретичні і експериментальні залежності</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частоти генерації від магнітної індукції</a:t>
            </a:r>
            <a:endParaRPr b="0" lang="en-US" sz="1600" spc="-1" strike="noStrike">
              <a:solidFill>
                <a:srgbClr val="000000"/>
              </a:solidFill>
              <a:latin typeface="Times New Roman"/>
            </a:endParaRPr>
          </a:p>
        </p:txBody>
      </p:sp>
      <p:pic>
        <p:nvPicPr>
          <p:cNvPr id="431" name="Picture 2" descr="Рис 2"/>
          <p:cNvPicPr/>
          <p:nvPr/>
        </p:nvPicPr>
        <p:blipFill>
          <a:blip r:embed="rId1"/>
          <a:stretch/>
        </p:blipFill>
        <p:spPr>
          <a:xfrm>
            <a:off x="592200" y="1384200"/>
            <a:ext cx="3651120" cy="3432240"/>
          </a:xfrm>
          <a:prstGeom prst="rect">
            <a:avLst/>
          </a:prstGeom>
          <a:ln w="0">
            <a:noFill/>
          </a:ln>
        </p:spPr>
      </p:pic>
      <p:sp>
        <p:nvSpPr>
          <p:cNvPr id="432" name="Rectangle 4"/>
          <p:cNvSpPr/>
          <p:nvPr/>
        </p:nvSpPr>
        <p:spPr>
          <a:xfrm flipV="1" rot="10800000">
            <a:off x="5265360" y="392040"/>
            <a:ext cx="36147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алежність чутливості перетворювача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ід магнітної індукції</a:t>
            </a:r>
            <a:endParaRPr b="0" lang="en-US" sz="1600" spc="-1" strike="noStrike">
              <a:solidFill>
                <a:srgbClr val="000000"/>
              </a:solidFill>
              <a:latin typeface="Times New Roman"/>
            </a:endParaRPr>
          </a:p>
        </p:txBody>
      </p:sp>
      <p:pic>
        <p:nvPicPr>
          <p:cNvPr id="433" name="Picture 5" descr="Рис 2"/>
          <p:cNvPicPr/>
          <p:nvPr/>
        </p:nvPicPr>
        <p:blipFill>
          <a:blip r:embed="rId2"/>
          <a:stretch/>
        </p:blipFill>
        <p:spPr>
          <a:xfrm>
            <a:off x="5046840" y="1347840"/>
            <a:ext cx="3760560" cy="350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Прямоугольник 3"/>
          <p:cNvSpPr/>
          <p:nvPr/>
        </p:nvSpPr>
        <p:spPr>
          <a:xfrm>
            <a:off x="884160" y="353880"/>
            <a:ext cx="7667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Електрична схема перетворювача</a:t>
            </a:r>
            <a:endParaRPr b="0" lang="en-US" sz="2000" spc="-1" strike="noStrike">
              <a:solidFill>
                <a:srgbClr val="000000"/>
              </a:solidFill>
              <a:latin typeface="Times New Roman"/>
            </a:endParaRPr>
          </a:p>
        </p:txBody>
      </p:sp>
      <p:pic>
        <p:nvPicPr>
          <p:cNvPr id="435" name="Picture 2" descr="без інд 1"/>
          <p:cNvPicPr/>
          <p:nvPr/>
        </p:nvPicPr>
        <p:blipFill>
          <a:blip r:embed="rId1"/>
          <a:stretch/>
        </p:blipFill>
        <p:spPr>
          <a:xfrm>
            <a:off x="1724040" y="1406520"/>
            <a:ext cx="6332400" cy="446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5-11-09T23:22:36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