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38.png" ContentType="image/png"/>
  <Override PartName="/ppt/media/image12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31.wmf" ContentType="image/x-wmf"/>
  <Override PartName="/ppt/media/image40.png" ContentType="image/png"/>
  <Override PartName="/ppt/media/image8.wmf" ContentType="image/x-wmf"/>
  <Override PartName="/ppt/media/image9.wmf" ContentType="image/x-wmf"/>
  <Override PartName="/ppt/media/image39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DC5-8777-4D21-BE6A-58872E97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148-64D0-4E9D-BCE0-C4C89A1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A2E-F831-49D7-B519-9A7EA130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B11-CC01-4636-A94A-DFD0465B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C29-19D1-48E5-8E34-7F0F10DC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398-46CC-407F-823F-2DDB91F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2B6-1800-4C44-B442-E0EDECCD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432-E9FA-418D-A7A0-2ABFA932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D8F-4948-42B4-AA98-E0901B6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594-EE30-492E-83AC-2D5020C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ACB-6B4C-4318-BDE3-F2B476A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9CC-3E53-400F-9A1C-BA96DFD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E8FC-9F11-4304-ADF7-39D2334B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60280"/>
            <a:ext cx="784872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адіотехн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а дослідження аналогових автогенераторів радіовимірювальних сигналів спеціальної форм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приладах із від’ємним оп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 за спеціальн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7.05090101 – Радіотехні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1РТ-14м  Заріцький В.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к.т.н., доц., доцент каф. РТ Семенов А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0720" y="108720"/>
            <a:ext cx="79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 І ПЕРСПЕКТИВИ РОЗВИТКУ ТЕОРІЇ Й ПРАКТИКИ ГЕНЕРА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934920"/>
            <a:ext cx="559908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7680" y="659520"/>
            <a:ext cx="52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блиця 1 – Порівняння основних вітчизняних аналогових генераторі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414360" y="3814920"/>
            <a:ext cx="444492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5400" y="5804640"/>
            <a:ext cx="52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унок 1 – Величина коефіцієнту нелінійних спотворень на різних частот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3"/>
          <a:stretch/>
        </p:blipFill>
        <p:spPr>
          <a:xfrm>
            <a:off x="6012000" y="1654200"/>
            <a:ext cx="2768400" cy="1994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4"/>
          <a:stretch/>
        </p:blipFill>
        <p:spPr>
          <a:xfrm>
            <a:off x="6084720" y="3621240"/>
            <a:ext cx="2845080" cy="199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4240" y="5596920"/>
            <a:ext cx="29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Історичні етапи розви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ітчизняних і закордонних аналогов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діовимірювальних генераторі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2320" y="115200"/>
            <a:ext cx="89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КТРИЧНО-КЕРОВАНИЙ УВЧ АВТОГЕНЕРАТОР НА БІПОЛЯРНО-ПОЛЬОВ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НЗИСТОРНІЙ СТРУКТУРІ З ВІД'ЄМНИМ ОП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133360" cy="222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758880"/>
            <a:ext cx="31813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940360" y="901800"/>
          <a:ext cx="29242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901800"/>
                    <a:ext cx="29242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50920" y="2793240"/>
            <a:ext cx="82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синусоїдальних колива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440" y="3114000"/>
            <a:ext cx="46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апроксимації статичної ВАХ та від'ємної провідн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3357720"/>
          <a:ext cx="2923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357720"/>
                    <a:ext cx="2923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360" y="3789360"/>
          <a:ext cx="473400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360" y="3789360"/>
                    <a:ext cx="4734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01440" y="334908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932360" y="3328920"/>
          <a:ext cx="1666800" cy="67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360" y="3328920"/>
                    <a:ext cx="1666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89880" y="3284640"/>
          <a:ext cx="61884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89880" y="3284640"/>
                    <a:ext cx="618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0920" y="452196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першої гармоніки струму ТС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00720" y="4292640"/>
          <a:ext cx="430524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00720" y="4292640"/>
                    <a:ext cx="4305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20400" y="5228640"/>
            <a:ext cx="37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мплітудне диференціальне рівняння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24480" y="5013360"/>
          <a:ext cx="429552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24480" y="5013360"/>
                    <a:ext cx="4295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4760" y="5961960"/>
            <a:ext cx="34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мплітуда стаціонарних коливань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92800" y="5734080"/>
          <a:ext cx="389556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92800" y="5734080"/>
                    <a:ext cx="3895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10872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КТРИЧНО-КЕРОВАНИЙ ГЕНЕРАТОР ЛІНІЙНО-ЗМІННОЇ НАПР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520" y="534960"/>
            <a:ext cx="358776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17800" y="404640"/>
            <a:ext cx="2266920" cy="22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61040" y="763560"/>
          <a:ext cx="273204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763560"/>
                    <a:ext cx="27320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95280" y="264888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лінійно-змінної напр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480" y="322488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 формування лінійної ділянки напруг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067280" y="2924280"/>
          <a:ext cx="30002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924280"/>
                    <a:ext cx="3000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24000" y="3933720"/>
            <a:ext cx="3828960" cy="242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572000" y="3784680"/>
            <a:ext cx="3735360" cy="262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39360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Результати моделювання генератора лінійно-змінної напруги у програмі MathCad 11.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49536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152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ТОР ПРЯМОКУТНИХ ІМПУЛЬСІВ НА ПОЛЬОВІЙ ТС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2800440" cy="244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692280"/>
            <a:ext cx="3706920" cy="2246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88000" y="1125360"/>
            <a:ext cx="2497320" cy="110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292356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прямокутних імпульс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8920" y="3212280"/>
            <a:ext cx="48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для визначення тривалості паузи і тривалості імпуль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73280" y="3506760"/>
          <a:ext cx="343836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3280" y="3506760"/>
                    <a:ext cx="3438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8920" y="3429000"/>
          <a:ext cx="345780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8920" y="3429000"/>
                    <a:ext cx="3457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08000" y="4149720"/>
            <a:ext cx="3033720" cy="2116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319560" y="4221000"/>
            <a:ext cx="2476440" cy="186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6084720" y="4221000"/>
            <a:ext cx="2457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307920"/>
            <a:ext cx="84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Генеровані прямокутні імпульси, побудовані у MathCad 11.0, та осцилограми вихідного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8720" y="11520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ЧАСТОТНИЙ ГЕНЕРАТОР НА ОСНОВІ ПТС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28760" y="565200"/>
            <a:ext cx="6267600" cy="180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08120" y="2445480"/>
            <a:ext cx="576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 багаточастотного генератора на основі ПТС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14680" y="2793960"/>
            <a:ext cx="581004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624924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Залежності активної та реактивної складових повного опору ПТСВО від част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435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И МОДЕЛЮВАННЯ БАГАТОЧАСТОТНОГО ГЕН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5669" b="17323"/>
          <a:stretch/>
        </p:blipFill>
        <p:spPr>
          <a:xfrm>
            <a:off x="1835280" y="333360"/>
            <a:ext cx="5371920" cy="226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95400" y="2491560"/>
            <a:ext cx="528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Багаточастотного генератор в пакеті програм MicroCap 9.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17840" y="2781360"/>
            <a:ext cx="626724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5480" y="6393600"/>
            <a:ext cx="39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Графіки вихідного сигналу і його спек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435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И ДОСЛІДЖЕНЬ БАГАТОЧАСТОТНОГО ГЕН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2155680" cy="16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2170440" cy="16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67360" y="2059920"/>
            <a:ext cx="61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Осцилограма і спектр генерованих коливань в одночастотному режим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77880" y="2357280"/>
            <a:ext cx="217008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352680" y="2390760"/>
            <a:ext cx="2170080" cy="1614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61040" y="2405160"/>
            <a:ext cx="2156040" cy="1600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67360" y="4149000"/>
            <a:ext cx="42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Осцилограми та спектр 4-частотного режим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887400" y="4532400"/>
            <a:ext cx="2173320" cy="163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622680" y="4551480"/>
            <a:ext cx="2170080" cy="161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359400" y="4532400"/>
            <a:ext cx="2173320" cy="163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77520" y="6307920"/>
            <a:ext cx="43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3 – Осцилограми та спектр 10-частотного режим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95640" y="1779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571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Матола</dc:creator>
  <dc:description/>
  <dc:language>en-US</dc:language>
  <cp:lastModifiedBy>Admin</cp:lastModifiedBy>
  <dcterms:modified xsi:type="dcterms:W3CDTF">2015-06-15T20:54:48Z</dcterms:modified>
  <cp:revision>38</cp:revision>
  <dc:subject/>
  <dc:title>Слайд 1</dc:title>
</cp:coreProperties>
</file>