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3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1.wmf" ContentType="image/x-wmf"/>
  <Override PartName="/ppt/media/image26.png" ContentType="image/png"/>
  <Override PartName="/ppt/media/image38.png" ContentType="image/png"/>
  <Override PartName="/ppt/media/image12.wmf" ContentType="image/x-wmf"/>
  <Override PartName="/ppt/media/image35.png" ContentType="image/png"/>
  <Override PartName="/ppt/media/image5.png" ContentType="image/png"/>
  <Override PartName="/ppt/media/image4.png" ContentType="image/png"/>
  <Override PartName="/ppt/media/image34.png" ContentType="image/png"/>
  <Override PartName="/ppt/media/image30.wmf" ContentType="image/x-wmf"/>
  <Override PartName="/ppt/media/image31.wmf" ContentType="image/x-wmf"/>
  <Override PartName="/ppt/media/image40.png" ContentType="image/png"/>
  <Override PartName="/ppt/media/image8.wmf" ContentType="image/x-wmf"/>
  <Override PartName="/ppt/media/image9.wmf" ContentType="image/x-wmf"/>
  <Override PartName="/ppt/media/image39.png" ContentType="image/png"/>
  <Override PartName="/ppt/media/image3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10.wmf" ContentType="image/x-wmf"/>
  <Override PartName="/ppt/media/image2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32.wmf" ContentType="image/x-wmf"/>
  <Override PartName="/ppt/media/image1.png" ContentType="image/png"/>
  <Override PartName="/ppt/media/image15.png" ContentType="image/png"/>
  <Override PartName="/ppt/media/image16.png" ContentType="image/pn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009F-8B1D-4B78-9AEB-592A80DF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1D15-BE58-435D-9C7F-350BF686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BD74-068B-4FA7-8E5D-697142AE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BC90-DDA1-4C16-85C0-6BC92F82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F686-95AB-4288-A520-6C1C1990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A13A-5341-42D9-8705-E877DE56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8934-AE0D-4575-86CE-D6B1BAEA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FFFC-33FC-4AF4-9C17-3C09DE34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8C06-395E-44D3-939F-8BCEFC1D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5BFD-EFF6-4D53-A77D-0294F908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63E7-B99A-4BBE-AEFA-FFF2F2B6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188A-3F67-4907-8D1E-2D8DDAC4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D54B-5B53-442D-B88B-18E66CB30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4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wmf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5.wmf"/><Relationship Id="rId8" Type="http://schemas.openxmlformats.org/officeDocument/2006/relationships/image" Target="../media/image26.pn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60280"/>
            <a:ext cx="7848720" cy="61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інницький національний технічний універс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Факультет радіотехніки, зв'язку та приладобуд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афедр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адіотехні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озробка та дослідження аналогових автогенераторів радіовимірювальних сигналів спеціальної форми 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 приладах із від’ємним опор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агістерська кваліфікаційна робота за спеціальніст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7.05090101 – Радіотехні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озробив студент гр. 1РТ-14м  Заріцький В. 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ерівник – к.т.н., доц., доцент каф. РТ Семенов А. 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інниця ВНТУ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500040" y="-1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0720" y="108720"/>
            <a:ext cx="79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Н І ПЕРСПЕКТИВИ РОЗВИТКУ ТЕОРІЇ Й ПРАКТИКИ ГЕНЕРАТОР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8000" y="934920"/>
            <a:ext cx="5599080" cy="2530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7680" y="659520"/>
            <a:ext cx="524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аблиця 1 – Порівняння основних вітчизняних аналогових генераторі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2"/>
          <a:stretch/>
        </p:blipFill>
        <p:spPr>
          <a:xfrm>
            <a:off x="414360" y="3814920"/>
            <a:ext cx="4444920" cy="1942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5400" y="5804640"/>
            <a:ext cx="52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исунок 1 – Величина коефіцієнту нелінійних спотворень на різних частота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3"/>
          <a:stretch/>
        </p:blipFill>
        <p:spPr>
          <a:xfrm>
            <a:off x="6012000" y="1654200"/>
            <a:ext cx="2768400" cy="19940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"/>
          <p:cNvPicPr/>
          <p:nvPr/>
        </p:nvPicPr>
        <p:blipFill>
          <a:blip r:embed="rId4"/>
          <a:stretch/>
        </p:blipFill>
        <p:spPr>
          <a:xfrm>
            <a:off x="6084720" y="3621240"/>
            <a:ext cx="2845080" cy="1993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14240" y="5596920"/>
            <a:ext cx="29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исунок 2 – Історичні етапи розвит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ітчизняних і закордонних аналогов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адіовимірювальних генераторі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2320" y="115200"/>
            <a:ext cx="893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ЕКТРИЧНО-КЕРОВАНИЙ УВЧ АВТОГЕНЕРАТОР НА БІПОЛЯРНО-ПОЛЬОВІ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РАНЗИСТОРНІЙ СТРУКТУРІ З ВІД'ЄМНИМ ОП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2133360" cy="2228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56000" y="758880"/>
            <a:ext cx="3181320" cy="2000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267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940360" y="901800"/>
          <a:ext cx="2924280" cy="14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901800"/>
                    <a:ext cx="292428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50920" y="2793240"/>
            <a:ext cx="82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исунок 1 – Електрична схема, ВАХ та еквівалентна схема генератора синусоїдальних коливан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3440" y="3114000"/>
            <a:ext cx="462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івняння апроксимації статичної ВАХ та від'ємної провідност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50920" y="3357720"/>
          <a:ext cx="292392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3357720"/>
                    <a:ext cx="2923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8360" y="3789360"/>
          <a:ext cx="473400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360" y="3789360"/>
                    <a:ext cx="47340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4501440" y="3349080"/>
            <a:ext cx="41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932360" y="3328920"/>
          <a:ext cx="1666800" cy="676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32360" y="3328920"/>
                    <a:ext cx="166680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689880" y="3284640"/>
          <a:ext cx="618840" cy="495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689880" y="3284640"/>
                    <a:ext cx="618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250920" y="4521960"/>
            <a:ext cx="40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івняння першої гармоніки струму ТС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00720" y="4292640"/>
          <a:ext cx="4305240" cy="619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500720" y="4292640"/>
                    <a:ext cx="430524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320400" y="5228640"/>
            <a:ext cx="376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мплітудне диференціальне рівняння генера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24480" y="5013360"/>
          <a:ext cx="4295520" cy="600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24480" y="5013360"/>
                    <a:ext cx="42955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374760" y="5961960"/>
            <a:ext cx="34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мплітуда стаціонарних коливань генера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492800" y="5734080"/>
          <a:ext cx="3895560" cy="647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92800" y="5734080"/>
                    <a:ext cx="38955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500040" y="-1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4880" y="108720"/>
            <a:ext cx="78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ЕКТРИЧНО-КЕРОВАНИЙ ГЕНЕРАТОР ЛІНІЙНО-ЗМІННОЇ НАПРУГ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7520" y="534960"/>
            <a:ext cx="3587760" cy="2028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817800" y="404640"/>
            <a:ext cx="2266920" cy="2267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233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161040" y="763560"/>
          <a:ext cx="2732040" cy="159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61040" y="763560"/>
                    <a:ext cx="273204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95280" y="2648880"/>
            <a:ext cx="82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исунок 1 – Електрична схема, ВАХ та еквівалентна схема генератора лінійно-змінної напру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1480" y="3224880"/>
            <a:ext cx="31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Час формування лінійної ділянки напруг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067280" y="2924280"/>
          <a:ext cx="3000240" cy="100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67280" y="2924280"/>
                    <a:ext cx="30002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324000" y="3933720"/>
            <a:ext cx="3828960" cy="2425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4572000" y="3784680"/>
            <a:ext cx="3735360" cy="2627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6393600"/>
            <a:ext cx="82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исунок 2 – Результати моделювання генератора лінійно-змінної напруги у програмі MathCad 11.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495360" y="-1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1520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НЕРАТОР ПРЯМОКУТНИХ ІМПУЛЬСІВ НА ПОЛЬОВІЙ ТС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4920" y="476280"/>
            <a:ext cx="2800440" cy="2440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843280" y="692280"/>
            <a:ext cx="3706920" cy="2246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588000" y="1125360"/>
            <a:ext cx="2497320" cy="1108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5280" y="2923560"/>
            <a:ext cx="82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исунок 1 – Електрична схема, ВАХ та еквівалентна схема генератора прямокутних імпульсі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8920" y="3212280"/>
            <a:ext cx="48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івняння для визначення тривалості паузи і тривалості імпуль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73280" y="3506760"/>
          <a:ext cx="3438360" cy="571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73280" y="3506760"/>
                    <a:ext cx="34383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498920" y="3429000"/>
          <a:ext cx="3457800" cy="58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98920" y="3429000"/>
                    <a:ext cx="34578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108000" y="4149720"/>
            <a:ext cx="3033720" cy="2116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3319560" y="4221000"/>
            <a:ext cx="2476440" cy="1866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0"/>
          <a:stretch/>
        </p:blipFill>
        <p:spPr>
          <a:xfrm>
            <a:off x="6084720" y="4221000"/>
            <a:ext cx="2457720" cy="1847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6307920"/>
            <a:ext cx="84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исунок 2 – Генеровані прямокутні імпульси, побудовані у MathCad 11.0, та осцилограми вихідного сигна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48720" y="115200"/>
            <a:ext cx="62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АГАТОЧАСТОТНИЙ ГЕНЕРАТОР НА ОСНОВІ ПТС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28760" y="565200"/>
            <a:ext cx="6267600" cy="1809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08120" y="2445480"/>
            <a:ext cx="576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исунок 1 – Електрична схема багаточастотного генератора на основі ПТС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14680" y="2793960"/>
            <a:ext cx="5810040" cy="3429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9640" y="6249240"/>
            <a:ext cx="83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исунок 2 – Залежності активної та реактивної складових повного опору ПТСВО від часто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4356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ЗУЛЬТАТИ МОДЕЛЮВАННЯ БАГАТОЧАСТОТНОГО ГЕНЕРА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5669" b="17323"/>
          <a:stretch/>
        </p:blipFill>
        <p:spPr>
          <a:xfrm>
            <a:off x="1835280" y="333360"/>
            <a:ext cx="5371920" cy="2266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895400" y="2491560"/>
            <a:ext cx="528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исунок 1 – Багаточастотного генератор в пакеті програм MicroCap 9.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617840" y="2781360"/>
            <a:ext cx="6267240" cy="3657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985480" y="6393600"/>
            <a:ext cx="390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исунок 2 – Графіки вихідного сигналу і його спект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9280" y="4356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ЗУЛЬТАТИ ДОСЛІДЖЕНЬ БАГАТОЧАСТОТНОГО ГЕНЕРА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2155680" cy="1617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43280" y="404640"/>
            <a:ext cx="2170440" cy="1614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67360" y="2059920"/>
            <a:ext cx="61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исунок 1 – Осцилограма і спектр генерованих коливань в одночастотному режимі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77880" y="2357280"/>
            <a:ext cx="2170080" cy="1648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352680" y="2390760"/>
            <a:ext cx="2170080" cy="1614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6161040" y="2405160"/>
            <a:ext cx="2156040" cy="1600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367360" y="4149000"/>
            <a:ext cx="42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исунок 2 – Осцилограми та спектр 4-частотного режим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887400" y="4532400"/>
            <a:ext cx="2173320" cy="1633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3622680" y="4551480"/>
            <a:ext cx="2170080" cy="1614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6359400" y="4532400"/>
            <a:ext cx="2173320" cy="1633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477520" y="6307920"/>
            <a:ext cx="43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исунок 3 – Осцилограми та спектр 10-частотного режим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195640" y="17791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Доповідь заверше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95640" y="25711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Дякую за уваг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08:00:03Z</dcterms:created>
  <dc:creator>Матола</dc:creator>
  <dc:description/>
  <dc:language>en-US</dc:language>
  <cp:lastModifiedBy>Admin</cp:lastModifiedBy>
  <dcterms:modified xsi:type="dcterms:W3CDTF">2015-06-15T20:54:48Z</dcterms:modified>
  <cp:revision>38</cp:revision>
  <dc:subject/>
  <dc:title>Слайд 1</dc:title>
</cp:coreProperties>
</file>