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0.png" ContentType="image/png"/>
  <Override PartName="/ppt/media/image52.wmf" ContentType="image/x-wmf"/>
  <Override PartName="/ppt/media/image49.png" ContentType="image/png"/>
  <Override PartName="/ppt/media/image47.png" ContentType="image/png"/>
  <Override PartName="/ppt/media/image46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1.wmf" ContentType="image/x-wmf"/>
  <Override PartName="/ppt/media/image1.wmf" ContentType="image/x-wmf"/>
  <Override PartName="/ppt/media/image54.wmf" ContentType="image/x-wmf"/>
  <Override PartName="/ppt/media/image14.png" ContentType="image/png"/>
  <Override PartName="/ppt/media/image55.wmf" ContentType="image/x-wmf"/>
  <Override PartName="/ppt/media/image15.png" ContentType="image/png"/>
  <Override PartName="/ppt/media/image56.wmf" ContentType="image/x-wmf"/>
  <Override PartName="/ppt/media/image16.png" ContentType="image/png"/>
  <Override PartName="/ppt/media/image57.wmf" ContentType="image/x-wmf"/>
  <Override PartName="/ppt/media/image17.png" ContentType="image/png"/>
  <Override PartName="/ppt/media/image4.wmf" ContentType="image/x-wmf"/>
  <Override PartName="/ppt/media/image64.wmf" ContentType="image/x-wmf"/>
  <Override PartName="/ppt/media/image24.png" ContentType="image/png"/>
  <Override PartName="/ppt/media/image3.wmf" ContentType="image/x-wmf"/>
  <Override PartName="/ppt/media/image63.wmf" ContentType="image/x-wmf"/>
  <Override PartName="/ppt/media/image23.png" ContentType="image/png"/>
  <Override PartName="/ppt/media/image2.wmf" ContentType="image/x-wmf"/>
  <Override PartName="/ppt/media/image62.wmf" ContentType="image/x-wmf"/>
  <Override PartName="/ppt/media/image22.png" ContentType="image/png"/>
  <Override PartName="/ppt/media/image26.png" ContentType="image/png"/>
  <Override PartName="/ppt/media/image61.wmf" ContentType="image/x-wmf"/>
  <Override PartName="/ppt/media/image21.png" ContentType="image/png"/>
  <Override PartName="/ppt/media/image59.wmf" ContentType="image/x-wmf"/>
  <Override PartName="/ppt/media/image60.wmf" ContentType="image/x-wmf"/>
  <Override PartName="/ppt/media/image20.png" ContentType="image/png"/>
  <Override PartName="/ppt/media/image58.wmf" ContentType="image/x-wmf"/>
  <Override PartName="/ppt/media/image25.png" ContentType="image/png"/>
  <Override PartName="/ppt/media/image10.wmf" ContentType="image/x-wmf"/>
  <Override PartName="/ppt/media/image29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19.png" ContentType="image/png"/>
  <Override PartName="/ppt/media/image41.wmf" ContentType="image/x-wmf"/>
  <Override PartName="/ppt/media/image27.png" ContentType="image/png"/>
  <Override PartName="/ppt/media/image30.wmf" ContentType="image/x-wmf"/>
  <Override PartName="/ppt/media/image12.wmf" ContentType="image/x-wmf"/>
  <Override PartName="/ppt/media/image51.png" ContentType="image/png"/>
  <Override PartName="/ppt/media/image13.png" ContentType="image/png"/>
  <Override PartName="/ppt/media/image53.wmf" ContentType="image/x-wmf"/>
  <Override PartName="/ppt/media/image8.png" ContentType="image/png"/>
  <Override PartName="/ppt/media/image42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8.wmf" ContentType="image/x-wmf"/>
  <Override PartName="/ppt/media/image39.wmf" ContentType="image/x-wmf"/>
  <Override PartName="/ppt/media/image18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BBF-DB4F-40AB-A244-0DFDA05E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B07-AC4B-445A-9490-CCFDA936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6BF-D483-4EB0-9A01-1158FA52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7CA-C14B-44FD-BDF3-ED3C3794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9AC-E8C4-40F1-8579-A3FED160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8B8-51EF-499C-BB20-C8944D06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638-3159-4C46-9191-71C6E537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32C-0FA2-40B6-A817-B3DAC8E0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B30-FC8B-430B-87B5-83ADA7CA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E87-3860-4582-94DF-D04BA826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5A1-DE4F-4331-A86E-8CE5433D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C64-868D-4E57-8488-A266B91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6F42-1610-40FF-9CA2-CF7782EC2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2.wmf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260280"/>
            <a:ext cx="7848720" cy="58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нницький національний технічний уні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акультет радіотехніки, зв'язку та приладобу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федр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адіотехні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слідження шумових властивостей генераторів електричних коливань на основі транзисторних структур з ві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’ємним оп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агістерська кваліфікаційна робота за спеціальні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8.05090101 – Радіотехні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озробив студент гр. РТ-14м  Луцький Є. 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ерівник – к.т.н., доц., професор каф. РТ Семенов А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інниця ВНТУ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1624320" y="81000"/>
            <a:ext cx="54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ікована математична модель Ван-дер-П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Объект 5"/>
          <p:cNvGraphicFramePr/>
          <p:nvPr/>
        </p:nvGraphicFramePr>
        <p:xfrm>
          <a:off x="2814480" y="758880"/>
          <a:ext cx="295920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758880"/>
                    <a:ext cx="2959200" cy="601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2" name="Прямоугольник 12"/>
          <p:cNvSpPr/>
          <p:nvPr/>
        </p:nvSpPr>
        <p:spPr>
          <a:xfrm>
            <a:off x="204840" y="14079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безрозмірні коефіцієнти із урахуванням апроксимац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Объект 14"/>
          <p:cNvGraphicFramePr/>
          <p:nvPr/>
        </p:nvGraphicFramePr>
        <p:xfrm>
          <a:off x="1447920" y="1844640"/>
          <a:ext cx="19810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Объект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844640"/>
                    <a:ext cx="1981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Объект 16"/>
          <p:cNvGraphicFramePr/>
          <p:nvPr/>
        </p:nvGraphicFramePr>
        <p:xfrm>
          <a:off x="3936960" y="1854360"/>
          <a:ext cx="7142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Объект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6960" y="1854360"/>
                    <a:ext cx="714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Объект 18"/>
          <p:cNvGraphicFramePr/>
          <p:nvPr/>
        </p:nvGraphicFramePr>
        <p:xfrm>
          <a:off x="5137200" y="1765440"/>
          <a:ext cx="80964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Объект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37200" y="1765440"/>
                    <a:ext cx="809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Рисунок 7" descr=""/>
          <p:cNvPicPr/>
          <p:nvPr/>
        </p:nvPicPr>
        <p:blipFill>
          <a:blip r:embed="rId9"/>
          <a:stretch/>
        </p:blipFill>
        <p:spPr>
          <a:xfrm>
            <a:off x="1979640" y="3029040"/>
            <a:ext cx="4778280" cy="35067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2082960" y="26496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4.1 – Фазові портрети генераторів при g=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600120" y="189000"/>
            <a:ext cx="4187880" cy="31258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4179960" cy="33148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4944960" y="765000"/>
            <a:ext cx="27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2 – Фазові портре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ів при g=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076720" y="422100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 – Фазові портр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ів при g=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3"/>
          <p:cNvSpPr/>
          <p:nvPr/>
        </p:nvSpPr>
        <p:spPr>
          <a:xfrm>
            <a:off x="971640" y="115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е дослідження генераторів з адитивним Гауссовим шу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Объект 5"/>
          <p:cNvGraphicFramePr/>
          <p:nvPr/>
        </p:nvGraphicFramePr>
        <p:xfrm>
          <a:off x="2987640" y="1254240"/>
          <a:ext cx="250524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254240"/>
                    <a:ext cx="250524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Прямоугольник 6"/>
          <p:cNvSpPr/>
          <p:nvPr/>
        </p:nvSpPr>
        <p:spPr>
          <a:xfrm>
            <a:off x="324000" y="650880"/>
            <a:ext cx="82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падку адитивного гауссового шуму авторами апробовано модифіковану математичну модель Ван дер Поля ви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325800" y="2470320"/>
            <a:ext cx="3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Объект 9"/>
          <p:cNvGraphicFramePr/>
          <p:nvPr/>
        </p:nvGraphicFramePr>
        <p:xfrm>
          <a:off x="684360" y="2562120"/>
          <a:ext cx="142560" cy="1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562120"/>
                    <a:ext cx="14256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Прямоугольник 10"/>
          <p:cNvSpPr/>
          <p:nvPr/>
        </p:nvSpPr>
        <p:spPr>
          <a:xfrm>
            <a:off x="755640" y="2470320"/>
            <a:ext cx="739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розмірна змінна, яка являє собою приведену напругу на коливальному контурі генерат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Объект 12"/>
          <p:cNvGraphicFramePr/>
          <p:nvPr/>
        </p:nvGraphicFramePr>
        <p:xfrm>
          <a:off x="674640" y="2806560"/>
          <a:ext cx="152280" cy="19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4640" y="2806560"/>
                    <a:ext cx="15228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Прямоугольник 13"/>
          <p:cNvSpPr/>
          <p:nvPr/>
        </p:nvSpPr>
        <p:spPr>
          <a:xfrm>
            <a:off x="750960" y="2712960"/>
            <a:ext cx="566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розмірна змінна, яка являє собою приведений струм індуктивн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Объект 15"/>
          <p:cNvGraphicFramePr/>
          <p:nvPr/>
        </p:nvGraphicFramePr>
        <p:xfrm>
          <a:off x="639720" y="3035160"/>
          <a:ext cx="219240" cy="23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Объект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9720" y="3035160"/>
                    <a:ext cx="219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Прямоугольник 16"/>
          <p:cNvSpPr/>
          <p:nvPr/>
        </p:nvSpPr>
        <p:spPr>
          <a:xfrm>
            <a:off x="800280" y="2997360"/>
            <a:ext cx="23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ота власних колива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Объект 18"/>
          <p:cNvGraphicFramePr/>
          <p:nvPr/>
        </p:nvGraphicFramePr>
        <p:xfrm>
          <a:off x="577800" y="3343320"/>
          <a:ext cx="34308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Объект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7800" y="3343320"/>
                    <a:ext cx="3430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Прямоугольник 19"/>
          <p:cNvSpPr/>
          <p:nvPr/>
        </p:nvSpPr>
        <p:spPr>
          <a:xfrm>
            <a:off x="873000" y="3295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оване джерело білого Гауссового шу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Объект 21"/>
          <p:cNvGraphicFramePr/>
          <p:nvPr/>
        </p:nvGraphicFramePr>
        <p:xfrm>
          <a:off x="685800" y="3697200"/>
          <a:ext cx="19044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3697200"/>
                    <a:ext cx="190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Прямоугольник 22"/>
          <p:cNvSpPr/>
          <p:nvPr/>
        </p:nvSpPr>
        <p:spPr>
          <a:xfrm>
            <a:off x="855720" y="361008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інтенсивність шу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3"/>
          <p:cNvSpPr/>
          <p:nvPr/>
        </p:nvSpPr>
        <p:spPr>
          <a:xfrm>
            <a:off x="585720" y="3909960"/>
            <a:ext cx="58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и нормованого джерела білого Гауссового шуму так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Объект 25"/>
          <p:cNvGraphicFramePr/>
          <p:nvPr/>
        </p:nvGraphicFramePr>
        <p:xfrm>
          <a:off x="2556000" y="4406760"/>
          <a:ext cx="733320" cy="29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Объект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56000" y="4406760"/>
                    <a:ext cx="7333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Объект 27"/>
          <p:cNvGraphicFramePr/>
          <p:nvPr/>
        </p:nvGraphicFramePr>
        <p:xfrm>
          <a:off x="3673440" y="4406760"/>
          <a:ext cx="1562040" cy="29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" name="Объект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73440" y="4406760"/>
                    <a:ext cx="15620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Прямоугольник 28"/>
          <p:cNvSpPr/>
          <p:nvPr/>
        </p:nvSpPr>
        <p:spPr>
          <a:xfrm>
            <a:off x="501480" y="4808520"/>
            <a:ext cx="745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хом математичних перетворень систему диференціальних рівнянь приведено до одного диференціального рівняння відносно напруги генерованих колив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Объект 30"/>
          <p:cNvGraphicFramePr/>
          <p:nvPr/>
        </p:nvGraphicFramePr>
        <p:xfrm>
          <a:off x="2987640" y="5589720"/>
          <a:ext cx="2543040" cy="485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2" name="Объект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87640" y="5589720"/>
                    <a:ext cx="2543040" cy="4856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793880" y="722160"/>
            <a:ext cx="2128680" cy="1606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819680" y="577800"/>
            <a:ext cx="2273400" cy="17510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3"/>
          <p:cNvSpPr/>
          <p:nvPr/>
        </p:nvSpPr>
        <p:spPr>
          <a:xfrm>
            <a:off x="826920" y="2473200"/>
            <a:ext cx="727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7 – Фазовий портрет і форма напруги власних коливань генератора (без шуму)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циляторн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1662120" y="3357720"/>
            <a:ext cx="2273400" cy="1724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4541760" y="3284640"/>
            <a:ext cx="2573280" cy="18939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4"/>
          <p:cNvSpPr/>
          <p:nvPr/>
        </p:nvSpPr>
        <p:spPr>
          <a:xfrm>
            <a:off x="826920" y="5442120"/>
            <a:ext cx="712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8 – Фазовий портрет генератора і форма напруги генерованих коливань із урахуванням адитивного гауссового шуму в осциляторн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187280" y="579600"/>
            <a:ext cx="2314800" cy="1800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4140360" y="317520"/>
            <a:ext cx="3138480" cy="23907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539640" y="268920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9 – Фазовий портрет генератора і часова діаграма напруги із адитивним гауссовим шумом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лаксаційн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847800" y="3933720"/>
            <a:ext cx="2363760" cy="178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4"/>
          <a:stretch/>
        </p:blipFill>
        <p:spPr>
          <a:xfrm>
            <a:off x="3564000" y="3213000"/>
            <a:ext cx="3709800" cy="27831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8"/>
          <p:cNvSpPr/>
          <p:nvPr/>
        </p:nvSpPr>
        <p:spPr>
          <a:xfrm>
            <a:off x="611280" y="599616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0 – Фазовий портрет генератора і часова діаграма напруги із адитивним гауссовим шумом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імпульсному режим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>
            <a:off x="611280" y="115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кореляційна функція напруги генератора електричних коливань із адитивним гауссовим шу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179280" y="83664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були встановлено адитивний гаусів шум подвійно впливає на напругу генерованих коливань – він модулює амплітуду та вносить випадково флуктуйований фазовий ш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Объект 6"/>
          <p:cNvGraphicFramePr/>
          <p:nvPr/>
        </p:nvGraphicFramePr>
        <p:xfrm>
          <a:off x="2481120" y="1407960"/>
          <a:ext cx="328644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1120" y="1407960"/>
                    <a:ext cx="3286440" cy="3715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9" name="Прямоугольник 7"/>
          <p:cNvSpPr/>
          <p:nvPr/>
        </p:nvSpPr>
        <p:spPr>
          <a:xfrm>
            <a:off x="181440" y="1989000"/>
            <a:ext cx="3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Объект 9"/>
          <p:cNvGraphicFramePr/>
          <p:nvPr/>
        </p:nvGraphicFramePr>
        <p:xfrm>
          <a:off x="531720" y="2030400"/>
          <a:ext cx="34308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720" y="2030400"/>
                    <a:ext cx="3430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Прямоугольник 10"/>
          <p:cNvSpPr/>
          <p:nvPr/>
        </p:nvSpPr>
        <p:spPr>
          <a:xfrm>
            <a:off x="847080" y="198900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сує модуляцію амплітуди шум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Объект 12"/>
          <p:cNvGraphicFramePr/>
          <p:nvPr/>
        </p:nvGraphicFramePr>
        <p:xfrm>
          <a:off x="4024440" y="2036880"/>
          <a:ext cx="38088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24440" y="2036880"/>
                    <a:ext cx="380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Прямоугольник 13"/>
          <p:cNvSpPr/>
          <p:nvPr/>
        </p:nvSpPr>
        <p:spPr>
          <a:xfrm>
            <a:off x="4404600" y="1989000"/>
            <a:ext cx="27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сує модуляцію фази шум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Объект 15"/>
          <p:cNvGraphicFramePr/>
          <p:nvPr/>
        </p:nvGraphicFramePr>
        <p:xfrm>
          <a:off x="531720" y="2367000"/>
          <a:ext cx="228600" cy="23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Объект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1720" y="2367000"/>
                    <a:ext cx="228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Прямоугольник 16"/>
          <p:cNvSpPr/>
          <p:nvPr/>
        </p:nvSpPr>
        <p:spPr>
          <a:xfrm>
            <a:off x="749160" y="2303640"/>
            <a:ext cx="67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мплітуда власних стаціонарних коливань напруги генератора за відсутності шу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468360" y="2637000"/>
            <a:ext cx="69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изначенням автокореляційна функція генерованої напруги усередненої по ансамб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Объект 19"/>
          <p:cNvGraphicFramePr/>
          <p:nvPr/>
        </p:nvGraphicFramePr>
        <p:xfrm>
          <a:off x="2712960" y="3000240"/>
          <a:ext cx="282276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Объект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2960" y="3000240"/>
                    <a:ext cx="28227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Объект 21"/>
          <p:cNvGraphicFramePr/>
          <p:nvPr/>
        </p:nvGraphicFramePr>
        <p:xfrm>
          <a:off x="264960" y="3817800"/>
          <a:ext cx="8123400" cy="110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3" name="Объект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4960" y="3817800"/>
                    <a:ext cx="812340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Прямоугольник 22"/>
          <p:cNvSpPr/>
          <p:nvPr/>
        </p:nvSpPr>
        <p:spPr>
          <a:xfrm>
            <a:off x="200520" y="5064120"/>
            <a:ext cx="3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Объект 2"/>
          <p:cNvGraphicFramePr/>
          <p:nvPr/>
        </p:nvGraphicFramePr>
        <p:xfrm>
          <a:off x="542880" y="5086440"/>
          <a:ext cx="457200" cy="30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Объект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2880" y="5086440"/>
                    <a:ext cx="4572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Объект 4"/>
          <p:cNvGraphicFramePr/>
          <p:nvPr/>
        </p:nvGraphicFramePr>
        <p:xfrm>
          <a:off x="1187280" y="5070600"/>
          <a:ext cx="466920" cy="314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" name="Объект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87280" y="5070600"/>
                    <a:ext cx="4669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Прямоугольник 22"/>
          <p:cNvSpPr/>
          <p:nvPr/>
        </p:nvSpPr>
        <p:spPr>
          <a:xfrm>
            <a:off x="973440" y="50958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1738440" y="50655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токореляційні функції флуктуацій амплітуди та фази відповідно,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Объект 7"/>
          <p:cNvGraphicFramePr/>
          <p:nvPr/>
        </p:nvGraphicFramePr>
        <p:xfrm>
          <a:off x="2614680" y="5402160"/>
          <a:ext cx="320040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Объект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14680" y="5402160"/>
                    <a:ext cx="320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Прямоугольник 8"/>
          <p:cNvSpPr/>
          <p:nvPr/>
        </p:nvSpPr>
        <p:spPr>
          <a:xfrm>
            <a:off x="221040" y="5992920"/>
            <a:ext cx="26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є взаємну кореляцію мі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Объект 10"/>
          <p:cNvGraphicFramePr/>
          <p:nvPr/>
        </p:nvGraphicFramePr>
        <p:xfrm>
          <a:off x="2881440" y="6033960"/>
          <a:ext cx="34272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5" name="Объект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81440" y="6033960"/>
                    <a:ext cx="3427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Объект 12"/>
          <p:cNvGraphicFramePr/>
          <p:nvPr/>
        </p:nvGraphicFramePr>
        <p:xfrm>
          <a:off x="3419640" y="6026040"/>
          <a:ext cx="38088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7" name="Объект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19640" y="6026040"/>
                    <a:ext cx="380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Прямоугольник 22"/>
          <p:cNvSpPr/>
          <p:nvPr/>
        </p:nvSpPr>
        <p:spPr>
          <a:xfrm>
            <a:off x="3187080" y="59864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611280" y="115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ральна щільність напруги генератора електричних коливань із адитивним Гауссовим шу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395280" y="98100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інтегралу зворотного перетворення Вінера-Хінчіна, можна отримати спектральну щільність генерованої напр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Объект 6"/>
          <p:cNvGraphicFramePr/>
          <p:nvPr/>
        </p:nvGraphicFramePr>
        <p:xfrm>
          <a:off x="3332160" y="1781280"/>
          <a:ext cx="233676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2160" y="1781280"/>
                    <a:ext cx="23367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Объект 8"/>
          <p:cNvGraphicFramePr/>
          <p:nvPr/>
        </p:nvGraphicFramePr>
        <p:xfrm>
          <a:off x="487440" y="2857680"/>
          <a:ext cx="7746840" cy="12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440" y="2857680"/>
                    <a:ext cx="7746840" cy="1231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5" name="Прямоугольник 9"/>
          <p:cNvSpPr/>
          <p:nvPr/>
        </p:nvSpPr>
        <p:spPr>
          <a:xfrm>
            <a:off x="395280" y="4653000"/>
            <a:ext cx="747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ова, що містить дельту-функцію описує вплив шуму на власні коливання. Послаблення впливу дельта-функції відбувається внаслідок флуктуацій фа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3"/>
          <p:cNvSpPr/>
          <p:nvPr/>
        </p:nvSpPr>
        <p:spPr>
          <a:xfrm>
            <a:off x="3714840" y="442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324000" y="4190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но такі основні наукові та практичні результа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24000" y="69228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 роботі апробовано модифіковану математичну модель Ван-дер-Поля для дослідження впливу білого гауссівського шуму в генераторах детерміновано хаосу на основі транзисторних структур з від’ємним опором. Отримано часові діаграми та фазові портрети таких генераторів у різних режимах робо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324000" y="1395360"/>
            <a:ext cx="820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 допомогою модифікованої математичної моделі Ван-дер-Поля проведено дослідження реалізації режиму суперкритичної біфуркації Андронова-Хопфа в генераторах на основі транзисторних структур з від’ємним опором і визначено її поріг виникнення. Проаналізовано зв'язок між біфуркаційним параметром та амплітудою генерованих квазігармонічних колива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324000" y="2349360"/>
            <a:ext cx="828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допомогою модифікованого рівняння Ван-дер-Поля отримано фазові портрети генераторів електричних коливань на основі транзисторних структур з від’ємним опором. Дослідження проведено для осциляторного і релаксаційного режимів роботи генератор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326880" y="3063960"/>
            <a:ext cx="834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допомогою модифікованої моделі Ван-дер-Поля встановлено, що адитивний гауссів шум подвійно впливає на напругу генерованих коливань – він модулює амплітуду генерованих коливань та вносить випадково флуктуйований фазовий шу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324000" y="3803760"/>
            <a:ext cx="835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мала подальший розвиток математична модель Ван-дер-Поля для дослідження впливу шуму на фізичні процеси, які відбуваються в радіовимірювальних генераторах на основі транзисторних структур з від’ємним опором. Уточнено параметри шумової моделі Ван-дер-Поля таких генераторів за допомогою якої отримано фазові портрети та часові діаграми генерованих коливань за відсутності та при наявності адитивного білого шу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0"/>
          <p:cNvSpPr/>
          <p:nvPr/>
        </p:nvSpPr>
        <p:spPr>
          <a:xfrm>
            <a:off x="324000" y="497196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Встановлено, що при дослідженні хаотичних і шумових процесів у пакеті програ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Ca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.0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ом Рунге-Кутта четвертого порядку модифіковану математичну модель Ван-дер-Поля зручно подавати системою нелінійних диференціальних рівнянь першого поряд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324000" y="5711760"/>
            <a:ext cx="849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ою досліджень автором опубліковано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рац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 яких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да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і, що входить до наукометричних баз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US i IEEE Explore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у фаховому виданні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ереліку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 Україн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у збірниках праць і 2 тези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народних науково-технічних і науково-практичних конференці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2195640" y="17791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повідь заверш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195640" y="25711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65960" y="866160"/>
            <a:ext cx="85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ета робот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олягає в удосконаленні математичної моделі Ван-дер-П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опису хаотичних і шумових сигналів у генераторах електричних колив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основі транзисторних структ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від’ємним опо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32120" y="2208240"/>
            <a:ext cx="84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Об’єктом дослідже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є процеси перетворення енергіє джерела живл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незатухаючі в часі періодичні та неперіодичні коливанн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7800" y="3071880"/>
            <a:ext cx="82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едметом дослідже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є математичні моделі генераторів електрич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ивань на основі транзисторних структур із від’ємним опо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24280" y="3951000"/>
            <a:ext cx="865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адачами магістерської кваліфікаційної роботи є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ліз сучасних генераторних пристроїв, що працюють в осциляторному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релаксаційному режи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досконалення математичної моделі Ван-дер-Поля генераторів електричних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ивань на основі транзисторних структур з від’ємним опо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ження хаотичних і шумових режимів роботи генераторів електричних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ивань на основі транзисторних структур з від’ємним опо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ження шумових параметрів і характеристик генераторів електричних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ивань на основі транзисторних структур з від’ємним оп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1746720" y="169920"/>
            <a:ext cx="57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а, об'єкт, предмет дослідження та задачі М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-50004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31760" y="551880"/>
            <a:ext cx="86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укова новизна одержаних результат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отримав подальший розви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од Ван-дер-Поля дослідження генераторів електричних коливань на осн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ладів із від’ємним опо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3200" y="1416240"/>
            <a:ext cx="859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актична новизна одержаних результатів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полягає в отриманих нов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зультатів модельних досліджень шумових властивостей генера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х коливань на основі транзисторних структур з від’ємним опо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89360" y="2369880"/>
            <a:ext cx="878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пробація результатів робот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Основні ідеї роботи доповідалися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говорювали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LI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LIV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уково-технічній конференції професорсько-викладацького складу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івробітників та студентів університету за участю працівників науково-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слідних організацій та інженерно-технічних працівників підприємств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. Вінниці та області (м. Вінниця, ВНТУ 20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15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р.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жнародній науково-технічній конференції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Modern problems of radi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ering, telecommunications, and computer science”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SET’201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 лютого – 1 березня 2014 року, Славсь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І міжнародній конференції «Вимірювання, контроль та діагностика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технічних системах», 29-31 жовтня 2013 року, Вінниц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сеукраїнській науково-практичній on-lain конференції аспірантів, молодих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ених та студентів, присвячена Дню науки, м. Житомир, 14-16 травня 2014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жнародній науково-практичній конференції «Стандартизація, сертифікація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трологія і менеджмент», 25 вересня м. Ки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1136880" y="108000"/>
            <a:ext cx="68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укова та практична новизна, апробація результатів М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258920" y="139680"/>
            <a:ext cx="63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е дослідження суперкритичної біфуркації Андронова-Хопфа в м’якому режимі збудження генераторів електричних коливань на основі транзисторних структур з від’ємним оп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Объект 3"/>
          <p:cNvGraphicFramePr/>
          <p:nvPr/>
        </p:nvGraphicFramePr>
        <p:xfrm>
          <a:off x="985680" y="2133720"/>
          <a:ext cx="207360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2133720"/>
                    <a:ext cx="207360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Прямоугольник 4"/>
          <p:cNvSpPr/>
          <p:nvPr/>
        </p:nvSpPr>
        <p:spPr>
          <a:xfrm>
            <a:off x="1915920" y="1511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а математична модель Ван-дер-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Объект 6"/>
          <p:cNvGraphicFramePr/>
          <p:nvPr/>
        </p:nvGraphicFramePr>
        <p:xfrm>
          <a:off x="4687920" y="2498760"/>
          <a:ext cx="24764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7920" y="2498760"/>
                    <a:ext cx="2476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Объект 8"/>
          <p:cNvGraphicFramePr/>
          <p:nvPr/>
        </p:nvGraphicFramePr>
        <p:xfrm>
          <a:off x="2584440" y="4060800"/>
          <a:ext cx="294624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4440" y="4060800"/>
                    <a:ext cx="29462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Прямоугольник 9"/>
          <p:cNvSpPr/>
          <p:nvPr/>
        </p:nvSpPr>
        <p:spPr>
          <a:xfrm>
            <a:off x="2055240" y="3608280"/>
            <a:ext cx="38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а математична модель Реле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110160" y="51404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Объект 12"/>
          <p:cNvGraphicFramePr/>
          <p:nvPr/>
        </p:nvGraphicFramePr>
        <p:xfrm>
          <a:off x="701640" y="5052960"/>
          <a:ext cx="209556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Объект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640" y="5052960"/>
                    <a:ext cx="2095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Прямоугольник 13"/>
          <p:cNvSpPr/>
          <p:nvPr/>
        </p:nvSpPr>
        <p:spPr>
          <a:xfrm>
            <a:off x="3021840" y="514512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мінна, яка являє собою напругу генер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Объект 15"/>
          <p:cNvGraphicFramePr/>
          <p:nvPr/>
        </p:nvGraphicFramePr>
        <p:xfrm>
          <a:off x="7473960" y="5211720"/>
          <a:ext cx="34272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73960" y="5211720"/>
                    <a:ext cx="3427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Прямоугольник 16"/>
          <p:cNvSpPr/>
          <p:nvPr/>
        </p:nvSpPr>
        <p:spPr>
          <a:xfrm>
            <a:off x="3119400" y="5427720"/>
            <a:ext cx="55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овану до напівширини ділянки від'ємного опо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Объект 20"/>
          <p:cNvGraphicFramePr/>
          <p:nvPr/>
        </p:nvGraphicFramePr>
        <p:xfrm>
          <a:off x="701640" y="5761080"/>
          <a:ext cx="214308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Объект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640" y="5761080"/>
                    <a:ext cx="21430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Прямоугольник 21"/>
          <p:cNvSpPr/>
          <p:nvPr/>
        </p:nvSpPr>
        <p:spPr>
          <a:xfrm>
            <a:off x="2957400" y="58071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зрозмірна змінна, яка пропорційна струму індуктивн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23"/>
          <p:cNvGraphicFramePr/>
          <p:nvPr/>
        </p:nvGraphicFramePr>
        <p:xfrm>
          <a:off x="3119400" y="6186600"/>
          <a:ext cx="30492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" name="Объект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19400" y="6186600"/>
                    <a:ext cx="3049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Прямоугольник 24"/>
          <p:cNvSpPr/>
          <p:nvPr/>
        </p:nvSpPr>
        <p:spPr>
          <a:xfrm>
            <a:off x="3465360" y="607536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вального контуру генер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2"/>
          <p:cNvSpPr/>
          <p:nvPr/>
        </p:nvSpPr>
        <p:spPr>
          <a:xfrm>
            <a:off x="-50004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5" descr=""/>
          <p:cNvPicPr/>
          <p:nvPr/>
        </p:nvPicPr>
        <p:blipFill>
          <a:blip r:embed="rId1"/>
          <a:stretch/>
        </p:blipFill>
        <p:spPr>
          <a:xfrm>
            <a:off x="1190520" y="3689280"/>
            <a:ext cx="2990880" cy="23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"/>
          <p:cNvPicPr/>
          <p:nvPr/>
        </p:nvPicPr>
        <p:blipFill>
          <a:blip r:embed="rId2"/>
          <a:stretch/>
        </p:blipFill>
        <p:spPr>
          <a:xfrm>
            <a:off x="4359240" y="3618000"/>
            <a:ext cx="3057480" cy="23256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398520" y="6237360"/>
            <a:ext cx="824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2 – Процес виникнення коливань у генераторах електричних коливань на основі транзисторних структур з від’ємним пором: а) суміщена ВАХ із фазовим портретом; б) осцилограми становлення коливань у нормованому ча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2689200" y="60120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5830200" y="5977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Объект 5"/>
          <p:cNvGraphicFramePr/>
          <p:nvPr/>
        </p:nvGraphicFramePr>
        <p:xfrm>
          <a:off x="1547640" y="627120"/>
          <a:ext cx="235296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627120"/>
                    <a:ext cx="23529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29" descr=""/>
          <p:cNvPicPr/>
          <p:nvPr/>
        </p:nvPicPr>
        <p:blipFill>
          <a:blip r:embed="rId5"/>
          <a:stretch/>
        </p:blipFill>
        <p:spPr>
          <a:xfrm>
            <a:off x="4403880" y="374760"/>
            <a:ext cx="3422520" cy="1685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3"/>
          <p:cNvSpPr/>
          <p:nvPr/>
        </p:nvSpPr>
        <p:spPr>
          <a:xfrm>
            <a:off x="2536920" y="2111400"/>
            <a:ext cx="29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4"/>
          <p:cNvSpPr/>
          <p:nvPr/>
        </p:nvSpPr>
        <p:spPr>
          <a:xfrm>
            <a:off x="5677920" y="2076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398520" y="2349360"/>
            <a:ext cx="78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 – Еквівалентна схема (а) та апроксимована ВАХ ТСВО (б) генератора електричних колив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108000" y="2732040"/>
            <a:ext cx="58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няння апроксимації статичної ВАХ ТСВО поліномом третього степ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Объект 9"/>
          <p:cNvGraphicFramePr/>
          <p:nvPr/>
        </p:nvGraphicFramePr>
        <p:xfrm>
          <a:off x="2119320" y="3151080"/>
          <a:ext cx="41241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Объект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19320" y="3151080"/>
                    <a:ext cx="4124160" cy="3142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Прямоугольник 10"/>
          <p:cNvSpPr/>
          <p:nvPr/>
        </p:nvSpPr>
        <p:spPr>
          <a:xfrm>
            <a:off x="1637280" y="81000"/>
            <a:ext cx="62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и класичної математичної моделі Ван-дер-П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7"/>
          <p:cNvSpPr/>
          <p:nvPr/>
        </p:nvSpPr>
        <p:spPr>
          <a:xfrm>
            <a:off x="-495360" y="-1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4" descr=""/>
          <p:cNvPicPr/>
          <p:nvPr/>
        </p:nvPicPr>
        <p:blipFill>
          <a:blip r:embed="rId1"/>
          <a:stretch/>
        </p:blipFill>
        <p:spPr>
          <a:xfrm>
            <a:off x="971640" y="681120"/>
            <a:ext cx="2260440" cy="1803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5" descr=""/>
          <p:cNvPicPr/>
          <p:nvPr/>
        </p:nvPicPr>
        <p:blipFill>
          <a:blip r:embed="rId2"/>
          <a:stretch/>
        </p:blipFill>
        <p:spPr>
          <a:xfrm>
            <a:off x="3762360" y="249120"/>
            <a:ext cx="3762360" cy="2768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6" descr=""/>
          <p:cNvPicPr/>
          <p:nvPr/>
        </p:nvPicPr>
        <p:blipFill>
          <a:blip r:embed="rId3"/>
          <a:stretch/>
        </p:blipFill>
        <p:spPr>
          <a:xfrm>
            <a:off x="998640" y="3755880"/>
            <a:ext cx="2311200" cy="180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"/>
          <p:cNvPicPr/>
          <p:nvPr/>
        </p:nvPicPr>
        <p:blipFill>
          <a:blip r:embed="rId4"/>
          <a:stretch/>
        </p:blipFill>
        <p:spPr>
          <a:xfrm>
            <a:off x="3854520" y="3273480"/>
            <a:ext cx="3670200" cy="27684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2339640" y="2925720"/>
            <a:ext cx="27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ростання коливань при ɛ=0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302560" y="5857920"/>
            <a:ext cx="28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ростання коливань при ɛ =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611280" y="6165720"/>
            <a:ext cx="834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 – Фазові портрети та осцилограми напруги генерованих коливань у нормованому часі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меженому наростанні коливань, що має місце при різних коефіцієнтах 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6" descr=""/>
          <p:cNvPicPr/>
          <p:nvPr/>
        </p:nvPicPr>
        <p:blipFill>
          <a:blip r:embed="rId1"/>
          <a:stretch/>
        </p:blipFill>
        <p:spPr>
          <a:xfrm>
            <a:off x="965160" y="689040"/>
            <a:ext cx="2311560" cy="180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7" descr=""/>
          <p:cNvPicPr/>
          <p:nvPr/>
        </p:nvPicPr>
        <p:blipFill>
          <a:blip r:embed="rId2"/>
          <a:stretch/>
        </p:blipFill>
        <p:spPr>
          <a:xfrm>
            <a:off x="3995640" y="228600"/>
            <a:ext cx="3670560" cy="2768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"/>
          <p:cNvPicPr/>
          <p:nvPr/>
        </p:nvPicPr>
        <p:blipFill>
          <a:blip r:embed="rId3"/>
          <a:stretch/>
        </p:blipFill>
        <p:spPr>
          <a:xfrm>
            <a:off x="965160" y="3713040"/>
            <a:ext cx="2311560" cy="180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9" descr=""/>
          <p:cNvPicPr/>
          <p:nvPr/>
        </p:nvPicPr>
        <p:blipFill>
          <a:blip r:embed="rId4"/>
          <a:stretch/>
        </p:blipFill>
        <p:spPr>
          <a:xfrm>
            <a:off x="4140360" y="3252960"/>
            <a:ext cx="3670200" cy="2768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611280" y="296712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ɛ =0,25 – обмеження наростання коливань і виникнення суперкритичної біфуркації Андронова-Хопф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95280" y="592920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ɛ =0,3 – осциляторний режим (виникнення гармонійних коливан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900000" y="6218280"/>
            <a:ext cx="727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4 – Обмеження наростання генерованих коливань і виникнення суперкритичної біфуркації Андронова-Хопф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23115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2"/>
          <a:stretch/>
        </p:blipFill>
        <p:spPr>
          <a:xfrm>
            <a:off x="3851280" y="66600"/>
            <a:ext cx="3670200" cy="27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3"/>
          <a:stretch/>
        </p:blipFill>
        <p:spPr>
          <a:xfrm>
            <a:off x="971640" y="3519360"/>
            <a:ext cx="2311200" cy="1803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"/>
          <p:cNvPicPr/>
          <p:nvPr/>
        </p:nvPicPr>
        <p:blipFill>
          <a:blip r:embed="rId4"/>
          <a:stretch/>
        </p:blipFill>
        <p:spPr>
          <a:xfrm>
            <a:off x="3851280" y="3036960"/>
            <a:ext cx="3670200" cy="27684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2195280" y="2719440"/>
            <a:ext cx="34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иникнення квазігармонійних колив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2368440" y="5680080"/>
            <a:ext cx="30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елаксаційні електричні коли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539640" y="603576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5 – Перехід від квазігармонійних до релаксаційних електричних коливань у генераторах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і транзисторних структур з від’ємним оп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6" descr=""/>
          <p:cNvPicPr/>
          <p:nvPr/>
        </p:nvPicPr>
        <p:blipFill>
          <a:blip r:embed="rId1"/>
          <a:stretch/>
        </p:blipFill>
        <p:spPr>
          <a:xfrm>
            <a:off x="1108080" y="878040"/>
            <a:ext cx="2311560" cy="180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"/>
          <p:cNvPicPr/>
          <p:nvPr/>
        </p:nvPicPr>
        <p:blipFill>
          <a:blip r:embed="rId2"/>
          <a:stretch/>
        </p:blipFill>
        <p:spPr>
          <a:xfrm>
            <a:off x="3854520" y="378000"/>
            <a:ext cx="3670200" cy="2768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"/>
          <p:cNvPicPr/>
          <p:nvPr/>
        </p:nvPicPr>
        <p:blipFill>
          <a:blip r:embed="rId3"/>
          <a:stretch/>
        </p:blipFill>
        <p:spPr>
          <a:xfrm>
            <a:off x="1081080" y="3728880"/>
            <a:ext cx="2338560" cy="1803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"/>
          <p:cNvPicPr/>
          <p:nvPr/>
        </p:nvPicPr>
        <p:blipFill>
          <a:blip r:embed="rId4"/>
          <a:stretch/>
        </p:blipFill>
        <p:spPr>
          <a:xfrm>
            <a:off x="3854520" y="3297240"/>
            <a:ext cx="3670200" cy="2768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963720" y="62182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6 – Перехід від релаксаційних до імпульсних електричних колив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919240" y="292896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ɛ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2920320" y="5661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ɛ=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8:00:03Z</dcterms:created>
  <dc:creator>Матола</dc:creator>
  <dc:description/>
  <dc:language>en-US</dc:language>
  <cp:lastModifiedBy>Admin</cp:lastModifiedBy>
  <dcterms:modified xsi:type="dcterms:W3CDTF">2015-11-24T09:12:55Z</dcterms:modified>
  <cp:revision>68</cp:revision>
  <dc:subject/>
  <dc:title>Слайд 1</dc:title>
</cp:coreProperties>
</file>