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media/image50.png" ContentType="image/png"/>
  <Override PartName="/ppt/media/image52.wmf" ContentType="image/x-wmf"/>
  <Override PartName="/ppt/media/image49.png" ContentType="image/png"/>
  <Override PartName="/ppt/media/image47.png" ContentType="image/png"/>
  <Override PartName="/ppt/media/image46.png" ContentType="image/png"/>
  <Override PartName="/ppt/media/image5.wmf" ContentType="image/x-wmf"/>
  <Override PartName="/ppt/media/image35.wmf" ContentType="image/x-wmf"/>
  <Override PartName="/ppt/media/image28.wmf" ContentType="image/x-wmf"/>
  <Override PartName="/ppt/media/image31.wmf" ContentType="image/x-wmf"/>
  <Override PartName="/ppt/media/image1.wmf" ContentType="image/x-wmf"/>
  <Override PartName="/ppt/media/image54.wmf" ContentType="image/x-wmf"/>
  <Override PartName="/ppt/media/image14.png" ContentType="image/png"/>
  <Override PartName="/ppt/media/image55.wmf" ContentType="image/x-wmf"/>
  <Override PartName="/ppt/media/image15.png" ContentType="image/png"/>
  <Override PartName="/ppt/media/image56.wmf" ContentType="image/x-wmf"/>
  <Override PartName="/ppt/media/image16.png" ContentType="image/png"/>
  <Override PartName="/ppt/media/image57.wmf" ContentType="image/x-wmf"/>
  <Override PartName="/ppt/media/image17.png" ContentType="image/png"/>
  <Override PartName="/ppt/media/image4.wmf" ContentType="image/x-wmf"/>
  <Override PartName="/ppt/media/image64.wmf" ContentType="image/x-wmf"/>
  <Override PartName="/ppt/media/image24.png" ContentType="image/png"/>
  <Override PartName="/ppt/media/image3.wmf" ContentType="image/x-wmf"/>
  <Override PartName="/ppt/media/image63.wmf" ContentType="image/x-wmf"/>
  <Override PartName="/ppt/media/image23.png" ContentType="image/png"/>
  <Override PartName="/ppt/media/image2.wmf" ContentType="image/x-wmf"/>
  <Override PartName="/ppt/media/image62.wmf" ContentType="image/x-wmf"/>
  <Override PartName="/ppt/media/image22.png" ContentType="image/png"/>
  <Override PartName="/ppt/media/image26.png" ContentType="image/png"/>
  <Override PartName="/ppt/media/image61.wmf" ContentType="image/x-wmf"/>
  <Override PartName="/ppt/media/image21.png" ContentType="image/png"/>
  <Override PartName="/ppt/media/image59.wmf" ContentType="image/x-wmf"/>
  <Override PartName="/ppt/media/image60.wmf" ContentType="image/x-wmf"/>
  <Override PartName="/ppt/media/image20.png" ContentType="image/png"/>
  <Override PartName="/ppt/media/image58.wmf" ContentType="image/x-wmf"/>
  <Override PartName="/ppt/media/image25.png" ContentType="image/png"/>
  <Override PartName="/ppt/media/image10.wmf" ContentType="image/x-wmf"/>
  <Override PartName="/ppt/media/image29.wmf" ContentType="image/x-wmf"/>
  <Override PartName="/ppt/media/image11.png" ContentType="image/png"/>
  <Override PartName="/ppt/media/image48.png" ContentType="image/png"/>
  <Override PartName="/ppt/media/image6.wmf" ContentType="image/x-wmf"/>
  <Override PartName="/ppt/media/image36.wmf" ContentType="image/x-wmf"/>
  <Override PartName="/ppt/media/image7.wmf" ContentType="image/x-wmf"/>
  <Override PartName="/ppt/media/image37.wmf" ContentType="image/x-wmf"/>
  <Override PartName="/ppt/media/image19.png" ContentType="image/png"/>
  <Override PartName="/ppt/media/image41.wmf" ContentType="image/x-wmf"/>
  <Override PartName="/ppt/media/image27.png" ContentType="image/png"/>
  <Override PartName="/ppt/media/image30.wmf" ContentType="image/x-wmf"/>
  <Override PartName="/ppt/media/image12.wmf" ContentType="image/x-wmf"/>
  <Override PartName="/ppt/media/image51.png" ContentType="image/png"/>
  <Override PartName="/ppt/media/image13.png" ContentType="image/png"/>
  <Override PartName="/ppt/media/image53.wmf" ContentType="image/x-wmf"/>
  <Override PartName="/ppt/media/image8.png" ContentType="image/png"/>
  <Override PartName="/ppt/media/image42.wmf" ContentType="image/x-wmf"/>
  <Override PartName="/ppt/media/image32.png" ContentType="image/png"/>
  <Override PartName="/ppt/media/image33.png" ContentType="image/png"/>
  <Override PartName="/ppt/media/image34.png" ContentType="image/png"/>
  <Override PartName="/ppt/media/image38.wmf" ContentType="image/x-wmf"/>
  <Override PartName="/ppt/media/image39.wmf" ContentType="image/x-wmf"/>
  <Override PartName="/ppt/media/image18.png" ContentType="image/png"/>
  <Override PartName="/ppt/media/image40.wmf" ContentType="image/x-wmf"/>
  <Override PartName="/ppt/media/image9.png" ContentType="image/png"/>
  <Override PartName="/ppt/media/image43.wmf" ContentType="image/x-wmf"/>
  <Override PartName="/ppt/media/image44.png" ContentType="image/png"/>
  <Override PartName="/ppt/media/image4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7252-22CE-45CA-AF3A-5BD57DA60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F147-B09D-49BA-B28C-6AACDE5A0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0833-5F80-4051-81B8-BC3280388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4200-A50E-4F20-AFE6-9BFF6A3F3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5D90-0579-400C-81F3-1D8C85CAF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800D-F33F-4460-91E5-2C363B8EF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69AF-A490-4D25-A43B-C107C519D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2D35-A49E-4CF1-8EE4-5020A6CEC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5D20-ABCD-43BF-8053-E3D0CB031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4777-4542-4429-9504-B454E520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22AD-0F1D-41E2-BB9D-5D8738E9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97E2-7644-4D56-A3D9-38FABC79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3D855-48E4-45F5-AE99-AC2CFE91A5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image" Target="../media/image32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62.wmf"/><Relationship Id="rId2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4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image" Target="../media/image11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9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755640" y="260280"/>
            <a:ext cx="7848720" cy="58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Вінницький національний технічний університ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Факультет радіотехніки, зв'язку та приладобуду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Кафедр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радіотехні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Дослідження шумових властивостей генераторів електричних коливань на основі транзисторних структур з від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’ємним опор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магістерська кваліфікаційна робота за спеціальніст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8.05090101 – Радіотехні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озробив студент гр. РТ-14м  Луцький Є. Ф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керівник – к.т.н., доц., професор каф. РТ Семенов А. 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інниця ВНТУ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3"/>
          <p:cNvSpPr/>
          <p:nvPr/>
        </p:nvSpPr>
        <p:spPr>
          <a:xfrm>
            <a:off x="1624320" y="81000"/>
            <a:ext cx="54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ифікована математична модель Ван-дер-По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Объект 5"/>
          <p:cNvGraphicFramePr/>
          <p:nvPr/>
        </p:nvGraphicFramePr>
        <p:xfrm>
          <a:off x="2814480" y="758880"/>
          <a:ext cx="2959200" cy="60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4480" y="758880"/>
                    <a:ext cx="2959200" cy="601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2" name="Прямоугольник 12"/>
          <p:cNvSpPr/>
          <p:nvPr/>
        </p:nvSpPr>
        <p:spPr>
          <a:xfrm>
            <a:off x="204840" y="140796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 безрозмірні коефіцієнти із урахуванням апроксимаці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Объект 14"/>
          <p:cNvGraphicFramePr/>
          <p:nvPr/>
        </p:nvGraphicFramePr>
        <p:xfrm>
          <a:off x="1447920" y="1844640"/>
          <a:ext cx="1981080" cy="50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Объект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1844640"/>
                    <a:ext cx="198108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Объект 16"/>
          <p:cNvGraphicFramePr/>
          <p:nvPr/>
        </p:nvGraphicFramePr>
        <p:xfrm>
          <a:off x="3936960" y="1854360"/>
          <a:ext cx="714240" cy="48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6" name="Объект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36960" y="1854360"/>
                    <a:ext cx="71424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Объект 18"/>
          <p:cNvGraphicFramePr/>
          <p:nvPr/>
        </p:nvGraphicFramePr>
        <p:xfrm>
          <a:off x="5137200" y="1765440"/>
          <a:ext cx="809640" cy="523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8" name="Объект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37200" y="1765440"/>
                    <a:ext cx="80964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9" name="Рисунок 7" descr=""/>
          <p:cNvPicPr/>
          <p:nvPr/>
        </p:nvPicPr>
        <p:blipFill>
          <a:blip r:embed="rId9"/>
          <a:stretch/>
        </p:blipFill>
        <p:spPr>
          <a:xfrm>
            <a:off x="1979640" y="3029040"/>
            <a:ext cx="4778280" cy="350676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1"/>
          <p:cNvSpPr/>
          <p:nvPr/>
        </p:nvSpPr>
        <p:spPr>
          <a:xfrm>
            <a:off x="2082960" y="264960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я 4.1 – Фазові портрети генераторів при g=0.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Рисунок 1" descr=""/>
          <p:cNvPicPr/>
          <p:nvPr/>
        </p:nvPicPr>
        <p:blipFill>
          <a:blip r:embed="rId1"/>
          <a:stretch/>
        </p:blipFill>
        <p:spPr>
          <a:xfrm>
            <a:off x="600120" y="189000"/>
            <a:ext cx="4187880" cy="312588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2" descr=""/>
          <p:cNvPicPr/>
          <p:nvPr/>
        </p:nvPicPr>
        <p:blipFill>
          <a:blip r:embed="rId2"/>
          <a:stretch/>
        </p:blipFill>
        <p:spPr>
          <a:xfrm>
            <a:off x="611280" y="3429000"/>
            <a:ext cx="4179960" cy="331488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3"/>
          <p:cNvSpPr/>
          <p:nvPr/>
        </p:nvSpPr>
        <p:spPr>
          <a:xfrm>
            <a:off x="4944960" y="765000"/>
            <a:ext cx="279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я 2 – Фазові портре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ераторів при g=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4"/>
          <p:cNvSpPr/>
          <p:nvPr/>
        </p:nvSpPr>
        <p:spPr>
          <a:xfrm>
            <a:off x="5076720" y="4221000"/>
            <a:ext cx="244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я 3 – Фазові портре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ераторів при g=1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3"/>
          <p:cNvSpPr/>
          <p:nvPr/>
        </p:nvSpPr>
        <p:spPr>
          <a:xfrm>
            <a:off x="971640" y="11592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не дослідження генераторів з адитивним Гауссовим шум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Объект 5"/>
          <p:cNvGraphicFramePr/>
          <p:nvPr/>
        </p:nvGraphicFramePr>
        <p:xfrm>
          <a:off x="2987640" y="1254240"/>
          <a:ext cx="2505240" cy="9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1254240"/>
                    <a:ext cx="2505240" cy="952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8" name="Прямоугольник 6"/>
          <p:cNvSpPr/>
          <p:nvPr/>
        </p:nvSpPr>
        <p:spPr>
          <a:xfrm>
            <a:off x="324000" y="650880"/>
            <a:ext cx="820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випадку адитивного гауссового шуму авторами апробовано модифіковану математичну модель Ван дер Поля вид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7"/>
          <p:cNvSpPr/>
          <p:nvPr/>
        </p:nvSpPr>
        <p:spPr>
          <a:xfrm>
            <a:off x="325800" y="2470320"/>
            <a:ext cx="35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Объект 9"/>
          <p:cNvGraphicFramePr/>
          <p:nvPr/>
        </p:nvGraphicFramePr>
        <p:xfrm>
          <a:off x="684360" y="2562120"/>
          <a:ext cx="142560" cy="15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Объект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2562120"/>
                    <a:ext cx="142560" cy="1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Прямоугольник 10"/>
          <p:cNvSpPr/>
          <p:nvPr/>
        </p:nvSpPr>
        <p:spPr>
          <a:xfrm>
            <a:off x="755640" y="2470320"/>
            <a:ext cx="739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езрозмірна змінна, яка являє собою приведену напругу на коливальному контурі генератор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Объект 12"/>
          <p:cNvGraphicFramePr/>
          <p:nvPr/>
        </p:nvGraphicFramePr>
        <p:xfrm>
          <a:off x="674640" y="2806560"/>
          <a:ext cx="152280" cy="190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" name="Объект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4640" y="2806560"/>
                    <a:ext cx="152280" cy="1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Прямоугольник 13"/>
          <p:cNvSpPr/>
          <p:nvPr/>
        </p:nvSpPr>
        <p:spPr>
          <a:xfrm>
            <a:off x="750960" y="2712960"/>
            <a:ext cx="566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езрозмірна змінна, яка являє собою приведений струм індуктивності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Объект 15"/>
          <p:cNvGraphicFramePr/>
          <p:nvPr/>
        </p:nvGraphicFramePr>
        <p:xfrm>
          <a:off x="639720" y="3035160"/>
          <a:ext cx="219240" cy="238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7" name="Объект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9720" y="3035160"/>
                    <a:ext cx="219240" cy="2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Прямоугольник 16"/>
          <p:cNvSpPr/>
          <p:nvPr/>
        </p:nvSpPr>
        <p:spPr>
          <a:xfrm>
            <a:off x="800280" y="2997360"/>
            <a:ext cx="230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астота власних коливань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Объект 18"/>
          <p:cNvGraphicFramePr/>
          <p:nvPr/>
        </p:nvGraphicFramePr>
        <p:xfrm>
          <a:off x="577800" y="3343320"/>
          <a:ext cx="343080" cy="266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0" name="Объект 1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7800" y="3343320"/>
                    <a:ext cx="34308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Прямоугольник 19"/>
          <p:cNvSpPr/>
          <p:nvPr/>
        </p:nvSpPr>
        <p:spPr>
          <a:xfrm>
            <a:off x="873000" y="329580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ормоване джерело білого Гауссового шум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Объект 21"/>
          <p:cNvGraphicFramePr/>
          <p:nvPr/>
        </p:nvGraphicFramePr>
        <p:xfrm>
          <a:off x="685800" y="3697200"/>
          <a:ext cx="190440" cy="181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3" name="Объект 2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85800" y="3697200"/>
                    <a:ext cx="19044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Прямоугольник 22"/>
          <p:cNvSpPr/>
          <p:nvPr/>
        </p:nvSpPr>
        <p:spPr>
          <a:xfrm>
            <a:off x="855720" y="3610080"/>
            <a:ext cx="184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інтенсивність шум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3"/>
          <p:cNvSpPr/>
          <p:nvPr/>
        </p:nvSpPr>
        <p:spPr>
          <a:xfrm>
            <a:off x="585720" y="3909960"/>
            <a:ext cx="58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метри нормованого джерела білого Гауссового шуму так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Объект 25"/>
          <p:cNvGraphicFramePr/>
          <p:nvPr/>
        </p:nvGraphicFramePr>
        <p:xfrm>
          <a:off x="2556000" y="4406760"/>
          <a:ext cx="733320" cy="295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7" name="Объект 2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56000" y="4406760"/>
                    <a:ext cx="733320" cy="2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Объект 27"/>
          <p:cNvGraphicFramePr/>
          <p:nvPr/>
        </p:nvGraphicFramePr>
        <p:xfrm>
          <a:off x="3673440" y="4406760"/>
          <a:ext cx="1562040" cy="295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9" name="Объект 27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673440" y="4406760"/>
                    <a:ext cx="1562040" cy="2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Прямоугольник 28"/>
          <p:cNvSpPr/>
          <p:nvPr/>
        </p:nvSpPr>
        <p:spPr>
          <a:xfrm>
            <a:off x="501480" y="4808520"/>
            <a:ext cx="745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яхом математичних перетворень систему диференціальних рівнянь приведено до одного диференціального рівняння відносно напруги генерованих колива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Объект 30"/>
          <p:cNvGraphicFramePr/>
          <p:nvPr/>
        </p:nvGraphicFramePr>
        <p:xfrm>
          <a:off x="2987640" y="5589720"/>
          <a:ext cx="2543040" cy="485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62" name="Объект 3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987640" y="5589720"/>
                    <a:ext cx="2543040" cy="48564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1793880" y="722160"/>
            <a:ext cx="2128680" cy="16066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"/>
          <p:cNvPicPr/>
          <p:nvPr/>
        </p:nvPicPr>
        <p:blipFill>
          <a:blip r:embed="rId2"/>
          <a:stretch/>
        </p:blipFill>
        <p:spPr>
          <a:xfrm>
            <a:off x="4819680" y="577800"/>
            <a:ext cx="2273400" cy="175104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оугольник 3"/>
          <p:cNvSpPr/>
          <p:nvPr/>
        </p:nvSpPr>
        <p:spPr>
          <a:xfrm>
            <a:off x="826920" y="2473200"/>
            <a:ext cx="7274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7 – Фазовий портрет і форма напруги власних коливань генератора (без шуму)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сциляторному режим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3"/>
          <a:stretch/>
        </p:blipFill>
        <p:spPr>
          <a:xfrm>
            <a:off x="1662120" y="3357720"/>
            <a:ext cx="2273400" cy="17240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"/>
          <p:cNvPicPr/>
          <p:nvPr/>
        </p:nvPicPr>
        <p:blipFill>
          <a:blip r:embed="rId4"/>
          <a:stretch/>
        </p:blipFill>
        <p:spPr>
          <a:xfrm>
            <a:off x="4541760" y="3284640"/>
            <a:ext cx="2573280" cy="1893960"/>
          </a:xfrm>
          <a:prstGeom prst="rect">
            <a:avLst/>
          </a:prstGeom>
          <a:ln w="0">
            <a:noFill/>
          </a:ln>
        </p:spPr>
      </p:pic>
      <p:sp>
        <p:nvSpPr>
          <p:cNvPr id="168" name="Прямоугольник 4"/>
          <p:cNvSpPr/>
          <p:nvPr/>
        </p:nvSpPr>
        <p:spPr>
          <a:xfrm>
            <a:off x="826920" y="5442120"/>
            <a:ext cx="7129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8 – Фазовий портрет генератора і форма напруги генерованих коливань із урахуванням адитивного гауссового шуму в осциляторному режим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1187280" y="579600"/>
            <a:ext cx="2314800" cy="1800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"/>
          <p:cNvPicPr/>
          <p:nvPr/>
        </p:nvPicPr>
        <p:blipFill>
          <a:blip r:embed="rId2"/>
          <a:stretch/>
        </p:blipFill>
        <p:spPr>
          <a:xfrm>
            <a:off x="4140360" y="317520"/>
            <a:ext cx="3138480" cy="2390760"/>
          </a:xfrm>
          <a:prstGeom prst="rect">
            <a:avLst/>
          </a:prstGeom>
          <a:ln w="0">
            <a:noFill/>
          </a:ln>
        </p:spPr>
      </p:pic>
      <p:sp>
        <p:nvSpPr>
          <p:cNvPr id="171" name="Прямоугольник 3"/>
          <p:cNvSpPr/>
          <p:nvPr/>
        </p:nvSpPr>
        <p:spPr>
          <a:xfrm>
            <a:off x="539640" y="2689200"/>
            <a:ext cx="799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9 – Фазовий портрет генератора і часова діаграма напруги із адитивним гауссовим шумом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лаксаційному режим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3"/>
          <a:stretch/>
        </p:blipFill>
        <p:spPr>
          <a:xfrm>
            <a:off x="847800" y="3933720"/>
            <a:ext cx="2363760" cy="17892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"/>
          <p:cNvPicPr/>
          <p:nvPr/>
        </p:nvPicPr>
        <p:blipFill>
          <a:blip r:embed="rId4"/>
          <a:stretch/>
        </p:blipFill>
        <p:spPr>
          <a:xfrm>
            <a:off x="3564000" y="3213000"/>
            <a:ext cx="3709800" cy="2783160"/>
          </a:xfrm>
          <a:prstGeom prst="rect">
            <a:avLst/>
          </a:prstGeom>
          <a:ln w="0">
            <a:noFill/>
          </a:ln>
        </p:spPr>
      </p:pic>
      <p:sp>
        <p:nvSpPr>
          <p:cNvPr id="174" name="Прямоугольник 8"/>
          <p:cNvSpPr/>
          <p:nvPr/>
        </p:nvSpPr>
        <p:spPr>
          <a:xfrm>
            <a:off x="611280" y="5996160"/>
            <a:ext cx="799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10 – Фазовий портрет генератора і часова діаграма напруги із адитивним гауссовим шумом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імпульсному режим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Прямоугольник 3"/>
          <p:cNvSpPr/>
          <p:nvPr/>
        </p:nvSpPr>
        <p:spPr>
          <a:xfrm>
            <a:off x="611280" y="11592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кореляційна функція напруги генератора електричних коливань із адитивним гауссовим шум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4"/>
          <p:cNvSpPr/>
          <p:nvPr/>
        </p:nvSpPr>
        <p:spPr>
          <a:xfrm>
            <a:off x="179280" y="836640"/>
            <a:ext cx="835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 були встановлено адитивний гаусів шум подвійно впливає на напругу генерованих коливань – він модулює амплітуду та вносить випадково флуктуйований фазовий шу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Объект 6"/>
          <p:cNvGraphicFramePr/>
          <p:nvPr/>
        </p:nvGraphicFramePr>
        <p:xfrm>
          <a:off x="2481120" y="1407960"/>
          <a:ext cx="3286440" cy="37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1120" y="1407960"/>
                    <a:ext cx="3286440" cy="37152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9" name="Прямоугольник 7"/>
          <p:cNvSpPr/>
          <p:nvPr/>
        </p:nvSpPr>
        <p:spPr>
          <a:xfrm>
            <a:off x="181440" y="1989000"/>
            <a:ext cx="35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Объект 9"/>
          <p:cNvGraphicFramePr/>
          <p:nvPr/>
        </p:nvGraphicFramePr>
        <p:xfrm>
          <a:off x="531720" y="2030400"/>
          <a:ext cx="343080" cy="26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Объект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1720" y="2030400"/>
                    <a:ext cx="34308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Прямоугольник 10"/>
          <p:cNvSpPr/>
          <p:nvPr/>
        </p:nvSpPr>
        <p:spPr>
          <a:xfrm>
            <a:off x="847080" y="1989000"/>
            <a:ext cx="314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писує модуляцію амплітуди шумом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Объект 12"/>
          <p:cNvGraphicFramePr/>
          <p:nvPr/>
        </p:nvGraphicFramePr>
        <p:xfrm>
          <a:off x="4024440" y="2036880"/>
          <a:ext cx="380880" cy="266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4" name="Объект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24440" y="2036880"/>
                    <a:ext cx="38088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Прямоугольник 13"/>
          <p:cNvSpPr/>
          <p:nvPr/>
        </p:nvSpPr>
        <p:spPr>
          <a:xfrm>
            <a:off x="4404600" y="1989000"/>
            <a:ext cx="27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писує модуляцію фази шумом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Объект 15"/>
          <p:cNvGraphicFramePr/>
          <p:nvPr/>
        </p:nvGraphicFramePr>
        <p:xfrm>
          <a:off x="531720" y="2367000"/>
          <a:ext cx="228600" cy="237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7" name="Объект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1720" y="2367000"/>
                    <a:ext cx="22860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Прямоугольник 16"/>
          <p:cNvSpPr/>
          <p:nvPr/>
        </p:nvSpPr>
        <p:spPr>
          <a:xfrm>
            <a:off x="749160" y="2303640"/>
            <a:ext cx="675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мплітуда власних стаціонарних коливань напруги генератора за відсутності шум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7"/>
          <p:cNvSpPr/>
          <p:nvPr/>
        </p:nvSpPr>
        <p:spPr>
          <a:xfrm>
            <a:off x="468360" y="2637000"/>
            <a:ext cx="696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визначенням автокореляційна функція генерованої напруги усередненої по ансамбл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Объект 19"/>
          <p:cNvGraphicFramePr/>
          <p:nvPr/>
        </p:nvGraphicFramePr>
        <p:xfrm>
          <a:off x="2712960" y="3000240"/>
          <a:ext cx="2822760" cy="716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1" name="Объект 1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12960" y="3000240"/>
                    <a:ext cx="282276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Объект 21"/>
          <p:cNvGraphicFramePr/>
          <p:nvPr/>
        </p:nvGraphicFramePr>
        <p:xfrm>
          <a:off x="264960" y="3817800"/>
          <a:ext cx="8123400" cy="1108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3" name="Объект 2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64960" y="3817800"/>
                    <a:ext cx="8123400" cy="110808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4" name="Прямоугольник 22"/>
          <p:cNvSpPr/>
          <p:nvPr/>
        </p:nvSpPr>
        <p:spPr>
          <a:xfrm>
            <a:off x="200520" y="5064120"/>
            <a:ext cx="35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Объект 2"/>
          <p:cNvGraphicFramePr/>
          <p:nvPr/>
        </p:nvGraphicFramePr>
        <p:xfrm>
          <a:off x="542880" y="5086440"/>
          <a:ext cx="457200" cy="304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96" name="Объект 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42880" y="5086440"/>
                    <a:ext cx="45720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Объект 4"/>
          <p:cNvGraphicFramePr/>
          <p:nvPr/>
        </p:nvGraphicFramePr>
        <p:xfrm>
          <a:off x="1187280" y="5070600"/>
          <a:ext cx="466920" cy="314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98" name="Объект 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187280" y="5070600"/>
                    <a:ext cx="46692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Прямоугольник 22"/>
          <p:cNvSpPr/>
          <p:nvPr/>
        </p:nvSpPr>
        <p:spPr>
          <a:xfrm>
            <a:off x="973440" y="509580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5"/>
          <p:cNvSpPr/>
          <p:nvPr/>
        </p:nvSpPr>
        <p:spPr>
          <a:xfrm>
            <a:off x="1738440" y="5065560"/>
            <a:ext cx="57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втокореляційні функції флуктуацій амплітуди та фази відповідно, 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Объект 7"/>
          <p:cNvGraphicFramePr/>
          <p:nvPr/>
        </p:nvGraphicFramePr>
        <p:xfrm>
          <a:off x="2614680" y="5402160"/>
          <a:ext cx="3200400" cy="561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02" name="Объект 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614680" y="5402160"/>
                    <a:ext cx="32004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Прямоугольник 8"/>
          <p:cNvSpPr/>
          <p:nvPr/>
        </p:nvSpPr>
        <p:spPr>
          <a:xfrm>
            <a:off x="221040" y="5992920"/>
            <a:ext cx="267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ає взаємну кореляцію мі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Объект 10"/>
          <p:cNvGraphicFramePr/>
          <p:nvPr/>
        </p:nvGraphicFramePr>
        <p:xfrm>
          <a:off x="2881440" y="6033960"/>
          <a:ext cx="342720" cy="2667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05" name="Объект 10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881440" y="6033960"/>
                    <a:ext cx="34272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Объект 12"/>
          <p:cNvGraphicFramePr/>
          <p:nvPr/>
        </p:nvGraphicFramePr>
        <p:xfrm>
          <a:off x="3419640" y="6026040"/>
          <a:ext cx="380880" cy="2667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07" name="Объект 1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419640" y="6026040"/>
                    <a:ext cx="38088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Прямоугольник 22"/>
          <p:cNvSpPr/>
          <p:nvPr/>
        </p:nvSpPr>
        <p:spPr>
          <a:xfrm>
            <a:off x="3187080" y="598644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Прямоугольник 3"/>
          <p:cNvSpPr/>
          <p:nvPr/>
        </p:nvSpPr>
        <p:spPr>
          <a:xfrm>
            <a:off x="611280" y="11592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ктральна щільність напруги генератора електричних коливань із адитивним Гауссовим шум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4"/>
          <p:cNvSpPr/>
          <p:nvPr/>
        </p:nvSpPr>
        <p:spPr>
          <a:xfrm>
            <a:off x="395280" y="981000"/>
            <a:ext cx="828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допомогою інтегралу зворотного перетворення Вінера-Хінчіна, можна отримати спектральну щільність генерованої напруг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Объект 6"/>
          <p:cNvGraphicFramePr/>
          <p:nvPr/>
        </p:nvGraphicFramePr>
        <p:xfrm>
          <a:off x="3332160" y="1781280"/>
          <a:ext cx="2336760" cy="66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2160" y="1781280"/>
                    <a:ext cx="233676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Объект 8"/>
          <p:cNvGraphicFramePr/>
          <p:nvPr/>
        </p:nvGraphicFramePr>
        <p:xfrm>
          <a:off x="487440" y="2857680"/>
          <a:ext cx="7746840" cy="123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Объект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440" y="2857680"/>
                    <a:ext cx="7746840" cy="1231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5" name="Прямоугольник 9"/>
          <p:cNvSpPr/>
          <p:nvPr/>
        </p:nvSpPr>
        <p:spPr>
          <a:xfrm>
            <a:off x="395280" y="4653000"/>
            <a:ext cx="747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ова, що містить дельту-функцію описує вплив шуму на власні коливання. Послаблення впливу дельта-функції відбувається внаслідок флуктуацій фаз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Прямоугольник 3"/>
          <p:cNvSpPr/>
          <p:nvPr/>
        </p:nvSpPr>
        <p:spPr>
          <a:xfrm>
            <a:off x="3714840" y="44280"/>
            <a:ext cx="152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НОВ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4"/>
          <p:cNvSpPr/>
          <p:nvPr/>
        </p:nvSpPr>
        <p:spPr>
          <a:xfrm>
            <a:off x="324000" y="41904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имано такі основні наукові та практичні результат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5"/>
          <p:cNvSpPr/>
          <p:nvPr/>
        </p:nvSpPr>
        <p:spPr>
          <a:xfrm>
            <a:off x="324000" y="692280"/>
            <a:ext cx="849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У роботі апробовано модифіковану математичну модель Ван-дер-Поля для дослідження впливу білого гауссівського шуму в генераторах детерміновано хаосу на основі транзисторних структур з від’ємним опором. Отримано часові діаграми та фазові портрети таких генераторів у різних режимах робо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6"/>
          <p:cNvSpPr/>
          <p:nvPr/>
        </p:nvSpPr>
        <p:spPr>
          <a:xfrm>
            <a:off x="324000" y="1395360"/>
            <a:ext cx="8208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За допомогою модифікованої математичної моделі Ван-дер-Поля проведено дослідження реалізації режиму суперкритичної біфуркації Андронова-Хопфа в генераторах на основі транзисторних структур з від’ємним опором і визначено її поріг виникнення. Проаналізовано зв'язок між біфуркаційним параметром та амплітудою генерованих квазігармонічних коливан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7"/>
          <p:cNvSpPr/>
          <p:nvPr/>
        </p:nvSpPr>
        <p:spPr>
          <a:xfrm>
            <a:off x="324000" y="2349360"/>
            <a:ext cx="828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За допомогою модифікованого рівняння Ван-дер-Поля отримано фазові портрети генераторів електричних коливань на основі транзисторних структур з від’ємним опором. Дослідження проведено для осциляторного і релаксаційного режимів роботи генераторі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8"/>
          <p:cNvSpPr/>
          <p:nvPr/>
        </p:nvSpPr>
        <p:spPr>
          <a:xfrm>
            <a:off x="326880" y="3063960"/>
            <a:ext cx="8348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За допомогою модифікованої моделі Ван-дер-Поля встановлено, що адитивний гауссів шум подвійно впливає на напругу генерованих коливань – він модулює амплітуду генерованих коливань та вносить випадково флуктуйований фазовий шу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9"/>
          <p:cNvSpPr/>
          <p:nvPr/>
        </p:nvSpPr>
        <p:spPr>
          <a:xfrm>
            <a:off x="324000" y="3803760"/>
            <a:ext cx="83516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имала подальший розвиток математична модель Ван-дер-Поля для дослідження впливу шуму на фізичні процеси, які відбуваються в радіовимірювальних генераторах на основі транзисторних структур з від’ємним опором. Уточнено параметри шумової моделі Ван-дер-Поля таких генераторів за допомогою якої отримано фазові портрети та часові діаграми генерованих коливань за відсутності та при наявності адитивного білого шум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10"/>
          <p:cNvSpPr/>
          <p:nvPr/>
        </p:nvSpPr>
        <p:spPr>
          <a:xfrm>
            <a:off x="324000" y="4971960"/>
            <a:ext cx="849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Встановлено, що при дослідженні хаотичних і шумових процесів у пакеті програм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hCad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5.0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тодом Рунге-Кутта четвертого порядку модифіковану математичну модель Ван-дер-Поля зручно подавати системою нелінійних диференціальних рівнянь першого порядк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11"/>
          <p:cNvSpPr/>
          <p:nvPr/>
        </p:nvSpPr>
        <p:spPr>
          <a:xfrm>
            <a:off x="324000" y="5711760"/>
            <a:ext cx="849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темою досліджень автором опубліковано 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праць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 яких 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вида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ні, що входить до наукометричних баз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US i IEEE Explore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у фаховому виданні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 переліку 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К України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у збірниках праць і 2 тези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іжнародних науково-технічних і науково-практичних конференці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"/>
          <p:cNvSpPr/>
          <p:nvPr/>
        </p:nvSpPr>
        <p:spPr>
          <a:xfrm>
            <a:off x="2195640" y="177912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Доповідь заверше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2195640" y="257112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Дякую за увагу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165960" y="866160"/>
            <a:ext cx="853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Мета роботи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полягає в удосконаленні математичної моделі Ван-дер-По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ля опису хаотичних і шумових сигналів у генераторах електричних коливан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а основі транзисторних структу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 від’ємним опором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32120" y="2208240"/>
            <a:ext cx="84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Об’єктом дослідження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є процеси перетворення енергіє джерела живлен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 незатухаючі в часі періодичні та неперіодичні коливанн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127800" y="3071880"/>
            <a:ext cx="822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Предметом дослідження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є математичні моделі генераторів електричн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оливань на основі транзисторних структур із від’ємним опором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224280" y="3951000"/>
            <a:ext cx="8650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Задачами магістерської кваліфікаційної роботи є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наліз сучасних генераторних пристроїв, що працюють в осциляторному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а релаксаційному режим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досконалення математичної моделі Ван-дер-Поля генераторів електричних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оливань на основі транзисторних структур з від’ємним опор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ослідження хаотичних і шумових режимів роботи генераторів електричних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оливань на основі транзисторних структур з від’ємним опор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ослідження шумових параметрів і характеристик генераторів електричних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оливань на основі транзисторних структур з від’ємним опор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"/>
          <p:cNvSpPr/>
          <p:nvPr/>
        </p:nvSpPr>
        <p:spPr>
          <a:xfrm>
            <a:off x="1746720" y="169920"/>
            <a:ext cx="57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Мета, об'єкт, предмет дослідження та задачі МК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-500040" y="-1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131760" y="551880"/>
            <a:ext cx="866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Наукова новизна одержаних результатів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– отримав подальший розвит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етод Ван-дер-Поля дослідження генераторів електричних коливань на основ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иладів із від’ємним опором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133200" y="1416240"/>
            <a:ext cx="859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Практична новизна одержаних результатів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– полягає в отриманих нов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езультатів модельних досліджень шумових властивостей генераторі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електричних коливань на основі транзисторних структур з від’ємним опором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189360" y="2369880"/>
            <a:ext cx="8780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Апробація результатів роботи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 Основні ідеї роботи доповідалися 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бговорювалися 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XLI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XLIV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науково-технічній конференції професорсько-викладацького складу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півробітників та студентів університету за участю працівників науково-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ослідних організацій та інженерно-технічних працівників підприємств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. Вінниці та області (м. Вінниця, ВНТУ 201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015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р.р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іжнародній науково-технічній конференції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Modern problems of radi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ineering, telecommunications, and computer science”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SET’2014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),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5 лютого – 1 березня 2014 року, Славсь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І міжнародній конференції «Вимірювання, контроль та діагностика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 технічних системах», 29-31 жовтня 2013 року, Вінниц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сеукраїнській науково-практичній on-lain конференції аспірантів, молодих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чених та студентів, присвячена Дню науки, м. Житомир, 14-16 травня 2014 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іжнародній науково-практичній конференції «Стандартизація, сертифікація,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етрологія і менеджмент», 25 вересня м. Киї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5"/>
          <p:cNvSpPr/>
          <p:nvPr/>
        </p:nvSpPr>
        <p:spPr>
          <a:xfrm>
            <a:off x="1136880" y="108000"/>
            <a:ext cx="689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Наукова та практична новизна, апробація результатів МК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1258920" y="139680"/>
            <a:ext cx="63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не дослідження суперкритичної біфуркації Андронова-Хопфа в м’якому режимі збудження генераторів електричних коливань на основі транзисторних структур з від’ємним опо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Объект 3"/>
          <p:cNvGraphicFramePr/>
          <p:nvPr/>
        </p:nvGraphicFramePr>
        <p:xfrm>
          <a:off x="985680" y="2133720"/>
          <a:ext cx="2073600" cy="138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5680" y="2133720"/>
                    <a:ext cx="2073600" cy="13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Прямоугольник 4"/>
          <p:cNvSpPr/>
          <p:nvPr/>
        </p:nvSpPr>
        <p:spPr>
          <a:xfrm>
            <a:off x="1915920" y="1511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ична математична модель Ван-дер-По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Объект 6"/>
          <p:cNvGraphicFramePr/>
          <p:nvPr/>
        </p:nvGraphicFramePr>
        <p:xfrm>
          <a:off x="4687920" y="2498760"/>
          <a:ext cx="2476440" cy="65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Объект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7920" y="2498760"/>
                    <a:ext cx="247644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Объект 8"/>
          <p:cNvGraphicFramePr/>
          <p:nvPr/>
        </p:nvGraphicFramePr>
        <p:xfrm>
          <a:off x="2584440" y="4060800"/>
          <a:ext cx="2946240" cy="82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" name="Объект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84440" y="4060800"/>
                    <a:ext cx="294624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Прямоугольник 9"/>
          <p:cNvSpPr/>
          <p:nvPr/>
        </p:nvSpPr>
        <p:spPr>
          <a:xfrm>
            <a:off x="2055240" y="3608280"/>
            <a:ext cx="384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ична математична модель Реле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0"/>
          <p:cNvSpPr/>
          <p:nvPr/>
        </p:nvSpPr>
        <p:spPr>
          <a:xfrm>
            <a:off x="110160" y="5140440"/>
            <a:ext cx="3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Объект 12"/>
          <p:cNvGraphicFramePr/>
          <p:nvPr/>
        </p:nvGraphicFramePr>
        <p:xfrm>
          <a:off x="701640" y="5052960"/>
          <a:ext cx="2095560" cy="542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3" name="Объект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1640" y="5052960"/>
                    <a:ext cx="209556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Прямоугольник 13"/>
          <p:cNvSpPr/>
          <p:nvPr/>
        </p:nvSpPr>
        <p:spPr>
          <a:xfrm>
            <a:off x="3021840" y="5145120"/>
            <a:ext cx="444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мінна, яка являє собою напругу генерац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Объект 15"/>
          <p:cNvGraphicFramePr/>
          <p:nvPr/>
        </p:nvGraphicFramePr>
        <p:xfrm>
          <a:off x="7473960" y="5211720"/>
          <a:ext cx="342720" cy="266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6" name="Объект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473960" y="5211720"/>
                    <a:ext cx="34272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Прямоугольник 16"/>
          <p:cNvSpPr/>
          <p:nvPr/>
        </p:nvSpPr>
        <p:spPr>
          <a:xfrm>
            <a:off x="3119400" y="5427720"/>
            <a:ext cx="55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овану до напівширини ділянки від'ємного опор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Объект 20"/>
          <p:cNvGraphicFramePr/>
          <p:nvPr/>
        </p:nvGraphicFramePr>
        <p:xfrm>
          <a:off x="701640" y="5761080"/>
          <a:ext cx="2143080" cy="542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9" name="Объект 2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01640" y="5761080"/>
                    <a:ext cx="214308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Прямоугольник 21"/>
          <p:cNvSpPr/>
          <p:nvPr/>
        </p:nvSpPr>
        <p:spPr>
          <a:xfrm>
            <a:off x="2957400" y="5807160"/>
            <a:ext cx="61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езрозмірна змінна, яка пропорційна струму індуктивност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Объект 23"/>
          <p:cNvGraphicFramePr/>
          <p:nvPr/>
        </p:nvGraphicFramePr>
        <p:xfrm>
          <a:off x="3119400" y="6186600"/>
          <a:ext cx="304920" cy="266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2" name="Объект 2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119400" y="6186600"/>
                    <a:ext cx="30492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Прямоугольник 24"/>
          <p:cNvSpPr/>
          <p:nvPr/>
        </p:nvSpPr>
        <p:spPr>
          <a:xfrm>
            <a:off x="3465360" y="6075360"/>
            <a:ext cx="35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вального контуру генератор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2"/>
          <p:cNvSpPr/>
          <p:nvPr/>
        </p:nvSpPr>
        <p:spPr>
          <a:xfrm>
            <a:off x="-500040" y="-1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5" descr=""/>
          <p:cNvPicPr/>
          <p:nvPr/>
        </p:nvPicPr>
        <p:blipFill>
          <a:blip r:embed="rId1"/>
          <a:stretch/>
        </p:blipFill>
        <p:spPr>
          <a:xfrm>
            <a:off x="1190520" y="3689280"/>
            <a:ext cx="2990880" cy="2351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6" descr=""/>
          <p:cNvPicPr/>
          <p:nvPr/>
        </p:nvPicPr>
        <p:blipFill>
          <a:blip r:embed="rId2"/>
          <a:stretch/>
        </p:blipFill>
        <p:spPr>
          <a:xfrm>
            <a:off x="4359240" y="3618000"/>
            <a:ext cx="3057480" cy="232560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1"/>
          <p:cNvSpPr/>
          <p:nvPr/>
        </p:nvSpPr>
        <p:spPr>
          <a:xfrm>
            <a:off x="398520" y="6237360"/>
            <a:ext cx="8248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2 – Процес виникнення коливань у генераторах електричних коливань на основі транзисторних структур з від’ємним пором: а) суміщена ВАХ із фазовим портретом; б) осцилограми становлення коливань у нормованому час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2"/>
          <p:cNvSpPr/>
          <p:nvPr/>
        </p:nvSpPr>
        <p:spPr>
          <a:xfrm>
            <a:off x="2689200" y="6012000"/>
            <a:ext cx="29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3"/>
          <p:cNvSpPr/>
          <p:nvPr/>
        </p:nvSpPr>
        <p:spPr>
          <a:xfrm>
            <a:off x="5830200" y="597708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Объект 5"/>
          <p:cNvGraphicFramePr/>
          <p:nvPr/>
        </p:nvGraphicFramePr>
        <p:xfrm>
          <a:off x="1547640" y="627120"/>
          <a:ext cx="2352960" cy="125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Объект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627120"/>
                    <a:ext cx="2352960" cy="12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Picture 29" descr=""/>
          <p:cNvPicPr/>
          <p:nvPr/>
        </p:nvPicPr>
        <p:blipFill>
          <a:blip r:embed="rId5"/>
          <a:stretch/>
        </p:blipFill>
        <p:spPr>
          <a:xfrm>
            <a:off x="4403880" y="374760"/>
            <a:ext cx="3422520" cy="168588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23"/>
          <p:cNvSpPr/>
          <p:nvPr/>
        </p:nvSpPr>
        <p:spPr>
          <a:xfrm>
            <a:off x="2536920" y="2111400"/>
            <a:ext cx="29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24"/>
          <p:cNvSpPr/>
          <p:nvPr/>
        </p:nvSpPr>
        <p:spPr>
          <a:xfrm>
            <a:off x="5677920" y="207648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6"/>
          <p:cNvSpPr/>
          <p:nvPr/>
        </p:nvSpPr>
        <p:spPr>
          <a:xfrm>
            <a:off x="398520" y="2349360"/>
            <a:ext cx="78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1 – Еквівалентна схема (а) та апроксимована ВАХ ТСВО (б) генератора електричних колива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7"/>
          <p:cNvSpPr/>
          <p:nvPr/>
        </p:nvSpPr>
        <p:spPr>
          <a:xfrm>
            <a:off x="108000" y="2732040"/>
            <a:ext cx="588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івняння апроксимації статичної ВАХ ТСВО поліномом третього степе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Объект 9"/>
          <p:cNvGraphicFramePr/>
          <p:nvPr/>
        </p:nvGraphicFramePr>
        <p:xfrm>
          <a:off x="2119320" y="3151080"/>
          <a:ext cx="4124160" cy="314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8" name="Объект 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19320" y="3151080"/>
                    <a:ext cx="4124160" cy="31428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9" name="Прямоугольник 10"/>
          <p:cNvSpPr/>
          <p:nvPr/>
        </p:nvSpPr>
        <p:spPr>
          <a:xfrm>
            <a:off x="1637280" y="81000"/>
            <a:ext cx="623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метри класичної математичної моделі Ван-дер-По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7"/>
          <p:cNvSpPr/>
          <p:nvPr/>
        </p:nvSpPr>
        <p:spPr>
          <a:xfrm>
            <a:off x="-495360" y="-1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4" descr=""/>
          <p:cNvPicPr/>
          <p:nvPr/>
        </p:nvPicPr>
        <p:blipFill>
          <a:blip r:embed="rId1"/>
          <a:stretch/>
        </p:blipFill>
        <p:spPr>
          <a:xfrm>
            <a:off x="971640" y="681120"/>
            <a:ext cx="2260440" cy="1803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5" descr=""/>
          <p:cNvPicPr/>
          <p:nvPr/>
        </p:nvPicPr>
        <p:blipFill>
          <a:blip r:embed="rId2"/>
          <a:stretch/>
        </p:blipFill>
        <p:spPr>
          <a:xfrm>
            <a:off x="3762360" y="249120"/>
            <a:ext cx="3762360" cy="2768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6" descr=""/>
          <p:cNvPicPr/>
          <p:nvPr/>
        </p:nvPicPr>
        <p:blipFill>
          <a:blip r:embed="rId3"/>
          <a:stretch/>
        </p:blipFill>
        <p:spPr>
          <a:xfrm>
            <a:off x="998640" y="3755880"/>
            <a:ext cx="2311200" cy="1803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7" descr=""/>
          <p:cNvPicPr/>
          <p:nvPr/>
        </p:nvPicPr>
        <p:blipFill>
          <a:blip r:embed="rId4"/>
          <a:stretch/>
        </p:blipFill>
        <p:spPr>
          <a:xfrm>
            <a:off x="3854520" y="3273480"/>
            <a:ext cx="3670200" cy="276840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1"/>
          <p:cNvSpPr/>
          <p:nvPr/>
        </p:nvSpPr>
        <p:spPr>
          <a:xfrm>
            <a:off x="2339640" y="2925720"/>
            <a:ext cx="274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наростання коливань при ɛ=0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2"/>
          <p:cNvSpPr/>
          <p:nvPr/>
        </p:nvSpPr>
        <p:spPr>
          <a:xfrm>
            <a:off x="2302560" y="5857920"/>
            <a:ext cx="280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наростання коливань при ɛ =0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3"/>
          <p:cNvSpPr/>
          <p:nvPr/>
        </p:nvSpPr>
        <p:spPr>
          <a:xfrm>
            <a:off x="611280" y="6165720"/>
            <a:ext cx="834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3 – Фазові портрети та осцилограми напруги генерованих коливань у нормованому часі 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еобмеженому наростанні коливань, що має місце при різних коефіцієнтах 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6" descr=""/>
          <p:cNvPicPr/>
          <p:nvPr/>
        </p:nvPicPr>
        <p:blipFill>
          <a:blip r:embed="rId1"/>
          <a:stretch/>
        </p:blipFill>
        <p:spPr>
          <a:xfrm>
            <a:off x="965160" y="689040"/>
            <a:ext cx="2311560" cy="1803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7" descr=""/>
          <p:cNvPicPr/>
          <p:nvPr/>
        </p:nvPicPr>
        <p:blipFill>
          <a:blip r:embed="rId2"/>
          <a:stretch/>
        </p:blipFill>
        <p:spPr>
          <a:xfrm>
            <a:off x="3995640" y="228600"/>
            <a:ext cx="3670560" cy="27687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8" descr=""/>
          <p:cNvPicPr/>
          <p:nvPr/>
        </p:nvPicPr>
        <p:blipFill>
          <a:blip r:embed="rId3"/>
          <a:stretch/>
        </p:blipFill>
        <p:spPr>
          <a:xfrm>
            <a:off x="965160" y="3713040"/>
            <a:ext cx="2311560" cy="1803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9" descr=""/>
          <p:cNvPicPr/>
          <p:nvPr/>
        </p:nvPicPr>
        <p:blipFill>
          <a:blip r:embed="rId4"/>
          <a:stretch/>
        </p:blipFill>
        <p:spPr>
          <a:xfrm>
            <a:off x="4140360" y="3252960"/>
            <a:ext cx="3670200" cy="276840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1"/>
          <p:cNvSpPr/>
          <p:nvPr/>
        </p:nvSpPr>
        <p:spPr>
          <a:xfrm>
            <a:off x="611280" y="2967120"/>
            <a:ext cx="813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ɛ =0,25 – обмеження наростання коливань і виникнення суперкритичної біфуркації Андронова-Хопф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2"/>
          <p:cNvSpPr/>
          <p:nvPr/>
        </p:nvSpPr>
        <p:spPr>
          <a:xfrm>
            <a:off x="395280" y="5929200"/>
            <a:ext cx="669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ɛ =0,3 – осциляторний режим (виникнення гармонійних коливань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3"/>
          <p:cNvSpPr/>
          <p:nvPr/>
        </p:nvSpPr>
        <p:spPr>
          <a:xfrm>
            <a:off x="900000" y="6218280"/>
            <a:ext cx="727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4 – Обмеження наростання генерованих коливань і виникнення суперкритичної біфуркації Андронова-Хопф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4" descr=""/>
          <p:cNvPicPr/>
          <p:nvPr/>
        </p:nvPicPr>
        <p:blipFill>
          <a:blip r:embed="rId1"/>
          <a:stretch/>
        </p:blipFill>
        <p:spPr>
          <a:xfrm>
            <a:off x="900000" y="549360"/>
            <a:ext cx="2311560" cy="18032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5" descr=""/>
          <p:cNvPicPr/>
          <p:nvPr/>
        </p:nvPicPr>
        <p:blipFill>
          <a:blip r:embed="rId2"/>
          <a:stretch/>
        </p:blipFill>
        <p:spPr>
          <a:xfrm>
            <a:off x="3851280" y="66600"/>
            <a:ext cx="3670200" cy="2768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"/>
          <p:cNvPicPr/>
          <p:nvPr/>
        </p:nvPicPr>
        <p:blipFill>
          <a:blip r:embed="rId3"/>
          <a:stretch/>
        </p:blipFill>
        <p:spPr>
          <a:xfrm>
            <a:off x="971640" y="3519360"/>
            <a:ext cx="2311200" cy="1803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7" descr=""/>
          <p:cNvPicPr/>
          <p:nvPr/>
        </p:nvPicPr>
        <p:blipFill>
          <a:blip r:embed="rId4"/>
          <a:stretch/>
        </p:blipFill>
        <p:spPr>
          <a:xfrm>
            <a:off x="3851280" y="3036960"/>
            <a:ext cx="3670200" cy="276840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1"/>
          <p:cNvSpPr/>
          <p:nvPr/>
        </p:nvSpPr>
        <p:spPr>
          <a:xfrm>
            <a:off x="2195280" y="2719440"/>
            <a:ext cx="34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виникнення квазігармонійних колива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2"/>
          <p:cNvSpPr/>
          <p:nvPr/>
        </p:nvSpPr>
        <p:spPr>
          <a:xfrm>
            <a:off x="2368440" y="5680080"/>
            <a:ext cx="30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релаксаційні електричні колива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3"/>
          <p:cNvSpPr/>
          <p:nvPr/>
        </p:nvSpPr>
        <p:spPr>
          <a:xfrm>
            <a:off x="539640" y="6035760"/>
            <a:ext cx="835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5 – Перехід від квазігармонійних до релаксаційних електричних коливань у генераторах 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і транзисторних структур з від’ємним опор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6" descr=""/>
          <p:cNvPicPr/>
          <p:nvPr/>
        </p:nvPicPr>
        <p:blipFill>
          <a:blip r:embed="rId1"/>
          <a:stretch/>
        </p:blipFill>
        <p:spPr>
          <a:xfrm>
            <a:off x="1108080" y="878040"/>
            <a:ext cx="2311560" cy="1803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7" descr=""/>
          <p:cNvPicPr/>
          <p:nvPr/>
        </p:nvPicPr>
        <p:blipFill>
          <a:blip r:embed="rId2"/>
          <a:stretch/>
        </p:blipFill>
        <p:spPr>
          <a:xfrm>
            <a:off x="3854520" y="378000"/>
            <a:ext cx="3670200" cy="27684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8" descr=""/>
          <p:cNvPicPr/>
          <p:nvPr/>
        </p:nvPicPr>
        <p:blipFill>
          <a:blip r:embed="rId3"/>
          <a:stretch/>
        </p:blipFill>
        <p:spPr>
          <a:xfrm>
            <a:off x="1081080" y="3728880"/>
            <a:ext cx="2338560" cy="1803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9" descr=""/>
          <p:cNvPicPr/>
          <p:nvPr/>
        </p:nvPicPr>
        <p:blipFill>
          <a:blip r:embed="rId4"/>
          <a:stretch/>
        </p:blipFill>
        <p:spPr>
          <a:xfrm>
            <a:off x="3854520" y="3297240"/>
            <a:ext cx="3670200" cy="276876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1"/>
          <p:cNvSpPr/>
          <p:nvPr/>
        </p:nvSpPr>
        <p:spPr>
          <a:xfrm>
            <a:off x="963720" y="6218280"/>
            <a:ext cx="65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6 – Перехід від релаксаційних до імпульсних електричних колива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2"/>
          <p:cNvSpPr/>
          <p:nvPr/>
        </p:nvSpPr>
        <p:spPr>
          <a:xfrm>
            <a:off x="2919240" y="2928960"/>
            <a:ext cx="62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ɛ=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"/>
          <p:cNvSpPr/>
          <p:nvPr/>
        </p:nvSpPr>
        <p:spPr>
          <a:xfrm>
            <a:off x="2920320" y="566100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ɛ=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9T08:00:03Z</dcterms:created>
  <dc:creator>Матола</dc:creator>
  <dc:description/>
  <dc:language>en-US</dc:language>
  <cp:lastModifiedBy>Admin</cp:lastModifiedBy>
  <dcterms:modified xsi:type="dcterms:W3CDTF">2015-11-24T09:12:55Z</dcterms:modified>
  <cp:revision>68</cp:revision>
  <dc:subject/>
  <dc:title>Слайд 1</dc:title>
</cp:coreProperties>
</file>