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0.wmf" ContentType="image/x-wmf"/>
  <Override PartName="/ppt/media/image4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png" ContentType="image/png"/>
  <Override PartName="/ppt/media/image14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22F-A504-4DBB-BC47-A4506346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AEF-C0F5-4533-AA11-9CA981B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FF2E-0836-4896-9CEE-8664512F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68623-59AF-4764-8B4F-88DDA0DC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91665-76DA-4A6A-99AD-8486810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CD95F-DF1E-402E-A70F-3747FDA3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7B249-A26E-4AC5-8283-EAA3FB1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6DF37-F3C4-4A72-A4D3-D31AC32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98E95-8D6C-441C-B8CB-3AD26AB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5CE6B-FBB0-4A7B-80EF-D11C3F0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5B428-796C-4ACB-AFBC-BE1D2B6E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FF4-E644-4239-A985-E7452FAA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899-A4D9-4599-8141-3093271C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4764-0E2B-4C86-8BF1-73BA77FD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5BD-48BD-4377-9A5E-D0E7F8E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163E-529B-40DC-83FB-1D82AEF1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D8DC-02F4-4D38-982F-034E6E11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40B1-B15F-4D87-816F-C8605B7D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778A-4F33-45A8-8D98-0980ECD6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4C52-A6D3-4CC9-AFB6-E881F79C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FDA-3CA6-432E-ADDA-073CF2E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B6FD-5200-4369-AA6E-BAFD7D3B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33A4-29A3-4F30-8E95-E4B5114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5F2D-E629-4023-9839-732A134A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792B-B681-428D-B267-0DD35F40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3AB7-2EC3-4651-AF98-0A562B8C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42DA-8F56-4097-88A7-A96E8A12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D2F37-F158-4689-9A3D-B995CA71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E4EE-7928-40E6-B841-3E00E040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1583-2510-4042-9F3A-C476DC4D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ECB9-1713-46BD-82AA-214741E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D11-73F1-4955-89D2-3E47C7DB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0FC5-ED85-449A-9886-21196B7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F984-6B03-414E-8386-8825BDA5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640E-FF1F-4AA1-B53D-04A525B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99AB-20D9-4440-9D03-ADFE02D5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468A-A969-4CBE-AFCF-A0FBAFF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22BBC-D7F4-4801-8075-61003768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313C-C9FD-4FAF-A006-94643341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D435-11BA-47A1-8449-F05DB6AA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D448-84E8-4E07-A61D-E56A436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7C8E-074C-49EB-AC5D-C433ECC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D4D-F619-4D3A-BC25-80A1F1B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3650-31D0-4FFF-BA1F-2D2ECBF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B567-0D23-4B96-86A0-6BCD59E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5607-23F3-4192-9374-C5B96B6D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98A3-504C-4634-9A8D-220D00FF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02E1-7EB6-4A1D-ACF8-C62A588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AC95-82F4-4343-96E0-76A731D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BA01-C3F9-445D-A725-5FE14400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83A4-D676-474B-9FD8-2710E1AA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DE61-7CB8-423E-915A-CE585014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E10C-539F-4D0E-96A3-950F8402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56A-0846-4DEB-A3A0-A08236B1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7224-7A01-4126-9F5B-FE169089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E45C9-CEF1-4C97-A605-67936CE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0358-2717-4039-A3D4-6C68E2B8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55E2-0474-4BCA-B81E-D6DC95B5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5893-BE41-411C-BE11-0505FCBF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E1A7-5E42-46D7-BF8B-E66B841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BCC0-8F30-402B-951B-E23EC49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3E9C6-67DA-4DA9-B208-0CC2651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A81A-08B3-4E81-BEC7-D9AF8700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1EF4-6556-4FD8-B150-ECD9120B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B0A-FC6E-44E2-AF5C-0BC94984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0B77-975D-46B2-A84A-A99B3369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21F2-1033-49BB-824B-9CC4ADD3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FEF4-C4DF-4FF6-973E-DAFBD40D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2D69-D60F-4870-A737-076170C1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B3E9-0545-4DB3-9E8C-C80F095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0DE87-3F51-41F0-96BA-E821C059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6CF5-A8E0-455A-9FC3-088DAA50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CD515-6B65-436C-9E90-C43CC81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1519-5960-4DE4-BAEB-6466C1E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0695-7D51-4687-B4F0-ABE9E00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349-7020-4941-B51D-EEF678F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F82A-9B5A-438E-A49A-C82EFFE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E0570-1AB0-44A3-B187-EC73E175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3D7D6-299E-4859-B2AE-A113E500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D6BAE-0360-4CAD-8E26-456DA4DE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A13EE-DAC1-4E42-99BC-BD0D8BC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E705-8C17-4F7D-A963-7284477B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55B3-92D9-4E2B-989B-B59A7F38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A0B8D-030C-4000-B1C6-C1E316A0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6794-0C00-4E56-8BE7-6F42CC9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8260C-1010-4DD9-BE09-9F731497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2AC-EF58-4591-BBE7-4D4EBCF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774AA-A489-477B-B92F-384BF88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D6A2-8D84-426B-B8F9-200FEC0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EFCB-55FE-4800-ACAE-75CB80A9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8F72C-CD05-4F25-9CB2-FDD7AB34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59BE0-04A9-4D59-A099-A41BBC3D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E8B7-8774-4778-B1E8-FFED6691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8E7A-2A92-4B6E-ACCC-6370874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BE4C-71A7-4364-9A79-60A3437D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28691-575F-4CEE-B8EB-709757D5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EEF46-2537-45F2-8560-0D06AC9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120-F8B8-4A9D-A442-A0E6120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EC271-9870-46E1-AEB2-746678F8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D51B5-5A75-4B84-8E77-D376DAE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C0170-2CC5-4CC9-8594-DCB5EB30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A964-C529-4BD7-B8C7-0D36FE5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7DD2-E520-48BA-854E-BC5BDA9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E6EA8-5529-4678-B280-9917AE57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69372-1422-4BEF-B236-96388D74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B841E-7EC5-4210-9C44-36BF431E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E9251-88E5-429F-AABD-5DFDF7FA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2ADC0-8BEA-4CD8-BA68-197DC82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933-E975-4B73-8D1B-1746EB4864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13AA-945B-455E-91FC-F1760228DF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06E6-9939-4B4D-8015-0D26D7ABF8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D192-0EC8-4EC3-A776-564146CA78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46BA-54EC-4F3A-8419-6767B20D90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0AC5-D547-4C46-BC91-B9589EEB68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D75-8701-4A5E-AFB0-4DB4E91F14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FD2-FBB4-4A63-B635-AB5D678D85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C088-582B-4C3A-AF71-36EAD2D5D1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6765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"/>
          <p:cNvSpPr/>
          <p:nvPr/>
        </p:nvSpPr>
        <p:spPr>
          <a:xfrm>
            <a:off x="2514600" y="4038480"/>
            <a:ext cx="6095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в: ст. гр. РТ-14м з/в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ічкар Ю.В.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д.т.н., профес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адчук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628560" y="1905120"/>
            <a:ext cx="832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адіовимірювальні перетворювачі вологості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лонаповнених енергетичних устан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3669840" y="602460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нниця –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90440" y="1505160"/>
            <a:ext cx="40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 напівсинтетичного моторного масла 5W4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63520" y="2917800"/>
            <a:ext cx="3941640" cy="3103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5083200" y="2917800"/>
            <a:ext cx="3833640" cy="310356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4"/>
          <p:cNvSpPr/>
          <p:nvPr/>
        </p:nvSpPr>
        <p:spPr>
          <a:xfrm>
            <a:off x="5010120" y="1457280"/>
            <a:ext cx="383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ерального моторного масла М8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3"/>
          <p:cNvSpPr/>
          <p:nvPr/>
        </p:nvSpPr>
        <p:spPr>
          <a:xfrm>
            <a:off x="482760" y="361800"/>
            <a:ext cx="79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Електрична схема АВ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11" descr=""/>
          <p:cNvPicPr/>
          <p:nvPr/>
        </p:nvPicPr>
        <p:blipFill>
          <a:blip r:embed="rId1"/>
          <a:stretch/>
        </p:blipFill>
        <p:spPr>
          <a:xfrm>
            <a:off x="863640" y="1488960"/>
            <a:ext cx="743256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3"/>
          <p:cNvSpPr/>
          <p:nvPr/>
        </p:nvSpPr>
        <p:spPr>
          <a:xfrm>
            <a:off x="336600" y="216000"/>
            <a:ext cx="847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міна напруги вихідного сигналу від часу при різних значеннях ємності вологочутливої КЦ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808200" y="1346040"/>
            <a:ext cx="78166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"/>
          <p:cNvSpPr/>
          <p:nvPr/>
        </p:nvSpPr>
        <p:spPr>
          <a:xfrm>
            <a:off x="227160" y="1505520"/>
            <a:ext cx="43448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 напівсинтетич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ного масла 5W4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519120" y="2990880"/>
            <a:ext cx="3979800" cy="2949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4937040" y="2990880"/>
            <a:ext cx="3943440" cy="295740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4"/>
          <p:cNvSpPr/>
          <p:nvPr/>
        </p:nvSpPr>
        <p:spPr>
          <a:xfrm>
            <a:off x="4754520" y="1566720"/>
            <a:ext cx="412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 мінерального моторного масла М8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372960" y="199080"/>
            <a:ext cx="84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системи для вимірюва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контролю вологості нафти та нафтопродукті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774720" y="1603440"/>
            <a:ext cx="80326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701640" y="252360"/>
            <a:ext cx="78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нципова схема системи контролю вологості нафти та нафтопродукт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rcRect l="0" t="1060" r="0" b="943"/>
          <a:stretch/>
        </p:blipFill>
        <p:spPr>
          <a:xfrm>
            <a:off x="1066680" y="1092240"/>
            <a:ext cx="69375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372960" y="1549440"/>
            <a:ext cx="8580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боти поля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є в отриманні таких результаті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ано аналітичні залежності для вологочутливих конденсаторних циліндричних структур, які відрізняються від існуючих тим, що в них враховано вплив вологості та температури нафтопродуктів, які приводять до зміни електрофізичних параметрів (діелектричної проникності, ємності) та дозволяють визначити значення електричної ємності первинних перетворювачів вологост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досконалено метод на основі залежності реактивних властивостей транзисторних структур з від'ємним опором від вологості для створення автогенераторних засобів контролю вологості нафтопродуктів з конденсаторними циліндричними структурами, що працюють за принципом "вологість нафтопродуктів – частота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1176480" y="32544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 одержаних результат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3"/>
          <p:cNvSpPr/>
          <p:nvPr/>
        </p:nvSpPr>
        <p:spPr>
          <a:xfrm>
            <a:off x="263520" y="353880"/>
            <a:ext cx="86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190440" y="1128600"/>
            <a:ext cx="872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наліз засобів та пристроїв контролю вологості нафтопродуктів показав, що створення та використання автогенераторних засобів контролю вологості нафтопродуктів на основі конденсаторних циліндричних структур, з використанням в якості автогенераторів транзисторних структур з від'ємним опором, що працюють за принципом "вологість нафтопродуктів - частота" є перспективним науковим напрямком, оскільки він реалізує високі економічні та метрологічні показники пристроїв і можливість технологічної сумісності з мікроелектронними пристроями обробки інформації. Використання від’ємного опору напівпровідникових приладів компенсує втрати в коливальному контурі, що значно підвищує чутливість приладів для вимірювання вологості нафтопродуктів та їх точність до вимірюва­ного параметру - вологості нафтопродукт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4e3b30"/>
                </a:solidFill>
                <a:latin typeface="Edwardian Script ITC"/>
              </a:rPr>
              <a:t>Дякую за увагу!!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317520" y="1122480"/>
            <a:ext cx="8302680" cy="8823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457200" y="2077920"/>
            <a:ext cx="8001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e3b30"/>
                </a:solidFill>
                <a:latin typeface="Times New Roman"/>
              </a:rPr>
              <a:t>Об’єктом дослідження</a:t>
            </a:r>
            <a:r>
              <a:rPr b="0" lang="uk-UA" sz="1800" spc="-1" strike="noStrike">
                <a:solidFill>
                  <a:srgbClr val="4e3b30"/>
                </a:solidFill>
                <a:latin typeface="Times New Roman"/>
              </a:rPr>
              <a:t> 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 перетворення вологості нафто-продуктів у частотний сигнал в чутливих напівпровідникових структу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263520" y="3282840"/>
            <a:ext cx="8580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e3b30"/>
                </a:solidFill>
                <a:latin typeface="Times New Roman"/>
              </a:rPr>
              <a:t>Предметом дослідження 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ичні і динамічні характеристики автогенераторних засобів контролю вологості нафтопродуктів на основі конденсаторних циліндричних структу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723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723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446040" y="28908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адіовимірювальні перетворювачі вологості для маслонаповнених енергетичних устан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7"/>
          <p:cNvSpPr/>
          <p:nvPr/>
        </p:nvSpPr>
        <p:spPr>
          <a:xfrm flipH="1">
            <a:off x="226440" y="3867120"/>
            <a:ext cx="39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в’язуються такі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і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8"/>
          <p:cNvSpPr/>
          <p:nvPr/>
        </p:nvSpPr>
        <p:spPr>
          <a:xfrm flipV="1" rot="10800000">
            <a:off x="227160" y="4146120"/>
            <a:ext cx="87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      розробити математичні моделі вологочутливих конденсаторних циліндричних структур, які дозволяють визначити значення вологочутливої електричної ємності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 flipV="1" rot="10800000">
            <a:off x="190440" y="4725360"/>
            <a:ext cx="87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нати експериментальну перевірку математичних моделей і дослідити властивості автогенераторних засобів контролю вологості нафтопродуктів від впливу вологості нафтопродукті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мікропроцесорну систему для контролю вологості нафтопродуктів на основі автогенераторних засобів контролю вологості нафтопродукт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9"/>
          <p:cNvSpPr/>
          <p:nvPr/>
        </p:nvSpPr>
        <p:spPr>
          <a:xfrm>
            <a:off x="1150920" y="5013360"/>
            <a:ext cx="5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147"/>
          <p:cNvSpPr/>
          <p:nvPr/>
        </p:nvSpPr>
        <p:spPr>
          <a:xfrm>
            <a:off x="5940360" y="2529000"/>
            <a:ext cx="1008000" cy="504720"/>
          </a:xfrm>
          <a:prstGeom prst="rightArrow">
            <a:avLst>
              <a:gd name="adj1" fmla="val 50000"/>
              <a:gd name="adj2" fmla="val 499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446040" y="4707000"/>
            <a:ext cx="847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 – діелектрична підкладка; 2 – електрод; 3 – верхній електрод; 4 – шар вологочутливого матеріалу; 5 – вологочутливий матеріал; 6 – електропровідні мікрочастинки; 7 - виво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Рисунок 3" descr=""/>
          <p:cNvPicPr/>
          <p:nvPr/>
        </p:nvPicPr>
        <p:blipFill>
          <a:blip r:embed="rId1"/>
          <a:stretch/>
        </p:blipFill>
        <p:spPr>
          <a:xfrm>
            <a:off x="1531800" y="1347840"/>
            <a:ext cx="6059520" cy="31399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6"/>
          <p:cNvSpPr/>
          <p:nvPr/>
        </p:nvSpPr>
        <p:spPr>
          <a:xfrm>
            <a:off x="1249200" y="471600"/>
            <a:ext cx="64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нструкція ємнісного сенсора волог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Заголовок 7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8242560" cy="16336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6"/>
          <p:cNvSpPr/>
          <p:nvPr/>
        </p:nvSpPr>
        <p:spPr>
          <a:xfrm>
            <a:off x="811080" y="36180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руктурна схема вимірювального перетворювача вологос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773280" y="1895400"/>
            <a:ext cx="7794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38120" y="219240"/>
            <a:ext cx="8267760" cy="981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9"/>
          <p:cNvSpPr/>
          <p:nvPr/>
        </p:nvSpPr>
        <p:spPr>
          <a:xfrm>
            <a:off x="3657600" y="2133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743280" y="2168640"/>
            <a:ext cx="73080" cy="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3743280" y="2168640"/>
            <a:ext cx="71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3743280" y="2276640"/>
            <a:ext cx="71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 flipV="1" rot="10800000">
            <a:off x="-360" y="215640"/>
            <a:ext cx="844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хема автогенератора на транзисторні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і з від’ємним оп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0" descr=""/>
          <p:cNvPicPr/>
          <p:nvPr/>
        </p:nvPicPr>
        <p:blipFill>
          <a:blip r:embed="rId2"/>
          <a:stretch/>
        </p:blipFill>
        <p:spPr>
          <a:xfrm>
            <a:off x="1176480" y="1566720"/>
            <a:ext cx="66085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944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rcRect l="7382" t="18602" r="7382" b="12303"/>
          <a:stretch/>
        </p:blipFill>
        <p:spPr>
          <a:xfrm>
            <a:off x="1468440" y="1603440"/>
            <a:ext cx="638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 flipV="1" rot="10800000">
            <a:off x="664920" y="27576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ихідної частоти автогенерато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зисторній структурі з від’ємним оп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rcRect l="7382" t="18602" r="7382" b="12303"/>
          <a:stretch/>
        </p:blipFill>
        <p:spPr>
          <a:xfrm>
            <a:off x="1285920" y="1566720"/>
            <a:ext cx="70912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09680" y="481320"/>
            <a:ext cx="78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хема АВ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847800" y="1573200"/>
            <a:ext cx="7630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3"/>
          <p:cNvSpPr/>
          <p:nvPr/>
        </p:nvSpPr>
        <p:spPr>
          <a:xfrm>
            <a:off x="299880" y="216000"/>
            <a:ext cx="84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міна напруги вихідного сигналу від часу при різних значеннях ємності вологочутливої КЦ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957240" y="1414440"/>
            <a:ext cx="7083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1-09T21:18:58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