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23.png" ContentType="image/png"/>
  <Override PartName="/ppt/media/image22.wmf" ContentType="image/x-wmf"/>
  <Override PartName="/ppt/media/image6.png" ContentType="image/png"/>
  <Override PartName="/ppt/media/image20.wmf" ContentType="image/x-wmf"/>
  <Override PartName="/ppt/media/image4.png" ContentType="image/png"/>
  <Override PartName="/ppt/media/image5.png" ContentType="image/png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18.png" ContentType="image/png"/>
  <Override PartName="/ppt/media/image14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5E13-354E-4217-91D5-82766334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C04-022F-4F6F-B718-D57519BC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613F9-BF16-4F3B-ABAE-91D11600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8DDA7-3DC3-489E-9C21-47050775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3B9BE-F912-4FD9-A34C-43ECC4C9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219D9-AD33-4BAF-87BE-00309874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1E4D9-388D-4EE7-92A7-0DCD3260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E32FD-9D8E-4441-A476-7FFBF97D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DFD38-8B81-4D32-AA28-7858D778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1C36C-B073-4327-ADC6-EB79BE81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82DD3-C234-45F9-BAB5-BA177B0C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6980-DBB9-450A-882E-19468E6A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1307-5166-4019-BCE5-C52981DC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50A8-E386-4B8D-912C-12D256F9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7C0D-5BD4-43AF-BF87-9227448F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4E6F-EC7A-42C7-A79D-75A06D22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D09F-19C7-4097-9E98-08229EC2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EB4F-105F-45FC-9B8F-33A79C1D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1509-E08B-4E58-8714-DDF76622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8739-8700-4CE0-B3CF-CBF9F4D1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00BC-7720-441F-8572-031081BF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8C87-DE0A-4913-AB6B-32A4E0FD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8FE3-5087-4541-B1E8-46412D5C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FF3A-2544-4A5D-BA43-622660B1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10EA-B9D7-4C9A-8910-767F7AE8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C034-CE16-4AA1-9EF4-FD86804E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3D78C-5EF1-4D1C-AD66-BAF47A0E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DB567-7DA1-41F8-9203-F5978441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11F07-4B39-4179-8CA5-EBAF7F83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D960C-0DA5-46F0-A684-A3A1D018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D2382-9DE7-461A-94B8-09495E12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2BAE-F296-49CB-A501-679AA77E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1E4A6-3D46-45CD-84C8-AA509C10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83FEE-ECC9-4223-B865-34F2236C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9A3C9-EEE3-4D84-B97A-B0E0CA3E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AAC89-AA0A-43D4-84B8-C836B0D4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70B4C-6165-4DC4-8424-418EFBC1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6E8EB-4D78-4C84-9334-83669623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970E5-3C54-4133-B432-37901A79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873FE-DF36-4B41-9DAA-A7088E84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15DD0-AF48-443D-8887-8AA84C83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CAF61-0C72-4694-A854-7543D9B6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639E-1B3E-43FE-B26E-5F87CE1B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1E9F0-820A-4A00-83C5-9DF23205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F3FFF-1E94-416A-AF62-690B3BD9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CFDFE-AA2B-458D-A77C-FE8A6D00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7F7B6-5C6F-4AA4-A23C-9CD79162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CB934-9665-4594-80B5-304A675E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98596-8C35-4924-AAC8-D4D13414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C387B-26FD-4BB5-8C77-12CDA420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5192B-B8F9-40C9-82A8-8B0F72C1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CBB8A-8A59-464F-811F-D16FDE5E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96F02-988C-47D0-8369-6DEF50ED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B4F9-868E-4F8C-8476-E8B91A75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57D52-1258-4E1F-9AE7-EF17DCF8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AB653-EB9A-4C5E-A34E-EE3DDC11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00C0B-7A8C-4508-8820-26A9DF47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6D4AE-4E36-485B-B1BE-F3A6DCBF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D4D19-8C8C-41EF-8B89-18C28F42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EBCAE-0552-411C-BBF9-559C8C4D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7BAD3-3504-4A8B-AF12-73D6A691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5E1FD-B460-48C4-A22B-33DAE912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F929F-1DAC-4DF4-9EB8-F764DE09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24F61-42EB-42C9-AE8B-AFCAB580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AFF0-A5CE-4337-9829-A46AE180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19978-C401-4C9F-AF0A-79881E18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FF49A-79CB-4F01-9B17-C0A3315E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BECF3-721D-45CD-909C-592223E7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25533-A162-4218-B9E4-F3AF2741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E3F1F-E62F-4DF4-870D-337D9584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E1869-F629-45D6-A9C0-6982568D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E7BF3-D9D2-4A21-AD9B-6940058E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CB795-C252-407C-A1E5-8A7A2CF5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62098-9B47-47E1-9B8C-8C873A7F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9C3D2-D5A8-46AB-BAC3-6FC0054C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D136-C229-4EF0-9620-6E08550F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B8302-E3EE-4245-9F96-72A05FA2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F13ED-8804-45CE-B998-D534957F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2490A-B0E0-41E4-9E94-5BE2CA20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374DB-43C7-4AA2-9CB8-8B57D071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C7234-1524-4863-A577-505CAEF3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F426F-125E-485D-B6BC-BC6D6A1D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6FF0D-8536-42EF-9E07-463E7056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C1D82-06D5-4710-BEFC-CA5F997B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D1454-1865-4335-AAAD-89474F47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69322-99F4-4072-92AF-D8DA13B4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8A25-94A7-4B80-8612-8835E030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76D1D-1F69-41B4-A9D2-6652CA22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93705-BE3A-4E4C-A46F-8745BA7E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072A6-97F9-4BBB-8428-81B69962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03134-72F3-4282-BDE3-E263F933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074B1-00F1-49A8-ACDF-28D775C6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6C27D-B898-42E1-9842-31B92252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067A2-27D0-445B-A0D2-9E05D5B6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B9568-D4B3-486F-877F-520559DF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52ACF-9A85-4F1E-B117-4C1133E8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6ECCB-B184-4A26-8A0F-6F448FA9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624-DB00-47D3-BE29-8830E1E5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E6CE0-3BBF-4F20-9A1A-69393F37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C5570-8F87-4DAA-8D6D-C9C6B904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9B9DA-543E-4AD1-847D-2BDD931B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A14BA-9574-4058-AEB4-5266C8C0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A0CB9-0C3C-4AE6-BB2B-1BB53688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DE771-DF47-40D7-BAE9-91A384B9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B8DAF-6964-404E-BA87-47668EC1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DC9BF-A449-46C8-87E0-707C44E0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359A0-FE43-4288-839E-B06F644D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3039D-65D5-462C-A646-D7D40E51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ECDD-016C-4894-8038-3FBC3BB5036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6A2D-44DF-4D93-B481-22E74220CE0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A01F-7096-477D-8CAB-976B9A0BB3E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CCAF-0092-4020-BEFF-09630BF92D6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6E31-B07E-457B-B40D-47B8A4465CA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2E94-B9C3-44AB-B8C9-F67F1AD796F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818B-8E2F-4017-88B6-7ABF87868BD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069D-B9E9-481D-A724-5F513502911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F347-3C05-4D4E-BD6B-EDAC614E668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67652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4"/>
          <p:cNvSpPr/>
          <p:nvPr/>
        </p:nvSpPr>
        <p:spPr>
          <a:xfrm>
            <a:off x="2514600" y="4038480"/>
            <a:ext cx="6095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иконав: ст. гр. РТ-14м з/в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ічкар Ю.В.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ерівник: д.т.н., профес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садчук О.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628560" y="1905120"/>
            <a:ext cx="8325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адіовимірювальні перетворювачі вологості д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аслонаповнених енергетичних установ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6"/>
          <p:cNvSpPr/>
          <p:nvPr/>
        </p:nvSpPr>
        <p:spPr>
          <a:xfrm>
            <a:off x="3669840" y="602460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інниця –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190440" y="1505160"/>
            <a:ext cx="4052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на та експериментальна функція перетворення АВН з КЦС із сіткоподібними електродами для напівсинтетичного моторного масла 5W4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263520" y="2917800"/>
            <a:ext cx="3941640" cy="31035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5083200" y="2917800"/>
            <a:ext cx="3833640" cy="3103560"/>
          </a:xfrm>
          <a:prstGeom prst="rect">
            <a:avLst/>
          </a:prstGeom>
          <a:ln w="0">
            <a:noFill/>
          </a:ln>
        </p:spPr>
      </p:pic>
      <p:sp>
        <p:nvSpPr>
          <p:cNvPr id="440" name="Прямоугольник 4"/>
          <p:cNvSpPr/>
          <p:nvPr/>
        </p:nvSpPr>
        <p:spPr>
          <a:xfrm>
            <a:off x="5010120" y="1457280"/>
            <a:ext cx="383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на та експериментальна функція перетворення АВН з КЦС із сіткоподібними електродами дл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нерального моторного масла М8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Прямоугольник 3"/>
          <p:cNvSpPr/>
          <p:nvPr/>
        </p:nvSpPr>
        <p:spPr>
          <a:xfrm>
            <a:off x="482760" y="361800"/>
            <a:ext cx="799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Електрична схема АВ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Picture 11" descr=""/>
          <p:cNvPicPr/>
          <p:nvPr/>
        </p:nvPicPr>
        <p:blipFill>
          <a:blip r:embed="rId1"/>
          <a:stretch/>
        </p:blipFill>
        <p:spPr>
          <a:xfrm>
            <a:off x="863640" y="1488960"/>
            <a:ext cx="743256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3"/>
          <p:cNvSpPr/>
          <p:nvPr/>
        </p:nvSpPr>
        <p:spPr>
          <a:xfrm>
            <a:off x="336600" y="216000"/>
            <a:ext cx="847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міна напруги вихідного сигналу від часу при різних значеннях ємності вологочутливої КЦ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808200" y="1346040"/>
            <a:ext cx="78166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1"/>
          <p:cNvSpPr/>
          <p:nvPr/>
        </p:nvSpPr>
        <p:spPr>
          <a:xfrm>
            <a:off x="227160" y="1505520"/>
            <a:ext cx="43448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на та експериментальна функція перетворення АВН з КЦС із сіткоподібними електродами для напівсинтетичн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орного масла 5W4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519120" y="2990880"/>
            <a:ext cx="3979800" cy="29494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" descr=""/>
          <p:cNvPicPr/>
          <p:nvPr/>
        </p:nvPicPr>
        <p:blipFill>
          <a:blip r:embed="rId2"/>
          <a:stretch/>
        </p:blipFill>
        <p:spPr>
          <a:xfrm>
            <a:off x="4937040" y="2990880"/>
            <a:ext cx="3943440" cy="2957400"/>
          </a:xfrm>
          <a:prstGeom prst="rect">
            <a:avLst/>
          </a:prstGeom>
          <a:ln w="0">
            <a:noFill/>
          </a:ln>
        </p:spPr>
      </p:pic>
      <p:sp>
        <p:nvSpPr>
          <p:cNvPr id="449" name="Прямоугольник 4"/>
          <p:cNvSpPr/>
          <p:nvPr/>
        </p:nvSpPr>
        <p:spPr>
          <a:xfrm>
            <a:off x="4754520" y="1566720"/>
            <a:ext cx="4125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на та експериментальна функція перетворення АВН з КЦС із сіткоподібними електродами для мінерального моторного масла М8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"/>
          <p:cNvSpPr/>
          <p:nvPr/>
        </p:nvSpPr>
        <p:spPr>
          <a:xfrm>
            <a:off x="372960" y="199080"/>
            <a:ext cx="847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схема системи для вимірюванн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контролю вологості нафти та нафтопродукті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774720" y="1603440"/>
            <a:ext cx="803268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Прямоугольник 3"/>
          <p:cNvSpPr/>
          <p:nvPr/>
        </p:nvSpPr>
        <p:spPr>
          <a:xfrm>
            <a:off x="701640" y="252360"/>
            <a:ext cx="788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ринципова схема системи контролю вологості нафти та нафтопродукті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rcRect l="0" t="1060" r="0" b="943"/>
          <a:stretch/>
        </p:blipFill>
        <p:spPr>
          <a:xfrm>
            <a:off x="1066680" y="1092240"/>
            <a:ext cx="693756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372960" y="1549440"/>
            <a:ext cx="8580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а новиз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боти поля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є в отриманні таких результаті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мано аналітичні залежності для вологочутливих конденсаторних циліндричних структур, які відрізняються від існуючих тим, що в них враховано вплив вологості та температури нафтопродуктів, які приводять до зміни електрофізичних параметрів (діелектричної проникності, ємності) та дозволяють визначити значення електричної ємності первинних перетворювачів вологості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досконалено метод на основі залежності реактивних властивостей транзисторних структур з від'ємним опором від вологості для створення автогенераторних засобів контролю вологості нафтопродуктів з конденсаторними циліндричними структурами, що працюють за принципом "вологість нафтопродуктів – частота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Прямоугольник 5"/>
          <p:cNvSpPr/>
          <p:nvPr/>
        </p:nvSpPr>
        <p:spPr>
          <a:xfrm>
            <a:off x="1176480" y="325440"/>
            <a:ext cx="71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а новизна одержаних результаті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Прямоугольник 3"/>
          <p:cNvSpPr/>
          <p:nvPr/>
        </p:nvSpPr>
        <p:spPr>
          <a:xfrm>
            <a:off x="263520" y="353880"/>
            <a:ext cx="861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оугольник 6"/>
          <p:cNvSpPr/>
          <p:nvPr/>
        </p:nvSpPr>
        <p:spPr>
          <a:xfrm>
            <a:off x="190440" y="1128600"/>
            <a:ext cx="8726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наліз засобів та пристроїв контролю вологості нафтопродуктів показав, що створення та використання автогенераторних засобів контролю вологості нафтопродуктів на основі конденсаторних циліндричних структур, з використанням в якості автогенераторів транзисторних структур з від'ємним опором, що працюють за принципом "вологість нафтопродуктів - частота" є перспективним науковим напрямком, оскільки він реалізує високі економічні та метрологічні показники пристроїв і можливість технологічної сумісності з мікроелектронними пристроями обробки інформації. Використання від’ємного опору напівпровідникових приладів компенсує втрати в коливальному контурі, що значно підвищує чутливість приладів для вимірювання вологості нафтопродуктів та їх точність до вимірюва­ного параметру - вологості нафтопродукті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7200" y="1052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4e3b30"/>
                </a:solidFill>
                <a:latin typeface="Edwardian Script ITC"/>
              </a:rPr>
              <a:t>Дякую за увагу!!!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317520" y="1122480"/>
            <a:ext cx="8302680" cy="8823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5"/>
          <p:cNvSpPr/>
          <p:nvPr/>
        </p:nvSpPr>
        <p:spPr>
          <a:xfrm>
            <a:off x="457200" y="2077920"/>
            <a:ext cx="80010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e3b30"/>
                </a:solidFill>
                <a:latin typeface="Times New Roman"/>
              </a:rPr>
              <a:t>Об’єктом дослідження</a:t>
            </a:r>
            <a:r>
              <a:rPr b="0" lang="uk-UA" sz="1800" spc="-1" strike="noStrike">
                <a:solidFill>
                  <a:srgbClr val="4e3b30"/>
                </a:solidFill>
                <a:latin typeface="Times New Roman"/>
              </a:rPr>
              <a:t> 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с перетворення вологості нафто-продуктів у частотний сигнал в чутливих напівпровідникових структу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263520" y="3282840"/>
            <a:ext cx="85806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723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e3b30"/>
                </a:solidFill>
                <a:latin typeface="Times New Roman"/>
              </a:rPr>
              <a:t>Предметом дослідження 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тичні і динамічні характеристики автогенераторних засобів контролю вологості нафтопродуктів на основі конденсаторних циліндричних структу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723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723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723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Прямоугольник 5"/>
          <p:cNvSpPr/>
          <p:nvPr/>
        </p:nvSpPr>
        <p:spPr>
          <a:xfrm>
            <a:off x="446040" y="28908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Радіовимірювальні перетворювачі вологості для маслонаповнених енергетичних установ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Прямоугольник 7"/>
          <p:cNvSpPr/>
          <p:nvPr/>
        </p:nvSpPr>
        <p:spPr>
          <a:xfrm flipH="1">
            <a:off x="226440" y="3867120"/>
            <a:ext cx="39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зв’язуються такі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чі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Прямоугольник 8"/>
          <p:cNvSpPr/>
          <p:nvPr/>
        </p:nvSpPr>
        <p:spPr>
          <a:xfrm flipV="1" rot="10800000">
            <a:off x="227160" y="4146120"/>
            <a:ext cx="872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-      розробити математичні моделі вологочутливих конденсаторних циліндричних структур, які дозволяють визначити значення вологочутливої електричної ємності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7"/>
          <p:cNvSpPr/>
          <p:nvPr/>
        </p:nvSpPr>
        <p:spPr>
          <a:xfrm flipV="1" rot="10800000">
            <a:off x="190440" y="4725360"/>
            <a:ext cx="872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конати експериментальну перевірку математичних моделей і дослідити властивості автогенераторних засобів контролю вологості нафтопродуктів від впливу вологості нафтопродукті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робити мікропроцесорну систему для контролю вологості нафтопродуктів на основі автогенераторних засобів контролю вологості нафтопродукті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9"/>
          <p:cNvSpPr/>
          <p:nvPr/>
        </p:nvSpPr>
        <p:spPr>
          <a:xfrm>
            <a:off x="1150920" y="5013360"/>
            <a:ext cx="577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147"/>
          <p:cNvSpPr/>
          <p:nvPr/>
        </p:nvSpPr>
        <p:spPr>
          <a:xfrm>
            <a:off x="5940360" y="2529000"/>
            <a:ext cx="1008000" cy="504720"/>
          </a:xfrm>
          <a:prstGeom prst="rightArrow">
            <a:avLst>
              <a:gd name="adj1" fmla="val 50000"/>
              <a:gd name="adj2" fmla="val 4992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Прямоугольник 6"/>
          <p:cNvSpPr/>
          <p:nvPr/>
        </p:nvSpPr>
        <p:spPr>
          <a:xfrm>
            <a:off x="446040" y="4707000"/>
            <a:ext cx="847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 – діелектрична підкладка; 2 – електрод; 3 – верхній електрод; 4 – шар вологочутливого матеріалу; 5 – вологочутливий матеріал; 6 – електропровідні мікрочастинки; 7 - вивод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Рисунок 3" descr=""/>
          <p:cNvPicPr/>
          <p:nvPr/>
        </p:nvPicPr>
        <p:blipFill>
          <a:blip r:embed="rId1"/>
          <a:stretch/>
        </p:blipFill>
        <p:spPr>
          <a:xfrm>
            <a:off x="1531800" y="1347840"/>
            <a:ext cx="6059520" cy="313992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6"/>
          <p:cNvSpPr/>
          <p:nvPr/>
        </p:nvSpPr>
        <p:spPr>
          <a:xfrm>
            <a:off x="1249200" y="471600"/>
            <a:ext cx="64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Конструкція ємнісного сенсора вологост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Заголовок 7" descr=""/>
          <p:cNvPicPr/>
          <p:nvPr/>
        </p:nvPicPr>
        <p:blipFill>
          <a:blip r:embed="rId1"/>
          <a:stretch/>
        </p:blipFill>
        <p:spPr>
          <a:xfrm>
            <a:off x="450720" y="469800"/>
            <a:ext cx="8242560" cy="1633680"/>
          </a:xfrm>
          <a:prstGeom prst="rect">
            <a:avLst/>
          </a:prstGeom>
          <a:ln w="0">
            <a:noFill/>
          </a:ln>
        </p:spPr>
      </p:pic>
      <p:sp>
        <p:nvSpPr>
          <p:cNvPr id="419" name="Прямоугольник 6"/>
          <p:cNvSpPr/>
          <p:nvPr/>
        </p:nvSpPr>
        <p:spPr>
          <a:xfrm>
            <a:off x="811080" y="361800"/>
            <a:ext cx="741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труктурна схема вимірювального перетворювача вологост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7" descr=""/>
          <p:cNvPicPr/>
          <p:nvPr/>
        </p:nvPicPr>
        <p:blipFill>
          <a:blip r:embed="rId2"/>
          <a:stretch/>
        </p:blipFill>
        <p:spPr>
          <a:xfrm>
            <a:off x="773280" y="1895400"/>
            <a:ext cx="779436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438120" y="219240"/>
            <a:ext cx="8267760" cy="9810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9"/>
          <p:cNvSpPr/>
          <p:nvPr/>
        </p:nvSpPr>
        <p:spPr>
          <a:xfrm>
            <a:off x="3657600" y="2133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3743280" y="2168640"/>
            <a:ext cx="73080" cy="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2"/>
          <p:cNvSpPr/>
          <p:nvPr/>
        </p:nvSpPr>
        <p:spPr>
          <a:xfrm>
            <a:off x="3743280" y="2168640"/>
            <a:ext cx="71640" cy="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"/>
          <p:cNvSpPr/>
          <p:nvPr/>
        </p:nvSpPr>
        <p:spPr>
          <a:xfrm>
            <a:off x="3743280" y="2276640"/>
            <a:ext cx="71640" cy="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9"/>
          <p:cNvSpPr/>
          <p:nvPr/>
        </p:nvSpPr>
        <p:spPr>
          <a:xfrm flipV="1" rot="10800000">
            <a:off x="-360" y="215640"/>
            <a:ext cx="844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а схема автогенератора на транзисторні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і з від’ємним опор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0" descr=""/>
          <p:cNvPicPr/>
          <p:nvPr/>
        </p:nvPicPr>
        <p:blipFill>
          <a:blip r:embed="rId2"/>
          <a:stretch/>
        </p:blipFill>
        <p:spPr>
          <a:xfrm>
            <a:off x="1176480" y="1566720"/>
            <a:ext cx="660852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450720" y="334800"/>
            <a:ext cx="8242560" cy="9446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2"/>
          <a:srcRect l="7382" t="18602" r="7382" b="12303"/>
          <a:stretch/>
        </p:blipFill>
        <p:spPr>
          <a:xfrm>
            <a:off x="1468440" y="1603440"/>
            <a:ext cx="638964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1"/>
          <p:cNvSpPr/>
          <p:nvPr/>
        </p:nvSpPr>
        <p:spPr>
          <a:xfrm flipV="1" rot="10800000">
            <a:off x="664920" y="275760"/>
            <a:ext cx="81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ість вихідної частоти автогенератор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анзисторній структурі з від’ємним опор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2" descr=""/>
          <p:cNvPicPr/>
          <p:nvPr/>
        </p:nvPicPr>
        <p:blipFill>
          <a:blip r:embed="rId1"/>
          <a:srcRect l="7382" t="18602" r="7382" b="12303"/>
          <a:stretch/>
        </p:blipFill>
        <p:spPr>
          <a:xfrm>
            <a:off x="1285920" y="1566720"/>
            <a:ext cx="70912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409680" y="481320"/>
            <a:ext cx="78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а схема АВ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847800" y="1573200"/>
            <a:ext cx="76309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Прямоугольник 3"/>
          <p:cNvSpPr/>
          <p:nvPr/>
        </p:nvSpPr>
        <p:spPr>
          <a:xfrm>
            <a:off x="299880" y="216000"/>
            <a:ext cx="847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міна напруги вихідного сигналу від часу при різних значеннях ємності вологочутливої КЦ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957240" y="1414440"/>
            <a:ext cx="708336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11-09T21:18:58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