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CBB-1568-422E-9D73-5BC6C4FD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DD0-E1A1-4192-B02E-C7C47E0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1F4-A301-4044-89E2-C2AFB996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F99-A580-49D7-85F5-24D839D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9CD-16FF-4C35-B59C-6E324D90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FED3-C9EE-4AD3-90B3-AEA0198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4888-598E-47A8-96FB-30FC6B36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AB89-7BD8-4946-9E0C-64610D4E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1552-7A41-4C16-A782-C7CD396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B4F-868D-4B15-BF0E-ED7829E8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50F-0A6A-4FB3-81CC-FE1DE541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FCC-5569-4277-9493-ED1655E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1BD-77D2-4A9E-9993-06A611A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46D2-0A19-4BA2-9400-0D4F126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FE39-0D7E-4645-BC52-AE3CE07A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410-B817-46FC-A302-D52B85CD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41DD-0978-4921-80EF-8F0B4759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E8F-5A21-4D19-8205-EADD46CC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15C-D020-43EF-9AF4-BF7724F8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15F-96A9-4819-A76B-9C328D5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9CB-1783-4171-B0D9-D6A251E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2EB-52B6-4BD3-9347-AB70CF1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2AC-5E54-4703-AA34-60483C9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655-E18A-4828-B05E-627D699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61C-2FC8-452D-9A69-92088DF36C03}" type="slidenum">
              <a:rPr b="0" lang="uk-UA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d45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0E4-E794-48EF-8372-CC810FB2B769}" type="slidenum">
              <a:rPr b="0" lang="uk-UA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603360" y="901800"/>
            <a:ext cx="7864200" cy="215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920" y="3573360"/>
            <a:ext cx="7561440" cy="17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иконав: ст. гр. РТ-14 м з/в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Слюсар Є.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ерівник: к.т.н.,  доцент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Криночкін Р.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проксимована залежність функції перетворення радіовимірювального перетворювача витрат газу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857240" y="1714680"/>
            <a:ext cx="5715000" cy="345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786040" y="5572080"/>
          <a:ext cx="4000680" cy="7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6040" y="5572080"/>
                    <a:ext cx="40006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475920"/>
            <a:ext cx="8210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укова новизна одержаних результатів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25600" y="1773360"/>
            <a:ext cx="8150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 flipV="1" rot="10800000">
            <a:off x="714240" y="170604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а новиз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оботи полягає в отриманні наступних результаті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лено математичні моделі  радіовимірювальних  мікроелектронних перетворювачів витрат газу, в яких на відміну від існуючих, враховано вплив витрат газу через залежність параметрів  елементів нелінійних еквівалентних схем перетворювачів на основі двох біполярних і МДН- та біполярного транзисторних структур з від’ємним опором, що дало змогу отримати рівняння чутливості та функції перетворення витрат газу у част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ИСНОВКИ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71680" y="190908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і радіовимірювальні мікроелектронні перетворювачі витрат газу з частотним виходом на основі двох біполярних і польового та біполярних транзисторних структур для вимірювання витрат газу від 0 до 80 л/год з чутливістю від 230 до 750 Гц/л/год для перетворювача на основі двох біполярних транзисторів та з чутливістю від 20 до 54 кГц/л/год для перетворювача на основі МДН- та біполярного транзисто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998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1f497d"/>
                </a:solidFill>
                <a:latin typeface="Calibri"/>
              </a:rPr>
              <a:t>Дякую за увагу! 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216080"/>
            <a:ext cx="828648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роботи є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ащення метрологічних та економічних показників радіовимірювальних мікроелектронних перетворювачів витрат газу, технологічно сумісних з мікроелектронною елементною базою, принцип роботи яких базується на використанні функціональної залежності реактивних властивостей транзисторних структур з від’ємним опором від зміни витрат газу, що надає можливість створення та виготовлення конкурентноспроможних зразків цієї продукції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142920"/>
            <a:ext cx="75614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іовимірювальні сенсори витрат газу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біогазових установок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95280" y="3286080"/>
            <a:ext cx="79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’єктом дослі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57120" y="3929040"/>
            <a:ext cx="8572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зв'язуються такі задач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увати існуючі перетворювачі витрат газу та обґрунтувати переваги перетворювачів витрат газу з частотним виходом по відношенню до існуюч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радіовимірювальні мікроелектронні перетворювачі витрат газу на основі двох біполярних і МДН- та біполярного транзисторних структур з пасивним та активним індуктивними елемен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мікропроцесорну систему вимірювання витрат газу з використанням радіовимірювальних перетворювачів витрат газу на основі транзисторних структур з від’ємним опоро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622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571680" y="32860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процес перетворення витрат газу у частотний сигнал в чутливих напівпровідникових структу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280" y="476280"/>
            <a:ext cx="80773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и перетворювачів витрат обтікання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6" descr="1_1"/>
          <p:cNvPicPr/>
          <p:nvPr/>
        </p:nvPicPr>
        <p:blipFill>
          <a:blip r:embed="rId1"/>
          <a:stretch/>
        </p:blipFill>
        <p:spPr>
          <a:xfrm>
            <a:off x="1428840" y="1714680"/>
            <a:ext cx="62150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90010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лектрична схема радіовимірювального мікроелектронного </a:t>
            </a: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етворювача витрат газу на основі польового і біполярного транзисторів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1143000" y="1857240"/>
          <a:ext cx="69199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57240"/>
                    <a:ext cx="69199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лектрична схема радіовимірювального мікроелектронного </a:t>
            </a: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етворювача витрат газу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85960" y="1785960"/>
            <a:ext cx="59500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6" descr=""/>
          <p:cNvPicPr/>
          <p:nvPr/>
        </p:nvPicPr>
        <p:blipFill>
          <a:blip r:embed="rId1"/>
          <a:stretch/>
        </p:blipFill>
        <p:spPr>
          <a:xfrm>
            <a:off x="463680" y="353880"/>
            <a:ext cx="8521560" cy="6526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626436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68360" y="357120"/>
            <a:ext cx="85089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571680" y="684360"/>
            <a:ext cx="6072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642960" y="3571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сті чутливості пристрою від витрат г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607248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7151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руктурна схема вимірювального блоку витрат газ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5857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80" y="356760"/>
            <a:ext cx="8219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нципова схема вимірювального блоку витрат газу</a:t>
            </a: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901800" y="1500120"/>
            <a:ext cx="74563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7:14:30Z</dcterms:created>
  <dc:creator>IronChampion</dc:creator>
  <dc:description/>
  <cp:keywords/>
  <dc:language>en-US</dc:language>
  <cp:lastModifiedBy>Admin</cp:lastModifiedBy>
  <dcterms:modified xsi:type="dcterms:W3CDTF">2015-11-10T22:17:11Z</dcterms:modified>
  <cp:revision>26</cp:revision>
  <dc:subject/>
  <dc:title>Магістерська кваліфікаційна робота на тему: “ВОЛОКОННО-ОПТИЧНІ СЕНСОРИ ФІЗИЧНИХ ВЕЛИЧИН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9990</vt:lpwstr>
  </property>
</Properties>
</file>