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47E-323B-45B7-AAD8-5FE863E8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8C0-1193-4F8C-93B1-22489A21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406-428F-40AE-9ABE-DB22C551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8A9-2EC0-4220-B623-9633EEF0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7D62-D76A-4211-B790-21F0027C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2DC7-FDF5-4746-96BD-C87E4D88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FB59-9632-4F95-A767-FCAAB1AB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104D-BAAD-494F-9D2B-66F9B934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5E9-85AA-4BBE-AD58-4426DC7D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197C-61AC-4A86-B30D-5D580189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43D1-2F8A-4EC0-A30B-79572B8B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62D-6BD1-4006-BCE5-92383165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3E3C-D10F-44A6-BE2E-69E51F93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1DE8-2E57-4076-BB30-AD35E489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B4F9-EE04-4C6A-8FC3-05D24FB9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7C16-F065-409B-BD17-597ABEE4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82BD-99F4-4BD4-9D7A-205F1BFD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2D7-568A-4050-8B37-2BABD42D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29B-A157-4E9B-87BE-6024B13C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367-A60F-4D04-9099-6044B02A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EC2-5423-40AB-A19B-A83E600B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735-C022-4001-85F9-54B66E5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6CC-2E8A-4411-9C8F-39CBE04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496-92EB-4723-A57B-7EEB0533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ABEF-49CE-4D32-A4E6-CD2EBE3B6541}" type="slidenum">
              <a:rPr b="0" lang="uk-UA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51E2-A827-455B-88DD-0C990BB0EA09}" type="slidenum">
              <a:rPr b="0" lang="uk-UA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4" descr=""/>
          <p:cNvPicPr/>
          <p:nvPr/>
        </p:nvPicPr>
        <p:blipFill>
          <a:blip r:embed="rId1"/>
          <a:stretch/>
        </p:blipFill>
        <p:spPr>
          <a:xfrm>
            <a:off x="603360" y="901800"/>
            <a:ext cx="7864200" cy="2152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920" y="3573360"/>
            <a:ext cx="7561440" cy="1727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                                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нав: ст. гр. РТ-14 м з/в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Слюсар Є.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ерівник: к.т.н.,  доцент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риночкін Р.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проксимована залежність функції перетворення радіовимірювального перетворювача витрат газу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857240" y="1714680"/>
            <a:ext cx="5715000" cy="3455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2786040" y="5572080"/>
          <a:ext cx="4000680" cy="7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6040" y="5572080"/>
                    <a:ext cx="40006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475920"/>
            <a:ext cx="82105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укова новизна одержаних результатів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525600" y="1773360"/>
            <a:ext cx="8150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 flipV="1" rot="10800000">
            <a:off x="714240" y="170604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кова новиз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оботи полягає в отриманні наступних результаті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лено математичні моделі  радіовимірювальних  мікроелектронних перетворювачів витрат газу, в яких на відміну від існуючих, враховано вплив витрат газу через залежність параметрів  елементів нелінійних еквівалентних схем перетворювачів на основі двох біполярних і МДН- та біполярного транзисторних структур з від’ємним опором, що дало змогу отримати рівняння чутливості та функції перетворення витрат газу у част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ИСНОВКИ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71680" y="1909080"/>
            <a:ext cx="8072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і радіовимірювальні мікроелектронні перетворювачі витрат газу з частотним виходом на основі двох біполярних і польового та біполярних транзисторних структур для вимірювання витрат газу від 0 до 80 л/год з чутливістю від 230 до 750 Гц/л/год для перетворювача на основі двох біполярних транзисторів та з чутливістю від 20 до 54 кГц/л/год для перетворювача на основі МДН- та біполярного транзистор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99980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1f497d"/>
                </a:solidFill>
                <a:latin typeface="Calibri"/>
              </a:rPr>
              <a:t>Дякую за увагу! 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216080"/>
            <a:ext cx="8286480" cy="20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ю роботи є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ращення метрологічних та економічних показників радіовимірювальних мікроелектронних перетворювачів витрат газу, технологічно сумісних з мікроелектронною елементною базою, принцип роботи яких базується на використанні функціональної залежності реактивних властивостей транзисторних структур з від’ємним опором від зміни витрат газу, що надає можливість створення та виготовлення конкурентноспроможних зразків цієї продукції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55640" y="142920"/>
            <a:ext cx="75614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іовимірювальні сенсори витрат газу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біогазових установок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95280" y="3286080"/>
            <a:ext cx="79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’єктом дослід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357120" y="3929040"/>
            <a:ext cx="8572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зв'язуються такі задач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622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ізувати існуючі перетворювачі витрат газу та обґрунтувати переваги перетворювачів витрат газу з частотним виходом по відношенню до існуюч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622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ти радіовимірювальні мікроелектронні перетворювачі витрат газу на основі двох біполярних і МДН- та біполярного транзисторних структур з пасивним та активним індуктивними елемен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622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ти мікропроцесорну систему вимірювання витрат газу з використанням радіовимірювальних перетворювачів витрат газу на основі транзисторних структур з від’ємним опоро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622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622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571680" y="32860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процес перетворення витрат газу у частотний сигнал в чутливих напівпровідникових структу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280" y="476280"/>
            <a:ext cx="80773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и перетворювачів витрат обтіканн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6" descr="1_1"/>
          <p:cNvPicPr/>
          <p:nvPr/>
        </p:nvPicPr>
        <p:blipFill>
          <a:blip r:embed="rId1"/>
          <a:stretch/>
        </p:blipFill>
        <p:spPr>
          <a:xfrm>
            <a:off x="1428840" y="1714680"/>
            <a:ext cx="621504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90010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Електрична схема радіовимірювального мікроелектронного </a:t>
            </a:r>
            <a:br>
              <a:rPr sz="2000"/>
            </a:b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ретворювача витрат газу на основі польового і біполярного транзисторів</a:t>
            </a: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6"/>
          <p:cNvGraphicFramePr/>
          <p:nvPr/>
        </p:nvGraphicFramePr>
        <p:xfrm>
          <a:off x="1143000" y="1857240"/>
          <a:ext cx="69199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57240"/>
                    <a:ext cx="69199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152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Електрична схема радіовимірювального мікроелектронного </a:t>
            </a:r>
            <a:br>
              <a:rPr sz="2000"/>
            </a:b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ретворювача витрат газу</a:t>
            </a: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785960" y="1785960"/>
            <a:ext cx="59500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6" descr=""/>
          <p:cNvPicPr/>
          <p:nvPr/>
        </p:nvPicPr>
        <p:blipFill>
          <a:blip r:embed="rId1"/>
          <a:stretch/>
        </p:blipFill>
        <p:spPr>
          <a:xfrm>
            <a:off x="463680" y="353880"/>
            <a:ext cx="8521560" cy="652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1643040" y="1428840"/>
            <a:ext cx="626436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68360" y="357120"/>
            <a:ext cx="85089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571680" y="684360"/>
            <a:ext cx="6072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642960" y="3571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сті чутливості пристрою від витрат г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607248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7151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руктурна схема вимірювального блоку витрат газ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8575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80" y="356760"/>
            <a:ext cx="82198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нципова схема вимірювального блоку витрат газу</a:t>
            </a: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0" y="5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901800" y="1500120"/>
            <a:ext cx="7456320" cy="462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7:14:30Z</dcterms:created>
  <dc:creator>IronChampion</dc:creator>
  <dc:description/>
  <cp:keywords/>
  <dc:language>en-US</dc:language>
  <cp:lastModifiedBy>Admin</cp:lastModifiedBy>
  <dcterms:modified xsi:type="dcterms:W3CDTF">2015-11-10T22:17:11Z</dcterms:modified>
  <cp:revision>26</cp:revision>
  <dc:subject/>
  <dc:title>Магістерська кваліфікаційна робота на тему: “ВОЛОКОННО-ОПТИЧНІ СЕНСОРИ ФІЗИЧНИХ ВЕЛИЧИН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9990</vt:lpwstr>
  </property>
</Properties>
</file>