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E035-5CC8-4F51-83D4-0EE9E5B2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7382-FB74-4915-80E3-11040565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F352-AFBA-4D7D-999B-C0176EBFD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FCC2-E368-499C-8E27-92CACAA3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79D5-3EBD-4AE4-A856-6735F2E87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5D6F-9092-4421-8EC3-09AFBF88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5CA2-1A73-42D2-BD87-763F5F35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B011-C285-4A42-B505-DAA9A345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4FFA-1F21-4873-BF4A-8C97B1A6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D367-96D8-410E-9B33-1F7FC9CD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A378-2AAF-419C-93F2-6DAA399D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0F9E-9020-499D-8489-9167C436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A7FD-F9AA-4513-9369-93ADFAE5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FE62-1BF6-491C-A915-D891D435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0C97-9184-409A-8BB5-2F1E8CC7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13B0-A7B5-4E04-843E-DDE076C9D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CA17-05C4-4FB6-B7E8-F5B36BE4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A4E0F-37A3-4758-A3DD-2A20A4AC8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B0FED-27CF-451B-A20B-8E0713D9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0CDEF-B49F-4EE6-A32C-DF1B71F5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4C53A-8E11-481B-A046-C8A25B7E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E3B2C-A8A7-47F7-AB59-2391B4BA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CB03-92EE-43B0-85FF-D3CAE2A5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1A165-A422-433C-84F8-C31EE000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18503-6E5B-4C7D-ABEE-47E45460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903E0-29C2-4EB2-B101-59A9A349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CDF72-E18F-4A33-97C0-286DB326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B4F28-E1C8-4876-B774-CA20F5DD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2BA61-8D09-49F6-919E-E0198CA1B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85338-8B60-4EDB-8167-AB7955F6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3B940-6518-427B-8D92-9FFC000E7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97D1F-2841-49FA-A0D3-260069DF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741E2-F817-495D-8EC9-60D32FB4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E81E-6E13-49A4-848A-24E89B47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2DA43-B4B6-4139-8E8F-E1A5A534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D3736-234B-495D-BBCD-2FAB83A5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9F805-7EEE-4A03-8FAC-6C7556EE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EE2A0-5018-45A1-A18D-E6125C79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D6ACE-4548-4C22-A507-8901EF41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1BD52-A092-4AD6-8252-41BB1788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CFADC-0060-4391-8554-4BE045F6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FEB47-6EBB-4B18-B2B8-EE19F7C9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3F916-40B9-482C-9197-703CDBCD1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5A7F-8C62-4D3A-AACB-FF74B1C7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EE5A-64AB-4013-A5A4-C514B2C9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0A8C-E995-44FD-A664-F26FA82A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74E2-49EA-4A24-937F-E1A21C56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FD36-48AD-4B8B-A103-7A883877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5804-F283-4092-A857-52D78699A46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F5BF-B871-4ECE-90E1-591F6B40680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DAAB-3B85-45B8-88FB-8B233B45A85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A791-80A1-4AB5-8334-182C6B2F6A6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431640" y="189000"/>
            <a:ext cx="8352000" cy="41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нницький національний технічний університ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ультет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діотехніки зв'язку та приладобудуванн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ТКСТ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12745"/>
                </a:solidFill>
                <a:latin typeface="Tahoma"/>
              </a:rPr>
              <a:t> </a:t>
            </a:r>
            <a:r>
              <a:rPr b="0" lang="uk-UA" sz="2400" spc="-1" strike="noStrike">
                <a:solidFill>
                  <a:srgbClr val="212745"/>
                </a:solidFill>
                <a:latin typeface="Tahoma"/>
              </a:rPr>
              <a:t>Магістерська кваліфікаційна робота</a:t>
            </a:r>
            <a:br>
              <a:rPr sz="2400"/>
            </a:br>
            <a:r>
              <a:rPr b="0" lang="uk-UA" sz="2400" spc="-1" strike="noStrike">
                <a:solidFill>
                  <a:srgbClr val="212745"/>
                </a:solidFill>
                <a:latin typeface="Tahoma"/>
              </a:rPr>
              <a:t>на тему</a:t>
            </a:r>
            <a:r>
              <a:rPr b="0" lang="en-US" sz="2400" spc="-1" strike="noStrike">
                <a:solidFill>
                  <a:srgbClr val="212745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uk-UA" sz="3200" spc="-1" strike="noStrike">
                <a:solidFill>
                  <a:srgbClr val="212745"/>
                </a:solidFill>
                <a:latin typeface="Tahoma"/>
              </a:rPr>
              <a:t>“</a:t>
            </a:r>
            <a:r>
              <a:rPr b="0" lang="uk-UA" sz="3200" spc="-1" strike="noStrike">
                <a:solidFill>
                  <a:srgbClr val="212745"/>
                </a:solidFill>
                <a:latin typeface="Tahoma"/>
              </a:rPr>
              <a:t>Приймальний пристрій міліметрового діапазону</a:t>
            </a:r>
            <a:r>
              <a:rPr b="1" lang="uk-UA" sz="3200" spc="-1" strike="noStrike">
                <a:solidFill>
                  <a:srgbClr val="212745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-108000" y="550872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Виконав: студент Вергелюк А.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431640" y="616572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Керівник: д.т.н., професор Кичак В.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395280" y="220500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Tahoma"/>
              </a:rPr>
              <a:t>Дякую за увагу</a:t>
            </a:r>
            <a:r>
              <a:rPr b="0" lang="uk-UA" sz="88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298440" y="698400"/>
            <a:ext cx="854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сталічна структура з’єднання </a:t>
            </a: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Y</a:t>
            </a:r>
            <a:r>
              <a:rPr b="0" lang="uk-UA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а</a:t>
            </a:r>
            <a:r>
              <a:rPr b="0" lang="uk-UA" sz="2400" spc="-1" strike="noStrike" baseline="-25000">
                <a:solidFill>
                  <a:srgbClr val="00b0f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u</a:t>
            </a:r>
            <a:r>
              <a:rPr b="0" lang="uk-UA" sz="2400" spc="-1" strike="noStrike" baseline="-25000">
                <a:solidFill>
                  <a:srgbClr val="00b0f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O</a:t>
            </a:r>
            <a:r>
              <a:rPr b="0" lang="uk-UA" sz="2400" spc="-1" strike="noStrike" baseline="-25000">
                <a:solidFill>
                  <a:srgbClr val="00b0f0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Рисунок 6" descr=""/>
          <p:cNvPicPr/>
          <p:nvPr/>
        </p:nvPicPr>
        <p:blipFill>
          <a:blip r:embed="rId1"/>
          <a:stretch/>
        </p:blipFill>
        <p:spPr>
          <a:xfrm>
            <a:off x="2771640" y="1504800"/>
            <a:ext cx="3168720" cy="36752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612720" y="5661000"/>
            <a:ext cx="854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ентні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uk-U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а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uk-U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uk-U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uk-U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І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uk-U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uk-U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272880" y="412920"/>
            <a:ext cx="83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Структурна схема напровідникового приймача міліметрового діапазон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6" name="Объект 2"/>
          <p:cNvGraphicFramePr/>
          <p:nvPr/>
        </p:nvGraphicFramePr>
        <p:xfrm>
          <a:off x="1262160" y="1268280"/>
          <a:ext cx="6408720" cy="503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2160" y="1268280"/>
                    <a:ext cx="6408720" cy="50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4"/>
          <p:cNvSpPr/>
          <p:nvPr/>
        </p:nvSpPr>
        <p:spPr>
          <a:xfrm>
            <a:off x="8388360" y="189000"/>
            <a:ext cx="576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284040" y="53964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 схема змішувач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Рисунок 6" descr=""/>
          <p:cNvPicPr/>
          <p:nvPr/>
        </p:nvPicPr>
        <p:blipFill>
          <a:blip r:embed="rId1"/>
          <a:stretch/>
        </p:blipFill>
        <p:spPr>
          <a:xfrm>
            <a:off x="231840" y="1773360"/>
            <a:ext cx="868032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284040" y="53964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ФАП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7" name="Объект 2"/>
          <p:cNvGraphicFramePr/>
          <p:nvPr/>
        </p:nvGraphicFramePr>
        <p:xfrm>
          <a:off x="1801800" y="1504800"/>
          <a:ext cx="5354640" cy="51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1800" y="1504800"/>
                    <a:ext cx="5354640" cy="51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378000" y="555480"/>
            <a:ext cx="83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Схема генератора на 3-х переходах Джозефсо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2" name="Рисунок 7" descr=""/>
          <p:cNvPicPr/>
          <p:nvPr/>
        </p:nvPicPr>
        <p:blipFill>
          <a:blip r:embed="rId1"/>
          <a:stretch/>
        </p:blipFill>
        <p:spPr>
          <a:xfrm>
            <a:off x="2093760" y="1504800"/>
            <a:ext cx="495648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378000" y="555480"/>
            <a:ext cx="83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ежність відхилень значення періоду електромагнітних коливань від відношення струмів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/I0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ідповідності з програмою аналізу пристроїв на переходах Джозефсона 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S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Рисунок 7" descr=""/>
          <p:cNvPicPr/>
          <p:nvPr/>
        </p:nvPicPr>
        <p:blipFill>
          <a:blip r:embed="rId1"/>
          <a:stretch/>
        </p:blipFill>
        <p:spPr>
          <a:xfrm>
            <a:off x="892080" y="1962000"/>
            <a:ext cx="735984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378000" y="555480"/>
            <a:ext cx="83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ежність відхилень значення періоду електромагнітних коливань від шунтуючого опору у відповідності з програмою аналізу пристроїв на переходах Джозефсона 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S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0" name="Рисунок 7" descr=""/>
          <p:cNvPicPr/>
          <p:nvPr/>
        </p:nvPicPr>
        <p:blipFill>
          <a:blip r:embed="rId1"/>
          <a:stretch/>
        </p:blipFill>
        <p:spPr>
          <a:xfrm>
            <a:off x="919080" y="1973160"/>
            <a:ext cx="7305840" cy="39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6"/>
          <p:cNvSpPr/>
          <p:nvPr/>
        </p:nvSpPr>
        <p:spPr>
          <a:xfrm>
            <a:off x="4929120" y="1811880"/>
            <a:ext cx="421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Недолік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- складність проектування і виконанн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0" y="1975680"/>
            <a:ext cx="4286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Переваг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-Малі енергетичні затрати,завдяки явищу напровідності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- Використання високотемпературної надпровідності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-діапазон частот 200-250 ГГц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-швидкоді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-Кращі спектральні характеристик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-малі габарити і мас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-зазвичай нижча вартіст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TextBox 10"/>
          <p:cNvSpPr/>
          <p:nvPr/>
        </p:nvSpPr>
        <p:spPr>
          <a:xfrm>
            <a:off x="192600" y="357120"/>
            <a:ext cx="81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ровідниковий приймач міліметрового діапазон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аги і недоліки у порівнянні із звичайними приймачам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5T06:30:12Z</dcterms:created>
  <dc:creator>WinXPProSP3</dc:creator>
  <dc:description/>
  <dc:language>en-US</dc:language>
  <cp:lastModifiedBy>ancarnamir</cp:lastModifiedBy>
  <dcterms:modified xsi:type="dcterms:W3CDTF">2015-12-01T04:57:39Z</dcterms:modified>
  <cp:revision>40</cp:revision>
  <dc:subject/>
  <dc:title>Слайд 1</dc:title>
</cp:coreProperties>
</file>