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1CC-0B47-43F9-AF5F-2E98A4B8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087-D4AA-4FB1-84B8-02DA5341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C92-0FF1-4BD8-A87C-8BA1608F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A9E-BE3A-459F-B269-CF8F7E4F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AF66-23F8-4EBE-94E8-822A71E3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C062-E1CE-4784-98ED-78829B8A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CD37-74D3-456F-8CFD-8C6B7529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5BD7-ADC8-4E1E-9766-B88C1D09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28EC-08DF-4D7F-9CC3-76E77589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3E09-CAC5-42CE-A3B4-AE12F959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5F27-F4A1-4922-872F-08F21AC6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3C0-A05A-4E56-BC96-E69FCBA9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FD0C-47E4-4633-A706-B3ABC450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B8BE-050D-4FD7-8936-D5241F60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9043-38D7-425F-B5B1-41358B19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82DA-BE59-45CB-91E6-D4C4B3FF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5715-1988-4E19-8AE9-809E603E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3F44-A6F8-4140-B92A-7DDCB158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2D15D-7847-4882-BCDF-E30F82B3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6CAD-65CD-4A63-A6C4-9A83DB27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B71B4-B01A-4D57-961A-951BF274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574E4-0ED2-4C03-86CC-A55F3376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E0F-6CC2-41EC-BC2C-941E0516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224B6-50BB-4F0F-ABD7-CD57E120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E679-4441-47AA-8B8D-BC14B74E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D025-2891-4552-B496-80E4349F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F282-6395-40CC-BEDB-DE3F6A03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65411-6FCF-49E1-BB38-207F5440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B3FC-77F8-445B-961D-A3EC4005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AC0A-0E34-4153-A312-D7A407BB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B40A8-ADD4-4170-A580-0E2FC35B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D15E0-24A6-4455-9667-A0090D3A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F68F3-4B60-4A34-BB83-1459A9A7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B93-C72A-4CC9-9A9A-2CF251FA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DA1A4-8130-4539-A252-A73DAC49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34EAE-AC0F-4FC4-ABB2-A6ABE254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7DE34-B76B-42E2-9607-04DF668A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CB280-2AA3-4970-B002-58D4E1D4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A3A08-BEFC-4C11-B4A0-41726171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A4411-E25E-4ECE-B42A-56CE4652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424F8-5D5C-4AF8-96B4-78A2B740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1E5C6-6606-4E0F-B138-7C490F2B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2C79E-1239-43A0-9753-21EA8DC6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D23-12D1-40F7-BBF7-EBC30066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D89-10DC-416D-AC7C-F45181CE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782-AB66-4FF8-BC98-43D6D529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66F-5BBE-4122-90C6-E25658C5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93E-52FE-4CC5-B324-086CB338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549E-22B9-4B19-850E-F7DBB596E00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DD28-F5A5-4F02-87B7-7896E7D742D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FA91-ECDE-4B48-8CC5-29F25D5FAB5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CF8A-D2E0-4D9E-8620-7C1BDB505B1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431640" y="189000"/>
            <a:ext cx="8352000" cy="41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іотехніки зв'язку та приладобудуван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ТКСТ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12745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212745"/>
                </a:solidFill>
                <a:latin typeface="Tahoma"/>
              </a:rPr>
              <a:t>Магістерська кваліфікаційна робота</a:t>
            </a:r>
            <a:br>
              <a:rPr sz="2400"/>
            </a:br>
            <a:r>
              <a:rPr b="0" lang="uk-UA" sz="2400" spc="-1" strike="noStrike">
                <a:solidFill>
                  <a:srgbClr val="212745"/>
                </a:solidFill>
                <a:latin typeface="Tahoma"/>
              </a:rPr>
              <a:t>на тему</a:t>
            </a:r>
            <a:r>
              <a:rPr b="0" lang="en-US" sz="2400" spc="-1" strike="noStrike">
                <a:solidFill>
                  <a:srgbClr val="212745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uk-UA" sz="3200" spc="-1" strike="noStrike">
                <a:solidFill>
                  <a:srgbClr val="212745"/>
                </a:solidFill>
                <a:latin typeface="Tahoma"/>
              </a:rPr>
              <a:t>“</a:t>
            </a:r>
            <a:r>
              <a:rPr b="0" lang="uk-UA" sz="3200" spc="-1" strike="noStrike">
                <a:solidFill>
                  <a:srgbClr val="212745"/>
                </a:solidFill>
                <a:latin typeface="Tahoma"/>
              </a:rPr>
              <a:t>Приймальний пристрій міліметрового діапазону</a:t>
            </a:r>
            <a:r>
              <a:rPr b="1" lang="uk-UA" sz="3200" spc="-1" strike="noStrike">
                <a:solidFill>
                  <a:srgbClr val="212745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-108000" y="550872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Виконав: студент Вергелюк А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431640" y="616572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Керівник: д.т.н., професор Кичак В.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395280" y="2205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Tahoma"/>
              </a:rPr>
              <a:t>Дякую за увагу</a:t>
            </a:r>
            <a:r>
              <a:rPr b="0" lang="uk-UA" sz="8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98440" y="698400"/>
            <a:ext cx="854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алічна структура з’єднання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Y</a:t>
            </a:r>
            <a:r>
              <a:rPr b="0" lang="uk-U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а</a:t>
            </a:r>
            <a:r>
              <a:rPr b="0" lang="uk-UA" sz="2400" spc="-1" strike="noStrike" baseline="-25000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u</a:t>
            </a:r>
            <a:r>
              <a:rPr b="0" lang="uk-UA" sz="2400" spc="-1" strike="noStrike" baseline="-25000">
                <a:solidFill>
                  <a:srgbClr val="00b0f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O</a:t>
            </a:r>
            <a:r>
              <a:rPr b="0" lang="uk-UA" sz="2400" spc="-1" strike="noStrike" baseline="-25000">
                <a:solidFill>
                  <a:srgbClr val="00b0f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Рисунок 6" descr=""/>
          <p:cNvPicPr/>
          <p:nvPr/>
        </p:nvPicPr>
        <p:blipFill>
          <a:blip r:embed="rId1"/>
          <a:stretch/>
        </p:blipFill>
        <p:spPr>
          <a:xfrm>
            <a:off x="2771640" y="1504800"/>
            <a:ext cx="3168720" cy="36752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612720" y="5661000"/>
            <a:ext cx="854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тні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а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І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72880" y="41292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Структурна схема напровідникового приймача міліметрового діапазон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Объект 2"/>
          <p:cNvGraphicFramePr/>
          <p:nvPr/>
        </p:nvGraphicFramePr>
        <p:xfrm>
          <a:off x="1262160" y="1268280"/>
          <a:ext cx="6408720" cy="50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1268280"/>
                    <a:ext cx="640872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8388360" y="189000"/>
            <a:ext cx="576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84040" y="539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змішувач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Рисунок 6" descr=""/>
          <p:cNvPicPr/>
          <p:nvPr/>
        </p:nvPicPr>
        <p:blipFill>
          <a:blip r:embed="rId1"/>
          <a:stretch/>
        </p:blipFill>
        <p:spPr>
          <a:xfrm>
            <a:off x="231840" y="1773360"/>
            <a:ext cx="86803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284040" y="539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ФАП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7" name="Объект 2"/>
          <p:cNvGraphicFramePr/>
          <p:nvPr/>
        </p:nvGraphicFramePr>
        <p:xfrm>
          <a:off x="1801800" y="1504800"/>
          <a:ext cx="535464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1800" y="1504800"/>
                    <a:ext cx="535464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378000" y="555480"/>
            <a:ext cx="83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Схема генератора на 3-х переходах Джозефсо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2" name="Рисунок 7" descr=""/>
          <p:cNvPicPr/>
          <p:nvPr/>
        </p:nvPicPr>
        <p:blipFill>
          <a:blip r:embed="rId1"/>
          <a:stretch/>
        </p:blipFill>
        <p:spPr>
          <a:xfrm>
            <a:off x="2093760" y="1504800"/>
            <a:ext cx="49564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78000" y="555480"/>
            <a:ext cx="83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відхилень значення періоду електромагнітних коливань від відношення струмі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/I0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ідповідності з програмою аналізу пристроїв на переходах Джозефсона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S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Рисунок 7" descr=""/>
          <p:cNvPicPr/>
          <p:nvPr/>
        </p:nvPicPr>
        <p:blipFill>
          <a:blip r:embed="rId1"/>
          <a:stretch/>
        </p:blipFill>
        <p:spPr>
          <a:xfrm>
            <a:off x="892080" y="1962000"/>
            <a:ext cx="73598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378000" y="555480"/>
            <a:ext cx="83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відхилень значення періоду електромагнітних коливань від шунтуючого опору у відповідності з програмою аналізу пристроїв на переходах Джозефсона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S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Рисунок 7" descr=""/>
          <p:cNvPicPr/>
          <p:nvPr/>
        </p:nvPicPr>
        <p:blipFill>
          <a:blip r:embed="rId1"/>
          <a:stretch/>
        </p:blipFill>
        <p:spPr>
          <a:xfrm>
            <a:off x="919080" y="1973160"/>
            <a:ext cx="730584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929120" y="1811880"/>
            <a:ext cx="421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Недолік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- складність проектування і виконанн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1975680"/>
            <a:ext cx="4286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Переваг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-Малі енергетичні затрати,завдяки явищу напровідності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- Використання високотемпературної надпровідності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-діапазон частот 200-250 ГГц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-швидкоді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-Кращі спектральні характеристик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-малі габарити і мас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-зазвичай нижча варті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Box 10"/>
          <p:cNvSpPr/>
          <p:nvPr/>
        </p:nvSpPr>
        <p:spPr>
          <a:xfrm>
            <a:off x="192600" y="357120"/>
            <a:ext cx="81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ровідниковий приймач міліметрового діапазон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и і недоліки у порівнянні із звичайними приймачам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6:30:12Z</dcterms:created>
  <dc:creator>WinXPProSP3</dc:creator>
  <dc:description/>
  <dc:language>en-US</dc:language>
  <cp:lastModifiedBy>ancarnamir</cp:lastModifiedBy>
  <dcterms:modified xsi:type="dcterms:W3CDTF">2015-12-01T04:57:39Z</dcterms:modified>
  <cp:revision>40</cp:revision>
  <dc:subject/>
  <dc:title>Слайд 1</dc:title>
</cp:coreProperties>
</file>