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858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E9E7-E80B-48A5-9AB1-85B300E8FF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7858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0F7-03C6-451F-A9B1-BDF13A45AF8E}" type="slidenum"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99F-5F10-4EBF-9E15-20A06D90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28B-6441-45F9-8A1A-676A4D8E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C34-A8A4-4E58-B71F-A2269D1A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F1D-7014-452C-8A41-79F2F870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A115-89C5-4013-B623-FF8B9344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C32B-C44F-4FA4-A825-CE67468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57A6-C568-4D3B-A093-952033D1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F8C9-7817-4E15-A832-5FEDD963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FC14-E855-4EFC-B06D-43EF76F5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DA6A-BD77-4B49-B1CA-B2D1607E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F056-74D2-46FA-BF15-C910F90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466-5262-4BC4-ACF8-048F4D08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315E-0D51-4084-A702-C981780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E896-AEA4-470C-A7CE-1B23A1A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6E4F-1C65-4A2E-8606-1934163F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0430-986C-44A7-9DE7-C5F397FF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0BC9-E9BA-4DB9-9354-7C9FEBCB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B11B-FEF8-419F-B544-78B05174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61F0-D34B-4CCB-86DB-CDB954A7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4FE9-8EF6-4DF7-A051-8949EB3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25808-F378-4A01-895A-C01485C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ABDF-A4C7-4888-99DB-26CE0736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C9E-7680-45A8-99B7-3A35DD8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AA95-A845-4656-8B4A-E32DD026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6261-8AAB-4617-B88F-AB6633F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4C4D-CBA6-4EC5-81DB-FA02801E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95E7-8B2A-40C1-91F0-A984C9C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56AA-9553-4818-A105-7E2B7A3A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BD9A-BEB9-43C4-985C-0F8ED054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0208-CD7E-422A-A5B5-63C73127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9256-16EA-4B25-9715-F5294D5F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99D6-2127-4D94-91DB-66893B1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9AD3-93D2-4A5B-9C54-91E9C6D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9BC-F0C2-4B71-BC21-83F79EEC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7DDA-56F9-40F1-95E9-AD96112E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3C3A9-8F1B-4544-BB42-CD0CAB0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B8D9-70B4-4440-A502-444228B4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31A0-D98F-48DE-9D8C-97AF4CBF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CA56-DEF9-453B-8D53-4D9E23C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15E9-5E5A-4204-89C8-292A9EF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C1B7-5681-489F-BA50-AA542364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6E02-F93C-4661-8AB1-12DC2F84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B8CB-DD77-45FA-A792-84943D16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EE1A-3214-483C-9B81-04460F8A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80C-7CB6-4E8C-999F-411B9EA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77F1F-D3FD-4D0F-AB35-C1D759E7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EE667-70FF-4EA1-B1B5-FC0F8B7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40AC-40F7-4E38-9A47-0F2C0B54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85C5-2C98-4053-957F-1B23B0F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B4F2B-B916-4228-95B8-8446AEF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217FD-2528-486B-9E9A-9446C890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2F042-656A-4A23-8016-B1D31BE9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6C66-9646-45A8-9916-E47D80A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DF43-16EA-4885-A2D2-146C144B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66A0-899F-421C-8498-15BDAA4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941-5DE2-4FF8-B2ED-4C90FA6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C515-804E-4851-9A0F-D45F7045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C770-79AB-44DC-9546-BAC640CE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85527-752C-411F-BB9D-E99A03E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ECF7-4F8D-444D-9E72-9732DEFC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E4647-DEC9-4F21-9052-625B364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4DBC-3E95-4E8A-A48D-5D6464B9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396A6-9AAB-449F-B414-739D0AC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A4D2-6D0F-4756-9951-FEEB930A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641E-8EDD-4FC6-BD1E-0DD98FA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EE151-B962-4C85-883B-FB0F9B24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C9D-2EBC-42BB-9D12-F6CB640E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ABC24-4D70-404E-9BFB-4514AC84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47108-D73F-4374-A537-796AF2F6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21AA-F579-4E25-9814-0DFFBC38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A82F1-8D3F-49FC-8DA3-C3AA3191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4D29C-2BCF-4166-8F1E-5BC214E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B1C4A-92A3-4BEC-A796-5E1E40D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C65A0-AE40-4B7A-B335-33A0B05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6B4A-4EAD-40F8-AFF4-93C9188D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0D29C-0F03-45D6-A7BE-915E9B0E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F4D08-BF9C-43C5-AB2D-2687BE1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FDF-0A49-44B9-BC2E-391F3D78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01FD7-FC73-404D-9F7E-DF7884CC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AE2D-C6C8-475A-885E-024545DA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9204-20C5-4208-8789-518E0A5C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C12D-508E-45F1-A6CD-E814C9C8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4734A-CE80-4DEF-A8CF-A7B4F6BA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711B4-0001-497C-992C-E0419150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5F9F-BE23-4CBD-90AC-193E06A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A9FBC-82D5-4D8E-8F2F-1CFA1D79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7623-ABFC-48C1-AB19-78028641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D434F-59B5-41C2-A3EF-0580160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F12-FDE5-481E-8486-42F23C25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2384-AF74-4AB5-887E-0E2412B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CA277-00EB-4550-87FD-141BA538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D99C3-E3CF-404B-BE44-76218FB4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2B473-5467-4464-97D4-72C6094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2761-A10F-4ECB-9EA9-273F3D8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49632-7A8B-4384-AE6F-F679CCF8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F4931-66B4-48D8-85C5-44F94D92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3856-39EE-4E4F-A385-B1A7F9848A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25D-B9FF-4518-AE42-A6110AEB67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0183-8B45-4D65-875E-DF8BDA1017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4CF-DCB6-4BA0-B69D-A03E0F1389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985-59F7-4A21-991C-595E871623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F454-F55A-41FF-B9AB-EB21BF2429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E04-5922-47D3-85EC-5BA943FDF5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A957-40C9-4260-9D25-52AFA71877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498160" cy="32911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2195280" y="364500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Виконавець ст. гр. РЗ-14мі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Полуденко Дмитро Сергійович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Керівник к.т.н., доцент каф. ТКСТБ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uk-UA" sz="1400" spc="-1" strike="noStrike">
                <a:solidFill>
                  <a:srgbClr val="464646"/>
                </a:solidFill>
                <a:latin typeface="Lucida Sans Unicode"/>
              </a:rPr>
              <a:t>Дрючин Олександр Олексійович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3635280" y="6381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інниця ВНТУ 20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р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467400" y="4292640"/>
            <a:ext cx="2667240" cy="2428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115640" y="333360"/>
            <a:ext cx="713916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PMR446 (англ. Private Mobile Radio, 446 MHz) — європейська безліцензійна система рухомого персонального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зв’язк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Використовує вісім каналів з частотною модуляцією у смузі 446,000—446,100 МГ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36520" y="2349360"/>
          <a:ext cx="6110280" cy="3429000"/>
        </p:xfrm>
        <a:graphic>
          <a:graphicData uri="http://schemas.openxmlformats.org/drawingml/2006/table">
            <a:tbl>
              <a:tblPr/>
              <a:tblGrid>
                <a:gridCol w="2925720"/>
                <a:gridCol w="3184560"/>
              </a:tblGrid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MR ка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Частота (МГ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1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3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4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8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1240"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30600" rIns="30600" tIns="30600" bIns="306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6.09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025720" y="620280"/>
            <a:ext cx="5084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Lucida Sans Unicode"/>
              </a:rPr>
              <a:t>Принцип роботи синтезатора частот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29520" y="4226040"/>
            <a:ext cx="2666880" cy="24289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Рисунок 1" descr=""/>
          <p:cNvPicPr/>
          <p:nvPr/>
        </p:nvPicPr>
        <p:blipFill>
          <a:blip r:embed="rId2"/>
          <a:stretch/>
        </p:blipFill>
        <p:spPr>
          <a:xfrm>
            <a:off x="600120" y="1309680"/>
            <a:ext cx="79358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3" descr=""/>
          <p:cNvPicPr/>
          <p:nvPr/>
        </p:nvPicPr>
        <p:blipFill>
          <a:blip r:embed="rId1"/>
          <a:stretch/>
        </p:blipFill>
        <p:spPr>
          <a:xfrm>
            <a:off x="934920" y="-79200"/>
            <a:ext cx="7669440" cy="4319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4 курс\Бакалаврська дипломна робота\Моя\БДР\motorola_TLKR_T5.jpg"/>
          <p:cNvPicPr/>
          <p:nvPr/>
        </p:nvPicPr>
        <p:blipFill>
          <a:blip r:embed="rId2"/>
          <a:stretch/>
        </p:blipFill>
        <p:spPr>
          <a:xfrm>
            <a:off x="6300720" y="4259160"/>
            <a:ext cx="2667240" cy="24289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"/>
          <p:cNvSpPr/>
          <p:nvPr/>
        </p:nvSpPr>
        <p:spPr>
          <a:xfrm>
            <a:off x="539640" y="4713120"/>
            <a:ext cx="5327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Фазовий шум і джиттер на виході синтезатора часто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3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056360" cy="345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E:\4 курс\Бакалаврська дипломна робота\Моя\БДР\motorola_TLKR_T5.jpg"/>
          <p:cNvPicPr/>
          <p:nvPr/>
        </p:nvPicPr>
        <p:blipFill>
          <a:blip r:embed="rId2"/>
          <a:stretch/>
        </p:blipFill>
        <p:spPr>
          <a:xfrm>
            <a:off x="6372360" y="4365720"/>
            <a:ext cx="2666880" cy="242892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"/>
          <p:cNvSpPr/>
          <p:nvPr/>
        </p:nvSpPr>
        <p:spPr>
          <a:xfrm>
            <a:off x="39528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ДНОПЕТЛЬОВИЙ СИНТЕЗАТОР ЧАСТОТ ПРЯМОГО СИНТЕЗУ ЗІ ЗСУВОМ ЧАСТОТИ Схема   електрична   структур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Рисунок 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43308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E:\4 курс\Бакалаврська дипломна робота\Моя\БДР\motorola_TLKR_T5.jpg"/>
          <p:cNvPicPr/>
          <p:nvPr/>
        </p:nvPicPr>
        <p:blipFill>
          <a:blip r:embed="rId2"/>
          <a:srcRect l="0" t="2653" r="0" b="0"/>
          <a:stretch/>
        </p:blipFill>
        <p:spPr>
          <a:xfrm>
            <a:off x="6443640" y="4581360"/>
            <a:ext cx="2666880" cy="2219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1"/>
          <p:cNvSpPr/>
          <p:nvPr/>
        </p:nvSpPr>
        <p:spPr>
          <a:xfrm>
            <a:off x="430200" y="182520"/>
            <a:ext cx="82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ДНОПЕТЛЬОВИЙ СИНТЕЗАТОР ЧАСТОТ ПРЯМОГО СИНТЕЗУ ЗІ ЗСУВОМ ЧАСТОТИ Схема   електрична   принципов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00720" y="4259160"/>
            <a:ext cx="2667240" cy="242892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" descr="E:\4 курс\Бакалаврська дипломна робота\Моя\БДР\begin.JPG"/>
          <p:cNvPicPr/>
          <p:nvPr/>
        </p:nvPicPr>
        <p:blipFill>
          <a:blip r:embed="rId2"/>
          <a:stretch/>
        </p:blipFill>
        <p:spPr>
          <a:xfrm>
            <a:off x="1258920" y="138240"/>
            <a:ext cx="7200720" cy="37116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рис8"/>
          <p:cNvPicPr/>
          <p:nvPr/>
        </p:nvPicPr>
        <p:blipFill>
          <a:blip r:embed="rId3">
            <a:grayscl/>
          </a:blip>
          <a:stretch/>
        </p:blipFill>
        <p:spPr>
          <a:xfrm>
            <a:off x="755640" y="3645000"/>
            <a:ext cx="475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00720" y="4259160"/>
            <a:ext cx="2667240" cy="24289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1800" y="242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Рисунок 6" descr=""/>
          <p:cNvPicPr/>
          <p:nvPr/>
        </p:nvPicPr>
        <p:blipFill>
          <a:blip r:embed="rId2"/>
          <a:srcRect l="283" t="0" r="32" b="0"/>
          <a:stretch/>
        </p:blipFill>
        <p:spPr>
          <a:xfrm>
            <a:off x="539640" y="276120"/>
            <a:ext cx="3425760" cy="299268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0" descr=""/>
          <p:cNvPicPr/>
          <p:nvPr/>
        </p:nvPicPr>
        <p:blipFill>
          <a:blip r:embed="rId3"/>
          <a:srcRect l="180" t="0" r="565" b="0"/>
          <a:stretch/>
        </p:blipFill>
        <p:spPr>
          <a:xfrm>
            <a:off x="4940280" y="304920"/>
            <a:ext cx="3470400" cy="296388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2" descr=""/>
          <p:cNvPicPr/>
          <p:nvPr/>
        </p:nvPicPr>
        <p:blipFill>
          <a:blip r:embed="rId4"/>
          <a:stretch/>
        </p:blipFill>
        <p:spPr>
          <a:xfrm>
            <a:off x="2124000" y="3429000"/>
            <a:ext cx="3924360" cy="26179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8" name="Объект 9"/>
          <p:cNvGraphicFramePr/>
          <p:nvPr/>
        </p:nvGraphicFramePr>
        <p:xfrm>
          <a:off x="947880" y="506520"/>
          <a:ext cx="2609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7880" y="506520"/>
                    <a:ext cx="2609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11" name="Объект 11"/>
          <p:cNvGraphicFramePr/>
          <p:nvPr/>
        </p:nvGraphicFramePr>
        <p:xfrm>
          <a:off x="5375160" y="549360"/>
          <a:ext cx="26002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5160" y="549360"/>
                    <a:ext cx="2600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39640" y="126828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anke für Ihre Aumfmerksamkei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зякуй за ўвагу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ziękuję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za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wagę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2" descr="E:\4 курс\Бакалаврська дипломна робота\Моя\БДР\motorola_TLKR_T5.jpg"/>
          <p:cNvPicPr/>
          <p:nvPr/>
        </p:nvPicPr>
        <p:blipFill>
          <a:blip r:embed="rId1"/>
          <a:stretch/>
        </p:blipFill>
        <p:spPr>
          <a:xfrm>
            <a:off x="6300720" y="4324320"/>
            <a:ext cx="266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8:17:45Z</dcterms:created>
  <dc:creator>Полуденко</dc:creator>
  <dc:description/>
  <dc:language>en-US</dc:language>
  <cp:lastModifiedBy>Полуденко</cp:lastModifiedBy>
  <cp:lastPrinted>2015-11-25T18:05:48Z</cp:lastPrinted>
  <dcterms:modified xsi:type="dcterms:W3CDTF">2015-11-25T18:14:16Z</dcterms:modified>
  <cp:revision>19</cp:revision>
  <dc:subject/>
  <dc:title>Вінницький національний технічний університет Інститут радіотехніки, зв’язку та приладобудування Кафедра телекомунікаційних систем і телебачення  Бакалаврська дипломна робота на тему РАДІОСТАНЦІЯ ДІАПАЗОНУ 446 МГЦ</dc:title>
</cp:coreProperties>
</file>