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5.jpeg" ContentType="image/jpeg"/>
  <Override PartName="/ppt/media/image18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7858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3376-2E7E-4173-80EA-9454E35DAA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7858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1917-6E22-4091-BE4D-3C32059FE5DE}" type="slidenum">
              <a:rPr b="0" lang="uk-UA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660-FB2C-4B07-9E51-87A578BE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E6E-8B19-4312-8933-E0199CB9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7CA-C5E8-4D51-B337-E9BFC996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B0B-6920-436F-9E83-0B0AFBC9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12E5-873C-4DA6-B437-C21936C5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C773-A5FA-40BA-8D5A-7D51AE92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025E-6EEB-4004-A098-9076A041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1933-00B4-4E5B-81D0-83FF81C7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668D-2D85-4B08-9626-E7DD9DCA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DCC7-E180-40C5-86C8-C98F90C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0C79-9810-4358-973D-BE78078A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AE6-521F-4342-8B9B-CDC04D96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CFF0-3531-498C-9536-0F052249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BA81-4EAF-4AD2-86E3-5D47107F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9D18-7405-456F-A0BE-0EA9FD1C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6332-488C-4246-A9EA-434D47E3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21B9-DB89-4F2C-BF3A-31779214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2A32-B539-4A23-B98A-6267FA76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40470-6CEF-4D7D-8EA7-41EAC1E5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8F8B-D972-43A9-B28A-507E7E27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5FB8-52DA-4230-A097-79CB77ED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1D557-1D96-4252-9255-10724788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C7E-FB71-4974-8AE5-7236A05C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D7318-99EF-4B20-B863-6A0B2948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D27A-CF8C-4457-AACC-2B19020E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AD43-885B-4BAC-B8CF-156B8F95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0B5A-498B-47C4-8938-B5F3F768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31466-6CBB-448B-BFEC-C0906425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43C3-2826-40D6-AF7F-5F735B0B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1084A-4DAF-47EF-8DEE-72E20213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9B5B0-86E7-4B8D-81DE-C189498E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1514-A882-445F-AA62-0FCCACA0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DF8D8-C761-4C4D-A513-4833F896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BB6-C068-4039-B8C1-BC19C6D3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5509-CDE2-4676-B7B0-C73DAD73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F180-D9CF-43EF-8F71-8B01B21C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757DE-A09C-400D-B5B7-A0F0718B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0C21-CBB7-4515-BEA2-87D289F3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59C0-5092-4377-9478-E72DAA44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1C8DC-4880-4E4A-9CBD-7F7E651A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3C28-BF59-4F38-A938-7A24D31F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38DF-0550-45E9-9B9A-9BFC5903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9FEC8-0266-4FC8-A59E-BCDA1557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C7872-E6D1-42D9-B2B3-25A02FB3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61A-637B-43EB-B515-10A0BDDD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FEE87-8015-48B7-8D8E-ACDB0C4C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1942D-1023-44F7-8F63-293F1ED2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164B1-CC80-49AD-85C5-823470A5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F0E0-0677-4367-9F5D-33AFE028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4638-F544-4F94-85C4-BF15FAA2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53513-93CD-400D-8491-BA5C867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25AE2-D119-4AC4-A574-E0B387D5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D76A-0E42-468C-916E-D8B60672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57822-37DB-4BA3-B6BE-631B8D81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9798B-857E-4FA6-86FD-20776EFD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B9C-CCF3-4CED-9C83-1E5C711F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6050F-1D00-4AFA-B6F7-35E88FC1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62859-6D8E-4444-9856-34008AAF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EF217-0A1F-4DBC-B757-37B38FA4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EECA8-CDB1-429F-86D4-87F31AF4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58AA8-8C8A-49E2-B375-E2319A3D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9755E-7AEF-41B0-A66A-03A6845F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A5F05-6DD5-4B01-99C3-4823A71E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BC8C3-FDC3-4AB6-A78D-649BDB0D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7FD3-AE49-4914-9DCB-3520FA50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EA56E-C9C3-4986-9184-37ED1D29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41A-F230-440E-BE3C-BFAC3F86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B44FD-4529-4888-952F-2D462F00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C2239-F3A8-4286-9A83-7E531E84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7C2A1-8265-4571-9FD3-1DDB9C0A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319B3-BAEB-4158-B36F-BA5EBEEF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40735-D914-4913-8665-78494964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AB10D-2182-4984-9E4E-362EAEAA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FAB1F-9879-46C3-8EA3-645FD467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978A6-63B3-45DA-B56F-745C9F2C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BFDEC-4171-4E1E-8AE7-0E502FE0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ACD67-3635-4337-BAD7-547C4680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5B8-146E-417F-9133-220FF55A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D2BBD-80B6-4317-BEBA-FD074E07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B4E99-5D66-4996-A388-BBF77E10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649C2-4705-4FAE-9D2E-A15DEBDF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4AA68-F564-403A-9DC9-59C8D547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434AA-63FB-4A48-97AB-8FE3EA4B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EF90B-54EA-4C8B-BCF6-C53A45AF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D44C1-DDF2-4484-A631-0F2ACF8D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14C61-130F-4584-981E-D92E8D1F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DAD2D-7E16-4DD7-A7C4-95E348A5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16110-C933-4085-89D9-F74A0936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61A-C65C-4904-BFD3-FFA4741C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05F3-4DE6-40D9-9367-5B38AF35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CE2BA-B299-4841-AC92-AB688805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F67AE-C069-4286-A333-C8200E50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E200F-C60D-48DA-BA23-E987D335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773EE-40CD-4B22-88B6-A7A00C9D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89960-9F2A-410B-9705-5A7FFEE0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6A1ED-25AB-424D-9C58-FF04D377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9B78-A966-4506-B1E9-814D738995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84B8-2A3C-4F0B-A9C3-AC81672A0D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F9BE-30F8-4E97-B9BE-2B680021F6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8773-136E-4472-B68A-B04A265AD9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67DB-2D3C-447E-955A-F0DCB87329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7597-535C-4AF0-B249-7788373485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DE7F-9A02-4622-9812-45CF83CE13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4393-DF80-4908-8C6B-649B210446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498160" cy="32911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2195280" y="3645000"/>
            <a:ext cx="7056360" cy="15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Виконавець ст. гр. РЗ-14мі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Полуденко Дмитро Сергійович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Керівник к.т.н., доцент каф. ТКСТБ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Дрючин Олександр Олексійович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3635280" y="638172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Вінниця ВНТУ 20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р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E:\4 курс\Бакалаврська дипломна робота\Моя\БДР\motorola_TLKR_T5.jpg"/>
          <p:cNvPicPr/>
          <p:nvPr/>
        </p:nvPicPr>
        <p:blipFill>
          <a:blip r:embed="rId1"/>
          <a:stretch/>
        </p:blipFill>
        <p:spPr>
          <a:xfrm>
            <a:off x="6467400" y="4292640"/>
            <a:ext cx="2667240" cy="2428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1115640" y="333360"/>
            <a:ext cx="713916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PMR446 (англ. Private Mobile Radio, 446 MHz) — європейська безліцензійна система рухомого персонального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зв’язку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Використовує вісім каналів з частотною модуляцією у смузі 446,000—446,100 МГц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36520" y="2349360"/>
          <a:ext cx="6110280" cy="3429000"/>
        </p:xfrm>
        <a:graphic>
          <a:graphicData uri="http://schemas.openxmlformats.org/drawingml/2006/table">
            <a:tbl>
              <a:tblPr/>
              <a:tblGrid>
                <a:gridCol w="2925720"/>
                <a:gridCol w="3184560"/>
              </a:tblGrid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MR ка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Частота (МГ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0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1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3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4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6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8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9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025720" y="620280"/>
            <a:ext cx="50846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Lucida Sans Unicode"/>
              </a:rPr>
              <a:t>Принцип роботи синтезатора частот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2" descr="E:\4 курс\Бакалаврська дипломна робота\Моя\БДР\motorola_TLKR_T5.jpg"/>
          <p:cNvPicPr/>
          <p:nvPr/>
        </p:nvPicPr>
        <p:blipFill>
          <a:blip r:embed="rId1"/>
          <a:stretch/>
        </p:blipFill>
        <p:spPr>
          <a:xfrm>
            <a:off x="6329520" y="4226040"/>
            <a:ext cx="2666880" cy="24289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Рисунок 1" descr=""/>
          <p:cNvPicPr/>
          <p:nvPr/>
        </p:nvPicPr>
        <p:blipFill>
          <a:blip r:embed="rId2"/>
          <a:stretch/>
        </p:blipFill>
        <p:spPr>
          <a:xfrm>
            <a:off x="600120" y="1309680"/>
            <a:ext cx="79358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3" descr=""/>
          <p:cNvPicPr/>
          <p:nvPr/>
        </p:nvPicPr>
        <p:blipFill>
          <a:blip r:embed="rId1"/>
          <a:stretch/>
        </p:blipFill>
        <p:spPr>
          <a:xfrm>
            <a:off x="934920" y="-79200"/>
            <a:ext cx="7669440" cy="4319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4 курс\Бакалаврська дипломна робота\Моя\БДР\motorola_TLKR_T5.jpg"/>
          <p:cNvPicPr/>
          <p:nvPr/>
        </p:nvPicPr>
        <p:blipFill>
          <a:blip r:embed="rId2"/>
          <a:stretch/>
        </p:blipFill>
        <p:spPr>
          <a:xfrm>
            <a:off x="6300720" y="4259160"/>
            <a:ext cx="2667240" cy="242892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1"/>
          <p:cNvSpPr/>
          <p:nvPr/>
        </p:nvSpPr>
        <p:spPr>
          <a:xfrm>
            <a:off x="539640" y="4713120"/>
            <a:ext cx="53276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Фазовий шум і джиттер на виході синтезатора частот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3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056360" cy="345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E:\4 курс\Бакалаврська дипломна робота\Моя\БДР\motorola_TLKR_T5.jpg"/>
          <p:cNvPicPr/>
          <p:nvPr/>
        </p:nvPicPr>
        <p:blipFill>
          <a:blip r:embed="rId2"/>
          <a:stretch/>
        </p:blipFill>
        <p:spPr>
          <a:xfrm>
            <a:off x="6372360" y="4365720"/>
            <a:ext cx="2666880" cy="242892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1"/>
          <p:cNvSpPr/>
          <p:nvPr/>
        </p:nvSpPr>
        <p:spPr>
          <a:xfrm>
            <a:off x="395280" y="260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ДНОПЕТЛЬОВИЙ СИНТЕЗАТОР ЧАСТОТ ПРЯМОГО СИНТЕЗУ ЗІ ЗСУВОМ ЧАСТОТИ Схема   електрична   структурн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Рисунок 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64720" cy="43308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E:\4 курс\Бакалаврська дипломна робота\Моя\БДР\motorola_TLKR_T5.jpg"/>
          <p:cNvPicPr/>
          <p:nvPr/>
        </p:nvPicPr>
        <p:blipFill>
          <a:blip r:embed="rId2"/>
          <a:srcRect l="0" t="2653" r="0" b="0"/>
          <a:stretch/>
        </p:blipFill>
        <p:spPr>
          <a:xfrm>
            <a:off x="6443640" y="4581360"/>
            <a:ext cx="2666880" cy="221940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1"/>
          <p:cNvSpPr/>
          <p:nvPr/>
        </p:nvSpPr>
        <p:spPr>
          <a:xfrm>
            <a:off x="430200" y="182520"/>
            <a:ext cx="82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ДНОПЕТЛЬОВИЙ СИНТЕЗАТОР ЧАСТОТ ПРЯМОГО СИНТЕЗУ ЗІ ЗСУВОМ ЧАСТОТИ Схема   електрична   принципов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E:\4 курс\Бакалаврська дипломна робота\Моя\БДР\motorola_TLKR_T5.jpg"/>
          <p:cNvPicPr/>
          <p:nvPr/>
        </p:nvPicPr>
        <p:blipFill>
          <a:blip r:embed="rId1"/>
          <a:stretch/>
        </p:blipFill>
        <p:spPr>
          <a:xfrm>
            <a:off x="6300720" y="4259160"/>
            <a:ext cx="2667240" cy="242892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4" descr="E:\4 курс\Бакалаврська дипломна робота\Моя\БДР\begin.JPG"/>
          <p:cNvPicPr/>
          <p:nvPr/>
        </p:nvPicPr>
        <p:blipFill>
          <a:blip r:embed="rId2"/>
          <a:stretch/>
        </p:blipFill>
        <p:spPr>
          <a:xfrm>
            <a:off x="1258920" y="138240"/>
            <a:ext cx="7200720" cy="37116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5" descr="рис8"/>
          <p:cNvPicPr/>
          <p:nvPr/>
        </p:nvPicPr>
        <p:blipFill>
          <a:blip r:embed="rId3">
            <a:grayscl/>
          </a:blip>
          <a:stretch/>
        </p:blipFill>
        <p:spPr>
          <a:xfrm>
            <a:off x="755640" y="3645000"/>
            <a:ext cx="475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E:\4 курс\Бакалаврська дипломна робота\Моя\БДР\motorola_TLKR_T5.jpg"/>
          <p:cNvPicPr/>
          <p:nvPr/>
        </p:nvPicPr>
        <p:blipFill>
          <a:blip r:embed="rId1"/>
          <a:stretch/>
        </p:blipFill>
        <p:spPr>
          <a:xfrm>
            <a:off x="6300720" y="4259160"/>
            <a:ext cx="2667240" cy="24289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1800" y="2426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Рисунок 6" descr=""/>
          <p:cNvPicPr/>
          <p:nvPr/>
        </p:nvPicPr>
        <p:blipFill>
          <a:blip r:embed="rId2"/>
          <a:srcRect l="283" t="0" r="32" b="0"/>
          <a:stretch/>
        </p:blipFill>
        <p:spPr>
          <a:xfrm>
            <a:off x="539640" y="276120"/>
            <a:ext cx="3425760" cy="299268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0" descr=""/>
          <p:cNvPicPr/>
          <p:nvPr/>
        </p:nvPicPr>
        <p:blipFill>
          <a:blip r:embed="rId3"/>
          <a:srcRect l="180" t="0" r="565" b="0"/>
          <a:stretch/>
        </p:blipFill>
        <p:spPr>
          <a:xfrm>
            <a:off x="4940280" y="304920"/>
            <a:ext cx="3470400" cy="296388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2" descr=""/>
          <p:cNvPicPr/>
          <p:nvPr/>
        </p:nvPicPr>
        <p:blipFill>
          <a:blip r:embed="rId4"/>
          <a:stretch/>
        </p:blipFill>
        <p:spPr>
          <a:xfrm>
            <a:off x="2124000" y="3429000"/>
            <a:ext cx="3924360" cy="26179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08" name="Объект 9"/>
          <p:cNvGraphicFramePr/>
          <p:nvPr/>
        </p:nvGraphicFramePr>
        <p:xfrm>
          <a:off x="947880" y="506520"/>
          <a:ext cx="26096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7880" y="506520"/>
                    <a:ext cx="2609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11" name="Объект 11"/>
          <p:cNvGraphicFramePr/>
          <p:nvPr/>
        </p:nvGraphicFramePr>
        <p:xfrm>
          <a:off x="5375160" y="549360"/>
          <a:ext cx="26002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75160" y="549360"/>
                    <a:ext cx="2600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539640" y="1268280"/>
            <a:ext cx="82296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Дякую за увагу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ank you for atten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anke für Ihre Aumfmerksamkei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зякуй за ўвагу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ziękuję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za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wagę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Picture 2" descr="E:\4 курс\Бакалаврська дипломна робота\Моя\БДР\motorola_TLKR_T5.jpg"/>
          <p:cNvPicPr/>
          <p:nvPr/>
        </p:nvPicPr>
        <p:blipFill>
          <a:blip r:embed="rId1"/>
          <a:stretch/>
        </p:blipFill>
        <p:spPr>
          <a:xfrm>
            <a:off x="6300720" y="4324320"/>
            <a:ext cx="266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18:17:45Z</dcterms:created>
  <dc:creator>Полуденко</dc:creator>
  <dc:description/>
  <dc:language>en-US</dc:language>
  <cp:lastModifiedBy>Полуденко</cp:lastModifiedBy>
  <cp:lastPrinted>2015-11-25T18:05:48Z</cp:lastPrinted>
  <dcterms:modified xsi:type="dcterms:W3CDTF">2015-11-25T18:14:16Z</dcterms:modified>
  <cp:revision>19</cp:revision>
  <dc:subject/>
  <dc:title>Вінницький національний технічний університет Інститут радіотехніки, зв’язку та приладобудування Кафедра телекомунікаційних систем і телебачення  Бакалаврська дипломна робота на тему РАДІОСТАНЦІЯ ДІАПАЗОНУ 446 МГЦ</dc:title>
</cp:coreProperties>
</file>