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224-FD74-407E-8E90-E438EAB6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657-492D-4425-B644-2BC2228B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98A-40B4-4272-A0F4-5DFF21E5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CA3-7F5D-4287-9348-4255850F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7EB-1053-4629-9B07-2BF64B33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DF6-EA55-41F7-B9E8-E8D15060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54D-522E-4B7D-8270-FA9DE4DC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3E8-C142-45FB-B8F8-FD3B8779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627-D5E3-4650-A704-2EB60677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997-BDB8-499D-8D7A-29F254DD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BF5-712A-44D1-B296-F59A113F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A7B-830F-4AE9-89B3-98F9C258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CBD0-2928-4E98-A9EF-3504F907F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848720" cy="62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ститут радіотехніки, зв'язку та приладобуд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афедра ТКСТ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робка надвисокочастотних компараторів на базі переходів Джозефс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 – д.т.н., проф. Кичак В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робив студент гр. РЗ-14м  Юрковський О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інниця ВНТУ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84240" y="619920"/>
            <a:ext cx="844848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: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є підвищення швидкодії в надвисокочастотних компараторах на базі переходів Джозефсона, зменшення енергоспоживання за рахунок використання надпровідності та переходів Джозефсона для побудови компараторів надвисокочастотних сигнал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ельний еф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8645760" y="214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7" descr="C:\Users\Александр\Desktop\EffetTunnel.gif"/>
          <p:cNvPicPr/>
          <p:nvPr/>
        </p:nvPicPr>
        <p:blipFill>
          <a:blip r:embed="rId1"/>
          <a:stretch/>
        </p:blipFill>
        <p:spPr>
          <a:xfrm>
            <a:off x="3492360" y="1887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285840" y="14292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ратор на тунельному переход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Джозефс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8875800" y="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1981080" y="1779480"/>
            <a:ext cx="5564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5"/>
          <p:cNvSpPr/>
          <p:nvPr/>
        </p:nvSpPr>
        <p:spPr>
          <a:xfrm>
            <a:off x="8574480" y="142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квівалентна схема переходу Джозефс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Объект 11"/>
          <p:cNvGraphicFramePr/>
          <p:nvPr/>
        </p:nvGraphicFramePr>
        <p:xfrm>
          <a:off x="679320" y="4035600"/>
          <a:ext cx="15264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Объект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4035600"/>
                    <a:ext cx="152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Объект 13"/>
          <p:cNvGraphicFramePr/>
          <p:nvPr/>
        </p:nvGraphicFramePr>
        <p:xfrm>
          <a:off x="12600" y="4394160"/>
          <a:ext cx="31140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Объект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00" y="4394160"/>
                    <a:ext cx="3114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650240" y="3996360"/>
            <a:ext cx="73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ичний струм Джозефсона; С — електростатична ємність двох надпровідникі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2696400" y="4428000"/>
            <a:ext cx="42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лінійна провідність переходу Джозефсон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Объект 18"/>
          <p:cNvGraphicFramePr/>
          <p:nvPr/>
        </p:nvGraphicFramePr>
        <p:xfrm>
          <a:off x="4284720" y="4394160"/>
          <a:ext cx="28728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Объект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4394160"/>
                    <a:ext cx="287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20"/>
          <p:cNvSpPr/>
          <p:nvPr/>
        </p:nvSpPr>
        <p:spPr>
          <a:xfrm>
            <a:off x="7045920" y="4398120"/>
            <a:ext cx="40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шунтувальна провідність зовнішнього кола</a:t>
            </a:r>
            <a:r>
              <a:rPr b="0" lang="uk-UA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7"/>
          <a:stretch/>
        </p:blipFill>
        <p:spPr>
          <a:xfrm>
            <a:off x="1390680" y="1557360"/>
            <a:ext cx="63626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-528480" y="-17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755640" y="47973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лежність різниці фаз хвильових функцій від ємності переходу Джозефс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5"/>
          <p:cNvSpPr/>
          <p:nvPr/>
        </p:nvSpPr>
        <p:spPr>
          <a:xfrm>
            <a:off x="8574480" y="142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0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8243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-528480" y="-17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820800" y="494172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лежність різниці фаз хвильових функцій від провідності переходу Джозефс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8574480" y="142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7" descr=""/>
          <p:cNvPicPr/>
          <p:nvPr/>
        </p:nvPicPr>
        <p:blipFill>
          <a:blip r:embed="rId1"/>
          <a:stretch/>
        </p:blipFill>
        <p:spPr>
          <a:xfrm>
            <a:off x="2050920" y="1322280"/>
            <a:ext cx="5616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42920" y="1787400"/>
            <a:ext cx="900108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Доповідь заверше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Дякую за увагу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8:00:03Z</dcterms:created>
  <dc:creator>Fhloston-Duron</dc:creator>
  <dc:description/>
  <dc:language>en-US</dc:language>
  <cp:lastModifiedBy>Александр Юрковский</cp:lastModifiedBy>
  <dcterms:modified xsi:type="dcterms:W3CDTF">2015-06-19T00:09:49Z</dcterms:modified>
  <cp:revision>195</cp:revision>
  <dc:subject/>
  <dc:title>Слайд 1</dc:title>
</cp:coreProperties>
</file>