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FF3-E09C-4E39-8A43-5A5EF0C6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6B8-D6AD-41A0-92E8-B0204BF7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D9A-6518-4997-BE94-7E8D8C1B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5C4-E20F-461D-910C-78439629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A9E-73B0-47EC-B111-FF65F14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CE3-1D2F-4051-8BEF-E7DD5508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688-3C23-44D9-8C02-3F5065E0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AB1-2794-4224-9440-116BA6D7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1F3-893A-4BB0-8AC6-1B598F92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941-8D0A-4C69-B40B-2750835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468-3362-4833-81D1-161DF8D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84F-235D-45D0-A721-384EF59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16C-6B7D-4F2C-A3C3-3A0902E1D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848720" cy="62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нститут радіотехніки, зв'язку та приладобу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 ТКСТ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робка надвисокочастотних компараторів на базі переходів Джозефс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 – д.т.н., проф. Кичак В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робив студент гр. РЗ-14м  Юрковський О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нниця ВНТУ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84240" y="619920"/>
            <a:ext cx="844848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є підвищення швидкодії в надвисокочастотних компараторах на базі переходів Джозефсона, зменшення енергоспоживання за рахунок використання надпровідності та переходів Джозефсона для побудови компараторів надвисокочастотних сигнал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ельний еф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8645760" y="214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C:\Users\Александр\Desktop\EffetTunnel.gif"/>
          <p:cNvPicPr/>
          <p:nvPr/>
        </p:nvPicPr>
        <p:blipFill>
          <a:blip r:embed="rId1"/>
          <a:stretch/>
        </p:blipFill>
        <p:spPr>
          <a:xfrm>
            <a:off x="3492360" y="1887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285840" y="14292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ратор на тунельному переход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Джозефс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887580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1981080" y="1779480"/>
            <a:ext cx="5564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5"/>
          <p:cNvSpPr/>
          <p:nvPr/>
        </p:nvSpPr>
        <p:spPr>
          <a:xfrm>
            <a:off x="8574480" y="142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квівалентна схема переходу Джозефс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Объект 11"/>
          <p:cNvGraphicFramePr/>
          <p:nvPr/>
        </p:nvGraphicFramePr>
        <p:xfrm>
          <a:off x="679320" y="4035600"/>
          <a:ext cx="15264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35600"/>
                    <a:ext cx="152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Объект 13"/>
          <p:cNvGraphicFramePr/>
          <p:nvPr/>
        </p:nvGraphicFramePr>
        <p:xfrm>
          <a:off x="12600" y="4394160"/>
          <a:ext cx="3114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Объект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0" y="4394160"/>
                    <a:ext cx="3114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650240" y="3996360"/>
            <a:ext cx="73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ичний струм Джозефсона; С — електростатична ємність двох надпровідникі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2696400" y="4428000"/>
            <a:ext cx="42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інійна провідність переходу Джозефсон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18"/>
          <p:cNvGraphicFramePr/>
          <p:nvPr/>
        </p:nvGraphicFramePr>
        <p:xfrm>
          <a:off x="4284720" y="4394160"/>
          <a:ext cx="28728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Объект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394160"/>
                    <a:ext cx="287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20"/>
          <p:cNvSpPr/>
          <p:nvPr/>
        </p:nvSpPr>
        <p:spPr>
          <a:xfrm>
            <a:off x="7045920" y="4398120"/>
            <a:ext cx="40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шунтувальна провідність зовнішнього кола</a:t>
            </a:r>
            <a:r>
              <a:rPr b="0" lang="uk-UA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7"/>
          <a:stretch/>
        </p:blipFill>
        <p:spPr>
          <a:xfrm>
            <a:off x="1390680" y="1557360"/>
            <a:ext cx="6362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-528480" y="-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755640" y="47973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ність різниці фаз хвильових функцій від ємності переходу Джозефс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5"/>
          <p:cNvSpPr/>
          <p:nvPr/>
        </p:nvSpPr>
        <p:spPr>
          <a:xfrm>
            <a:off x="8574480" y="142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0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824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-528480" y="-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820800" y="49417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лежність різниці фаз хвильових функцій від провідності переходу Джозефс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8574480" y="142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7" descr=""/>
          <p:cNvPicPr/>
          <p:nvPr/>
        </p:nvPicPr>
        <p:blipFill>
          <a:blip r:embed="rId1"/>
          <a:stretch/>
        </p:blipFill>
        <p:spPr>
          <a:xfrm>
            <a:off x="2050920" y="1322280"/>
            <a:ext cx="561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42920" y="1787400"/>
            <a:ext cx="90010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8:00:03Z</dcterms:created>
  <dc:creator>Fhloston-Duron</dc:creator>
  <dc:description/>
  <dc:language>en-US</dc:language>
  <cp:lastModifiedBy>Александр Юрковский</cp:lastModifiedBy>
  <dcterms:modified xsi:type="dcterms:W3CDTF">2015-06-19T00:09:49Z</dcterms:modified>
  <cp:revision>195</cp:revision>
  <dc:subject/>
  <dc:title>Слайд 1</dc:title>
</cp:coreProperties>
</file>