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027E5-9C99-4AEB-A1AA-7E272E8F3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EB508-82CD-43B9-A091-025A2EE8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A399-9EA0-4B60-A60A-86F63E7E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0EEE-5DCA-4109-81B7-289FE17F13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2484B-D0C4-43E9-A524-66DDCD049E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E5418-2EFC-43C7-BEC7-5924E1FC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C3EF5-0D2E-4EAC-8BFD-6B709B3E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ACED0-7ED2-4561-8CC1-587FB1A3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9E93D-4835-4FB0-BBB2-8B599116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88672-DC84-4D87-9A36-108A2AE6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78708-1390-4A38-AFD9-E0ABC5A6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3142-16AB-4145-A0FC-E054C271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F962A-5DC9-4CF4-941F-EF0269E8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4E3EC-4E53-4CB9-9D51-77B7F8B0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15953-444C-4E0D-A94B-9FC08046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A4C06-DBAF-4D61-8E8C-8E753BBA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626B5-6425-4ACE-87AF-B39A9ABB15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4A83-3D34-4E07-883D-69AA02DFE9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1211-CABB-4832-8F62-2141EB1B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9C04-F15E-41CC-BB0F-C58B4484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782A-8E02-4A8D-9AF4-C764735E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9012-761A-409D-A7EA-74EEB8E5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2B4B-8780-40A5-944A-6B4168BB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0FFB-F2E4-4D94-8003-7853E4DB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DA70-CE32-405A-9637-24793CB1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7DEC-6D21-4112-83E7-9FBBDA1A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6F38-0E89-4001-B302-201C7CA1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6D08-56BB-44FB-8BE1-33E4CA4E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C2DF-7079-482B-9AE5-E4317922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C70D-CCBA-42CF-80EE-93E219CA52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66AF4-A253-473C-B5D9-5C1C853975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B9812-DD2D-4130-BA26-D3E74F4B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916B8-71B6-4463-B9A6-6BB60397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7579-DCF3-4C7F-BFEC-3C2979D5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D799F-965E-48EE-B510-10F7534A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5AC58-2110-4A23-A079-C7A9E7B2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805FE-D57E-49B8-867F-237A3857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E2C1E-76B2-4C7D-880E-4B0BB5C2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BA8AA-E3BD-470B-9955-10D2627D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A3137-2B04-4CC7-881D-1ABEA621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C37AB-EA8E-450B-9CDC-D8E69637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E778D-59D7-45A4-9A71-69B7782D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BEBA9-5FA8-477F-B083-0BA778E524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2BBD21-1EBA-47C5-B6FA-AD2EDD198C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B44C-5F9D-421E-B52E-0C508E4A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F46B1B-358B-4237-A9EA-895F1862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C4D6F5-816E-4ACC-973D-E0D4BDBB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9EE027-6360-4BC6-9E36-48920442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7091D-2365-4CE5-9DE1-17C2DA6D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6527A2-E695-4468-AC42-4B31DA46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46BC65-D000-40CF-AE59-BC37338F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40EDA9-43DB-4A6A-9299-993C8C46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21B2A9-686C-4F97-8E6B-BCBFBE8E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6FB11-09E2-414C-951B-0B9A8CFE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727060-3FA3-47D8-BE20-EF7491A2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B7E9-C812-42D8-9031-62B7A50A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0F8F6A-5CC7-47B2-BBE7-00547C348D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1C14-F17E-44AB-92C0-389A0C620C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B5AD-17A5-4718-B04F-52D31D1B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83E13-EE2D-418A-89D1-CACB0AED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746D-A65D-4795-B06D-E18B2A6A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E0BC3-FE02-4A45-8791-8501C782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3C8F2-673B-47C2-9ED9-F5A4A14B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8FCBA-807B-46E1-B0EC-5BB0C3B9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C6A1B-0FC7-4BAB-AF0B-2CE866FD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F8A1D-7B88-4717-B486-81E8CF16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AC5C-4E10-4E4E-846F-7DA9F612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CEB5B-2D73-49B4-B3EF-B7DBFFD9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1586-EE40-4F90-9E67-3EAA4B73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857B-9CC7-4607-9786-5661C7A193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6EAE-E3B4-4DC7-92E6-509DCE11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DA70-9162-4D2D-84E5-42155D24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88E5D5-76B3-4B6D-9E6F-FB7CC51EF7B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BD67DEA-3A0C-4430-A720-5E22972BF803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CAF51C8-AD76-4E84-8BA7-C28EDC9483A2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3A0B771-3065-4E83-9B19-72DBC5350B52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8156520" y="6421320"/>
            <a:ext cx="760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87D9397-F039-4BB6-9D44-16A7ED53B38C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B912B05-5E3A-4F0D-A05A-085B089B3B86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5225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356000" y="4653000"/>
            <a:ext cx="4248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Виконав: ст. гр. ТСМ-14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Гузь М. 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Керівник: д.т.н., проф. каф. ТКСТ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Кичак В.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Функціональна схема надвисокочастотного ІКМ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9280" y="2897280"/>
            <a:ext cx="360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тип: паралель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розрядність: 8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швидкість перетворення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5∙10</a:t>
            </a:r>
            <a:r>
              <a:rPr b="0" lang="uk-UA" sz="2000" spc="-1" strike="noStrike" baseline="30000">
                <a:solidFill>
                  <a:srgbClr val="ffffff"/>
                </a:solidFill>
                <a:latin typeface="Arial"/>
                <a:ea typeface="Microsoft YaHei"/>
              </a:rPr>
              <a:t>11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Оп./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тип вихідного коду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код Гре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959280" y="1484280"/>
            <a:ext cx="4952880" cy="520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Структурна схема та принцип роботи стробоскопічного компаратора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3560760"/>
            <a:ext cx="406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i="1" lang="uk-UA" sz="2800" spc="-1" strike="noStrike" baseline="-25000">
                <a:solidFill>
                  <a:srgbClr val="ffffff"/>
                </a:solidFill>
                <a:latin typeface="Arial"/>
              </a:rPr>
              <a:t>ЗЗ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+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21000" cy="4726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Функціональна схема</a:t>
            </a:r>
            <a:br>
              <a:rPr sz="4600"/>
            </a:br>
            <a:r>
              <a:rPr b="0" lang="uk-UA" sz="46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балансного компаратор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27280" y="5425920"/>
            <a:ext cx="5689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роздільна здатні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δτ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= 1,31 п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частота вхідних сигналі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= 763,36 ГГ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чутливі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i="1" lang="uk-UA" sz="2000" spc="-1" strike="noStrike" baseline="-25000">
                <a:solidFill>
                  <a:srgbClr val="ffffff"/>
                </a:solidFill>
                <a:latin typeface="Arial"/>
              </a:rPr>
              <a:t>Х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= 1,6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0880">
              <a:spcBef>
                <a:spcPts val="499"/>
              </a:spcBef>
              <a:tabLst>
                <a:tab algn="l" pos="0"/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31840" y="1515960"/>
            <a:ext cx="8680320" cy="3732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SNS перехід Джозефсона на YBC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957920"/>
            <a:ext cx="45007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критичний стру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: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І</a:t>
            </a:r>
            <a:r>
              <a:rPr b="0" i="1" lang="uk-UA" sz="2000" spc="-1" strike="noStrike" baseline="-25000">
                <a:solidFill>
                  <a:srgbClr val="ffffff"/>
                </a:solidFill>
                <a:latin typeface="Arial"/>
                <a:ea typeface="Microsoft YaHei"/>
              </a:rPr>
              <a:t>к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= 1 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характерна напру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: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U</a:t>
            </a:r>
            <a:r>
              <a:rPr b="0" i="1" lang="uk-UA" sz="2000" spc="-1" strike="noStrike" baseline="-25000">
                <a:solidFill>
                  <a:srgbClr val="ffffff"/>
                </a:solidFill>
                <a:latin typeface="Arial"/>
                <a:ea typeface="Microsoft YaHei"/>
              </a:rPr>
              <a:t>к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= 1,4 м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параметр Маккамбера: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β</a:t>
            </a:r>
            <a:r>
              <a:rPr b="0" i="1" lang="uk-UA" sz="2000" spc="-1" strike="noStrike" baseline="-25000">
                <a:solidFill>
                  <a:srgbClr val="ffffff"/>
                </a:solidFill>
                <a:latin typeface="Arial"/>
                <a:ea typeface="Microsoft YaHei"/>
              </a:rPr>
              <a:t>С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= 0,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безрозмірна індуктивність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l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= 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44760" y="3957480"/>
            <a:ext cx="59734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оперечний переріз джозефсонівського перех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30600" y="4940280"/>
            <a:ext cx="44992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ормальний опі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н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= 1,4 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критична температу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i="1" lang="uk-UA" sz="2000" spc="-1" strike="noStrike" baseline="-25000">
                <a:solidFill>
                  <a:srgbClr val="ffffff"/>
                </a:solidFill>
                <a:latin typeface="Arial"/>
              </a:rPr>
              <a:t>к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= 77 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трукту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SN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матеріа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YBa</a:t>
            </a:r>
            <a:r>
              <a:rPr b="0" lang="uk-UA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uk-UA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uk-UA" sz="2000" spc="-1" strike="noStrike" baseline="-25000">
                <a:solidFill>
                  <a:srgbClr val="ffffff"/>
                </a:solidFill>
                <a:latin typeface="Arial"/>
              </a:rPr>
              <a:t>7-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38240" y="1101600"/>
            <a:ext cx="7067520" cy="2855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Вхідні сигнали компаратор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3894120"/>
            <a:ext cx="43959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Часова діаграма строб-імпуль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8000" y="3146400"/>
            <a:ext cx="44942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хідний пилкоподібний сигн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8000" y="3789360"/>
            <a:ext cx="4494240" cy="2951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4395960" cy="3201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Вихідний сигнал</a:t>
            </a:r>
            <a:br>
              <a:rPr sz="3400"/>
            </a:br>
            <a:r>
              <a:rPr b="0" lang="uk-UA" sz="34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стробоскопічного балансного компаратора</a:t>
            </a:r>
            <a:br>
              <a:rPr sz="3400"/>
            </a:br>
            <a:r>
              <a:rPr b="0" lang="uk-UA" sz="34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на безгістерезисних переходах Джозефсон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698480" y="2133720"/>
            <a:ext cx="5747040" cy="430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14:22:11Z</dcterms:created>
  <dc:creator>Максим</dc:creator>
  <dc:description/>
  <dc:language>en-US</dc:language>
  <cp:lastModifiedBy>Maksym Huz</cp:lastModifiedBy>
  <dcterms:modified xsi:type="dcterms:W3CDTF">2015-11-23T10:31:48Z</dcterms:modified>
  <cp:revision>44</cp:revision>
  <dc:subject/>
  <dc:title>Слайд 1</dc:title>
</cp:coreProperties>
</file>