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7D36-7087-4785-B801-7A5B1E190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3921-B69D-43E6-B4F0-B193AC7B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7DA9-0202-402B-BCE8-ABD1513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85F6-20EF-4B68-B9BC-BBFB96343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8F7B6-A60D-4F62-A95C-91746BB1E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CEFAA-83F9-43B8-A012-A66B3CB8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5354-B54C-4D7B-A405-E475159B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DF70-78C5-48EF-A417-33E20129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7B48-7212-40FE-9402-D23CB089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7D4F-CD3F-49F9-8DBA-98CDF149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EBFDA-1DD2-455B-9C7E-B436DB07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66FD-C2AA-482A-B982-E2E0F07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FA8AE-66F1-42A3-BE69-D440C08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C482-0791-4439-91E2-4A5D2F4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F2D86-41C1-4ED6-87F0-1561902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5B562-A4EF-4A35-9B81-40543B2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5832-9673-4D63-8E24-80625B630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6ABD-B1DC-4BA0-9628-C6EFA4860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5A87-A33E-4FF8-86EE-D419B6BF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299-F9BC-4344-9DE1-CE3060E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A94-66E3-43D3-914F-C1A819B6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A5BF-25B6-4BC4-923C-D1A3F503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4CE2-2AFC-4FFC-8675-EAA899A0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351C-C66F-407E-8832-134DE846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6E8E-E676-4201-9EFE-621AAEAB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BCA-5314-4D82-80C8-3E975FA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C82-B3ED-4F03-B226-2D3F062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51A-4D2C-4AAC-B4DB-9909DBBB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1740-7DD8-42A9-B3F4-C3A6BA4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6352-C28A-4F1B-AD36-F589FFD38B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FACDE-5566-4134-89B6-2337AD5A31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DAE88-6386-4AEB-A8C5-A2BFE45F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F4CFD-05B3-4634-8D23-803AB559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867D-93AD-4A32-8A14-FF5A1F3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691E6-244F-4F5B-B473-725A4287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3E81C-30DB-4B0F-89D9-C3AACAF2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6D291-D7A3-4212-8DB4-89DB80C8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FC35E-9820-44DA-9725-269501C0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840E1-3BCE-44FC-8A4A-71716ED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1DF97-F5D2-4F5A-8B01-0BBCD8AC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994F6-3D0F-4C49-A181-D006496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D4C01-46E4-4636-A931-6476BBF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12E7F-CCE1-470B-A211-B87FB0AF5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CC055-B2BC-4B17-BB18-483F221D43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CB74-F1D3-457C-9E2F-A70D6D0B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D0403-33C0-46AD-AB58-F957241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3A235-4807-44D8-9309-17DE260F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953AD-D653-4C60-B83E-D80767F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73E7A-E93A-4308-A560-F99B6E94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F5D34-C767-4F22-AB04-438AE4E5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3A08F-8306-4632-9CA8-2F8B094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31E9A-3410-4486-948C-4D8FF27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2EE50-8650-4DEF-93CA-BF6A63C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5C732-5E78-420D-BF03-4D6592D3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FDC9C-68D1-4A6B-A0E4-F3AC2EE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09D7-1F83-473C-B70A-C1F4128F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C8C1D-3A78-4484-9E41-C193DDF0C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B6D0-8586-45D6-9DC1-77ECDF9A0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D46A-5193-4F33-84EE-D68A3F09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4555-C15D-4EA0-A5FD-D79EAFDF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54D0-960C-4E1A-9601-5084CFE7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CDEB-EB3C-402D-942B-3144C977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2B85-5975-4AB9-8E1F-0CF23030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E13D-5FB5-4BD6-B9B9-955EA49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C504-29DD-4411-BD3D-A19000B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117A-E6CA-4C2A-BB32-7239D76F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EC35-016E-48D5-800D-4A2AEE59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F2D5-2832-4855-AD92-5193890F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5374-A18A-4CCE-8C56-9131511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0637-D041-4592-A787-3A9FFBA76E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DD50-95EB-4918-B064-049C833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5AE0-60FA-43C2-B83D-83E2687E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A1A5DE-7BC5-45E1-9BE4-8DA0007326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74F4BD7-A13A-41B1-9A60-E735717844F5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B40E112-CDC6-4173-B934-51E48EE249F3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D758185-E233-45EC-9152-954ACE084CD2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2132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A47B15A-23B6-4A04-8356-DE9BA097DC30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E819D3-D366-4389-95CE-0117E29B0BB1}" type="slidenum">
              <a:rPr b="0" lang="ru-RU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522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4653000"/>
            <a:ext cx="424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Виконав: ст. гр. ТСМ-14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Гузь М. 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ерівник: д.т.н., проф. каф. ТКСТ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ичак В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Функціональна схема надвисокочастотного ІКМ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2897280"/>
            <a:ext cx="36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тип: паралель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розрядність: 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швидкість перетворення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5∙10</a:t>
            </a:r>
            <a:r>
              <a:rPr b="0" lang="uk-UA" sz="2000" spc="-1" strike="noStrike" baseline="30000">
                <a:solidFill>
                  <a:srgbClr val="ffffff"/>
                </a:solidFill>
                <a:latin typeface="Arial"/>
                <a:ea typeface="Microsoft YaHei"/>
              </a:rPr>
              <a:t>1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Оп./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тип вихідного коду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од Гр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959280" y="1484280"/>
            <a:ext cx="4952880" cy="520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Структурна схема та принцип роботи стробоскопічного компаратора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3560760"/>
            <a:ext cx="406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uk-UA" sz="2800" spc="-1" strike="noStrike" baseline="-25000">
                <a:solidFill>
                  <a:srgbClr val="ffffff"/>
                </a:solidFill>
                <a:latin typeface="Arial"/>
              </a:rPr>
              <a:t>ЗЗ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21000" cy="472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Функціональна схема</a:t>
            </a:r>
            <a:br>
              <a:rPr sz="4600"/>
            </a:b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балансного компаратор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27280" y="5425920"/>
            <a:ext cx="568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здільна здатні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δτ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31 п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астота вхідних сигналі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763,36 ГГ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утливі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</a:rPr>
              <a:t>Х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6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0880">
              <a:spcBef>
                <a:spcPts val="499"/>
              </a:spcBef>
              <a:tabLst>
                <a:tab algn="l" pos="0"/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1840" y="1515960"/>
            <a:ext cx="8680320" cy="3732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SNS перехід Джозефсона на YB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957920"/>
            <a:ext cx="4500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критичний стру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І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1 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характерна напруг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U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1,4 м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параметр Маккамбера: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β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  <a:ea typeface="Microsoft YaHei"/>
              </a:rPr>
              <a:t>С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0,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безрозмірна індуктивність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l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 = 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4760" y="3957480"/>
            <a:ext cx="59734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перечний переріз джозефсонівського перех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30600" y="4940280"/>
            <a:ext cx="44992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ормальний опі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Arial"/>
              </a:rPr>
              <a:t>н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1,4 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ритична температу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i="1" lang="uk-UA" sz="2000" spc="-1" strike="noStrike" baseline="-25000">
                <a:solidFill>
                  <a:srgbClr val="ffffff"/>
                </a:solidFill>
                <a:latin typeface="Arial"/>
              </a:rPr>
              <a:t>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= 77 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рукту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S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417600"/>
                <a:tab algn="l" pos="1332000"/>
                <a:tab algn="l" pos="2246400"/>
                <a:tab algn="l" pos="3160800"/>
                <a:tab algn="l" pos="4075200"/>
                <a:tab algn="l" pos="4989600"/>
                <a:tab algn="l" pos="5904000"/>
                <a:tab algn="l" pos="6818400"/>
                <a:tab algn="l" pos="7732800"/>
                <a:tab algn="l" pos="8647200"/>
                <a:tab algn="l" pos="9561600"/>
                <a:tab algn="l" pos="1047600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тері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YBa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2000" spc="-1" strike="noStrike" baseline="-25000">
                <a:solidFill>
                  <a:srgbClr val="ffffff"/>
                </a:solidFill>
                <a:latin typeface="Arial"/>
              </a:rPr>
              <a:t>7-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38240" y="1101600"/>
            <a:ext cx="7067520" cy="285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Вхідні сигнали компаратор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894120"/>
            <a:ext cx="43959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асова діаграма строб-імпульс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8000" y="3146400"/>
            <a:ext cx="44942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хідний пилкоподібний сигн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4494240" cy="29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395960" cy="3201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Вихідний сигнал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стробоскопічного балансного компаратора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Franklin Gothic Book"/>
                <a:ea typeface="Microsoft YaHei"/>
              </a:rPr>
              <a:t>на безгістерезисних переходах Джозефсо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98480" y="2133720"/>
            <a:ext cx="5747040" cy="430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4:22:11Z</dcterms:created>
  <dc:creator>Максим</dc:creator>
  <dc:description/>
  <dc:language>en-US</dc:language>
  <cp:lastModifiedBy>Maksym Huz</cp:lastModifiedBy>
  <dcterms:modified xsi:type="dcterms:W3CDTF">2015-11-23T10:31:48Z</dcterms:modified>
  <cp:revision>44</cp:revision>
  <dc:subject/>
  <dc:title>Слайд 1</dc:title>
</cp:coreProperties>
</file>