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C73-F306-411F-8078-E8FAC2CC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559-DC7A-4F8A-9C57-AC20328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AA9-5C0F-46ED-9628-1E381FFB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0CD-4EEF-41A9-84AB-1D3ADC3F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921-657D-4F7E-97F1-B96F365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6FE-B032-49F1-AEFA-456C6AD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BF3-D1B4-44D6-8324-41065BA6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97C-7DEF-4040-AE22-5518A7C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8E6-D413-4C95-B84A-BF1BE092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7C6-2E09-4142-ADB6-E27A043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44B-0227-4855-8A71-0E54DFF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AC2-AC6F-43F4-8A49-40F993A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DA0-1A97-4A56-A6C5-A7A0BF534B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74A4-462D-44EF-A501-EACB41D19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324000" y="1052640"/>
            <a:ext cx="86439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ПРОЕКТУВАННЯ ВІРТУАЛЬНОЇ ПРИВАТНОЇ МЕРЕЖІ З ВИКОРИСТАННЯМ МОСТІВ ПРОВАЙД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9564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иконав:ст. гр. ТСМ-14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яць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ерівник: к.т.н., до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Гикав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ABD-4ABC-4594-B496-05AF4161A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  <a:ea typeface="Arial"/>
              </a:rPr>
              <a:t>Рівні реалізації VP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Реалізація VPN можлива засобами протоко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еансового рівня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SL/TLS, S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режного рі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(IP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анального рі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(PPTP, L2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а розглядом залишаються системи шифрування на прикладному рівні, які реалізуються у деяких протоколах (SHTTP тощо), або просто деякими спеціальними прикладними програмами (наприклад, PG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значені засоби здатні забезпечити захист інформаційного обміну, але в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не є прозорими для приклад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як правило, вони не забезпечують усіх необхідних функ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вони не відносяться до засобів утворення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ахист віртуальних каналів на канальному рівн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творення захищених тунелів на канальному рівні моделі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I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забезпечує незалежність від протоколів мережного рівня і всіх вищих рівн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аким чином досягається максимальна прозорі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долі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складнюються задачі конфігурації і підтримки віртуальних канал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складнюється керування криптографічними ключ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меншується набір реалізованих функцій безпе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якості протоколів на цьому рівні використовую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P (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int-to-Point Tunneling Protoc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2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wardi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(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-2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neling Protocol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і названі протоколи не специфікують протоколи автентифікації та шиф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сно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ворен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реж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є дещо ідеалізованою, так як не враховує всіх особливостей елементів і їх параметрів та не враховує фактори зовнішнього середовищ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ластивості приватної мереж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56E-CA24-4F21-8167-AED878417BF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642960" y="142848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ольованість від інших мере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лежний вибір смережевих технологій: вибір обмежується лише можливостями виробників обладна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лежна система адресації. У приватних мережах немає обмежень на вибір адрес: вони можуть бути будь-я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дбачувана продуктивність. Власні канали зв'язку гарантують заздалегідь відому пропускну спроможність між вузлами підприємства (для глобальних з'єднань) або комунікаційними пристроями (для локальних з'єднань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о можлива безпеку. Відсутність зв'язків із зовнішнім світом убезпечує від атак ззовні і істотно знижує ймовірність "прослуховування" трафіку по шляху слід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гальний варіант проектування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31E-CFDC-4D56-A14A-8E3F2E0397E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3" descr="Общий вариант построения виртуальной частной сети"/>
          <p:cNvPicPr/>
          <p:nvPr/>
        </p:nvPicPr>
        <p:blipFill>
          <a:blip r:embed="rId1"/>
          <a:stretch/>
        </p:blipFill>
        <p:spPr>
          <a:xfrm>
            <a:off x="1500120" y="1571760"/>
            <a:ext cx="63295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мпоненты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 VP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2D8-B32E-4AF8-9E9B-FAD9D86A4B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4" descr="MPLS VPN"/>
          <p:cNvPicPr/>
          <p:nvPr/>
        </p:nvPicPr>
        <p:blipFill>
          <a:blip r:embed="rId1"/>
          <a:stretch/>
        </p:blipFill>
        <p:spPr>
          <a:xfrm>
            <a:off x="439560" y="1341360"/>
            <a:ext cx="8236080" cy="4021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539640" y="544860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ustomer Edge Router, CE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раничний маршрутизатор кліє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vider Router, P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внутрішній маршрутизатор магістральної мережі провайд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vider Edge Router, PE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раничний маршрутизатор мережі провайде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токоли маршрутизації 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E00-88DA-43F0-ACB2-5E512C768A5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http://www.infocity.kiev.ua/lan/content/images/lan112_3.gif"/>
          <p:cNvPicPr/>
          <p:nvPr/>
        </p:nvPicPr>
        <p:blipFill>
          <a:blip r:embed="rId1"/>
          <a:stretch/>
        </p:blipFill>
        <p:spPr>
          <a:xfrm>
            <a:off x="140508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2650320" y="614376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VRF - VPN Routing and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шрут паке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VP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9C8-1CB3-4E82-8F4B-D82F739F552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http://www.infocity.kiev.ua/lan/content/images/lan112_6.gif"/>
          <p:cNvPicPr/>
          <p:nvPr/>
        </p:nvPicPr>
        <p:blipFill>
          <a:blip r:embed="rId1"/>
          <a:stretch/>
        </p:blipFill>
        <p:spPr>
          <a:xfrm>
            <a:off x="1071720" y="1413000"/>
            <a:ext cx="6948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5B9-E066-4CB4-84B3-D7FF9E65E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  <a:ea typeface="Arial"/>
              </a:rPr>
              <a:t>Способи утворення захищених віртуальних каналі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Будь-який з двох вузлів віртуальної мережі, між якими формується захищений тунель, може належати кінцевій чи проміжній точці потоку повідомлень, який захищають. Відповідно можливі різні способи утворення захищеного віртуального кан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інцеві точки тунелю співпадають з кінцевими точками потоку повідом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інцевою точкою захищеного тунелю обирають брандмауер або граничний маршрутизатор локальної мережі, захищений тунель утворюється лише у публічній мереж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якості кінцевих точок захищеного тунелю виступають засоби, що встановлені не на комп’ютерах користувачів, а на площах провайдерів І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FAC-432C-43A5-B6A0-3D5A3EE22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36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Кінцеві точки тунелю співпадають з кінцевими точками потоку повідомл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252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й варіант є найкращим з міркувань безп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клади кінцевих точ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вер у центральному офісі компанії і робоча станція користувача у віддаленій фі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портативний комп’ютер співробітника, який перебуває у відрядже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вагою такого варіанту є те, що захист інформаційного обміну забезпечується на всьому шляху пакетів повідом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уттєвий недолік цього варіанту – децентралізація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оби утворення захищених тунелів повинні встановлюватись і належним чином налаштовуватись на кожному клієнтському комп’ютері, що у великих мережах є занадто трудомісткою задач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3908-384A-43C0-ADC8-003E1E4D7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Кінцева точка захищеного тунелю – брандмауер або граничний маршрутизатор локальної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Захищений тунель утворюється лише у публічній 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Якщо відмовитись від захисту трафіка всередині локальної мережі (або локальних мереж), що входить до склад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P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, можна досягти помітного спрощення задач адміністр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Захист трафіка всередині локальної мережі може забезпечуватись іншими засобами, такими, як, наприклад, реєстрація дій користувачів і організаційні за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0:36:40Z</dcterms:created>
  <dc:creator>Виктор</dc:creator>
  <dc:description/>
  <dc:language>en-US</dc:language>
  <cp:lastModifiedBy>Менталист</cp:lastModifiedBy>
  <dcterms:modified xsi:type="dcterms:W3CDTF">2015-11-25T05:05:23Z</dcterms:modified>
  <cp:revision>10</cp:revision>
  <dc:subject/>
  <dc:title>Слайд 1</dc:title>
</cp:coreProperties>
</file>