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F86-C5B7-42F3-8442-8BE1EA37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6C8-7303-4F35-9E22-E2FD8E1E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96A-0322-4335-8A72-DBFF6C31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42A-8E2E-4E09-BA4A-F7F20C47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453-9295-40A2-8C13-DE24B90E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4C7-61F0-4104-B8A5-53A202F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794-3BD6-4C9A-823C-DE59FD14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5BF-0248-44F5-9169-BC661793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BD5-7911-4CBC-A11E-BD3415A8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551-2D7F-4E92-B147-A989B9B4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C57-CB07-4379-9698-17C22E1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B7C-51BF-4859-82D2-DCE12F5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70CC-2551-4531-8105-251BFAC3F6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4E3D-EB7E-4B48-91F9-68B283EA7C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324000" y="1052640"/>
            <a:ext cx="86439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ПРОЕКТУВАННЯ ВІРТУАЛЬНОЇ ПРИВАТНОЇ МЕРЕЖІ З ВИКОРИСТАННЯМ МОСТІВ ПРОВАЙД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99564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иконав:ст. гр. ТСМ-14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яць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ерівник: к.т.н., до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Гикавий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5459-D65D-4F45-9725-6E3F181AA4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466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  <a:ea typeface="Arial"/>
              </a:rPr>
              <a:t>Рівні реалізації VP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990800"/>
            <a:ext cx="82296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Реалізація VPN можлива засобами протоко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еансового рівня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SL/TLS, SO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Мережного рівн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(IP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Канального рівн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(PPTP, L2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Поза розглядом залишаються системи шифрування на прикладному рівні, які реалізуються у деяких протоколах (SHTTP тощо), або просто деякими спеціальними прикладними програмами (наприклад, PG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Зазначені засоби здатні забезпечити захист інформаційного обміну, але в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eece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не є прозорими для приклад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eece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як правило, вони не забезпечують усіх необхідних функ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eece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вони не відносяться до засобів утворення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Захист віртуальних каналів на канальному рівні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творення захищених тунелів на канальному рівні моделі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I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забезпечує незалежність від протоколів мережного рівня і всіх вищих рівні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аким чином досягається максимальна прозоріст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едолі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складнюються задачі конфігурації і підтримки віртуальних канал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складнюється керування криптографічними ключ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меншується набір реалізованих функцій безпе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 якості протоколів на цьому рівні використовують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P (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нгл.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int-to-Point Tunneling Protoc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нгл.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yer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-2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wardin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(англ.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yer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-2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unneling Protocol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сі названі протоколи не специфікують протоколи автентифікації та шифр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снов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ворен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ереж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є дещо ідеалізованою, так як не враховує всіх особливостей елементів і їх параметрів та не враховує фактори зовнішнього середовищ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ластивості приватної мереж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E893-5D6A-4F34-A20E-69FA5945A64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642960" y="1428480"/>
            <a:ext cx="8001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ольованість від інших мере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алежний вибір смережевих технологій: вибір обмежується лише можливостями виробників обладна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алежна система адресації. У приватних мережах немає обмежень на вибір адрес: вони можуть бути будь-як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дбачувана продуктивність. Власні канали зв'язку гарантують заздалегідь відому пропускну спроможність між вузлами підприємства (для глобальних з'єднань) або комунікаційними пристроями (для локальних з'єднань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о можлива безпеку. Відсутність зв'язків із зовнішнім світом убезпечує від атак ззовні і істотно знижує ймовірність "прослуховування" трафіку по шляху слід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гальний варіант проектування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P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8C86-9CF4-4B74-BDCB-F9EE8855097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3" descr="Общий вариант построения виртуальной частной сети"/>
          <p:cNvPicPr/>
          <p:nvPr/>
        </p:nvPicPr>
        <p:blipFill>
          <a:blip r:embed="rId1"/>
          <a:stretch/>
        </p:blipFill>
        <p:spPr>
          <a:xfrm>
            <a:off x="1500120" y="1571760"/>
            <a:ext cx="63295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мпоненты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PLS VP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EEE8-6C84-4CED-B5AB-41C6FC0BF24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4" descr="MPLS VPN"/>
          <p:cNvPicPr/>
          <p:nvPr/>
        </p:nvPicPr>
        <p:blipFill>
          <a:blip r:embed="rId1"/>
          <a:stretch/>
        </p:blipFill>
        <p:spPr>
          <a:xfrm>
            <a:off x="439560" y="1341360"/>
            <a:ext cx="8236080" cy="4021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539640" y="544860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ustomer Edge Router, CE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граничний маршрутизатор кліє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vider Router, P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внутрішній маршрутизатор магістральної мережі провайд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vider Edge Router, PE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граничний маршрутизатор мережі провайде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токоли маршрутизації 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1B5B-61BD-46E2-B51A-5DE37D2B9A7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http://www.infocity.kiev.ua/lan/content/images/lan112_3.gif"/>
          <p:cNvPicPr/>
          <p:nvPr/>
        </p:nvPicPr>
        <p:blipFill>
          <a:blip r:embed="rId1"/>
          <a:stretch/>
        </p:blipFill>
        <p:spPr>
          <a:xfrm>
            <a:off x="140508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2650320" y="614376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VRF - VPN Routing and Forw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ршрут пакет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VPN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320-F1CD-41E2-A269-12465CB485E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http://www.infocity.kiev.ua/lan/content/images/lan112_6.gif"/>
          <p:cNvPicPr/>
          <p:nvPr/>
        </p:nvPicPr>
        <p:blipFill>
          <a:blip r:embed="rId1"/>
          <a:stretch/>
        </p:blipFill>
        <p:spPr>
          <a:xfrm>
            <a:off x="1071720" y="1413000"/>
            <a:ext cx="6948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7D2C-0CE3-44AF-A44D-1EAAD7C16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466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  <a:ea typeface="Arial"/>
              </a:rPr>
              <a:t>Способи утворення захищених віртуальних каналі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990800"/>
            <a:ext cx="82296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Будь-який з двох вузлів віртуальної мережі, між якими формується захищений тунель, може належати кінцевій чи проміжній точці потоку повідомлень, який захищають. Відповідно можливі різні способи утворення захищеного віртуального кан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кінцеві точки тунелю співпадають з кінцевими точками потоку повідом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кінцевою точкою захищеного тунелю обирають брандмауер або граничний маршрутизатор локальної мережі, захищений тунель утворюється лише у публічній мереж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в якості кінцевих точок захищеного тунелю виступають засоби, що встановлені не на комп’ютерах користувачів, а на площах провайдерів І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E54F-1985-498D-99E8-941CB57AA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36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Кінцеві точки тунелю співпадають з кінцевими точками потоку повідомл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252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Цей варіант є найкращим з міркувань безп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риклади кінцевих точ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вер у центральному офісі компанії і робоча станція користувача у віддаленій фі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портативний комп’ютер співробітника, який перебуває у відрядже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евагою такого варіанту є те, що захист інформаційного обміну забезпечується на всьому шляху пакетів повідом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  <a:ea typeface="Arial"/>
              </a:rPr>
              <a:t>Суттєвий недолік цього варіанту – децентралізація ке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оби утворення захищених тунелів повинні встановлюватись і належним чином налаштовуватись на кожному клієнтському комп’ютері, що у великих мережах є занадто трудомісткою задач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6308-EE14-447D-BF64-D674BEF89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466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  <a:ea typeface="Arial"/>
              </a:rPr>
              <a:t>Кінцева точка захищеного тунелю – брандмауер або граничний маршрутизатор локальної мереж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990800"/>
            <a:ext cx="82296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rial"/>
              </a:rPr>
              <a:t>Захищений тунель утворюється лише у публічній мереж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rial"/>
              </a:rPr>
              <a:t>Якщо відмовитись від захисту трафіка всередині локальної мережі (або локальних мереж), що входить до склад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PN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rial"/>
              </a:rPr>
              <a:t>, можна досягти помітного спрощення задач адміністру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Захист трафіка всередині локальної мережі може забезпечуватись іншими засобами, такими, як, наприклад, реєстрація дій користувачів і організаційні зах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0:36:40Z</dcterms:created>
  <dc:creator>Виктор</dc:creator>
  <dc:description/>
  <dc:language>en-US</dc:language>
  <cp:lastModifiedBy>Менталист</cp:lastModifiedBy>
  <dcterms:modified xsi:type="dcterms:W3CDTF">2015-11-25T05:05:23Z</dcterms:modified>
  <cp:revision>10</cp:revision>
  <dc:subject/>
  <dc:title>Слайд 1</dc:title>
</cp:coreProperties>
</file>