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8.wmf" ContentType="image/x-wmf"/>
  <Override PartName="/ppt/media/image40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wmf" ContentType="image/x-wmf"/>
  <Override PartName="/ppt/media/image33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31.wmf" ContentType="image/x-wmf"/>
  <Override PartName="/ppt/media/image11.png" ContentType="image/png"/>
  <Override PartName="/ppt/media/image3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39.wmf" ContentType="image/x-wmf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271-2691-4147-9267-0A6ACC79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487-9DAE-46D8-AA3F-74DBDE38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A87-67F8-49EE-85D7-6E4A1FCE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17A-18B5-4783-8F76-38FF8129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804F-BCCF-435C-81CF-A9190B7E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7B53-B519-43AA-8C74-E1D18892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B3B-EF7D-452C-B28D-3C08DD0B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BBD-36EB-49E8-88AF-BD9C2A8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56B5-01FD-4EE0-BFAD-87A51C41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5CF-010C-4560-89A4-65E3387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C2CB-5166-4B47-8648-B2F4D08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87F-A1DA-440D-8D21-CB8F0760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4EC-2735-4B62-BB54-B04E71C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C2EB-1E99-4D5D-8B9C-AADDDE9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3DEF-2F95-45F4-B905-DB4F4DA0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C93A-1C14-4CE3-BA51-B32CEE0D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6F47-E66F-473D-8306-CE6710B1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405-4C08-4F04-A8DB-CE3B0912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81B-5876-475B-AD68-3E3E62BA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A83-219E-42C0-9B4A-130A07DE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186-15A0-4D3C-B6D3-C1D290B5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783-F8B0-4CD1-8001-DE4E1B9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849-E33F-43FC-8189-6288235C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91C-02E6-46AB-B850-947D9490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1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269-229F-4F58-A7AB-33D693209DE3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4080"/>
            <a:ext cx="2574720" cy="6798600"/>
            <a:chOff x="6558120" y="64080"/>
            <a:chExt cx="2574720" cy="6798600"/>
          </a:xfrm>
        </p:grpSpPr>
        <p:grpSp>
          <p:nvGrpSpPr>
            <p:cNvPr id="87" name="Group 62"/>
            <p:cNvGrpSpPr/>
            <p:nvPr/>
          </p:nvGrpSpPr>
          <p:grpSpPr>
            <a:xfrm>
              <a:off x="6951960" y="64080"/>
              <a:ext cx="2108880" cy="6617160"/>
              <a:chOff x="6951960" y="64080"/>
              <a:chExt cx="2108880" cy="661716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51960" y="66600"/>
                <a:ext cx="2007720" cy="6614640"/>
                <a:chOff x="6951960" y="66600"/>
                <a:chExt cx="2007720" cy="661464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68320" y="66600"/>
                  <a:ext cx="693000" cy="785520"/>
                  <a:chOff x="7168320" y="66600"/>
                  <a:chExt cx="693000" cy="78552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8320" y="66600"/>
                    <a:ext cx="693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53640" y="141840"/>
                    <a:ext cx="516960" cy="63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2800" y="2259360"/>
                  <a:ext cx="1031040" cy="1126080"/>
                  <a:chOff x="7552800" y="2259360"/>
                  <a:chExt cx="1031040" cy="112608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6920" y="2305800"/>
                    <a:ext cx="987840" cy="103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18400" y="2367360"/>
                    <a:ext cx="699480" cy="91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85960" y="922320"/>
                  <a:ext cx="873720" cy="884880"/>
                  <a:chOff x="8085960" y="922320"/>
                  <a:chExt cx="873720" cy="88488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30240" y="922320"/>
                    <a:ext cx="780840" cy="8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14120" y="10591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8520" y="3970800"/>
                  <a:ext cx="1003320" cy="1195560"/>
                  <a:chOff x="7328520" y="3970800"/>
                  <a:chExt cx="1003320" cy="119556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8520" y="3970800"/>
                    <a:ext cx="10033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0120" y="4070520"/>
                    <a:ext cx="773280" cy="99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64600" y="5138640"/>
                  <a:ext cx="1353600" cy="1542600"/>
                  <a:chOff x="7464600" y="5138640"/>
                  <a:chExt cx="1353600" cy="154260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4120" y="5184000"/>
                    <a:ext cx="1298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38840" y="5261040"/>
                    <a:ext cx="1005120" cy="12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51960" y="1848600"/>
                  <a:ext cx="873720" cy="879120"/>
                  <a:chOff x="6951960" y="1848600"/>
                  <a:chExt cx="873720" cy="87912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97680" y="1848600"/>
                    <a:ext cx="780840" cy="87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80120" y="1980720"/>
                    <a:ext cx="617400" cy="61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1280" y="78840"/>
                <a:ext cx="1429560" cy="5129640"/>
                <a:chOff x="7631280" y="78840"/>
                <a:chExt cx="1429560" cy="512964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2320" y="4016160"/>
                  <a:ext cx="986040" cy="1192320"/>
                  <a:chOff x="7852320" y="4016160"/>
                  <a:chExt cx="986040" cy="119232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520" y="4037040"/>
                    <a:ext cx="932400" cy="11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97880"/>
                    <a:ext cx="721440" cy="102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1280" y="1014480"/>
                  <a:ext cx="1088640" cy="1142280"/>
                  <a:chOff x="7631280" y="1014480"/>
                  <a:chExt cx="1088640" cy="114228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09760" y="1031040"/>
                    <a:ext cx="927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49080" y="1116000"/>
                    <a:ext cx="652680" cy="93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92520" y="78840"/>
                  <a:ext cx="868320" cy="970200"/>
                  <a:chOff x="8192520" y="78840"/>
                  <a:chExt cx="868320" cy="97020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45800" y="121320"/>
                    <a:ext cx="764640" cy="8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7320" y="162360"/>
                    <a:ext cx="558360" cy="80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32200" y="3230640"/>
                  <a:ext cx="375840" cy="5403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29560" y="900000"/>
                  <a:ext cx="294120" cy="42264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2520" y="64080"/>
                <a:ext cx="1554480" cy="6001920"/>
                <a:chOff x="7472520" y="64080"/>
                <a:chExt cx="1554480" cy="600192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5240" y="4843080"/>
                  <a:ext cx="956160" cy="116280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89880" y="153000"/>
                  <a:ext cx="669240" cy="81180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760" y="3769200"/>
                  <a:ext cx="592200" cy="71748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8640" y="1771200"/>
                  <a:ext cx="709920" cy="85500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50400" y="2711880"/>
              <a:ext cx="982440" cy="1349280"/>
              <a:chOff x="8150400" y="2711880"/>
              <a:chExt cx="982440" cy="13492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50400" y="2711880"/>
                <a:ext cx="982440" cy="13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41480" y="2810520"/>
                <a:ext cx="801720" cy="11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95280"/>
              <a:ext cx="1394640" cy="1067400"/>
              <a:chOff x="6558120" y="5795280"/>
              <a:chExt cx="1394640" cy="106740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95280"/>
                <a:ext cx="13946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58200" y="5900400"/>
                <a:ext cx="1193760" cy="85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11160" y="6206760"/>
              <a:ext cx="903960" cy="54144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062-A1D2-41AF-91DF-029C59A1977C}" type="slidenum">
              <a:rPr b="0" lang="ru-RU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істерська кваліфікаційна робо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</a:t>
            </a: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«Досл</a:t>
            </a:r>
            <a:r>
              <a:rPr b="0" lang="uk-UA" sz="3600" spc="-1" strike="noStrike">
                <a:solidFill>
                  <a:srgbClr val="ffff00"/>
                </a:solidFill>
                <a:latin typeface="Verdana"/>
              </a:rPr>
              <a:t>ідження генератора електричних сигналів на С-негатроні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4149360"/>
            <a:ext cx="8207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иконала: ст. гр. ТК-14м    Дзюба І. 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Керівник: к.т. н., доцент Лазарєв О. 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9800" y="333000"/>
            <a:ext cx="71244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Експерементально досліджена схема генератор прямокутних імпульсів на С-негатроні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Объект 3" descr="C:\Users\Юля\Desktop\патенти\фотки\прач.jpg"/>
          <p:cNvPicPr/>
          <p:nvPr/>
        </p:nvPicPr>
        <p:blipFill>
          <a:blip r:embed="rId1"/>
          <a:stretch/>
        </p:blipFill>
        <p:spPr>
          <a:xfrm>
            <a:off x="1116000" y="1844640"/>
            <a:ext cx="5688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404028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цилограма імпульсу при найменшому значенні ємності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Объект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389480" cy="403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4720" y="333000"/>
            <a:ext cx="4041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цилограма імпульсу при найбільшому значенні ємності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Объект 7" descr=""/>
          <p:cNvPicPr/>
          <p:nvPr/>
        </p:nvPicPr>
        <p:blipFill>
          <a:blip r:embed="rId2"/>
          <a:stretch/>
        </p:blipFill>
        <p:spPr>
          <a:xfrm>
            <a:off x="4645080" y="1773360"/>
            <a:ext cx="431964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Математична модель електрично-керуємого генератора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Объект 3" descr="C:\Users\Юля\Desktop\прр.jpg"/>
          <p:cNvPicPr/>
          <p:nvPr/>
        </p:nvPicPr>
        <p:blipFill>
          <a:blip r:embed="rId1"/>
          <a:stretch/>
        </p:blipFill>
        <p:spPr>
          <a:xfrm>
            <a:off x="250920" y="1844640"/>
            <a:ext cx="4825800" cy="41054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464000" y="59364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219640" y="191628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Arial"/>
              </a:rPr>
              <a:t>Значення ємності варикап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Объект 16"/>
          <p:cNvGraphicFramePr/>
          <p:nvPr/>
        </p:nvGraphicFramePr>
        <p:xfrm>
          <a:off x="6012000" y="2565360"/>
          <a:ext cx="2376360" cy="11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Объект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2565360"/>
                    <a:ext cx="23763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Прямоугольник 17"/>
          <p:cNvSpPr/>
          <p:nvPr/>
        </p:nvSpPr>
        <p:spPr>
          <a:xfrm>
            <a:off x="5350680" y="3933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  <a:ea typeface="Arial"/>
              </a:rPr>
              <a:t>Частота генерації сигналу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3" name="Объект 18"/>
          <p:cNvGraphicFramePr/>
          <p:nvPr/>
        </p:nvGraphicFramePr>
        <p:xfrm>
          <a:off x="5789520" y="4437000"/>
          <a:ext cx="2784600" cy="115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Объект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9520" y="4437000"/>
                    <a:ext cx="27846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4040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асова діагра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Объект 7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033800" cy="3313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4720" y="404280"/>
            <a:ext cx="4041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лежність частоти від значення напруг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Объект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420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исново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09800" y="1806480"/>
            <a:ext cx="7124400" cy="39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Запропонована схема генератора гармонічних коливань має такі переваги: найменша кількість елементів, найбільша частота генерації і зміна частоти лише одним елемен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Переваги генератора прямокутних імпульсів значно більший діапазон переналаштування (в 3 рази) за рахунок використання від</a:t>
            </a:r>
            <a:r>
              <a:rPr b="0" lang="en-US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’</a:t>
            </a: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ємної ємност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2376f"/>
                </a:solidFill>
                <a:latin typeface="Times New Roman"/>
                <a:ea typeface="Times New Roman"/>
              </a:rPr>
              <a:t>За результатами роботи поданий та одержаний патент на корисну модель Украї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Verdana"/>
              </a:rPr>
              <a:t>ДЯКУЮ ЗА УВАГУ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бір оптимального варіант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1755720"/>
          <a:ext cx="7920000" cy="3113280"/>
        </p:xfrm>
        <a:graphic>
          <a:graphicData uri="http://schemas.openxmlformats.org/drawingml/2006/table">
            <a:tbl>
              <a:tblPr/>
              <a:tblGrid>
                <a:gridCol w="2924280"/>
                <a:gridCol w="1409400"/>
                <a:gridCol w="1868760"/>
                <a:gridCol w="1717560"/>
              </a:tblGrid>
              <a:tr h="30492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ві розроб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. вимі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й варі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й варіа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13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нератор прямокутних імпульс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нератор електричних сигна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306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пітальні вклад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638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ксплуатаційні витра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н./рі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  <a:tr h="254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арний якісний коефіціє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4f4"/>
                    </a:solidFill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1641600" y="2606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1" name="Объект 5"/>
          <p:cNvGraphicFramePr/>
          <p:nvPr/>
        </p:nvGraphicFramePr>
        <p:xfrm>
          <a:off x="2484360" y="5300640"/>
          <a:ext cx="28195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300640"/>
                    <a:ext cx="2819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Объект 6"/>
          <p:cNvGraphicFramePr/>
          <p:nvPr/>
        </p:nvGraphicFramePr>
        <p:xfrm>
          <a:off x="2700360" y="5950080"/>
          <a:ext cx="2523960" cy="4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5950080"/>
                    <a:ext cx="25239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459320" y="645120"/>
            <a:ext cx="22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459320" y="11991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Класифікація негатроні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Объект 3" descr="C:\Users\Юля\Desktop\патенти\3.jpg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атематична модель генератора синусоїдальних коливань на С-негатроні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Объект 3" descr="C:\Users\Юля\Desktop\патенти\фотки\Безымянный.jpg"/>
          <p:cNvPicPr/>
          <p:nvPr/>
        </p:nvPicPr>
        <p:blipFill>
          <a:blip r:embed="rId1"/>
          <a:stretch/>
        </p:blipFill>
        <p:spPr>
          <a:xfrm>
            <a:off x="179280" y="1351080"/>
            <a:ext cx="5040360" cy="44542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5644440" y="155736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гативна ємніс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558000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(-) = - 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 (K - 1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5646600" y="3059280"/>
            <a:ext cx="26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Негативний опі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5876640" y="371628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(-)= -K2/(2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f1Ck (K-1)2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асова діагра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Объект 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600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4720" y="404280"/>
            <a:ext cx="4041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лежність частоти від значення ємност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Объект 7" descr=""/>
          <p:cNvPicPr/>
          <p:nvPr/>
        </p:nvPicPr>
        <p:blipFill>
          <a:blip r:embed="rId2"/>
          <a:stretch/>
        </p:blipFill>
        <p:spPr>
          <a:xfrm>
            <a:off x="4645080" y="1557360"/>
            <a:ext cx="4248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300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афік синусоїди при найбільшому значенні ємності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02200" y="260280"/>
            <a:ext cx="36021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ктр сигнал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Рисунок 6" descr=""/>
          <p:cNvPicPr/>
          <p:nvPr/>
        </p:nvPicPr>
        <p:blipFill>
          <a:blip r:embed="rId1"/>
          <a:stretch/>
        </p:blipFill>
        <p:spPr>
          <a:xfrm>
            <a:off x="312840" y="1484280"/>
            <a:ext cx="40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7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7672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7124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ксперементально досл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іджена схема генератора гармонійних коливань на С-негатрон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Рисунок 3" descr="C:\Users\Юля\Desktop\патенти\фотки\гар.jpg"/>
          <p:cNvPicPr/>
          <p:nvPr/>
        </p:nvPicPr>
        <p:blipFill>
          <a:blip r:embed="rId1"/>
          <a:stretch/>
        </p:blipFill>
        <p:spPr>
          <a:xfrm>
            <a:off x="1187280" y="1916280"/>
            <a:ext cx="640908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Математична модель генератора прямокутних сигналів на С-негатроні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5184720" cy="37987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5615640" y="206064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гальна ємність схем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Объект 4"/>
          <p:cNvGraphicFramePr/>
          <p:nvPr/>
        </p:nvGraphicFramePr>
        <p:xfrm>
          <a:off x="5870520" y="2637000"/>
          <a:ext cx="26589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0520" y="2637000"/>
                    <a:ext cx="26589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Прямоугольник 5"/>
          <p:cNvSpPr/>
          <p:nvPr/>
        </p:nvSpPr>
        <p:spPr>
          <a:xfrm>
            <a:off x="5650560" y="36133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астота генерації сигналу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Объект 6"/>
          <p:cNvGraphicFramePr/>
          <p:nvPr/>
        </p:nvGraphicFramePr>
        <p:xfrm>
          <a:off x="5867280" y="4149720"/>
          <a:ext cx="2376720" cy="144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149720"/>
                    <a:ext cx="2376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04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Часова діаграм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Объект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29120" cy="3456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4720" y="476280"/>
            <a:ext cx="4041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лежність частоти від значення ємност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Объект 7" descr=""/>
          <p:cNvPicPr/>
          <p:nvPr/>
        </p:nvPicPr>
        <p:blipFill>
          <a:blip r:embed="rId2"/>
          <a:stretch/>
        </p:blipFill>
        <p:spPr>
          <a:xfrm>
            <a:off x="4645080" y="1557360"/>
            <a:ext cx="41749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2T18:42:02Z</dcterms:created>
  <dc:creator>Юля</dc:creator>
  <dc:description/>
  <dc:language>en-US</dc:language>
  <cp:lastModifiedBy>Юля</cp:lastModifiedBy>
  <dcterms:modified xsi:type="dcterms:W3CDTF">2015-11-16T19:07:36Z</dcterms:modified>
  <cp:revision>22</cp:revision>
  <dc:subject/>
  <dc:title>Магістерська кваліфікаційна робота  на тему: «Дослідження генератора електричних сигналів на С-негатроні»</dc:title>
</cp:coreProperties>
</file>