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jpeg" ContentType="image/jpeg"/>
  <Override PartName="/ppt/media/image32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8.wmf" ContentType="image/x-wmf"/>
  <Override PartName="/ppt/media/image40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wmf" ContentType="image/x-wmf"/>
  <Override PartName="/ppt/media/image33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31.wmf" ContentType="image/x-wmf"/>
  <Override PartName="/ppt/media/image11.png" ContentType="image/png"/>
  <Override PartName="/ppt/media/image3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39.wmf" ContentType="image/x-wmf"/>
  <Override PartName="/ppt/media/image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1FF-BDBB-4B95-BF82-E93B57F8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DEB-460D-4906-8B15-5AE7EC84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F54-244E-4327-9CA3-A20BDF8F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715-15B2-4F55-A75E-69E1748D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94A7-3891-4132-AE33-D38A612B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2890-9F1E-4104-912E-DB0799BE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62CD-8D30-4B03-8B96-50B5D573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1D24-5033-47E7-8239-530F36DB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E681-22B6-48C0-87C2-C847B9B7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C66F-97BC-4FC1-9C83-3045B330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49A2-1763-4A5C-8F2C-2E0FEC2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031-CA42-4B27-A81D-CA6C03C5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CF2F-E415-4F60-B9A8-620B2687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5987-A043-44CE-B632-BADAF457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A3D8-E163-4A15-A38F-52ADF9EF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388-C73A-42D1-A620-838EF980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FDE3-EAFA-4BBB-BA63-D23AAF80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965-026C-4CC3-949F-5F4B082D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E4F-A72D-4F44-BC54-2DCB4226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D9C-E02E-44EE-9304-98D8E43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D40-742C-449C-9A38-2ED06D1A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90F-326B-463A-B13B-CF73765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825-B059-4DB4-83F1-10C39A1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493-488B-4B99-979E-0E06543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C221-CEC3-41C0-B0D0-0EA58106F82C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DC5E-1917-4A7D-BFDE-A7A9263268BA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а кваліфікаційна робо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br>
              <a:rPr sz="4000"/>
            </a:b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«Досл</a:t>
            </a:r>
            <a:r>
              <a:rPr b="0" lang="uk-UA" sz="3600" spc="-1" strike="noStrike">
                <a:solidFill>
                  <a:srgbClr val="ffff00"/>
                </a:solidFill>
                <a:latin typeface="Verdana"/>
              </a:rPr>
              <a:t>ідження генератора електричних сигналів на С-негатроні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360" y="4149360"/>
            <a:ext cx="8207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иконала: ст. гр. ТК-14м    Дзюба І. 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Керівник: к.т. н., доцент Лазарєв О. 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9800" y="333000"/>
            <a:ext cx="71244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Експерементально досліджена схема генератор прямокутних імпульсів на С-негатроні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Объект 3" descr="C:\Users\Юля\Desktop\патенти\фотки\прач.jpg"/>
          <p:cNvPicPr/>
          <p:nvPr/>
        </p:nvPicPr>
        <p:blipFill>
          <a:blip r:embed="rId1"/>
          <a:stretch/>
        </p:blipFill>
        <p:spPr>
          <a:xfrm>
            <a:off x="1116000" y="1844640"/>
            <a:ext cx="568800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404028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цилограма імпульсу при найменшому значенні ємності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Объект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389480" cy="4032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4720" y="333000"/>
            <a:ext cx="4041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цилограма імпульсу при найбільшому значенні ємності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Объект 7" descr=""/>
          <p:cNvPicPr/>
          <p:nvPr/>
        </p:nvPicPr>
        <p:blipFill>
          <a:blip r:embed="rId2"/>
          <a:stretch/>
        </p:blipFill>
        <p:spPr>
          <a:xfrm>
            <a:off x="4645080" y="1773360"/>
            <a:ext cx="431964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Математична модель електрично-керуємого генератора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Объект 3" descr="C:\Users\Юля\Desktop\прр.jpg"/>
          <p:cNvPicPr/>
          <p:nvPr/>
        </p:nvPicPr>
        <p:blipFill>
          <a:blip r:embed="rId1"/>
          <a:stretch/>
        </p:blipFill>
        <p:spPr>
          <a:xfrm>
            <a:off x="250920" y="1844640"/>
            <a:ext cx="4825800" cy="41054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464000" y="59364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219640" y="191628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Arial"/>
              </a:rPr>
              <a:t>Значення ємності варикап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Объект 16"/>
          <p:cNvGraphicFramePr/>
          <p:nvPr/>
        </p:nvGraphicFramePr>
        <p:xfrm>
          <a:off x="6012000" y="2565360"/>
          <a:ext cx="2376360" cy="11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Объект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2565360"/>
                    <a:ext cx="23763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Прямоугольник 17"/>
          <p:cNvSpPr/>
          <p:nvPr/>
        </p:nvSpPr>
        <p:spPr>
          <a:xfrm>
            <a:off x="5350680" y="3933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Arial"/>
              </a:rPr>
              <a:t>Частота генерації сигналу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3" name="Объект 18"/>
          <p:cNvGraphicFramePr/>
          <p:nvPr/>
        </p:nvGraphicFramePr>
        <p:xfrm>
          <a:off x="5789520" y="4437000"/>
          <a:ext cx="2784600" cy="115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4" name="Объект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9520" y="4437000"/>
                    <a:ext cx="27846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4040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асова діагра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Объект 7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033800" cy="3313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4720" y="404280"/>
            <a:ext cx="4041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лежність частоти від значення напруг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Объект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420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09800" y="189000"/>
            <a:ext cx="7124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исново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09800" y="1806480"/>
            <a:ext cx="7124400" cy="39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Запропонована схема генератора гармонічних коливань має такі переваги: найменша кількість елементів, найбільша частота генерації і зміна частоти лише одним елемен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Переваги генератора прямокутних імпульсів значно більший діапазон переналаштування (в 3 рази) за рахунок використання від</a:t>
            </a:r>
            <a:r>
              <a:rPr b="0" lang="en-US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’</a:t>
            </a:r>
            <a:r>
              <a:rPr b="0" lang="uk-UA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ємної єм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За результатами роботи поданий та одержаний патент на корисну модель Украї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Verdana"/>
              </a:rPr>
              <a:t>ДЯКУЮ ЗА УВАГУ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бір оптимального варіант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1755720"/>
          <a:ext cx="7920000" cy="3113280"/>
        </p:xfrm>
        <a:graphic>
          <a:graphicData uri="http://schemas.openxmlformats.org/drawingml/2006/table">
            <a:tbl>
              <a:tblPr/>
              <a:tblGrid>
                <a:gridCol w="2924280"/>
                <a:gridCol w="1409400"/>
                <a:gridCol w="1868760"/>
                <a:gridCol w="1717560"/>
              </a:tblGrid>
              <a:tr h="30492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ві розроб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. вимір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й варіа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й варіа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  <a:tr h="13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нератор прямокутних імпульс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нератор електричних сигнал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  <a:tr h="306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пітальні вклад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  <a:tr h="638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ксплуатаційні витр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н./рі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  <a:tr h="254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арний якісний коефіціє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1641600" y="2606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1" name="Объект 5"/>
          <p:cNvGraphicFramePr/>
          <p:nvPr/>
        </p:nvGraphicFramePr>
        <p:xfrm>
          <a:off x="2484360" y="5300640"/>
          <a:ext cx="28195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300640"/>
                    <a:ext cx="2819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Объект 6"/>
          <p:cNvGraphicFramePr/>
          <p:nvPr/>
        </p:nvGraphicFramePr>
        <p:xfrm>
          <a:off x="2700360" y="5950080"/>
          <a:ext cx="252396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5950080"/>
                    <a:ext cx="25239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459320" y="645120"/>
            <a:ext cx="22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459320" y="11991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Класифікація негатроні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Объект 3" descr="C:\Users\Юля\Desktop\патенти\3.jpg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атематична модель генератора синусоїдальних коливань на С-негатроні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Объект 3" descr="C:\Users\Юля\Desktop\патенти\фотки\Безымянный.jpg"/>
          <p:cNvPicPr/>
          <p:nvPr/>
        </p:nvPicPr>
        <p:blipFill>
          <a:blip r:embed="rId1"/>
          <a:stretch/>
        </p:blipFill>
        <p:spPr>
          <a:xfrm>
            <a:off x="179280" y="1351080"/>
            <a:ext cx="5040360" cy="44542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5644440" y="155736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гативна ємніс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5580000" y="21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(-) = - 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 (K - 1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5646600" y="3059280"/>
            <a:ext cx="26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Негативний опір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5876640" y="371628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(-)= -K2/(2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f1Ck (K-1)2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асова діагра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Объект 6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600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4720" y="404280"/>
            <a:ext cx="4041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лежність частоти від значення ємност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Объект 7" descr=""/>
          <p:cNvPicPr/>
          <p:nvPr/>
        </p:nvPicPr>
        <p:blipFill>
          <a:blip r:embed="rId2"/>
          <a:stretch/>
        </p:blipFill>
        <p:spPr>
          <a:xfrm>
            <a:off x="4645080" y="1557360"/>
            <a:ext cx="4248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005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рафік синусоїди при найбільшому значенні ємності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02200" y="260280"/>
            <a:ext cx="3602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ктр сигнал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Рисунок 6" descr=""/>
          <p:cNvPicPr/>
          <p:nvPr/>
        </p:nvPicPr>
        <p:blipFill>
          <a:blip r:embed="rId1"/>
          <a:stretch/>
        </p:blipFill>
        <p:spPr>
          <a:xfrm>
            <a:off x="312840" y="1484280"/>
            <a:ext cx="4043160" cy="41054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7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7672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7124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ксперементально досл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іджена схема генератора гармонійних коливань на С-негатрон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Рисунок 3" descr="C:\Users\Юля\Desktop\патенти\фотки\гар.jpg"/>
          <p:cNvPicPr/>
          <p:nvPr/>
        </p:nvPicPr>
        <p:blipFill>
          <a:blip r:embed="rId1"/>
          <a:stretch/>
        </p:blipFill>
        <p:spPr>
          <a:xfrm>
            <a:off x="1187280" y="1916280"/>
            <a:ext cx="640908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Математична модель генератора прямокутних сигналів на С-негатроні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Объект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5184720" cy="37987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5615640" y="206064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гальна ємність схем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9" name="Объект 4"/>
          <p:cNvGraphicFramePr/>
          <p:nvPr/>
        </p:nvGraphicFramePr>
        <p:xfrm>
          <a:off x="5870520" y="2637000"/>
          <a:ext cx="26589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0520" y="2637000"/>
                    <a:ext cx="26589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Прямоугольник 5"/>
          <p:cNvSpPr/>
          <p:nvPr/>
        </p:nvSpPr>
        <p:spPr>
          <a:xfrm>
            <a:off x="5650560" y="36133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астота генерації сигналу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Объект 6"/>
          <p:cNvGraphicFramePr/>
          <p:nvPr/>
        </p:nvGraphicFramePr>
        <p:xfrm>
          <a:off x="5867280" y="4149720"/>
          <a:ext cx="2376720" cy="144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149720"/>
                    <a:ext cx="2376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040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асова діагра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Объект 6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29120" cy="3456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4720" y="476280"/>
            <a:ext cx="4041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лежність частоти від значення ємност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Объект 7" descr=""/>
          <p:cNvPicPr/>
          <p:nvPr/>
        </p:nvPicPr>
        <p:blipFill>
          <a:blip r:embed="rId2"/>
          <a:stretch/>
        </p:blipFill>
        <p:spPr>
          <a:xfrm>
            <a:off x="4645080" y="1557360"/>
            <a:ext cx="41749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2T18:42:02Z</dcterms:created>
  <dc:creator>Юля</dc:creator>
  <dc:description/>
  <dc:language>en-US</dc:language>
  <cp:lastModifiedBy>Юля</cp:lastModifiedBy>
  <dcterms:modified xsi:type="dcterms:W3CDTF">2015-11-16T19:07:36Z</dcterms:modified>
  <cp:revision>22</cp:revision>
  <dc:subject/>
  <dc:title>Магістерська кваліфікаційна робота  на тему: «Дослідження генератора електричних сигналів на С-негатроні»</dc:title>
</cp:coreProperties>
</file>