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DFA-9EBF-48E2-BEBB-AF2E592B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569-E5B5-4142-A374-F020151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B23-F827-430A-AB6D-7A33974F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5D4-A0F9-462A-90BE-567D1362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46C-006C-4609-802F-48AE6167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812-0C29-4CF3-9997-FA33ECD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A7C-A941-4164-A5A1-CE0AB815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6A9-034F-46B0-8E88-B1E8EB8A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F00-CC99-4831-9D80-4156D26F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87C-A9E7-44D4-BEE2-4B742AD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5AF-137C-4445-B8B9-B2C983D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ED5-3556-41EE-B2AD-D20B99A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F88-E029-49B4-B8BA-A5D46082E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800"/>
            </a:br>
            <a:br>
              <a:rPr sz="2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омплексний дипломний проект</a:t>
            </a:r>
            <a:br>
              <a:rPr sz="2800"/>
            </a:b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нтелектуальна система обробки зображень в растровий графіці: оцінювання кольорового спотворення</a:t>
            </a:r>
            <a:br>
              <a:rPr sz="3200"/>
            </a:br>
            <a:br>
              <a:rPr sz="32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озробила студ. гр. КНзн-14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дарчук Н.О.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ерівник: к.т.н., доц.каф КН, Сілагін О.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тапи налаштування нечіткої бази зн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68596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ЕКТУВАННЯ ТА РЕАЛІЗАЦІЯ ЕКСПЕРИМЕНТАЛЬНОГО ПРОГРАМНОГО БЛОКУ ОЦІНКИ ЯКОСТІ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ія належності усіх термів лінгвістичних змін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357200" y="2027160"/>
            <a:ext cx="6429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616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робка спрощеного програмного бл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лгоритм роботи спрощеного бл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чітка база знань спрощеного бл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4720" y="2852640"/>
          <a:ext cx="4174920" cy="2340000"/>
        </p:xfrm>
        <a:graphic>
          <a:graphicData uri="http://schemas.openxmlformats.org/drawingml/2006/table">
            <a:tbl>
              <a:tblPr/>
              <a:tblGrid>
                <a:gridCol w="406440"/>
                <a:gridCol w="695160"/>
                <a:gridCol w="695520"/>
                <a:gridCol w="695160"/>
                <a:gridCol w="1682640"/>
              </a:tblGrid>
              <a:tr h="137520">
                <a:tc gridSpan="4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Щ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6200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овільн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4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ька якість зображ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882720" y="2174760"/>
            <a:ext cx="31892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лгоритм вимірювання кольороспотвор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алгоритма починається із входження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ристувача в меню «кольороспотворення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війшовши в це меню користувач може вибра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у з блоком «статистика», де зберігаю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а оброблюються  результати попередніх вимі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ювань та їх аналізу. Якщо користувач вибира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жим «вимірювання», то йому пропонує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брати модель представлення кольорів.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лгоритмом це може бу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В роз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лі 3 було показано , що модел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біль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ручною і показовою саме для оцінки кольор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творення, тому подальшу роботу алгорит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и будемо розглядати в концепції модел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ім в тому ж меню  «кольороспотворенн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ристувач вибирає вид тестової кар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 роботі алгоритму з використанням модел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жна працювати в спрощеному режимі (без вр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вання значень параметра «яскравості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, або 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данням параметр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 значень В подальш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й алгоритм реалізований у вигляді  част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и “Testing Digital Phot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хема"/>
          <p:cNvPicPr/>
          <p:nvPr/>
        </p:nvPicPr>
        <p:blipFill>
          <a:blip r:embed="rId1"/>
          <a:stretch/>
        </p:blipFill>
        <p:spPr>
          <a:xfrm>
            <a:off x="5508720" y="1268280"/>
            <a:ext cx="3211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роботи програми з оцінки кольороспотвор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1" descr=""/>
          <p:cNvPicPr/>
          <p:nvPr/>
        </p:nvPicPr>
        <p:blipFill>
          <a:blip r:embed="rId1"/>
          <a:stretch/>
        </p:blipFill>
        <p:spPr>
          <a:xfrm>
            <a:off x="603360" y="1916280"/>
            <a:ext cx="3247920" cy="3376440"/>
          </a:xfrm>
          <a:prstGeom prst="rect">
            <a:avLst/>
          </a:prstGeom>
          <a:ln w="0">
            <a:noFill/>
          </a:ln>
        </p:spPr>
      </p:pic>
      <p:pic>
        <p:nvPicPr>
          <p:cNvPr id="114" name="Объект 2" descr=""/>
          <p:cNvPicPr/>
          <p:nvPr/>
        </p:nvPicPr>
        <p:blipFill>
          <a:blip r:embed="rId2"/>
          <a:stretch/>
        </p:blipFill>
        <p:spPr>
          <a:xfrm>
            <a:off x="4051440" y="2133720"/>
            <a:ext cx="43704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задачі, що поставлені в завданні на комплексний дипломний проект, виконані в повному об’ємі, а са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техніко-економічне обгрунтування доцільності вимірювання та оцінювання кольороспотворення, в результаті чого був визначений аналог і проведений порівняльний аналі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овано існуючі види спотворень і виявлено, що найбільш суттєвими є шум, кольороспотворення та дисторсія об’єкт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вибір та обґрунтування методології оцінки якості растрових зобр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апарату нечіткої логіки розроблено модель узагальненого логічного виводу оцінки кольороспотвор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о математичне моделювання виведення частинних показників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ектовано та реалізовано спрощений програмний блок виведення оцінки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алгоритм виведення оцінки якості систе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а структура програмно-апаратного комплексу систе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також вирішено ряд економічних зад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221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роботи відповідають поставленим задачам.  Поставлена мета, а саме підвищення достовірності  оцінки якості, досягнута за рахунок виключення об’єктивної складової(людського фактора) на всіх стадіях виведення оцінки як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-1035360"/>
            <a:ext cx="777240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ановка задач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1052640"/>
            <a:ext cx="733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ою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аної  дипломної роботи є підвищення достовірності роботи систем автоматизованої оцінки спотв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’є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лідження є процес вимірювання спотворень растрових графічних фай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лідження є алгоритми та програмні інструменти для вимірювання спотворень кольору растрових графічних зображ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слідження є аналіз та вибір методів для створення  подібних систем, математичн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ей, що лежать в основі вимірювання та оцінки спотворень, а також сама розробка програмного блоку автоматизованої оцінки спотворень коль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хніко-економічне обґрунтування розр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1 розділі було проведено техніко-економічне обґрунтування доцільності моделювання, в результаті чого був визначений аналог і проведений порівняльний аналі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івставлення основних  технічних показників програмних продуктів довело переваги нов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: вона  є більш комфортною, швидкодіючою, легкою і зрозумілою у використа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івняння величин необхідних капіталовкладень та експлуатаційних витрат нового програмного продукту та аналогу довело економічну ефективність нової розро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й аналіз довів актуальність, доцільність та необхідність розробки програмного продукт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на сучасному етап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андартне тестове зображення ІТ-,7/2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280"/>
          <p:cNvPicPr/>
          <p:nvPr/>
        </p:nvPicPr>
        <p:blipFill>
          <a:blip r:embed="rId1"/>
          <a:stretch/>
        </p:blipFill>
        <p:spPr>
          <a:xfrm>
            <a:off x="1619280" y="1989000"/>
            <a:ext cx="6480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уктурна схема системи оцінки якості растрових зображ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т 1-універсальне тестове зображення, що включає тест ІТ-,7/2-1993, (для оцінки кольороспотворення, геометричних спотворень та визначення рівня шумів) а також радіальні та кільцьові міри для визначення границь роздільної здатності. 2- Система освітлення. 3 Фотокамера що тестується. 4 Блок управління системою освітлення. 5 Інтерфейс системи. 6 Блок обробки та аналізу зображень. 7 Система цифрових еталонів тестованих зображ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ис"/>
          <p:cNvPicPr/>
          <p:nvPr/>
        </p:nvPicPr>
        <p:blipFill>
          <a:blip r:embed="rId1"/>
          <a:stretch/>
        </p:blipFill>
        <p:spPr>
          <a:xfrm>
            <a:off x="2340000" y="1916280"/>
            <a:ext cx="4533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тематична модель вимірювання кольороспотвор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 тестуванні використовується графічний матричний файл “Foto”, який представляє собою двомірну матрицю чисел        . Величина цієї матриці залежить від роздільної здатності фотоапарата. Кожен елемент        матриці      є деяким випадковим числом значення інтенсивності кольору однієї точки внаслідок наявності кольороспотво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е число постійно змінюється навколо свого математичного очікув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-           виміряне значення інтенсивності кольору в певному канал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292720" y="2060640"/>
                <a:ext cx="304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7885080" y="2060640"/>
                <a:ext cx="219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7020000" y="2349360"/>
                <a:ext cx="218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2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8172360" y="2276640"/>
                <a:ext cx="304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3708360" y="321300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Rectangle 1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3059280" y="3716280"/>
                <a:ext cx="2257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d>
                        <m:r>
                          <m:t xml:space="preserve">;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G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d>
                        <m:r>
                          <m:t xml:space="preserve">;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3708360" y="4797360"/>
                <a:ext cx="942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8"/>
              <p:cNvSpPr txBox="1"/>
              <p:nvPr/>
            </p:nvSpPr>
            <p:spPr>
              <a:xfrm>
                <a:off x="1187280" y="5516640"/>
                <a:ext cx="381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критерієм кольороспотворення знаходимо саме кольороспотвор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-          еталонне знач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що кольороспотворення не виявляються, то        =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ний критерій оцінюється за функцією відповід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-         задається з експертних оці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грама адаптується через корегування значення            за функцією відповідності, тому знаходимо математичне очікування масиву          і ставимо йому у відповідність оцінку. Підставивши дане значення у функцію відповідності, знаходимо    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635280" y="2133720"/>
                <a:ext cx="121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им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187280" y="24210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э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5148360" y="2997360"/>
                <a:ext cx="380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им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9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5867280" y="299736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э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8"/>
              <p:cNvSpPr txBox="1"/>
              <p:nvPr/>
            </p:nvSpPr>
            <p:spPr>
              <a:xfrm>
                <a:off x="3203640" y="3573360"/>
                <a:ext cx="97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9"/>
              <p:cNvSpPr txBox="1"/>
              <p:nvPr/>
            </p:nvSpPr>
            <p:spPr>
              <a:xfrm>
                <a:off x="1332000" y="4221000"/>
                <a:ext cx="390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1"/>
              <p:cNvSpPr txBox="1"/>
              <p:nvPr/>
            </p:nvSpPr>
            <p:spPr>
              <a:xfrm>
                <a:off x="6372360" y="4508640"/>
                <a:ext cx="4856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5"/>
              <p:cNvSpPr txBox="1"/>
              <p:nvPr/>
            </p:nvSpPr>
            <p:spPr>
              <a:xfrm>
                <a:off x="6948360" y="4724280"/>
                <a:ext cx="419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7"/>
              <p:cNvSpPr txBox="1"/>
              <p:nvPr/>
            </p:nvSpPr>
            <p:spPr>
              <a:xfrm>
                <a:off x="1908000" y="5300640"/>
                <a:ext cx="4860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Rectangle 3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9"/>
              <p:cNvSpPr txBox="1"/>
              <p:nvPr/>
            </p:nvSpPr>
            <p:spPr>
              <a:xfrm>
                <a:off x="3276720" y="5516640"/>
                <a:ext cx="1552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Sup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бір методу розв’язання задачі оцінки якості растрових графічних зобра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ундаментальну роль у вирішенні людиною задач ідентифікації та прийняття рішень грають дві унікальних властивост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датність до навча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або здатність послідовно мінімізувати відхилення фактичного результату діяльності від бажаного еталон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інгвістич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або здатність виразити звичайною мовою отримані у результаті навчання зн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лектуальні технології, які використовуються для вирішення задач ідентифікації та прийняття рішень, являють собою використовування трьох, незалежних одна від одної теорі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чітких множи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засобів формалізації мовних висловлювань та логічного вивод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йронних мереж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– штучних аналогів людського мозку, що моделюють властивість навчати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енетичних алгоритмів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методу синтезу оптимальних рішень на множині початкових варіантів, з якими виконуються операції схрещування, мутації та селек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ою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створюваної системи оцінки якості є формування, із застосуванням апарату нечіткої логіки, матричної нечіткої бази знань та застосування до неї продукційної системи навч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ринцип лінгвістичності вхідних та вихідних змін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ринцип залежності «вхід вихід» в нечіткій базі 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инцип ієрархічності баз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Принцип термометра в оцінці якісних змін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Принцип двоетапного налаштування нечітких баз з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нципи лінгвістичного модел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9:30:55Z</dcterms:created>
  <dc:creator>Admin</dc:creator>
  <dc:description/>
  <dc:language>en-US</dc:language>
  <cp:lastModifiedBy>Админ</cp:lastModifiedBy>
  <dcterms:modified xsi:type="dcterms:W3CDTF">2015-06-18T04:34:35Z</dcterms:modified>
  <cp:revision>26</cp:revision>
  <dc:subject/>
  <dc:title>РОЗРОБКА СИСТЕМИ ОЦІНКИ ГЕОМЕТРИЧНИХ СПОТВОРЕНЬ РАСТРОВИХ ЗОБРАЖЕНЬ</dc:title>
</cp:coreProperties>
</file>