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3600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3600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1371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3600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3600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585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1371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600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1371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2"/>
          <a:stretch/>
        </p:blipFill>
        <p:spPr>
          <a:xfrm>
            <a:off x="176040" y="115920"/>
            <a:ext cx="8431560" cy="4468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68360" y="5002200"/>
            <a:ext cx="7704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конала студентка</a:t>
            </a:r>
            <a:r>
              <a:rPr b="1" lang="en-U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р. 1КН-1</a:t>
            </a:r>
            <a:r>
              <a:rPr b="1" lang="en-U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4</a:t>
            </a: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речкосій Наталя Петрівна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ерівник: к.т.н., доц. каф. кн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лесницький Олег Костянтинович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8512200" y="166680"/>
            <a:ext cx="63180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710D-5D5D-4839-AD89-68F956C33E22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E0D9-C99C-46F3-86F6-BDC0AE07CFE0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740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Співставлення вагових коефіцієнтів першого та другого нейрона по кількості виграшів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8" name="Рисунок 44" descr=""/>
          <p:cNvPicPr/>
          <p:nvPr/>
        </p:nvPicPr>
        <p:blipFill>
          <a:blip r:embed="rId1"/>
          <a:stretch/>
        </p:blipFill>
        <p:spPr>
          <a:xfrm>
            <a:off x="1771560" y="1209600"/>
            <a:ext cx="560088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2411280" y="40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ЕКОНОМІЧНА ЧАСТИН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539640" y="134136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роведені відповідні економічні розрахунки в даній роботі підтверджують економічну доцільність розробки системи аналізу мережевого трафіку на основі нейроної мережі Кохонена, оскільки він є дешевше ніж аналог на 2637грн., термін його окупності складає 1 місяць. 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ADF9-E95A-4AA3-A155-7D15D149722F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8000" y="836640"/>
            <a:ext cx="885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68360" y="189000"/>
            <a:ext cx="82296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ИСНОВКИ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Згідно розробленого алгоритму нейронної мережі Кохонена створено мережевий аналізатор, що здатен захоплювати мережевий трафік з подальшим виконанням задачі кластеризації за допомогою нейронної мережі Кохонен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Порівнюючи створений програмний засіб з аналоговою програмою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Wireshark 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для аналізу мережевого трафіку  можемо бачити шо наша програма опрацювує ту саму кількість пакетів швидше  на 40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%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 ніж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Wireshark, тому мету дипломного проекту було досягнено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942480" y="1484280"/>
            <a:ext cx="35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E203-CAB6-4818-9702-46D79CE58215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50920" y="31932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’єктом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дослідження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проекту є процес аналізу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    мережевого трафіку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метом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дослідження є програмні засоби для аналізу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       мережевого трафіку на основі нейронної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       мережі Кохонен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ю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дипломного проекту є підвищення швидкодії   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програмних засобів аналізу мережевого трафіку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на основі нейронної мережі Кохонен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95280" y="35002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Основні задачі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аналіз існуючих систем аналізу мережевого трафіку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визначення переваг та недоліків існуючих алгоритмів кластеризациї даннх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проектування архітектури інтелектуальної системи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програмна реалізація інтелектуального модуля аналізу заголовків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- тестування інтелектуального модуля та аналіз результатів;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395280" y="260280"/>
            <a:ext cx="83534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АКТУАЛЬНІСТ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660066"/>
                </a:solidFill>
                <a:latin typeface="Arial"/>
              </a:rPr>
              <a:t>Внаслідок збільшення пропускної здатності комп’ютерних мереж, кількість пакетів для аналізу, що проходить за одиницю часу через мережу стає надто великою для обробки цих пакетів стандартними засобам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660066"/>
                </a:solidFill>
                <a:latin typeface="Arial"/>
              </a:rPr>
              <a:t>Отже виникає необхідність у нестандартному підході до аналізу мережевого трафік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468360" y="3068640"/>
            <a:ext cx="806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оніторинг трафіку життєво важливий для ефективного управління мережею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ережеві аналізатори потрібні для того щоб проводити дослідження мережевих додатків і протоколів, а також, щоб знаходити проблеми в роботі мережі, і, що важливо, з'ясовувати причини цих пробле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ережеві аналізатори повсюдно використовуєються розробниками, мережевими інженерами, працівниками інтернет-провайдерів та фахівцями з безпек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6D72-CD21-4BB1-B540-4EACF8C270D0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95280" y="227160"/>
            <a:ext cx="8424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НЕЙРОННІ МЕРЕЖІ КОХОНЕН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4d4d4d"/>
                </a:solidFill>
                <a:latin typeface="Calibri"/>
              </a:rPr>
              <a:t>Мережа Кохонена – це двошарова нейронна мережа, що містить вхідний шар (шар вхідних нейронів) і шар Кохонена (шар активних нейронів). Шар Кохонена може бути: одномірним, двовимірним або тривимірним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Рисунок 18" descr="Новый рисунок (29).bmp"/>
          <p:cNvPicPr/>
          <p:nvPr/>
        </p:nvPicPr>
        <p:blipFill>
          <a:blip r:embed="rId1"/>
          <a:stretch/>
        </p:blipFill>
        <p:spPr>
          <a:xfrm>
            <a:off x="2484360" y="3429000"/>
            <a:ext cx="4319640" cy="2087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2929680" y="558972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4d4d"/>
                </a:solidFill>
                <a:latin typeface="Arial"/>
              </a:rPr>
              <a:t>Одномірна мережа Кохонен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НЕЙРОННІ МЕРЕЖІ КОХОНЕНА</a:t>
            </a:r>
            <a:br>
              <a:rPr sz="3200"/>
            </a:b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83664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Нейронні мережі Кохонена призначені для вирішення завдань автоматичної класифікації, коли навчальна послідовність образів відсутня. Відповідно відсутня і фіксація помилки, на мінімізації якій засновані алгоритми навчання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uk-UA" sz="2400" spc="-1" strike="noStrike">
                <a:solidFill>
                  <a:srgbClr val="4d4d4d"/>
                </a:solidFill>
                <a:latin typeface="Microsoft Sans Serif"/>
              </a:rPr>
              <a:t>В силу відсутності навчальної послідовності образів, для кожного з яких відома від вчителя приналежність до того чи іншого класу, визначення ваг нейронів шару Кохонена засноване на використанні алгоритмів класичної класифікації (кластеризації або самонавчання)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434px-SLINK-Gaussian-data.svg.png"/>
          <p:cNvPicPr/>
          <p:nvPr/>
        </p:nvPicPr>
        <p:blipFill>
          <a:blip r:embed="rId1"/>
          <a:stretch/>
        </p:blipFill>
        <p:spPr>
          <a:xfrm>
            <a:off x="826920" y="907920"/>
            <a:ext cx="5834160" cy="4148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539640" y="189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8662b"/>
                </a:solidFill>
                <a:latin typeface="Arial"/>
              </a:rPr>
              <a:t>Приклад кластеризації: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8662b"/>
                </a:solidFill>
                <a:latin typeface="Arial"/>
              </a:rPr>
              <a:t>розділення певної множини вхідних даних на площині на груп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5472000" y="1557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66"/>
                </a:solidFill>
                <a:latin typeface="Arial"/>
              </a:rPr>
              <a:t>Кластеризація є головним завданням дослідного аналізу даних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324000" y="47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4d4d4d"/>
                </a:solidFill>
                <a:latin typeface="Arial"/>
              </a:rPr>
              <a:t>Кластерний аналіз – це багатовимірна статистична процедура, що виконує збір даних, що містять інформацію про вибірку об’єктів, і потім впорядковує об’єкти в порівняно однорідні групи (кластери)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F4EF-3093-4E0D-9087-8AB7948AB336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69464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7529"/>
                </a:solidFill>
                <a:latin typeface="Microsoft Sans Serif"/>
              </a:rPr>
              <a:t>Схема роботи нейронної мережі Кохонена</a:t>
            </a:r>
            <a:r>
              <a:rPr b="0" lang="ru-RU" sz="2800" spc="-1" strike="noStrike">
                <a:solidFill>
                  <a:srgbClr val="337529"/>
                </a:solidFill>
                <a:latin typeface="Microsoft Sans Serif"/>
              </a:rPr>
              <a:t> :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6" name="Изображение 2" descr="Снимок экрана 2015-05-28 в 13.50.40.png"/>
          <p:cNvPicPr/>
          <p:nvPr/>
        </p:nvPicPr>
        <p:blipFill>
          <a:blip r:embed="rId1"/>
          <a:stretch/>
        </p:blipFill>
        <p:spPr>
          <a:xfrm>
            <a:off x="1692360" y="836640"/>
            <a:ext cx="498960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7F40-80A4-4929-B41A-7B300ACDDCEE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148360" y="47628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СХЕМА АЛГОРИТМУ ГОЛОВНОГО ПРОГРАМНОГО МОДУЛЯ</a:t>
            </a:r>
            <a:r>
              <a:rPr b="1" lang="en-US" sz="2000" spc="-1" strike="noStrike" u="sng">
                <a:solidFill>
                  <a:srgbClr val="008a3e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9" name="Рисунок 12" descr="C:\Documents and Settings\User\Мои документы\Загрузки\       1.png"/>
          <p:cNvPicPr/>
          <p:nvPr/>
        </p:nvPicPr>
        <p:blipFill>
          <a:blip r:embed="rId1"/>
          <a:stretch/>
        </p:blipFill>
        <p:spPr>
          <a:xfrm>
            <a:off x="324000" y="189000"/>
            <a:ext cx="6624360" cy="63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00"/>
                </a:solidFill>
                <a:latin typeface="Calibri"/>
              </a:rPr>
              <a:t>РЕЗУЛЬТАТИ ТЕСТУВАННЯ ПРОГРАМНОГО МОДУЛЯ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8640720" y="6170760"/>
            <a:ext cx="503280" cy="50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5F2-43D2-46BC-A4A1-6CD89C69CA71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971640" y="5373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d4d4d"/>
                </a:solidFill>
                <a:latin typeface="Arial"/>
              </a:rPr>
              <a:t>Гістограма вагових коефіцієнтів 1-го по кількості виграшів вихідного нейрон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4" name="Изображение 1" descr="Скриншот 2014-06-25 23.34.08.png"/>
          <p:cNvPicPr/>
          <p:nvPr/>
        </p:nvPicPr>
        <p:blipFill>
          <a:blip r:embed="rId1"/>
          <a:stretch/>
        </p:blipFill>
        <p:spPr>
          <a:xfrm>
            <a:off x="826920" y="1125360"/>
            <a:ext cx="76456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7:54:32Z</dcterms:created>
  <dc:creator>Компьютер</dc:creator>
  <dc:description/>
  <dc:language>en-US</dc:language>
  <cp:lastModifiedBy>Мій Лайф n</cp:lastModifiedBy>
  <cp:lastPrinted>2013-06-26T00:17:03Z</cp:lastPrinted>
  <dcterms:modified xsi:type="dcterms:W3CDTF">2015-06-15T19:53:30Z</dcterms:modified>
  <cp:revision>63</cp:revision>
  <dc:subject/>
  <dc:title>Дослідження точності прогнозування часових рядів багатошаровим персептроном</dc:title>
</cp:coreProperties>
</file>