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F91-13B9-4F35-B86B-F55FA9B3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EB8-1630-49F6-B822-DB86E720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AF0-5879-4027-BA8A-A58633B3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9BC-325C-437A-96D5-428A0827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DCF31-3B68-41BF-9855-175B7B34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21D66-EAB9-443C-BB3A-706ADD78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64768-B3E7-4EF9-A7A4-049079D8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66AB7-F812-43FE-9FDB-FB52751B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BE3A3-A509-45F1-8C81-97170FEA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273CB-A800-4349-AAA0-60246054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5DB51-2021-4979-B74D-980AF561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EB7-2A73-4C94-ADEA-52BCC4F3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EDAF4-F1C1-48AD-95BA-DCE3E5C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8D370-59A7-46E2-B415-7D2A4CA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40E9C-4BA4-4FF1-A33D-61AAF2D5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0DE50-A0DE-47C5-AF05-081D3F15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58DCE-8E3B-468B-9435-37216E9D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AE0A3-1F4C-4913-A1BC-83653AC8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CFE53-6313-423E-AC3C-042A25A8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AD619-C582-4A1D-B2A5-935E8C02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F8402-811D-4C25-9105-DE1A5A32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01617-ED89-4B05-9BAC-F2D9A632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E0D-F58D-4597-B57C-0417F43F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9973E-82C2-471F-8F92-D43A16AF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B29FB-6D8B-492E-BFBB-BEFFF2F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AC268-971E-4A04-B8F4-1B0D79C5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189BA-5EF3-4A35-90F5-E8D5644D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397AF-5AE5-4188-A789-104E711A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1C5A4-F76E-445E-8F9D-ECC6F3D8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3EBE8-0ADE-47AD-AC32-95F26469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C87B0-351F-4B73-99D4-DBDF46C2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9265C-A41F-47CC-A844-4A4D5EBC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D2E117-EFE6-4CE4-817E-65365B3B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10D-4DBD-4613-81E8-1D4CD539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F7E05-74C0-4F51-8BBF-779AC060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EB6DC2-E1B3-4C8D-8240-26D38B45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DAC61-4DE9-479A-BF4B-AC028162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709DE-4A02-4363-B390-65E0412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A1D99-3FA2-4081-9C28-E4A91480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59F92-C743-4EB4-8846-C8E1EFE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1D529-085D-421F-8391-667C3077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D75B1-CED5-4E22-9838-9C542B2E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187EF8-9D64-4AC4-9234-15C54AA3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83617-C0CF-4357-B4A7-5667A104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6E1-8647-4720-824E-ABCD761E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E9EEF-8467-4586-AEB2-A3737DB2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24D4E-6601-4D60-BCAA-4864F17E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8FB18-3C37-4D26-A9C2-9E1EE1C5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F9474-6F32-4E6C-9623-02711543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999FA3-5023-41C2-9DF1-96CA300B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37004-BAF9-4379-9AD8-3359E322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0B914-E1ED-4A8B-A906-62694A00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505E9-FE47-4146-A9B4-FBA70C07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00857-B148-4201-8367-FB82283E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F093F-4B65-4DFF-8281-2B40F7E2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040-385C-4E7B-A608-BDBD5AEF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F0761-0F96-4F56-8BC2-DE5C73BA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6C3A2-8E8B-48E7-803D-3ED2710B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2FEF7-C88C-44F2-8FA8-19E3DBF8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B13B5-A8B7-4210-B558-747E3E4A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C0C7E-F101-40B1-ADB3-29C0C150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1F77D-C1EF-4877-9475-0C1213A1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062061-3B2B-4A3D-BF5B-985EB5C6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AF8D5D-FF76-458E-AEE4-6115377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DBB1A-53DF-4F94-8E20-0893A651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A70A6-10B1-4A0C-9A1D-938E7589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589-39D1-4CD0-BA16-3C86A2F3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1C493-76E6-45C6-8149-6123A712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30EE3-E4BD-4911-9866-A2D14A21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5E1FE-D9DD-4EE5-8A95-BA5136BB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041-C213-415D-A232-295F43E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3EE-DF0A-4BD7-BD68-34334BF7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D335-3343-4224-8C28-691987051FC1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2B8B-A7CA-4BE0-BB94-985F7E79BC07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0365-CEAA-4096-827B-84FA68D71B2B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C6DA-E153-442A-852A-4021013E4989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10BC-776E-4BD1-8DBD-88B0692752F3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AD1A-C64F-4C2C-86FF-B0834FECD2B8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5520" y="500040"/>
            <a:ext cx="7543800" cy="21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Розробка рекомендаційної системи для функціонування в умовах недостатньої визначеності уподобань користувачів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Студент: Джадан Р.В. </a:t>
            </a: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(</a:t>
            </a: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1КН-14сп</a:t>
            </a: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Науковий керівник: д.т.н., проф. Яровий А.А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133360" y="214200"/>
            <a:ext cx="609588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Palatino Linotype"/>
              </a:rPr>
              <a:t>K-Means</a:t>
            </a:r>
            <a:endParaRPr b="0" lang="en-US" sz="23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Переваги: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глибокий аналіз користувацьких груп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перспектива до розвитку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Недоліки: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великі витрати на обчислювальні ресурс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Palatino Linotype"/>
              </a:rPr>
              <a:t>Slope One</a:t>
            </a:r>
            <a:endParaRPr b="0" lang="en-US" sz="23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Переваги: 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простота в реалізації та роботі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малі витрати на обчислювальні ресурс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Недоліки: 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поверхневий аналіз користувацьких груп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85520" y="5143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Palatino Linotype"/>
              </a:rPr>
              <a:t>Колаборативні алгоритми?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3840" y="5715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ffffff"/>
                </a:solidFill>
                <a:latin typeface="Palatino Linotype"/>
              </a:rPr>
              <a:t>Еволюція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965" descr="D:\diploma-2015\complete\presentation-images-draft\0) Recommendation Service Arch.png"/>
          <p:cNvPicPr/>
          <p:nvPr/>
        </p:nvPicPr>
        <p:blipFill>
          <a:blip r:embed="rId1"/>
          <a:stretch/>
        </p:blipFill>
        <p:spPr>
          <a:xfrm>
            <a:off x="3000240" y="214200"/>
            <a:ext cx="3071880" cy="53578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4200" y="57150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ffffff"/>
                </a:solidFill>
                <a:latin typeface="Palatino Linotype"/>
              </a:rPr>
              <a:t>Архітектура модуля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966" descr="D:\diploma-2015\complete\presentation-images-draft\0-1) Recommendation Service Arch With Nginx.png"/>
          <p:cNvPicPr/>
          <p:nvPr/>
        </p:nvPicPr>
        <p:blipFill>
          <a:blip r:embed="rId1"/>
          <a:stretch/>
        </p:blipFill>
        <p:spPr>
          <a:xfrm>
            <a:off x="1857240" y="571680"/>
            <a:ext cx="5429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968" descr="D:\diploma-2015\complete\presentation-images-draft\0-2) With MySQL+Couchbase.pn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4200" y="57150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900" spc="-1" strike="noStrike">
                <a:solidFill>
                  <a:srgbClr val="000000"/>
                </a:solidFill>
                <a:latin typeface="Palatino Linotype"/>
              </a:rPr>
              <a:t>Архітектура системи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Picture 2" descr="D:\diploma-2015\complete\presentation-images-draft\1) Complete System Architacture.png"/>
          <p:cNvPicPr/>
          <p:nvPr/>
        </p:nvPicPr>
        <p:blipFill>
          <a:blip r:embed="rId1"/>
          <a:stretch/>
        </p:blipFill>
        <p:spPr>
          <a:xfrm>
            <a:off x="714240" y="500040"/>
            <a:ext cx="74548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4200" y="571500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ffff"/>
                </a:solidFill>
                <a:latin typeface="Palatino Linotype"/>
              </a:rPr>
              <a:t>Що таке рекомендаційний балансер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857680" y="642960"/>
            <a:ext cx="33145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3840" y="57150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ffff"/>
                </a:solidFill>
                <a:latin typeface="Palatino Linotype"/>
              </a:rPr>
              <a:t>Алгоритм роботи системи?</a:t>
            </a:r>
            <a:endParaRPr b="0" lang="en-US" sz="4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4" name="Picture 48" descr=""/>
          <p:cNvPicPr/>
          <p:nvPr/>
        </p:nvPicPr>
        <p:blipFill>
          <a:blip r:embed="rId1"/>
          <a:stretch/>
        </p:blipFill>
        <p:spPr>
          <a:xfrm>
            <a:off x="2786040" y="142920"/>
            <a:ext cx="3619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3840" y="57150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ffff"/>
                </a:solidFill>
                <a:latin typeface="Palatino Linotype"/>
              </a:rPr>
              <a:t>Програмування?</a:t>
            </a:r>
            <a:endParaRPr b="0" lang="en-US" sz="4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6" name="Picture 2" descr="http://eventcyborg.com/tinyfilemanager.net/img/ico/JAVA.png"/>
          <p:cNvPicPr/>
          <p:nvPr/>
        </p:nvPicPr>
        <p:blipFill>
          <a:blip r:embed="rId1"/>
          <a:stretch/>
        </p:blipFill>
        <p:spPr>
          <a:xfrm>
            <a:off x="71280" y="428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http://www.pc-freak.net/images/mysql-logo-host-name-blocked-because-of-many-connection-errors.png"/>
          <p:cNvPicPr/>
          <p:nvPr/>
        </p:nvPicPr>
        <p:blipFill>
          <a:blip r:embed="rId2"/>
          <a:stretch/>
        </p:blipFill>
        <p:spPr>
          <a:xfrm>
            <a:off x="7429680" y="3786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https://raw.githubusercontent.com/docker-library/docs/master/couchbase/logo.png"/>
          <p:cNvPicPr/>
          <p:nvPr/>
        </p:nvPicPr>
        <p:blipFill>
          <a:blip r:embed="rId3"/>
          <a:stretch/>
        </p:blipFill>
        <p:spPr>
          <a:xfrm>
            <a:off x="7500960" y="52149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http://static1.squarespace.com/static/51814c87e4b0c1fda9c1fc50/t/5212587fe4b064b5b5f01aa6/1376934016256/OAuth2.png"/>
          <p:cNvPicPr/>
          <p:nvPr/>
        </p:nvPicPr>
        <p:blipFill>
          <a:blip r:embed="rId4"/>
          <a:stretch/>
        </p:blipFill>
        <p:spPr>
          <a:xfrm>
            <a:off x="7143840" y="285840"/>
            <a:ext cx="1649160" cy="1643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http://avatar.csdn.net/blogpic/20150104144544203.jpg"/>
          <p:cNvPicPr/>
          <p:nvPr/>
        </p:nvPicPr>
        <p:blipFill>
          <a:blip r:embed="rId5"/>
          <a:stretch/>
        </p:blipFill>
        <p:spPr>
          <a:xfrm>
            <a:off x="7429680" y="228600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http://developer.decarta.com/img/hero_rest_API.png"/>
          <p:cNvPicPr/>
          <p:nvPr/>
        </p:nvPicPr>
        <p:blipFill>
          <a:blip r:embed="rId6"/>
          <a:stretch/>
        </p:blipFill>
        <p:spPr>
          <a:xfrm>
            <a:off x="2643120" y="428760"/>
            <a:ext cx="3357720" cy="1120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6" descr="http://smartbearsoftware.com/soapui/media/images/stories/homepage/Features/JUnit.png"/>
          <p:cNvPicPr/>
          <p:nvPr/>
        </p:nvPicPr>
        <p:blipFill>
          <a:blip r:embed="rId7"/>
          <a:stretch/>
        </p:blipFill>
        <p:spPr>
          <a:xfrm>
            <a:off x="2643120" y="1714680"/>
            <a:ext cx="1876320" cy="1000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8" descr="http://becomejavasenior.com/wp-content/uploads/2015/04/logo-spring-io.png"/>
          <p:cNvPicPr/>
          <p:nvPr/>
        </p:nvPicPr>
        <p:blipFill>
          <a:blip r:embed="rId8"/>
          <a:stretch/>
        </p:blipFill>
        <p:spPr>
          <a:xfrm>
            <a:off x="357120" y="2928960"/>
            <a:ext cx="3353040" cy="1057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0" descr="http://upload.wikimedia.org/wikipedia/uk/d/da/IDEA-logo.gif"/>
          <p:cNvPicPr/>
          <p:nvPr/>
        </p:nvPicPr>
        <p:blipFill>
          <a:blip r:embed="rId9"/>
          <a:stretch/>
        </p:blipFill>
        <p:spPr>
          <a:xfrm>
            <a:off x="285840" y="4071960"/>
            <a:ext cx="2876400" cy="933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2" descr="http://upload.wikimedia.org/wikipedia/commons/thumb/0/0b/Maven_logo.svg/512px-Maven_logo.svg.png"/>
          <p:cNvPicPr/>
          <p:nvPr/>
        </p:nvPicPr>
        <p:blipFill>
          <a:blip r:embed="rId10"/>
          <a:stretch/>
        </p:blipFill>
        <p:spPr>
          <a:xfrm>
            <a:off x="4286160" y="1857240"/>
            <a:ext cx="3357720" cy="766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4" descr="https://jenkins-ci.org/maven-hpi-plugin/images/jenkins_logo.png"/>
          <p:cNvPicPr/>
          <p:nvPr/>
        </p:nvPicPr>
        <p:blipFill>
          <a:blip r:embed="rId11"/>
          <a:stretch/>
        </p:blipFill>
        <p:spPr>
          <a:xfrm>
            <a:off x="4214880" y="3000240"/>
            <a:ext cx="2928960" cy="941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6" descr="https://git-scm.com/images/logos/1color-orange-lightbg@2x.png"/>
          <p:cNvPicPr/>
          <p:nvPr/>
        </p:nvPicPr>
        <p:blipFill>
          <a:blip r:embed="rId12"/>
          <a:stretch/>
        </p:blipFill>
        <p:spPr>
          <a:xfrm>
            <a:off x="4143240" y="4572000"/>
            <a:ext cx="23101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4200" y="3285720"/>
            <a:ext cx="871560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ffff"/>
                </a:solidFill>
                <a:latin typeface="Palatino Linotype"/>
              </a:rPr>
              <a:t>Чи можливо систему конфігурувати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9" name="Picture 10" descr="K:\vntu\diploma\BDR_DZHADAN\account_settings.pn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2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В галузі штучного інтелекту однією з найважливіших практичних задач є задача класифікації. Зважаючи на те, як стрімко збільшується кількість інформації в Інтернеті, постає необхідність в залученні комп’ютерів до процесу обробки інформації та її класифікації за певними критеріями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2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Розробка рекомендаційних систем є актуальною задачею, так як рекомендаційна система дозволяє скоротити час на пошук необхідної інформації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2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Актуальність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4200" y="3285720"/>
            <a:ext cx="871560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Palatino Linotype"/>
              </a:rPr>
              <a:t>Як виглядає результат роботи системи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1" name="Picture 1" descr="K:\vntu\diploma\BDR_DZHADAN\images\recommendation_engine.pn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4200" y="3285720"/>
            <a:ext cx="871560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uk-UA" sz="3800" spc="-1" strike="noStrike">
                <a:solidFill>
                  <a:srgbClr val="ffffff"/>
                </a:solidFill>
                <a:latin typeface="Palatino Linotype"/>
              </a:rPr>
              <a:t>Що ж, схоже що система працює.</a:t>
            </a:r>
            <a:br>
              <a:rPr sz="3800"/>
            </a:br>
            <a:r>
              <a:rPr b="1" lang="uk-UA" sz="3800" spc="-1" strike="noStrike">
                <a:solidFill>
                  <a:srgbClr val="ffffff"/>
                </a:solidFill>
                <a:latin typeface="Palatino Linotype"/>
              </a:rPr>
              <a:t>Але як щодо аналогів?</a:t>
            </a:r>
            <a:br>
              <a:rPr sz="3800"/>
            </a:br>
            <a:r>
              <a:rPr b="1" lang="uk-UA" sz="3800" spc="-1" strike="noStrike">
                <a:solidFill>
                  <a:srgbClr val="ffffff"/>
                </a:solidFill>
                <a:latin typeface="Palatino Linotype"/>
              </a:rPr>
              <a:t>Невже розроблена система працює краще?</a:t>
            </a:r>
            <a:endParaRPr b="0" lang="en-US" sz="3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642680" y="428760"/>
            <a:ext cx="60958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6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alatino Linotype"/>
              </a:rPr>
              <a:t>MAE (</a:t>
            </a:r>
            <a:r>
              <a:rPr b="1" lang="uk-UA" sz="3000" spc="-1" strike="noStrike">
                <a:solidFill>
                  <a:srgbClr val="ffffff"/>
                </a:solidFill>
                <a:latin typeface="Palatino Linotype"/>
              </a:rPr>
              <a:t>Mean Absolute Error</a:t>
            </a:r>
            <a:r>
              <a:rPr b="1" lang="en-US" sz="3000" spc="-1" strike="noStrike">
                <a:solidFill>
                  <a:srgbClr val="ffffff"/>
                </a:solidFill>
                <a:latin typeface="Palatino Linotyp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169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latino Linotype"/>
              </a:rPr>
              <a:t>www.</a:t>
            </a:r>
            <a:r>
              <a:rPr b="0" lang="uk-UA" sz="2500" spc="-1" strike="noStrike">
                <a:solidFill>
                  <a:srgbClr val="ffffff"/>
                </a:solidFill>
                <a:latin typeface="Palatino Linotype"/>
              </a:rPr>
              <a:t>grouplens.org/datasets/movielens</a:t>
            </a:r>
            <a:endParaRPr b="0" lang="en-US" sz="2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4429080" y="1643040"/>
            <a:ext cx="4362480" cy="13050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кутник 6"/>
          <p:cNvSpPr/>
          <p:nvPr/>
        </p:nvSpPr>
        <p:spPr>
          <a:xfrm>
            <a:off x="214200" y="16430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Palatino Linotype"/>
              </a:rPr>
              <a:t>20 мільйонів унікальних оцінок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Palatino Linotype"/>
              </a:rPr>
              <a:t>465 тисяч ключових слів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Palatino Linotype"/>
              </a:rPr>
              <a:t>27 тисяч кінофільмів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Palatino Linotype"/>
              </a:rPr>
              <a:t>138 тисяч унікальних користувачів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6858000" y="5643720"/>
            <a:ext cx="2128680" cy="1052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3"/>
          <a:stretch/>
        </p:blipFill>
        <p:spPr>
          <a:xfrm>
            <a:off x="142920" y="5500800"/>
            <a:ext cx="2797200" cy="1212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4"/>
          <a:stretch/>
        </p:blipFill>
        <p:spPr>
          <a:xfrm>
            <a:off x="1500120" y="3000240"/>
            <a:ext cx="62197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Заголовок 2"/>
          <p:cNvSpPr/>
          <p:nvPr/>
        </p:nvSpPr>
        <p:spPr>
          <a:xfrm>
            <a:off x="28584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548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548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548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Заголовок 2"/>
          <p:cNvSpPr/>
          <p:nvPr/>
        </p:nvSpPr>
        <p:spPr>
          <a:xfrm>
            <a:off x="28584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00b05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b050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5480" y="4857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- Чи всі поставлені задачі були виконані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2" name="Заголовок 2"/>
          <p:cNvSpPr/>
          <p:nvPr/>
        </p:nvSpPr>
        <p:spPr>
          <a:xfrm>
            <a:off x="357120" y="5786280"/>
            <a:ext cx="8501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b050"/>
                </a:solidFill>
                <a:latin typeface="Palatino Linotype"/>
              </a:rPr>
              <a:t>- Так!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ідвищення ефективності роботи рекомендаційної системи для функціонування в умовах недостатньої визначеності уподобань користувачів  шляхом створення рекомендаційного балансера, що забезпечить прийняття рішення по вибору того чи іншого рекомендаційного методу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Мета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480" y="192888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3300" spc="-1" strike="noStrike">
                <a:solidFill>
                  <a:srgbClr val="ffffff"/>
                </a:solidFill>
                <a:latin typeface="Palatino Linotype"/>
              </a:rPr>
              <a:t>- Чи були виступи на конференціях та публікації з відповідною темою?</a:t>
            </a:r>
            <a:endParaRPr b="0" lang="en-US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4" name="Прямокутник 4"/>
          <p:cNvSpPr/>
          <p:nvPr/>
        </p:nvSpPr>
        <p:spPr>
          <a:xfrm>
            <a:off x="642960" y="3571920"/>
            <a:ext cx="821520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b050"/>
                </a:solidFill>
                <a:latin typeface="Palatino Linotype"/>
              </a:rPr>
              <a:t>- Так!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algn="r">
              <a:buClr>
                <a:srgbClr val="ffffff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Palatino Linotype"/>
              </a:rPr>
              <a:t>Дослідження пройшли апробацію на </a:t>
            </a:r>
            <a:r>
              <a:rPr b="1" lang="uk-UA" sz="2000" spc="-1" strike="noStrike">
                <a:solidFill>
                  <a:srgbClr val="00b050"/>
                </a:solidFill>
                <a:latin typeface="Palatino Linotype"/>
              </a:rPr>
              <a:t>XLII</a:t>
            </a:r>
            <a:r>
              <a:rPr b="1" lang="uk-UA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Palatino Linotype"/>
              </a:rPr>
              <a:t>та </a:t>
            </a:r>
            <a:r>
              <a:rPr b="1" lang="uk-UA" sz="2000" spc="-1" strike="noStrike">
                <a:solidFill>
                  <a:srgbClr val="00b050"/>
                </a:solidFill>
                <a:latin typeface="Palatino Linotype"/>
              </a:rPr>
              <a:t>ХL</a:t>
            </a:r>
            <a:r>
              <a:rPr b="1" lang="en-US" sz="2000" spc="-1" strike="noStrike">
                <a:solidFill>
                  <a:srgbClr val="00b050"/>
                </a:solidFill>
                <a:latin typeface="Palatino Linotype"/>
              </a:rPr>
              <a:t>III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Palatino Linotype"/>
              </a:rPr>
              <a:t>науково-технічних конференціях  професорсько-викладацького складу, співробітників та студентів університету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Palatino Linotype"/>
              </a:rPr>
              <a:t>- 2 публікації у збірниках тез до вищезгаданих конференцій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Дякую за увагу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86" name="Picture 2" descr="C:\Users\James Bond\Desktop\Individual.jpg"/>
          <p:cNvPicPr/>
          <p:nvPr/>
        </p:nvPicPr>
        <p:blipFill>
          <a:blip r:embed="rId1"/>
          <a:stretch/>
        </p:blipFill>
        <p:spPr>
          <a:xfrm>
            <a:off x="2571840" y="10000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цеси генерації рекомендаційною системою схожих об’єктів в умовах недостатньої визначеності уподобань користувачів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Об’єкт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і засоби колаборативної та контентної фільтрації в рекомендаційних системах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Предмет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Задачі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85840" y="68544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Аналіз предметної області рекомендаційних систем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Аналіз та обґрунтування вибору методів і алгоритмів контентної та колаборативної фільтрації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ектування архітектури рекомендаційного балансера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Програмна реалізація інтелектуальної рекомендаційної системи для функціонування в умовах недостатньої визначеності уподобань користувачів;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64600" indent="-24732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Тестування розробленого програмного забезпечення та оцінка критеріїв ефективності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Аналоги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2562120" cy="704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3929040" y="1571760"/>
            <a:ext cx="4905360" cy="1143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"/>
          <p:cNvPicPr/>
          <p:nvPr/>
        </p:nvPicPr>
        <p:blipFill>
          <a:blip r:embed="rId3"/>
          <a:stretch/>
        </p:blipFill>
        <p:spPr>
          <a:xfrm>
            <a:off x="571680" y="3357720"/>
            <a:ext cx="47052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Контентні рекомендаційні системи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Колаборативні рекомендаційні системи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Palatino Linotype"/>
              </a:rPr>
              <a:t>Гібридні рекомендаційні системи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Класифікація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70000" indent="-252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Palatino Linotype"/>
              </a:rPr>
              <a:t>TF-IDF</a:t>
            </a:r>
            <a:endParaRPr b="0" lang="en-US" sz="23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Переваги: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висока популярність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простота реалізації та робот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Palatino Linotype"/>
              </a:rPr>
              <a:t>BoW (Bag of Words)</a:t>
            </a:r>
            <a:endParaRPr b="0" lang="en-US" sz="23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Недоліки: 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великі витрати на обчислювальні ресурс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0000" indent="-252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Palatino Linotype"/>
              </a:rPr>
              <a:t>- робота зі статичними словникам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ffffff"/>
                </a:solidFill>
                <a:latin typeface="Palatino Linotype"/>
              </a:rPr>
              <a:t>Контентні алгоритми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8:17:36Z</dcterms:created>
  <dc:creator>maestro</dc:creator>
  <dc:description/>
  <dc:language>en-US</dc:language>
  <cp:lastModifiedBy>James Bond</cp:lastModifiedBy>
  <dcterms:modified xsi:type="dcterms:W3CDTF">2015-06-14T21:02:41Z</dcterms:modified>
  <cp:revision>159</cp:revision>
  <dc:subject/>
  <dc:title>Розробка інтелектуального модулю категоризації текстів</dc:title>
</cp:coreProperties>
</file>