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5FE-5089-435D-BC88-6292BC73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3BC-87DD-4521-B354-25A9064B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B2C-43B7-45F2-86F3-1B204B33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054-6E4A-43DA-BEE0-E070F60E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11F8D-8C38-44A0-978D-AAF9F616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7BB98-5482-4196-9A0B-3DB23C00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3DAA6-5755-44FB-8B19-DFF15CD4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CB55F-A3A4-4A4E-AB28-3BCC0DB6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40E2A-F2E1-4114-8AC2-77965524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13844-BF9F-47AB-A050-BD8B7513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7D025-B1FA-4409-AA56-C49B8408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B6E-6E1C-4CEB-A486-A25BF12F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773EE-46CE-4195-9F62-55D47DE9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49887-320B-4582-9944-DAD08A8C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75F79-EC02-412A-A5E3-B434CB19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6F3E6-F1B2-47D0-B6EB-CBF45542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A790E-F9CD-4F59-A266-A40C1915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2658E-91DF-446A-98CD-865F5E81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1EF3C-B865-4A7D-B573-D49A1046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668F0-C2C9-4485-8E06-384F1A4C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BC479-944E-47BF-B579-8437DAF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44ADD-03FE-4A25-994C-F8A8A2CD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DDA-95B2-4AAC-8CAE-AF4915E6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E620B-54FA-4CA9-9785-9D3E90F8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BEA82-5ECA-45DA-A9A0-4E635FA3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A3717-B9B5-4A19-8F47-4D774830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B71CD-D938-4B09-95B9-7A73C4C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426C0-B65A-4E68-BD6E-38735741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823EF-196A-4155-BC67-D64E9E73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62BB8-D3E0-442B-B8B0-D3E85A01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171AA-A79B-44C4-909E-3BD43AFC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F27FF-4CE3-4B90-A2A7-8CB8C9D1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73F7F-84F3-45F5-987A-72BCE281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8B9-AC26-492D-B80F-0348875D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1B08F-605F-4D38-8582-2808161C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DA4CD-6670-41CE-A862-2A29B13C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CB946-605F-496B-A698-1C45C3BB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6FD32-D9AC-4F1D-88AA-224BB30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2ACC7-E45C-43B5-8800-DCD34385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91FE3-BC30-4592-AB9F-B5E0657B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6C553-D5F7-4997-9873-12815CB5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98374-10A6-4EDA-BBF7-23D604CE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A3B87-A3B2-4C18-9927-38D5F641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E68EC-EAEB-43DA-98CC-E36DF5E7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EF3-A5C2-4E02-86EC-657817A1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C4E25-6EF6-4EAF-8C2A-F1B874AE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0B78D9-38AD-47A6-9288-6B88D34F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350BD-E8F5-4962-AA7F-C10EA84E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E1D47-47B7-454F-BE7D-90CBDDD0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F4C33-3DB1-4ACB-BA9D-DF3DA4A5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D9068-1C47-4A62-A414-FA09B4DC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B353B-0DFA-4EF8-BCD3-1416DF4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6534E-4E10-4982-A8D9-52910461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869AA-9A13-4D14-93D4-48EC1706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DE25B-9E92-4187-ACFE-76B68B20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63B-B31B-42E0-9131-921CA2AD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256BF-7B3A-4D40-9AD2-DAA5BEA2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92BF8-3F12-4F2B-8DA0-4381D808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5C873-4D55-4722-B9A3-2544FF44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FB308-7EBD-44F4-9C90-DBD11A65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12419-AE62-4AA6-862D-8010E70F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EE550-A2AB-49C1-9443-9A7A87F2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C846F-C3F5-4C60-9BD0-9E4741BA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77006-FBD1-4BF3-B240-5CD2CBF4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7880C-0FA9-4177-9A08-2500EF27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73B6D-4611-43D2-A44D-A146762A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B24-9419-4C5C-9308-AD4B6D4E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828FD-4CEB-4802-8F6E-6B4121D3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42E66-C2E9-4067-945D-8CB18C71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26980-B40D-4376-9354-F618FFF7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E35-BB88-4D54-8022-BE03664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C7C-C440-43B6-BB7C-27A321B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2456-BAC2-4286-8A96-EEE6EAF76FFD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6187-AFA7-4CD4-A0CF-8216E5924D0D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509C-6B9E-4749-AAF2-BEDCE7E479B1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B920-B26E-40C6-91FD-73BEFE3671AE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8A5F-4337-4A44-A848-15B1907DFBFF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2736-720E-4F57-BE76-A3059775F5E3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5520" y="500040"/>
            <a:ext cx="7543800" cy="21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Розробка рекомендаційної системи для функціонування в умовах недостатньої визначеності уподобань користувачів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Студент: Джадан Р.В. </a:t>
            </a: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(</a:t>
            </a: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1КН-14сп</a:t>
            </a: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Науковий керівник: д.т.н., проф. Яровий А.А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133360" y="214200"/>
            <a:ext cx="609588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Palatino Linotype"/>
              </a:rPr>
              <a:t>K-Means</a:t>
            </a:r>
            <a:endParaRPr b="0" lang="en-US" sz="23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Переваги: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глибокий аналіз користувацьких груп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перспектива до розвитку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Недоліки: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великі витрати на обчислювальні ресурс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Palatino Linotype"/>
              </a:rPr>
              <a:t>Slope One</a:t>
            </a:r>
            <a:endParaRPr b="0" lang="en-US" sz="23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Переваги: 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простота в реалізації та роботі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малі витрати на обчислювальні ресурс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Недоліки: 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поверхневий аналіз користувацьких груп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85520" y="5143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Palatino Linotype"/>
              </a:rPr>
              <a:t>Колаборативні алгоритми?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3840" y="5715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ffff"/>
                </a:solidFill>
                <a:latin typeface="Palatino Linotype"/>
              </a:rPr>
              <a:t>Еволюція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965" descr="D:\diploma-2015\complete\presentation-images-draft\0) Recommendation Service Arch.png"/>
          <p:cNvPicPr/>
          <p:nvPr/>
        </p:nvPicPr>
        <p:blipFill>
          <a:blip r:embed="rId1"/>
          <a:stretch/>
        </p:blipFill>
        <p:spPr>
          <a:xfrm>
            <a:off x="3000240" y="214200"/>
            <a:ext cx="3071880" cy="53578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4200" y="57150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ffff"/>
                </a:solidFill>
                <a:latin typeface="Palatino Linotype"/>
              </a:rPr>
              <a:t>Архітектура модуля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966" descr="D:\diploma-2015\complete\presentation-images-draft\0-1) Recommendation Service Arch With Nginx.png"/>
          <p:cNvPicPr/>
          <p:nvPr/>
        </p:nvPicPr>
        <p:blipFill>
          <a:blip r:embed="rId1"/>
          <a:stretch/>
        </p:blipFill>
        <p:spPr>
          <a:xfrm>
            <a:off x="1857240" y="571680"/>
            <a:ext cx="5429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968" descr="D:\diploma-2015\complete\presentation-images-draft\0-2) With MySQL+Couchbase.pn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4200" y="57150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000000"/>
                </a:solidFill>
                <a:latin typeface="Palatino Linotype"/>
              </a:rPr>
              <a:t>Архітектура системи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Picture 2" descr="D:\diploma-2015\complete\presentation-images-draft\1) Complete System Architacture.png"/>
          <p:cNvPicPr/>
          <p:nvPr/>
        </p:nvPicPr>
        <p:blipFill>
          <a:blip r:embed="rId1"/>
          <a:stretch/>
        </p:blipFill>
        <p:spPr>
          <a:xfrm>
            <a:off x="714240" y="500040"/>
            <a:ext cx="74548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4200" y="571500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ffff"/>
                </a:solidFill>
                <a:latin typeface="Palatino Linotype"/>
              </a:rPr>
              <a:t>Що таке рекомендаційний балансер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857680" y="642960"/>
            <a:ext cx="3314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3840" y="57150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ffff"/>
                </a:solidFill>
                <a:latin typeface="Palatino Linotype"/>
              </a:rPr>
              <a:t>Алгоритм роботи системи?</a:t>
            </a:r>
            <a:endParaRPr b="0" lang="en-US" sz="4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4" name="Picture 48" descr=""/>
          <p:cNvPicPr/>
          <p:nvPr/>
        </p:nvPicPr>
        <p:blipFill>
          <a:blip r:embed="rId1"/>
          <a:stretch/>
        </p:blipFill>
        <p:spPr>
          <a:xfrm>
            <a:off x="2786040" y="142920"/>
            <a:ext cx="3619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840" y="57150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ffff"/>
                </a:solidFill>
                <a:latin typeface="Palatino Linotype"/>
              </a:rPr>
              <a:t>Програмування?</a:t>
            </a:r>
            <a:endParaRPr b="0" lang="en-US" sz="4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Picture 2" descr="http://eventcyborg.com/tinyfilemanager.net/img/ico/JAVA.png"/>
          <p:cNvPicPr/>
          <p:nvPr/>
        </p:nvPicPr>
        <p:blipFill>
          <a:blip r:embed="rId1"/>
          <a:stretch/>
        </p:blipFill>
        <p:spPr>
          <a:xfrm>
            <a:off x="71280" y="428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http://www.pc-freak.net/images/mysql-logo-host-name-blocked-because-of-many-connection-errors.png"/>
          <p:cNvPicPr/>
          <p:nvPr/>
        </p:nvPicPr>
        <p:blipFill>
          <a:blip r:embed="rId2"/>
          <a:stretch/>
        </p:blipFill>
        <p:spPr>
          <a:xfrm>
            <a:off x="7429680" y="3786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https://raw.githubusercontent.com/docker-library/docs/master/couchbase/logo.png"/>
          <p:cNvPicPr/>
          <p:nvPr/>
        </p:nvPicPr>
        <p:blipFill>
          <a:blip r:embed="rId3"/>
          <a:stretch/>
        </p:blipFill>
        <p:spPr>
          <a:xfrm>
            <a:off x="7500960" y="52149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http://static1.squarespace.com/static/51814c87e4b0c1fda9c1fc50/t/5212587fe4b064b5b5f01aa6/1376934016256/OAuth2.png"/>
          <p:cNvPicPr/>
          <p:nvPr/>
        </p:nvPicPr>
        <p:blipFill>
          <a:blip r:embed="rId4"/>
          <a:stretch/>
        </p:blipFill>
        <p:spPr>
          <a:xfrm>
            <a:off x="7143840" y="285840"/>
            <a:ext cx="1649160" cy="1643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http://avatar.csdn.net/blogpic/20150104144544203.jpg"/>
          <p:cNvPicPr/>
          <p:nvPr/>
        </p:nvPicPr>
        <p:blipFill>
          <a:blip r:embed="rId5"/>
          <a:stretch/>
        </p:blipFill>
        <p:spPr>
          <a:xfrm>
            <a:off x="7429680" y="22860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http://developer.decarta.com/img/hero_rest_API.png"/>
          <p:cNvPicPr/>
          <p:nvPr/>
        </p:nvPicPr>
        <p:blipFill>
          <a:blip r:embed="rId6"/>
          <a:stretch/>
        </p:blipFill>
        <p:spPr>
          <a:xfrm>
            <a:off x="2643120" y="428760"/>
            <a:ext cx="3357720" cy="1120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6" descr="http://smartbearsoftware.com/soapui/media/images/stories/homepage/Features/JUnit.png"/>
          <p:cNvPicPr/>
          <p:nvPr/>
        </p:nvPicPr>
        <p:blipFill>
          <a:blip r:embed="rId7"/>
          <a:stretch/>
        </p:blipFill>
        <p:spPr>
          <a:xfrm>
            <a:off x="2643120" y="1714680"/>
            <a:ext cx="1876320" cy="1000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http://becomejavasenior.com/wp-content/uploads/2015/04/logo-spring-io.png"/>
          <p:cNvPicPr/>
          <p:nvPr/>
        </p:nvPicPr>
        <p:blipFill>
          <a:blip r:embed="rId8"/>
          <a:stretch/>
        </p:blipFill>
        <p:spPr>
          <a:xfrm>
            <a:off x="357120" y="2928960"/>
            <a:ext cx="3353040" cy="1057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0" descr="http://upload.wikimedia.org/wikipedia/uk/d/da/IDEA-logo.gif"/>
          <p:cNvPicPr/>
          <p:nvPr/>
        </p:nvPicPr>
        <p:blipFill>
          <a:blip r:embed="rId9"/>
          <a:stretch/>
        </p:blipFill>
        <p:spPr>
          <a:xfrm>
            <a:off x="285840" y="4071960"/>
            <a:ext cx="2876400" cy="933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2" descr="http://upload.wikimedia.org/wikipedia/commons/thumb/0/0b/Maven_logo.svg/512px-Maven_logo.svg.png"/>
          <p:cNvPicPr/>
          <p:nvPr/>
        </p:nvPicPr>
        <p:blipFill>
          <a:blip r:embed="rId10"/>
          <a:stretch/>
        </p:blipFill>
        <p:spPr>
          <a:xfrm>
            <a:off x="4286160" y="1857240"/>
            <a:ext cx="3357720" cy="766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4" descr="https://jenkins-ci.org/maven-hpi-plugin/images/jenkins_logo.png"/>
          <p:cNvPicPr/>
          <p:nvPr/>
        </p:nvPicPr>
        <p:blipFill>
          <a:blip r:embed="rId11"/>
          <a:stretch/>
        </p:blipFill>
        <p:spPr>
          <a:xfrm>
            <a:off x="4214880" y="3000240"/>
            <a:ext cx="2928960" cy="941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6" descr="https://git-scm.com/images/logos/1color-orange-lightbg@2x.png"/>
          <p:cNvPicPr/>
          <p:nvPr/>
        </p:nvPicPr>
        <p:blipFill>
          <a:blip r:embed="rId12"/>
          <a:stretch/>
        </p:blipFill>
        <p:spPr>
          <a:xfrm>
            <a:off x="4143240" y="4572000"/>
            <a:ext cx="23101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4200" y="3285720"/>
            <a:ext cx="871560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ffff"/>
                </a:solidFill>
                <a:latin typeface="Palatino Linotype"/>
              </a:rPr>
              <a:t>Чи можливо систему конфігурувати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9" name="Picture 10" descr="K:\vntu\diploma\BDR_DZHADAN\account_settings.pn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2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В галузі штучного інтелекту однією з найважливіших практичних задач є задача класифікації. Зважаючи на те, як стрімко збільшується кількість інформації в Інтернеті, постає необхідність в залученні комп’ютерів до процесу обробки інформації та її класифікації за певними критеріями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2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Розробка рекомендаційних систем є актуальною задачею, так як рекомендаційна система дозволяє скоротити час на пошук необхідної інформації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2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Актуальність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4200" y="3285720"/>
            <a:ext cx="871560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Palatino Linotype"/>
              </a:rPr>
              <a:t>Як виглядає результат роботи системи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1" name="Picture 1" descr="K:\vntu\diploma\BDR_DZHADAN\images\recommendation_engine.pn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4200" y="3285720"/>
            <a:ext cx="871560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uk-UA" sz="3800" spc="-1" strike="noStrike">
                <a:solidFill>
                  <a:srgbClr val="ffffff"/>
                </a:solidFill>
                <a:latin typeface="Palatino Linotype"/>
              </a:rPr>
              <a:t>Що ж, схоже що система працює.</a:t>
            </a:r>
            <a:br>
              <a:rPr sz="3800"/>
            </a:br>
            <a:r>
              <a:rPr b="1" lang="uk-UA" sz="3800" spc="-1" strike="noStrike">
                <a:solidFill>
                  <a:srgbClr val="ffffff"/>
                </a:solidFill>
                <a:latin typeface="Palatino Linotype"/>
              </a:rPr>
              <a:t>Але як щодо аналогів?</a:t>
            </a:r>
            <a:br>
              <a:rPr sz="3800"/>
            </a:br>
            <a:r>
              <a:rPr b="1" lang="uk-UA" sz="3800" spc="-1" strike="noStrike">
                <a:solidFill>
                  <a:srgbClr val="ffffff"/>
                </a:solidFill>
                <a:latin typeface="Palatino Linotype"/>
              </a:rPr>
              <a:t>Невже розроблена система працює краще?</a:t>
            </a:r>
            <a:endParaRPr b="0" lang="en-US" sz="3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642680" y="428760"/>
            <a:ext cx="60958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6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alatino Linotype"/>
              </a:rPr>
              <a:t>MAE (</a:t>
            </a:r>
            <a:r>
              <a:rPr b="1" lang="uk-UA" sz="3000" spc="-1" strike="noStrike">
                <a:solidFill>
                  <a:srgbClr val="ffffff"/>
                </a:solidFill>
                <a:latin typeface="Palatino Linotype"/>
              </a:rPr>
              <a:t>Mean Absolute Error</a:t>
            </a:r>
            <a:r>
              <a:rPr b="1" lang="en-US" sz="3000" spc="-1" strike="noStrike">
                <a:solidFill>
                  <a:srgbClr val="ffffff"/>
                </a:solidFill>
                <a:latin typeface="Palatino Linotyp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169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latino Linotype"/>
              </a:rPr>
              <a:t>www.</a:t>
            </a:r>
            <a:r>
              <a:rPr b="0" lang="uk-UA" sz="2500" spc="-1" strike="noStrike">
                <a:solidFill>
                  <a:srgbClr val="ffffff"/>
                </a:solidFill>
                <a:latin typeface="Palatino Linotype"/>
              </a:rPr>
              <a:t>grouplens.org/datasets/movielens</a:t>
            </a:r>
            <a:endParaRPr b="0" lang="en-US" sz="2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429080" y="1643040"/>
            <a:ext cx="4362480" cy="13050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кутник 6"/>
          <p:cNvSpPr/>
          <p:nvPr/>
        </p:nvSpPr>
        <p:spPr>
          <a:xfrm>
            <a:off x="214200" y="16430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Palatino Linotype"/>
              </a:rPr>
              <a:t>20 мільйонів унікальних оцінок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Palatino Linotype"/>
              </a:rPr>
              <a:t>465 тисяч ключових слів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Palatino Linotype"/>
              </a:rPr>
              <a:t>27 тисяч кінофільмів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Palatino Linotype"/>
              </a:rPr>
              <a:t>138 тисяч унікальних користувачів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6858000" y="5643720"/>
            <a:ext cx="2128680" cy="1052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3"/>
          <a:stretch/>
        </p:blipFill>
        <p:spPr>
          <a:xfrm>
            <a:off x="142920" y="5500800"/>
            <a:ext cx="2797200" cy="1212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4"/>
          <a:stretch/>
        </p:blipFill>
        <p:spPr>
          <a:xfrm>
            <a:off x="1500120" y="3000240"/>
            <a:ext cx="62197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Заголовок 2"/>
          <p:cNvSpPr/>
          <p:nvPr/>
        </p:nvSpPr>
        <p:spPr>
          <a:xfrm>
            <a:off x="28584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Заголовок 2"/>
          <p:cNvSpPr/>
          <p:nvPr/>
        </p:nvSpPr>
        <p:spPr>
          <a:xfrm>
            <a:off x="28584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- 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2" name="Заголовок 2"/>
          <p:cNvSpPr/>
          <p:nvPr/>
        </p:nvSpPr>
        <p:spPr>
          <a:xfrm>
            <a:off x="357120" y="5786280"/>
            <a:ext cx="8501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b050"/>
                </a:solidFill>
                <a:latin typeface="Palatino Linotype"/>
              </a:rPr>
              <a:t>- Так!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ідвищення ефективності роботи рекомендаційної системи для функціонування в умовах недостатньої визначеності уподобань користувачів  шляхом створення рекомендаційного балансера, що забезпечить прийняття рішення по вибору того чи іншого рекомендаційного методу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Мета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480" y="192888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- Чи були виступи на конференціях та публікації з відповідною темою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4" name="Прямокутник 4"/>
          <p:cNvSpPr/>
          <p:nvPr/>
        </p:nvSpPr>
        <p:spPr>
          <a:xfrm>
            <a:off x="642960" y="3571920"/>
            <a:ext cx="821520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b050"/>
                </a:solidFill>
                <a:latin typeface="Palatino Linotype"/>
              </a:rPr>
              <a:t>- Так!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algn="r">
              <a:buClr>
                <a:srgbClr val="ffffff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Palatino Linotype"/>
              </a:rPr>
              <a:t>Дослідження пройшли апробацію на </a:t>
            </a:r>
            <a:r>
              <a:rPr b="1" lang="uk-UA" sz="2000" spc="-1" strike="noStrike">
                <a:solidFill>
                  <a:srgbClr val="00b050"/>
                </a:solidFill>
                <a:latin typeface="Palatino Linotype"/>
              </a:rPr>
              <a:t>XLII</a:t>
            </a:r>
            <a:r>
              <a:rPr b="1" lang="uk-UA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Palatino Linotype"/>
              </a:rPr>
              <a:t>та </a:t>
            </a:r>
            <a:r>
              <a:rPr b="1" lang="uk-UA" sz="2000" spc="-1" strike="noStrike">
                <a:solidFill>
                  <a:srgbClr val="00b050"/>
                </a:solidFill>
                <a:latin typeface="Palatino Linotype"/>
              </a:rPr>
              <a:t>ХL</a:t>
            </a:r>
            <a:r>
              <a:rPr b="1" lang="en-US" sz="2000" spc="-1" strike="noStrike">
                <a:solidFill>
                  <a:srgbClr val="00b050"/>
                </a:solidFill>
                <a:latin typeface="Palatino Linotype"/>
              </a:rPr>
              <a:t>III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Palatino Linotype"/>
              </a:rPr>
              <a:t>науково-технічних конференціях  професорсько-викладацького складу, співробітників та студентів університету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Palatino Linotype"/>
              </a:rPr>
              <a:t>- 2 публікації у збірниках тез до вищезгаданих конференцій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Дякую за увагу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86" name="Picture 2" descr="C:\Users\James Bond\Desktop\Individual.jpg"/>
          <p:cNvPicPr/>
          <p:nvPr/>
        </p:nvPicPr>
        <p:blipFill>
          <a:blip r:embed="rId1"/>
          <a:stretch/>
        </p:blipFill>
        <p:spPr>
          <a:xfrm>
            <a:off x="2571840" y="10000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цеси генерації рекомендаційною системою схожих об’єктів в умовах недостатньої визначеності уподобань користувачів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Об’єкт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і засоби колаборативної та контентної фільтрації в рекомендаційних системах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Предмет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Задачі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Аналоги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2562120" cy="704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3929040" y="1571760"/>
            <a:ext cx="4905360" cy="1143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"/>
          <p:cNvPicPr/>
          <p:nvPr/>
        </p:nvPicPr>
        <p:blipFill>
          <a:blip r:embed="rId3"/>
          <a:stretch/>
        </p:blipFill>
        <p:spPr>
          <a:xfrm>
            <a:off x="571680" y="3357720"/>
            <a:ext cx="47052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Контентні рекомендаційні системи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Колаборативні рекомендаційні системи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Гібридні рекомендаційні системи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Класифікація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70000" indent="-252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Palatino Linotype"/>
              </a:rPr>
              <a:t>TF-IDF</a:t>
            </a:r>
            <a:endParaRPr b="0" lang="en-US" sz="23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Переваги: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висока популярність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простота реалізації та робот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Palatino Linotype"/>
              </a:rPr>
              <a:t>BoW (Bag of Words)</a:t>
            </a:r>
            <a:endParaRPr b="0" lang="en-US" sz="23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Недоліки: 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великі витрати на обчислювальні ресурс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робота зі статичними словникам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Контентні алгоритми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8:17:36Z</dcterms:created>
  <dc:creator>maestro</dc:creator>
  <dc:description/>
  <dc:language>en-US</dc:language>
  <cp:lastModifiedBy>James Bond</cp:lastModifiedBy>
  <dcterms:modified xsi:type="dcterms:W3CDTF">2015-06-14T21:02:41Z</dcterms:modified>
  <cp:revision>159</cp:revision>
  <dc:subject/>
  <dc:title>Розробка інтелектуального модулю категоризації текстів</dc:title>
</cp:coreProperties>
</file>